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DB6D3-7CE5-4FB8-8D44-1568EAE48F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AD69D-0A66-4E06-AB72-B3D49DF911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lb-L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3856A-DDB0-4D55-BC77-03AC69812B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47E-CFF0-41BD-9577-91E6C247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5F3-BBE5-4AFC-9863-87D85D2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C8E-C217-4D36-BF8A-5DEA5C5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BBD-24BA-4484-BD2A-A55A133F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467-6A72-4075-98FF-ECB452A9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723-6DD5-4E1B-85EE-FFC4704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4B1-6980-402D-B4E6-8EC3D14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B58-F64B-42BB-80B8-D5DD286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336-2FB7-4C4F-A657-3BCB429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B55-8956-4A79-BFC5-957C140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D34-D51A-45C7-AB0F-6B4D979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202-D4BD-4491-ABFC-9AEAE9A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AEB0C-F6C9-4C2D-B4D7-FB53A0699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ERIENCING DONOR COORDINATION: lessons learned from AFD, UNCDF, E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1738800" y="6269040"/>
            <a:ext cx="56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European Microfinance Week 2012 – November 16th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5"/>
          <p:cNvSpPr/>
          <p:nvPr/>
        </p:nvSpPr>
        <p:spPr>
          <a:xfrm>
            <a:off x="1125360" y="3073320"/>
            <a:ext cx="6942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articipan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née Chao-Beroff, Managing director, PAMIG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vana Damjanov, MicroLead Programme Specialist, UNC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ichael Knaute, Managing director, Oxus Development Net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mmanuel Moyart, Coordinator, ACP/EU MICRO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hilippe Serres, Chargé d’affaires senior, AF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derato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tonique Koning, Microfinance Specialist, Donor and investor team, CGA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3600" spc="-1" strike="noStrike">
                <a:solidFill>
                  <a:srgbClr val="000000"/>
                </a:solidFill>
                <a:latin typeface="Calibri"/>
              </a:rPr>
              <a:t>EXPERIENCING DONOR COORD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A chance to implement larger and more more inovativ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 funds are a chance for Knowledge and experience sh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Strong need in donor money to push the bounda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Try to organise multi-donor funds and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Beneficiaries must keep the leadership of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Strong local presence and local governmemt support helps ensuring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s must have sknowledge of the mar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s should push for increased transpar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s should agree on a common reporting platform and core indic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s should push private – public partnerships,  although the “timings” are very diffe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Donors have different selection processes which makes it difficult to coordinate prior to the grant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Are the funding opportunities visible enough? Initiatives such as MFW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b-LU" sz="1800" spc="-1" strike="noStrike">
                <a:solidFill>
                  <a:srgbClr val="000000"/>
                </a:solidFill>
                <a:latin typeface="Calibri"/>
              </a:rPr>
              <a:t>Can donors organise speed-dating for good projects that did not get fund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21:40:21Z</dcterms:created>
  <dc:creator>Mathilde Gaston-Mathe</dc:creator>
  <dc:description/>
  <dc:language>en-US</dc:language>
  <cp:lastModifiedBy>Juana Ramirez e-MFP</cp:lastModifiedBy>
  <dcterms:modified xsi:type="dcterms:W3CDTF">2012-11-23T16:47:31Z</dcterms:modified>
  <cp:revision>15</cp:revision>
  <dc:subject/>
  <dc:title>Présentation PowerPoint</dc:title>
</cp:coreProperties>
</file>