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134-5C17-4D96-9875-A6501B93E8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3A7F-B130-4625-9852-D721CE101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26FB-359F-4410-89D3-08122A25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CC44-238C-42E9-8A27-1600612B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5E02-E5FF-48E4-9DB5-30EC4500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1ADB-0F23-4111-B414-DFA460B4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B612-B583-488F-880C-2100112E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C3FE-4585-4082-AE96-0F4E1B3B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CA6-D5D7-43F2-ACBC-6829C13A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3A2E-AE39-43BF-91C8-44DCA7ED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3FD-C50A-461A-A703-6207D5E7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61B6-3AA5-4637-AF0B-51C04339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AA45-1741-4DB1-9BDC-8CF7FEB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03B6-1370-449D-9736-23956149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4CF1-B1DC-4F5F-9F14-3454EEB6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A893-7D39-41E1-8E24-02CE0C3A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3216-3771-46B7-8D61-DBA528FE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DF1C-C039-4ACF-843F-0A16BB86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1F6E-D206-443B-927E-54C22380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D24C-0D03-4BD2-8793-960E19CA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27E5-72C4-4847-9A5B-1FDD686F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0A4F-D242-4D75-8690-D38A2086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2345-3641-4951-A439-8A6901D8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4EEC-8E10-4A36-A9A2-1639E796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123C-8F0B-471B-9FAC-10403FC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D6C3-D15A-4CDA-9F77-18358A64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0448-2937-4078-9AFD-8A9064F6C5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D2CE-2194-4429-B2F2-0B93D49DBD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Going through crisis: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CF cas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6000" y="42667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ACF Presen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pared by Zhanna Zhakupov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ecutive Dir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icrocredit Organization Asian Credit Fund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sults of new 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 July 2010 company reached break-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ny continued showing profit then each mon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 of end of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R &gt;30 days + restructured loans is 2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tive clients increased from 700 to almost 7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P reached pre-crisis level of $4.0 mln after the lowest level of $1.75 mln. in Ja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aff number increased from 30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gnificant geographic outreach to rural a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sults of new 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w lenders came to ACF du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sitive outlook for coun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hareholder intention to create holding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mproved company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business model can be a right response to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ppropriate loa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versification of lending capital sources is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eign currency risk shall not be only responsibility of MFI and/or its cl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challe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est rate ceiling introduced by country in Ma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naging operational cost in sparsely populated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inancial costs are still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ntionally high LL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st of loans to ACF are of high p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quity investment is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ww.asiancreditfund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ian Credit Fund (AC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icrocredit organization based in Alm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unded by Mercy Corps in 19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uring 1997 -2007 primary focus was secured development  lending to small and micro enterprises to foster job cre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$22 mln. to 5,528 small and micro entrepreneurs to sustain and create more than 22,000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verage outstanding loan balance at YE 2007 was $7,200 (150% of GNI per capit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CF - development lending instit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pecial development loan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ME Growth Lo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sidential Mortgage and Home Improvement Lo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artnership with corpo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ttal Steel SME Resource Fund – cooperation for regional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hevron – artisan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rategic Philanthropy targeted rural y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conomic crisis: impact on Kazakhs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2"/>
          <p:cNvGraphicFramePr/>
          <p:nvPr/>
        </p:nvGraphicFramePr>
        <p:xfrm>
          <a:off x="380880" y="1676520"/>
          <a:ext cx="8382240" cy="474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76520"/>
                    <a:ext cx="83822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conomic crisis: impact on Kazakh bank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our of the major banks were rescued by the government at the end of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t the end of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9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Kazakhstan's total external debt was $111.7 billion or 104% of GDP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y S&amp;P the current share of problem loans of Kazakh banks is 40% to total loan portfolio, with restructured loans is about  50%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total write-off in baking system since crisis equaled to 8.6% to GD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mpact of crisis on ACF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ME sector was heavily affected: a 50% decline i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mpact on ACF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F delinquency escalated: the highest PAR was 22.9% in April 2009, with restructured loans as far as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ancial cost incr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urrency devaluation by 20% in February 2009: hedging cost increased two ti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LR expenses significantly incre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mand for loans decreased and loan portfolio was  decli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ny income shrinkage undermined company long term exis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CF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 of group loan product in April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rgets underserved (rural households) - no mission dri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maller size of loans – less risk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gher margin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naging bad deb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bt Collection Un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 LL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bt work out strategy for each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 of 30 September ACF collected 50% of write of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CF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Keep ACF lenders and shareholder  updated on actions and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Keep discipline and manage staff moral – no layoffs, new hi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inancial Literacy and Debt Counseling to better manage client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venue less affected than portfolio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KZT ml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hart 5" descr=""/>
          <p:cNvPicPr/>
          <p:nvPr/>
        </p:nvPicPr>
        <p:blipFill>
          <a:blip r:embed="rId1"/>
          <a:stretch/>
        </p:blipFill>
        <p:spPr>
          <a:xfrm>
            <a:off x="457200" y="1139760"/>
            <a:ext cx="762624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01:37:53Z</dcterms:created>
  <dc:creator>Executive</dc:creator>
  <dc:description/>
  <dc:language>en-US</dc:language>
  <cp:lastModifiedBy> Niamh</cp:lastModifiedBy>
  <dcterms:modified xsi:type="dcterms:W3CDTF">2011-11-10T12:05:20Z</dcterms:modified>
  <cp:revision>38</cp:revision>
  <dc:subject/>
  <dc:title>NGO Transformation: ownership and governance issues</dc:title>
</cp:coreProperties>
</file>