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71F-DE52-4E65-9152-0C07D86E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260-CACA-42EF-BB0B-E5606C0A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4A-777C-4D83-9FB9-DABC945C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70B-569A-4806-BD40-FDD12D2E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ADA-84ED-44A2-9BB9-39ECE03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75B-B2BF-4F16-8565-5AF3770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99C-2E23-4D7A-A69A-027E7E59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04F-9F79-4B28-A066-6F206FA2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8C8-E2FE-4AA1-88AB-C9BBA2A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A0B-F196-41BB-AB82-D6BC315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0DA-19B5-4173-97B8-2E33707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78F-3F6C-496B-9E85-2B73C3E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CFF-BCF6-42E0-A868-455C5B208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ase for re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inu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church based savings and credit group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inu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inuane – “Uplifting each other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aving and credit group program tailored for a chu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ed by the Free Pentecostal Church of Keny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nced by the Norwegian Pentecostal Mission and Nor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rowed from VSLA (CARE) and P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pied” by Baptists in Congo and NUDIPU in U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credit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nomous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-25 members, mostly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a fixed weekly amount into a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mbers can borrow from the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bound – share out at the end of each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ly start out saving between 20 and 50 US Cents week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inuane in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slowly in 20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w 550-600 groups and growing rapid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1000-12000 me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locally incentivized volunteer field ag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 sta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700.000 USD mobilized after 6-8 mont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USD 60 on average per me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mbers seem to be saving a little more than one month’s income during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inuane – how it 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FPFK churches across the country are targeted (very wide geographical scop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strife and struggle in the chu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in a systematized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aff train the first leaders of the first groups in a new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-instructive system with a self-explaining m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al includes issues on self-esteem, IGA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basic accounting system and savings pass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around 6-12 months the best leaders are asked to become field ag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agents receive their incentives from the new groups they mobil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inuane and the chu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oups are autono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roups meet in the chur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roups start their meetings with songs and pra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a pastor comes a share the word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s from within and from outside the church are members in th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imonies from me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484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members have become Christ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leaving Kenya Women to join Tuinu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idow: “Tuinuane is now my husb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familiy now respects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 them be blessed those who brought us Tuinu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can even wear a pu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has taken away our sh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builds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we were small not we are proud for oursel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oup has covered my sh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is better because it we have a Christian Fellow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can stand up before other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has build me to see me as a great 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has given me leadership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ought I was too old but I was acce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makes us self-reli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inuane is better than other groups because we share the word of God and 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imonies from church l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helps to increase the income in the chur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boosts the chur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has changes some of our traditional Christian habits (long sleeves, long dresses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has helped us to dig into the scripture. Before only Heaven, now also life on Ear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provides the church with lea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is a mini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makes the church more respected in the commun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gives the church members with more conf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inuane makes the church more self-reliant and less dependent on foreign do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can not compare FPFK now and before Tuinuane. We have changes. No longer so conservative. Now we are Christ lik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sible research question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the effects be isol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the Tuinuane groups influenced by the church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church affiliation enhancing trust in the grou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people more willing to be members of the grou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the groups more sustainable (continue longer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the groups mobilize more saving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the groups more or less autonomo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non-Christian members exclud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church being changed because of Tuinua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hasis on “life today here on earth”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members in the chur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and better leaders in the chur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standing in the local communit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involvement in social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in outreach and evangalization strateg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members’ donations (tithes) to the chur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0:15:56Z</dcterms:created>
  <dc:creator>Roy Mersland</dc:creator>
  <dc:description/>
  <dc:language>en-US</dc:language>
  <cp:lastModifiedBy>Juana Ramirez e-MFP</cp:lastModifiedBy>
  <dcterms:modified xsi:type="dcterms:W3CDTF">2011-11-21T17:57:53Z</dcterms:modified>
  <cp:revision>3</cp:revision>
  <dc:subject/>
  <dc:title>A case for research?</dc:title>
</cp:coreProperties>
</file>