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wmf" ContentType="image/x-wmf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4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CD7-6091-4333-973F-D0EECAE695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ginning of the operations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325D-0F72-4E6D-A36E-833940EE50D2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7EA-6ECB-44FA-ACCA-DD2E68392D0A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5CD5-0BC7-492F-A226-DDD7503F70AE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lma@partner.ba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ba/imgres?imgurl=http://coachaljohnson.files.wordpress.com/2009/12/transparency.jpg&amp;imgrefurl=http://coachaljohnson.wordpress.com/2009/12/23/the-power-of-transparency/&amp;usg=__KM5mNep7f7fHOzaTNDtQp5_lJbE=&amp;h=497&amp;w=450&amp;sz=15&amp;hl=hr&amp;start=1&amp;um=1&amp;itbs=1&amp;tbnid=Ao0p9KAShmgMAM:&amp;tbnh=130&amp;tbnw=118&amp;prev=/images%3Fq%3Dtransparency%26um%3D1%26hl%3Dhr%26tbs%3Disch: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320" y="2428560"/>
            <a:ext cx="76611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Partner Microfinance Found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Weathering the stor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Case Study from Bosnia and Herzegovi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2571840" y="4714920"/>
            <a:ext cx="398304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1642680"/>
            <a:ext cx="7215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35461"/>
                </a:solidFill>
                <a:latin typeface="Arial"/>
              </a:rPr>
              <a:t>Improvement in portfolio quality as result of taken actions</a:t>
            </a:r>
            <a:endParaRPr b="1" lang="en-US" sz="36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2928960"/>
          <a:ext cx="8715600" cy="2948040"/>
        </p:xfrm>
        <a:graphic>
          <a:graphicData uri="http://schemas.openxmlformats.org/drawingml/2006/table">
            <a:tbl>
              <a:tblPr/>
              <a:tblGrid>
                <a:gridCol w="2914920"/>
                <a:gridCol w="1923840"/>
                <a:gridCol w="3876840"/>
              </a:tblGrid>
              <a:tr h="689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 &gt; 30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tner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verage of the sect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I-Q 201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9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3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52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V-Q 201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-Q 20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9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-Q 20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8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1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I-Q 20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8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" descr="http://loanportfolioservicing.com/wp-content/uploads/2011/08/LPS_bookkeeping_small.png"/>
          <p:cNvPicPr/>
          <p:nvPr/>
        </p:nvPicPr>
        <p:blipFill>
          <a:blip r:embed="rId1"/>
          <a:stretch/>
        </p:blipFill>
        <p:spPr>
          <a:xfrm>
            <a:off x="6357960" y="0"/>
            <a:ext cx="27860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1785960"/>
            <a:ext cx="784836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35461"/>
                </a:solidFill>
                <a:latin typeface="Arial"/>
              </a:rPr>
              <a:t>Financial or social performance objectives?</a:t>
            </a:r>
            <a:br>
              <a:rPr sz="2800"/>
            </a:b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68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"/>
              </a:rPr>
              <a:t>Achieving social performance objectives leads to financial gain, which is necessary in order to continue providing social benefits to our client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Picture 4" descr="http://www.4lenses.org/sites/4lenses.org/images/orient_dbl.gif"/>
          <p:cNvPicPr/>
          <p:nvPr/>
        </p:nvPicPr>
        <p:blipFill>
          <a:blip r:embed="rId1"/>
          <a:stretch/>
        </p:blipFill>
        <p:spPr>
          <a:xfrm>
            <a:off x="2786040" y="4214880"/>
            <a:ext cx="31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tiptopcomputers.co.uk/images/Fotolia_9747389_XS.jpg"/>
          <p:cNvPicPr/>
          <p:nvPr/>
        </p:nvPicPr>
        <p:blipFill>
          <a:blip r:embed="rId1"/>
          <a:stretch/>
        </p:blipFill>
        <p:spPr>
          <a:xfrm>
            <a:off x="6523200" y="765000"/>
            <a:ext cx="2601720" cy="2176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6680" y="213840"/>
            <a:ext cx="3071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35461"/>
                </a:solidFill>
                <a:latin typeface="Arial"/>
              </a:rPr>
              <a:t>Recommendations:</a:t>
            </a:r>
            <a:endParaRPr b="1" lang="en-US" sz="24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500120"/>
            <a:ext cx="7661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Limit credit exposure per clie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Reduce internaly cross-borrowing from multiple institutio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Strengthen loan appraisal and monitorin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Develop industry-wide standards of conduc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292929"/>
                </a:solidFill>
                <a:latin typeface="Arial"/>
              </a:rPr>
              <a:t>Investors should include the assessment of the compliance with the standards of the code of conduct into due dilig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Harmonize risk classification (A-E) methodology</a:t>
            </a:r>
            <a:r>
              <a:rPr b="0" lang="bs-BA" sz="2200" spc="-1" strike="noStrike">
                <a:solidFill>
                  <a:srgbClr val="292929"/>
                </a:solidFill>
                <a:latin typeface="Arial"/>
              </a:rPr>
              <a:t> in the coun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learly mark restructured loan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nduct trend analysis of comprehensive CRK dat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5229360"/>
            <a:ext cx="6300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935461"/>
                </a:solidFill>
                <a:latin typeface="Arial"/>
              </a:rPr>
              <a:t>Selma Jahic, Assistant Director for Marketing</a:t>
            </a:r>
            <a:br>
              <a:rPr sz="2000"/>
            </a:br>
            <a:r>
              <a:rPr b="1" lang="bs-BA" sz="2000" spc="-1" strike="noStrike">
                <a:solidFill>
                  <a:srgbClr val="935461"/>
                </a:solidFill>
                <a:latin typeface="Arial"/>
              </a:rPr>
              <a:t>email: </a:t>
            </a:r>
            <a:r>
              <a:rPr b="1" lang="bs-BA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selma@partner.ba</a:t>
            </a:r>
            <a:r>
              <a:rPr b="1" lang="bs-BA" sz="2000" spc="-1" strike="noStrike">
                <a:solidFill>
                  <a:srgbClr val="9354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5040360" cy="36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6732720" y="5516640"/>
            <a:ext cx="21463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5880" y="1557000"/>
            <a:ext cx="785808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92929"/>
                </a:solidFill>
                <a:latin typeface="Arial"/>
              </a:rPr>
              <a:t>Partner Microcredit Found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Basic indicators as of Sept 30th 20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6875640" y="5877000"/>
            <a:ext cx="2145960" cy="56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bp3.blogger.com/_U7OKekcRrnU/R0jroDYV4TI/AAAAAAAAAGs/13ZIPMJrD9M/s400/gj1.gif"/>
          <p:cNvPicPr/>
          <p:nvPr/>
        </p:nvPicPr>
        <p:blipFill>
          <a:blip r:embed="rId2"/>
          <a:stretch/>
        </p:blipFill>
        <p:spPr>
          <a:xfrm>
            <a:off x="6357960" y="0"/>
            <a:ext cx="278604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3"/>
          <a:stretch/>
        </p:blipFill>
        <p:spPr>
          <a:xfrm>
            <a:off x="195120" y="2492280"/>
            <a:ext cx="84805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9" descr=""/>
          <p:cNvPicPr/>
          <p:nvPr/>
        </p:nvPicPr>
        <p:blipFill>
          <a:blip r:embed="rId1"/>
          <a:stretch/>
        </p:blipFill>
        <p:spPr>
          <a:xfrm>
            <a:off x="3498840" y="1127160"/>
            <a:ext cx="5668920" cy="566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428880" y="142560"/>
            <a:ext cx="2714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92929"/>
                </a:solidFill>
                <a:latin typeface="Arial"/>
              </a:rPr>
              <a:t>The main reasons that caused the crises in MF secto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560" y="1714680"/>
            <a:ext cx="51498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Global financial cri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Increasing unemployement r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Bad political situation and social tens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Market limit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Strong competi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Poor response to the crisis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 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from the Gover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92929"/>
                </a:solidFill>
                <a:latin typeface="Arial Narrow"/>
              </a:rPr>
              <a:t>Strong banking lobb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5928840"/>
            <a:ext cx="784836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35461"/>
                </a:solidFill>
                <a:latin typeface="Arial"/>
              </a:rPr>
              <a:t>Factors from MF industry </a:t>
            </a:r>
            <a:br>
              <a:rPr sz="2000"/>
            </a:b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8648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Clients’ over-indebtednes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Insufficient loan appraisal proces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Highly competitive microfinance sector in B&amp;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Flawed incentive systems for Loan Officer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Lack of information on credit history (before CL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Clients multiple lend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High capital inflow to the financial sec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Lack of industry code of condu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 </a:t>
            </a:r>
            <a:r>
              <a:rPr b="0" lang="hr-HR" sz="2800" spc="-1" strike="noStrike">
                <a:solidFill>
                  <a:srgbClr val="292929"/>
                </a:solidFill>
                <a:latin typeface="Arial Narrow"/>
              </a:rPr>
              <a:t>Fast institutional growth (profit-orient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0" name="Picture 5" descr="Debt-Counselling-Services-1684_image"/>
          <p:cNvPicPr/>
          <p:nvPr/>
        </p:nvPicPr>
        <p:blipFill>
          <a:blip r:embed="rId1"/>
          <a:srcRect l="8767" t="0" r="8767" b="0"/>
          <a:stretch/>
        </p:blipFill>
        <p:spPr>
          <a:xfrm>
            <a:off x="6786720" y="0"/>
            <a:ext cx="2172960" cy="26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6"/>
          <p:cNvGraphicFramePr/>
          <p:nvPr/>
        </p:nvGraphicFramePr>
        <p:xfrm>
          <a:off x="5929200" y="4071960"/>
          <a:ext cx="3214800" cy="240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29200" y="4071960"/>
                    <a:ext cx="32148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35461"/>
                </a:solidFill>
                <a:latin typeface="Arial"/>
              </a:rPr>
              <a:t>Deterioration in portfolio quality as result of the financial crisis </a:t>
            </a:r>
            <a:endParaRPr b="1" lang="en-US" sz="36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8760" y="2928960"/>
          <a:ext cx="8286480" cy="2822400"/>
        </p:xfrm>
        <a:graphic>
          <a:graphicData uri="http://schemas.openxmlformats.org/drawingml/2006/table">
            <a:tbl>
              <a:tblPr/>
              <a:tblGrid>
                <a:gridCol w="2771640"/>
                <a:gridCol w="1828800"/>
                <a:gridCol w="3686040"/>
              </a:tblGrid>
              <a:tr h="570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UR &gt; 30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artner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verage of the secto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9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6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2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7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2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0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-Q 201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4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-Q 201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8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2%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58" descr="http://perfectpayday.info/wp-content/uploads/2009/12/80-300x299.jpg"/>
          <p:cNvPicPr/>
          <p:nvPr/>
        </p:nvPicPr>
        <p:blipFill>
          <a:blip r:embed="rId1"/>
          <a:stretch/>
        </p:blipFill>
        <p:spPr>
          <a:xfrm>
            <a:off x="6357960" y="0"/>
            <a:ext cx="27860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280" y="2204640"/>
            <a:ext cx="8209080" cy="26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promised quality of portfol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increase in the level of total debt write-of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 lack o</a:t>
            </a: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dema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9292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neral sense of insecurity among employe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7" name="Picture 15" descr="C:\Users\selma.c\Desktop\LOGO mikrokreditna fondacija komplet.jpg"/>
          <p:cNvPicPr/>
          <p:nvPr/>
        </p:nvPicPr>
        <p:blipFill>
          <a:blip r:embed="rId1"/>
          <a:stretch/>
        </p:blipFill>
        <p:spPr>
          <a:xfrm>
            <a:off x="6875640" y="5877000"/>
            <a:ext cx="214596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14200" y="1785960"/>
            <a:ext cx="8143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935461"/>
                </a:solidFill>
                <a:latin typeface="Arial"/>
              </a:rPr>
              <a:t>The effect of the crisis on Partner MCF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" name="Picture 4" descr="http://zunia.org/uploads/pics/financialsector_crisis38.jpg"/>
          <p:cNvPicPr/>
          <p:nvPr/>
        </p:nvPicPr>
        <p:blipFill>
          <a:blip r:embed="rId2"/>
          <a:stretch/>
        </p:blipFill>
        <p:spPr>
          <a:xfrm>
            <a:off x="2643120" y="45007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1571760"/>
            <a:ext cx="6301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935461"/>
                </a:solidFill>
                <a:latin typeface="Arial"/>
              </a:rPr>
              <a:t>Actions taken by Partner:</a:t>
            </a:r>
            <a:endParaRPr b="1" lang="en-US" sz="32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280" y="2204640"/>
            <a:ext cx="8209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292929"/>
                </a:solidFill>
                <a:latin typeface="Arial"/>
              </a:rPr>
              <a:t>Social responsibi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292929"/>
                </a:solidFill>
                <a:latin typeface="Arial"/>
              </a:rPr>
              <a:t>Financial education of cli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292929"/>
                </a:solidFill>
                <a:latin typeface="Arial"/>
              </a:rPr>
              <a:t>Inovative approach for lending (Mercy Corps projec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292929"/>
                </a:solidFill>
                <a:latin typeface="Arial"/>
              </a:rPr>
              <a:t>Innovative loan products (youth, farmers, etc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292929"/>
                </a:solidFill>
                <a:latin typeface="Arial"/>
              </a:rPr>
              <a:t>ISO standards (ISO 9001, 27001, 31000, 10000, etc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715080" y="285840"/>
            <a:ext cx="2209680" cy="266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C:\Users\selma.c\Desktop\LOGO mikrokreditna fondacija komplet.jpg"/>
          <p:cNvPicPr/>
          <p:nvPr/>
        </p:nvPicPr>
        <p:blipFill>
          <a:blip r:embed="rId2"/>
          <a:stretch/>
        </p:blipFill>
        <p:spPr>
          <a:xfrm>
            <a:off x="6875640" y="5877000"/>
            <a:ext cx="21459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5285880"/>
            <a:ext cx="7848360" cy="10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35461"/>
                </a:solidFill>
                <a:latin typeface="Arial"/>
              </a:rPr>
              <a:t>The six principles</a:t>
            </a:r>
            <a:endParaRPr b="1" lang="en-US" sz="28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4200" y="4214520"/>
            <a:ext cx="144000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Avoidance of over-indebtednes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14320" y="4142880"/>
            <a:ext cx="143964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Transparent and Responsible pricing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143160" y="4142880"/>
            <a:ext cx="144000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Appropriate collections practice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4142880"/>
            <a:ext cx="144000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Ethical staff behavior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6072120" y="4142880"/>
            <a:ext cx="144000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Mechanisms for redress of grievances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143000" y="1557360"/>
            <a:ext cx="5732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Partner’s  response in client’s protection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Text Placeholder 3"/>
          <p:cNvSpPr/>
          <p:nvPr/>
        </p:nvSpPr>
        <p:spPr>
          <a:xfrm>
            <a:off x="7429680" y="4143240"/>
            <a:ext cx="1439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Privacy of client data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Picture 5" descr="transparenc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2898720"/>
            <a:ext cx="1143000" cy="125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violent_crime"/>
          <p:cNvPicPr/>
          <p:nvPr/>
        </p:nvPicPr>
        <p:blipFill>
          <a:blip r:embed="rId3"/>
          <a:stretch/>
        </p:blipFill>
        <p:spPr>
          <a:xfrm>
            <a:off x="2857680" y="2857680"/>
            <a:ext cx="150012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bout"/>
          <p:cNvPicPr/>
          <p:nvPr/>
        </p:nvPicPr>
        <p:blipFill>
          <a:blip r:embed="rId4"/>
          <a:stretch/>
        </p:blipFill>
        <p:spPr>
          <a:xfrm>
            <a:off x="4500720" y="28098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ystery-shopper"/>
          <p:cNvPicPr/>
          <p:nvPr/>
        </p:nvPicPr>
        <p:blipFill>
          <a:blip r:embed="rId5"/>
          <a:stretch/>
        </p:blipFill>
        <p:spPr>
          <a:xfrm>
            <a:off x="5929200" y="2643120"/>
            <a:ext cx="1351080" cy="153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raud-prevention"/>
          <p:cNvPicPr/>
          <p:nvPr/>
        </p:nvPicPr>
        <p:blipFill>
          <a:blip r:embed="rId6"/>
          <a:stretch/>
        </p:blipFill>
        <p:spPr>
          <a:xfrm>
            <a:off x="7286760" y="2571840"/>
            <a:ext cx="1668240" cy="1571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finlittv.com/wp-content/uploads/Financial-literacy-program-for-OFW-families-crucial-300x198.jpg"/>
          <p:cNvPicPr/>
          <p:nvPr/>
        </p:nvPicPr>
        <p:blipFill>
          <a:blip r:embed="rId7"/>
          <a:stretch/>
        </p:blipFill>
        <p:spPr>
          <a:xfrm>
            <a:off x="142920" y="2928960"/>
            <a:ext cx="1341360" cy="117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C:\Users\selma.c\AppData\Local\Microsoft\Windows\Temporary Internet Files\Content.Outlook\QEILEIMY\Image032 (2).jpg"/>
          <p:cNvPicPr/>
          <p:nvPr/>
        </p:nvPicPr>
        <p:blipFill>
          <a:blip r:embed="rId8"/>
          <a:stretch/>
        </p:blipFill>
        <p:spPr>
          <a:xfrm>
            <a:off x="6357960" y="0"/>
            <a:ext cx="2786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42600" y="2000160"/>
            <a:ext cx="7816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ew</a:t>
            </a:r>
            <a:r>
              <a:rPr b="1" lang="en-GB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products and services (Youth loan, Fruity loan, Insurance loa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Market leader in clients’ protec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igorous analysis and approval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Good image, clients’ trus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Constant market surv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ophisticated internal syste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Client oriented manage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292929"/>
                </a:solidFill>
                <a:latin typeface="Arial"/>
              </a:rPr>
              <a:t>Organizational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Centralization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292929"/>
                </a:solidFill>
                <a:latin typeface="Arial"/>
              </a:rPr>
              <a:t>Separation of sales, approval and loan collection units 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Monito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292929"/>
                </a:solidFill>
                <a:latin typeface="Arial"/>
              </a:rPr>
              <a:t>Separating sales, approval and collection of loa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292929"/>
                </a:solidFill>
                <a:latin typeface="Arial"/>
              </a:rPr>
              <a:t>Employees’ satisfaction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6375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92929"/>
                </a:solidFill>
                <a:latin typeface="Arial"/>
              </a:rPr>
              <a:t>Partner’s response to the crisi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1" name="Picture 7" descr="http://newscor.com/wp-content/uploads/2011/02/crisis_leadership.jpg"/>
          <p:cNvPicPr/>
          <p:nvPr/>
        </p:nvPicPr>
        <p:blipFill>
          <a:blip r:embed="rId1"/>
          <a:stretch/>
        </p:blipFill>
        <p:spPr>
          <a:xfrm>
            <a:off x="6227640" y="2349360"/>
            <a:ext cx="27003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Juana Ramirez e-MFP</cp:lastModifiedBy>
  <dcterms:modified xsi:type="dcterms:W3CDTF">2011-10-31T15:04:11Z</dcterms:modified>
  <cp:revision>62</cp:revision>
  <dc:subject/>
  <dc:title>Slide 1</dc:title>
</cp:coreProperties>
</file>