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F9DA-A0BC-4B61-849C-CA0BDE2FB6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ginning of the operations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4B18-50E4-438A-842B-9372941DAB9B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repreneurial and managerial skills development,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siness growth,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ing, Business plan,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ncial manag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8C82-E671-4C82-9571-1B173F1D0297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kasummer.tripod.com/06elarampup.htm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71320" y="1571760"/>
            <a:ext cx="76611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Partner Microfinance Found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Youth proje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Case Study from Bosnia and Herzegovi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" name="Picture 15" descr="C:\Users\selma.c\Desktop\LOGO mikrokreditna fondacija komplet.jpg"/>
          <p:cNvPicPr/>
          <p:nvPr/>
        </p:nvPicPr>
        <p:blipFill>
          <a:blip r:embed="rId1"/>
          <a:stretch/>
        </p:blipFill>
        <p:spPr>
          <a:xfrm>
            <a:off x="2571840" y="4714920"/>
            <a:ext cx="398304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000" y="4220640"/>
            <a:ext cx="1439640" cy="11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292929"/>
                </a:solidFill>
                <a:latin typeface="Arial"/>
              </a:rPr>
              <a:t>280.946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68360" y="4233960"/>
            <a:ext cx="1440000" cy="116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92929"/>
                </a:solidFill>
                <a:latin typeface="Arial"/>
              </a:rPr>
              <a:t>450,612,226.01 EUR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51280" y="4233960"/>
            <a:ext cx="1441440" cy="116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400" spc="-1" strike="noStrike">
                <a:solidFill>
                  <a:srgbClr val="292929"/>
                </a:solidFill>
                <a:latin typeface="Arial"/>
              </a:rPr>
              <a:t>35.633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400" spc="-1" strike="noStrike">
                <a:solidFill>
                  <a:srgbClr val="292929"/>
                </a:solidFill>
                <a:latin typeface="Arial"/>
              </a:rPr>
              <a:t>-----------------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400" spc="-1" strike="noStrike">
                <a:solidFill>
                  <a:srgbClr val="292929"/>
                </a:solidFill>
                <a:latin typeface="Arial"/>
              </a:rPr>
              <a:t>17,21%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435640" y="4233960"/>
            <a:ext cx="1440000" cy="116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292929"/>
                </a:solidFill>
                <a:latin typeface="Arial"/>
              </a:rPr>
              <a:t>255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292929"/>
                </a:solidFill>
                <a:latin typeface="Arial"/>
              </a:rPr>
              <a:t>-----------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292929"/>
                </a:solidFill>
                <a:latin typeface="Arial"/>
              </a:rPr>
              <a:t>13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7019640" y="4233960"/>
            <a:ext cx="1439640" cy="116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292929"/>
                </a:solidFill>
                <a:latin typeface="Arial"/>
              </a:rPr>
              <a:t>53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785880" y="1557000"/>
            <a:ext cx="785808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92929"/>
                </a:solidFill>
                <a:latin typeface="Arial"/>
              </a:rPr>
              <a:t>Partner Microcredit Found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29"/>
                </a:solidFill>
                <a:latin typeface="Arial"/>
              </a:rPr>
              <a:t>Basic indicators as of September 30</a:t>
            </a:r>
            <a:r>
              <a:rPr b="0" lang="hr-HR" sz="2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0" lang="hr-HR" sz="2400" spc="-1" strike="noStrike">
                <a:solidFill>
                  <a:srgbClr val="292929"/>
                </a:solidFill>
                <a:latin typeface="Arial"/>
              </a:rPr>
              <a:t> 201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7" name="Picture 15" descr="C:\Users\selma.c\Desktop\LOGO mikrokreditna fondacija komplet.jpg"/>
          <p:cNvPicPr/>
          <p:nvPr/>
        </p:nvPicPr>
        <p:blipFill>
          <a:blip r:embed="rId1"/>
          <a:stretch/>
        </p:blipFill>
        <p:spPr>
          <a:xfrm>
            <a:off x="2643120" y="5429160"/>
            <a:ext cx="378612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1"/>
          <p:cNvSpPr/>
          <p:nvPr/>
        </p:nvSpPr>
        <p:spPr>
          <a:xfrm>
            <a:off x="642960" y="2428920"/>
            <a:ext cx="157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o. of loans disbursed from</a:t>
            </a:r>
            <a:r>
              <a:rPr b="0" lang="en-A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e beginning of the opera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2214720" y="2500200"/>
            <a:ext cx="157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Total amount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of disbursed loans from</a:t>
            </a:r>
            <a:r>
              <a:rPr b="0" lang="en-A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e beginning of the opera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3857760" y="2500200"/>
            <a:ext cx="157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Active cli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------------------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% of youth cli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5429160" y="2571840"/>
            <a:ext cx="157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No. Of employee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Loan Offic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7072200" y="264312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No. Of branch offic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3" name="Picture 15" descr="http://bp3.blogger.com/_U7OKekcRrnU/R0jroDYV4TI/AAAAAAAAAGs/13ZIPMJrD9M/s400/gj1.gif"/>
          <p:cNvPicPr/>
          <p:nvPr/>
        </p:nvPicPr>
        <p:blipFill>
          <a:blip r:embed="rId2"/>
          <a:stretch/>
        </p:blipFill>
        <p:spPr>
          <a:xfrm>
            <a:off x="6357960" y="0"/>
            <a:ext cx="2786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4200" y="5143680"/>
            <a:ext cx="7848720" cy="12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935461"/>
                </a:solidFill>
                <a:latin typeface="Arial"/>
              </a:rPr>
              <a:t>Why?</a:t>
            </a:r>
            <a:br>
              <a:rPr sz="1800"/>
            </a:br>
            <a:r>
              <a:rPr b="1" lang="hr-HR" sz="1800" spc="-1" strike="noStrike">
                <a:solidFill>
                  <a:srgbClr val="935461"/>
                </a:solidFill>
                <a:latin typeface="Arial"/>
              </a:rPr>
              <a:t>-  Lack of work experience;</a:t>
            </a:r>
            <a:br>
              <a:rPr sz="1800"/>
            </a:br>
            <a:r>
              <a:rPr b="1" lang="hr-HR" sz="1800" spc="-1" strike="noStrike">
                <a:solidFill>
                  <a:srgbClr val="935461"/>
                </a:solidFill>
                <a:latin typeface="Arial"/>
              </a:rPr>
              <a:t>-  M</a:t>
            </a:r>
            <a:r>
              <a:rPr b="1" lang="en-US" sz="1800" spc="-1" strike="noStrike">
                <a:solidFill>
                  <a:srgbClr val="935461"/>
                </a:solidFill>
                <a:latin typeface="Arial"/>
              </a:rPr>
              <a:t>ismatch of education system, national qualifications framework</a:t>
            </a:r>
            <a:r>
              <a:rPr b="1" lang="hr-HR" sz="1800" spc="-1" strike="noStrike">
                <a:solidFill>
                  <a:srgbClr val="935461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935461"/>
                </a:solidFill>
                <a:latin typeface="Arial"/>
              </a:rPr>
              <a:t>and labour market needs;</a:t>
            </a:r>
            <a:br>
              <a:rPr sz="1800"/>
            </a:br>
            <a:endParaRPr b="1" lang="en-US" sz="1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4220640"/>
            <a:ext cx="1439640" cy="11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2060"/>
                </a:solidFill>
                <a:latin typeface="Arial"/>
              </a:rPr>
              <a:t>Y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outh unemployment rate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</a:rPr>
              <a:t> in B&amp;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58%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68360" y="4233960"/>
            <a:ext cx="1440000" cy="116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2060"/>
                </a:solidFill>
                <a:latin typeface="Arial"/>
              </a:rPr>
              <a:t>%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of youth 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</a:rPr>
              <a:t>who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would leave B&amp;H if they ca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57%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51280" y="4233960"/>
            <a:ext cx="1441440" cy="116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% of youth (15-29)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</a:rPr>
              <a:t> who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live with their pare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85</a:t>
            </a:r>
            <a:r>
              <a:rPr b="1" lang="hr-HR" sz="1400" spc="-1" strike="noStrike">
                <a:solidFill>
                  <a:srgbClr val="00206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435640" y="4233960"/>
            <a:ext cx="1440000" cy="116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% of married couples (up to 30 years) do not have their own 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</a:rPr>
              <a:t>plac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2060"/>
                </a:solidFill>
                <a:latin typeface="Arial"/>
              </a:rPr>
              <a:t>93%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7020000" y="4233600"/>
            <a:ext cx="14810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% of youth 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</a:rPr>
              <a:t>that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are members of youth organizatio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2060"/>
                </a:solidFill>
                <a:latin typeface="Arial"/>
              </a:rPr>
              <a:t>2%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499680" y="1500120"/>
            <a:ext cx="79297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92929"/>
                </a:solidFill>
                <a:latin typeface="Arial"/>
              </a:rPr>
              <a:t>Youth in Bosnia and Herzegovi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1" name="Picture 2" descr="http://www.instablogsimages.com/images/2009/11/17/unemployment_jIepl_17844.jpg"/>
          <p:cNvPicPr/>
          <p:nvPr/>
        </p:nvPicPr>
        <p:blipFill>
          <a:blip r:embed="rId1"/>
          <a:stretch/>
        </p:blipFill>
        <p:spPr>
          <a:xfrm>
            <a:off x="428760" y="2786040"/>
            <a:ext cx="1571400" cy="117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www.undp.ba/images/SC/Youth%20unemployment.jpg"/>
          <p:cNvPicPr/>
          <p:nvPr/>
        </p:nvPicPr>
        <p:blipFill>
          <a:blip r:embed="rId2"/>
          <a:stretch/>
        </p:blipFill>
        <p:spPr>
          <a:xfrm>
            <a:off x="2143080" y="27860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www.topnews.in/files/Parents-2239.jpg"/>
          <p:cNvPicPr/>
          <p:nvPr/>
        </p:nvPicPr>
        <p:blipFill>
          <a:blip r:embed="rId3"/>
          <a:stretch/>
        </p:blipFill>
        <p:spPr>
          <a:xfrm>
            <a:off x="3857760" y="2714760"/>
            <a:ext cx="1427040" cy="1295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adspakistani.com/wp-content/uploads/2011/06/164350-150x150.jpg"/>
          <p:cNvPicPr/>
          <p:nvPr/>
        </p:nvPicPr>
        <p:blipFill>
          <a:blip r:embed="rId4"/>
          <a:stretch/>
        </p:blipFill>
        <p:spPr>
          <a:xfrm>
            <a:off x="5429160" y="271476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http://t1.gstatic.com/images?q=tbn:ANd9GcRYufbMUuuvlzNZd0xwP_i0mXVkKnrdTGbJE4ZJpoSk9LRuZ7Jzp_DIV2Hf"/>
          <p:cNvPicPr/>
          <p:nvPr/>
        </p:nvPicPr>
        <p:blipFill>
          <a:blip r:embed="rId5"/>
          <a:stretch/>
        </p:blipFill>
        <p:spPr>
          <a:xfrm>
            <a:off x="6929280" y="2714760"/>
            <a:ext cx="1960560" cy="133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C:\Users\selma.c\Desktop\LOGO mikrokreditna fondacija komplet.jpg"/>
          <p:cNvPicPr/>
          <p:nvPr/>
        </p:nvPicPr>
        <p:blipFill>
          <a:blip r:embed="rId6"/>
          <a:stretch/>
        </p:blipFill>
        <p:spPr>
          <a:xfrm>
            <a:off x="6357960" y="0"/>
            <a:ext cx="27860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14200" y="1571760"/>
            <a:ext cx="80186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2840" indent="-402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o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increase self-employment opportunities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for young people in Bosnia and Herzegovina, by providing </a:t>
            </a:r>
            <a:r>
              <a:rPr b="0" i="1" lang="hr-HR" sz="2400" spc="-1" strike="noStrike">
                <a:solidFill>
                  <a:srgbClr val="002060"/>
                </a:solidFill>
                <a:latin typeface="Arial"/>
              </a:rPr>
              <a:t>complimentary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market-oriented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usiness training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for youth clients in addition to loans</a:t>
            </a:r>
            <a:r>
              <a:rPr b="0" i="1" lang="hr-HR" sz="24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To increase self-employment within Partner’s cli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To enable youth clients to obtain practical knowledge and skills in order to sustain their business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To measure the usefulness of training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and impact on business sustainabil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8" name="Picture 15" descr="C:\Users\selma.c\Desktop\LOGO mikrokreditna fondacija komplet.jpg"/>
          <p:cNvPicPr/>
          <p:nvPr/>
        </p:nvPicPr>
        <p:blipFill>
          <a:blip r:embed="rId1"/>
          <a:stretch/>
        </p:blipFill>
        <p:spPr>
          <a:xfrm>
            <a:off x="6357960" y="0"/>
            <a:ext cx="2786040" cy="741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mladi_3"/>
          <p:cNvPicPr/>
          <p:nvPr/>
        </p:nvPicPr>
        <p:blipFill>
          <a:blip r:embed="rId2"/>
          <a:stretch/>
        </p:blipFill>
        <p:spPr>
          <a:xfrm>
            <a:off x="6858000" y="4429080"/>
            <a:ext cx="2286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28400" y="2714760"/>
            <a:ext cx="7358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he project include</a:t>
            </a: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about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400 young entrepreneurs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who will randomly be divided in the following four groups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00 youths with a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maximum maturity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and a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maximum loan amoun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00 youths who are offered to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extend their loan term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to 60 month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00 youths who are offered to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extend their loan term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to 60 months AND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increase their loan size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to </a:t>
            </a: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app 5000 Eur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00 youths who receive the loan as specified in 1) and are offered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free business train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92929"/>
                </a:solidFill>
                <a:latin typeface="Arial"/>
              </a:rPr>
              <a:t>Total of: 445 clien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2/3 received a comprehensive business training + financial literac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1/3 control group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he randomization was stratified by gender,</a:t>
            </a: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aseline financial literacy level, industry, and baseline profi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Espace réservé du contenu 2"/>
          <p:cNvSpPr/>
          <p:nvPr/>
        </p:nvSpPr>
        <p:spPr>
          <a:xfrm>
            <a:off x="714240" y="1428840"/>
            <a:ext cx="6705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Monitoring &amp; Evalu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Arial"/>
              </a:rPr>
              <a:t>This project conduct</a:t>
            </a:r>
            <a:r>
              <a:rPr b="1" i="1" lang="hr-HR" sz="1600" spc="-1" strike="noStrike">
                <a:solidFill>
                  <a:srgbClr val="002060"/>
                </a:solidFill>
                <a:latin typeface="Arial"/>
              </a:rPr>
              <a:t>ed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</a:rPr>
              <a:t> a randomized experiment designed to assess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the impact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</a:rPr>
              <a:t>of increasing maturity and loan size on business investment and growth.</a:t>
            </a:r>
            <a:r>
              <a:rPr b="0" lang="hr-HR" sz="1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2" name="Picture 15" descr="C:\Users\selma.c\Desktop\LOGO mikrokreditna fondacija komplet.jpg"/>
          <p:cNvPicPr/>
          <p:nvPr/>
        </p:nvPicPr>
        <p:blipFill>
          <a:blip r:embed="rId1"/>
          <a:stretch/>
        </p:blipFill>
        <p:spPr>
          <a:xfrm>
            <a:off x="6357960" y="0"/>
            <a:ext cx="27860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2560" y="2356920"/>
            <a:ext cx="73580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Passivnes of the youth in B&amp;H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YP are not focused on a survey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2060"/>
                </a:solidFill>
                <a:latin typeface="Arial"/>
              </a:rPr>
              <a:t>Very complex and time consuming organization of B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Declaratively ready to start-up own busines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Not realistic in plannin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2060"/>
                </a:solidFill>
                <a:latin typeface="Arial"/>
              </a:rPr>
              <a:t>Difficulties in motivating the clients to attend BT (small allowance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2060"/>
                </a:solidFill>
                <a:latin typeface="Arial"/>
              </a:rPr>
              <a:t>The financial crisis may affect the final IMPACT stu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Espace réservé du contenu 2"/>
          <p:cNvSpPr/>
          <p:nvPr/>
        </p:nvSpPr>
        <p:spPr>
          <a:xfrm>
            <a:off x="928800" y="1571760"/>
            <a:ext cx="6705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Arial"/>
              </a:rPr>
              <a:t>Youth project / Market research </a:t>
            </a: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5" name="Picture 10" descr="challan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51760" y="3929040"/>
            <a:ext cx="1992240" cy="2565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C:\Users\selma.c\Desktop\LOGO mikrokreditna fondacija komplet.jpg"/>
          <p:cNvPicPr/>
          <p:nvPr/>
        </p:nvPicPr>
        <p:blipFill>
          <a:blip r:embed="rId3"/>
          <a:stretch/>
        </p:blipFill>
        <p:spPr>
          <a:xfrm>
            <a:off x="6357960" y="0"/>
            <a:ext cx="27860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KREDIT ZA MLADE -  PLAKAT copy"/>
          <p:cNvPicPr/>
          <p:nvPr/>
        </p:nvPicPr>
        <p:blipFill>
          <a:blip r:embed="rId1"/>
          <a:stretch/>
        </p:blipFill>
        <p:spPr>
          <a:xfrm>
            <a:off x="6027840" y="2076480"/>
            <a:ext cx="3097080" cy="4370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-357480" y="2285640"/>
            <a:ext cx="73580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8840" indent="-439560"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92929"/>
                </a:solidFill>
                <a:latin typeface="Arial"/>
              </a:rPr>
              <a:t>36% new businesses shot down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mproved business practices</a:t>
            </a:r>
            <a:r>
              <a:rPr b="0" lang="hr-HR" sz="2200" spc="-1" strike="noStrike">
                <a:solidFill>
                  <a:srgbClr val="292929"/>
                </a:solidFill>
                <a:latin typeface="Arial"/>
              </a:rPr>
              <a:t> (17%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Encourages new business investments</a:t>
            </a:r>
            <a:r>
              <a:rPr b="0" lang="hr-HR" sz="2200" spc="-1" strike="noStrike">
                <a:solidFill>
                  <a:srgbClr val="292929"/>
                </a:solidFill>
                <a:latin typeface="Arial"/>
              </a:rPr>
              <a:t> (11%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More capital growth</a:t>
            </a:r>
            <a:r>
              <a:rPr b="0" lang="hr-HR" sz="2200" spc="-1" strike="noStrike">
                <a:solidFill>
                  <a:srgbClr val="292929"/>
                </a:solidFill>
                <a:latin typeface="Arial"/>
              </a:rPr>
              <a:t> (15% but 54% in some subgroups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eparation of business from personal account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finance the loans under more favorable term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Obtain new loans with lower loan installment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mprovements in business performance and sale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Espace réservé du contenu 2"/>
          <p:cNvSpPr/>
          <p:nvPr/>
        </p:nvSpPr>
        <p:spPr>
          <a:xfrm>
            <a:off x="357120" y="1571760"/>
            <a:ext cx="7277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indings from the World Bank’s study on Partner’s clients</a:t>
            </a: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tating that the development of practical business skills can influence the following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0" name="Picture 15" descr="C:\Users\selma.c\Desktop\LOGO mikrokreditna fondacija komplet.jpg"/>
          <p:cNvPicPr/>
          <p:nvPr/>
        </p:nvPicPr>
        <p:blipFill>
          <a:blip r:embed="rId2"/>
          <a:stretch/>
        </p:blipFill>
        <p:spPr>
          <a:xfrm>
            <a:off x="6357960" y="0"/>
            <a:ext cx="27860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28400" y="1785600"/>
            <a:ext cx="766116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67200" indent="-36720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onitoring and Evaluation for Youth Workforce Development Projec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28640" indent="-360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www.cyesnetwork.or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28640" indent="-360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The Impact of Business and Financial Literacy for Young Entrepreneurs</a:t>
            </a:r>
            <a:r>
              <a:rPr b="1" lang="hr-HR" sz="1600" spc="-1" strike="noStrike">
                <a:solidFill>
                  <a:srgbClr val="292929"/>
                </a:solidFill>
                <a:latin typeface="Arial"/>
              </a:rPr>
              <a:t>: Evidence from Bosnia and Herzegovina</a:t>
            </a: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”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The World Bank Development Research Group Finance and Private Sector Development Team April 2011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728640" indent="-360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www-wds.worldbank.or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92929"/>
                </a:solidFill>
                <a:latin typeface="Arial"/>
              </a:rPr>
              <a:t>Selma Cilimkovic, Market Research offic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292929"/>
                </a:solidFill>
                <a:latin typeface="Arial"/>
              </a:rPr>
              <a:t>selma.c@partner.b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Juana Ramirez e-MFP</cp:lastModifiedBy>
  <dcterms:modified xsi:type="dcterms:W3CDTF">2011-10-31T09:44:17Z</dcterms:modified>
  <cp:revision>32</cp:revision>
  <dc:subject/>
  <dc:title>Slide 1</dc:title>
</cp:coreProperties>
</file>