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1B02-E344-4FA9-845C-BCF8E3B6B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0995-25B5-4315-B8FE-120C656FDF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A133-1CAA-490C-8C0B-AE8CF7FCDA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8A0-5ED7-43E7-AB42-8D55DE62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660-7EA6-48D3-8E1A-85EE7031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987-F8E2-4C93-BEE9-6192EF88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19A-FD1F-4F61-9DC6-F22E76CD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9925B-A341-4DE5-BEF4-09BD8F96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117CD-0BC7-47A3-A819-3EE36CC4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F36B3-C457-41E6-B6A9-BF208C32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5C02C-BE15-4867-9405-BBECECC1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D8AAD-DFB7-4514-9750-29364895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AF8A1-3AED-4BA8-86FC-C01AFE5F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5CF2A-E261-4B08-9417-C35F3C8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413-06D3-430F-B4A5-C68FE0F9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3562C-B216-4ED5-9624-64021BFD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C7546-ABB5-4A96-8925-DB95E664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5C1D1-C01D-46B9-8CAC-3AFA4D7A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FF551-AD27-4708-8FEF-2F46D838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62BD4-559F-4BF8-8610-4809F8AB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DFBA5-11F1-4B54-973D-F908408F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A023-DE0C-4EF9-83E5-695C4946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90E5-A736-4B4A-A0B5-0892E9FA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B202-4EC7-4C15-BC96-728543D0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8B7B1-7004-464B-8417-3C1FD4DF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42D-36A8-452B-8F12-745E2C4E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C831-5A6A-48AA-A795-85FCD91C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4AEA9-E364-425A-95CD-6F2F8782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B3E4-D3B7-4202-B3D4-2EBB05A8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630AE-EE87-4937-9C44-B3C75B89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A2B9-68B2-4196-AEBD-AB860515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C662-6995-4162-A5F5-74BEA6ED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E3AC-8CB0-48C5-8951-240DB2F7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F5E89-24BD-4929-8EF7-B6CA4385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C500A-AA6D-48E4-B105-4C417070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0F5DCB-147F-4B03-980C-74F37B2C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164-1B62-4F91-805E-EA3310FC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284B00-5419-4959-8032-8754C96B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04CE12-5D30-4810-891D-AE107509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A0AC0-6C76-4AFA-A10E-4E1978E2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C1560-ECF0-4C5D-984D-84426B0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C2AB9-3A00-4E59-B363-E750B43F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31505-E99E-4F72-B44F-B067B45D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8FE36-0360-46C5-BA6D-DF978D21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BDB553-4A02-4E61-8575-808DC213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25689-747F-408B-85AA-6646766F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B6B61-47DF-4776-95FD-76445618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E71-84CF-425A-A4FA-A41FF450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2D58F-1653-4320-9919-6455F2CE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08BAD-4935-488F-B03A-D5F8A669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1E942-C1BE-4EC2-A7B4-0A2F59E2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06FBDF-9CBE-417F-90F4-555DC2E0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B125B-AF9B-499A-A119-673A55EA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EB4C7-75FB-42F2-99F9-5512D47F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DF14B-3BF5-4B56-BFEE-15B7D213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0D9CB-D1B2-4064-88BB-9126A2D2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DD43D-2C36-4F93-8D0F-3BB138EE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0A95F-3B66-4247-B826-1A094C74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492-CE8F-4E84-BBD6-B67E2D9A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C817F-8AB8-4E77-BE64-0D96E590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AB15D-B8C3-4C27-9B2D-643DE083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E676F-A3CC-4493-8E64-AC524F40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F61C0-BB0D-4624-B90A-E1312F98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C006C-9153-4924-B612-CC0225DE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7A3B8-3BCD-4FE5-AD62-D6BB6CC2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07D44-2193-41C9-B82E-FCB67F85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DB964-9981-4E60-961B-B8EAA70B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03533-5754-4AC8-881F-DE5CC604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519DF-D609-445F-8C21-AC576C4A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9B1-514D-41B8-B578-7E93E25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C71048-D9E6-4418-9856-1ECF2E64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40723-A85A-4A28-9ADB-E82D1CFC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47AC3-5286-4422-9D70-68DA7945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DCD-F6D3-4D85-B755-BF23FB55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FF1-A127-4FDB-9FB2-1D23A2B2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B4D3-7A9B-42DE-A819-0D944B1F60F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50B0-789F-4E3A-A7B4-27DC42B527B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4BCE-52D0-4E8F-B1A5-15DE14A23C47}" type="slidenum">
              <a:rPr b="0" lang="en-US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227C-0537-4B56-AADE-F93F878E6B4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35A6-4D79-416A-BE1C-BD265633B0A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AD05-386A-4C9D-93BE-9B3E603FD78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311040" y="1432080"/>
            <a:ext cx="860112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Saleh Kh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Constantia"/>
              </a:rPr>
              <a:t>European Microfinance Week 2011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Constantia"/>
              </a:rPr>
              <a:t>October 2011, Luxembourg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611920" cy="1560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Most sustainable MFIs seek to be ‘operationally efficient’ in order to reduce cost – could be a function of the outreach, by exploiting economies of scale, or by using technology to reduce cost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Some MFIs, however, make it their driving purpose / institutional philosophy to be the most cost efficient – such as ASA and it’s worldwide entiti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The goal is to reach the maximum amount of people with the minimal cost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Could be a function of macro-environment (cost of doing business, population densities, etc.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0" y="4365360"/>
            <a:ext cx="4176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Largest MFI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ASA in Bangladesh, most of its entities globally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Indian MFIs (Bandhan / Sarala / SKS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Chart 4" descr=""/>
          <p:cNvPicPr/>
          <p:nvPr/>
        </p:nvPicPr>
        <p:blipFill>
          <a:blip r:embed="rId2"/>
          <a:stretch/>
        </p:blipFill>
        <p:spPr>
          <a:xfrm>
            <a:off x="4425840" y="1481040"/>
            <a:ext cx="4357800" cy="2597400"/>
          </a:xfrm>
          <a:prstGeom prst="rect">
            <a:avLst/>
          </a:prstGeom>
          <a:ln w="0">
            <a:noFill/>
          </a:ln>
        </p:spPr>
      </p:pic>
      <p:sp>
        <p:nvSpPr>
          <p:cNvPr id="310" name="TextBox 5"/>
          <p:cNvSpPr/>
          <p:nvPr/>
        </p:nvSpPr>
        <p:spPr>
          <a:xfrm>
            <a:off x="7151040" y="4078440"/>
            <a:ext cx="181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onstantia"/>
              </a:rPr>
              <a:t>Data Source: Mix Market for 2010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324000" y="152280"/>
            <a:ext cx="8362800" cy="14385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3"/>
          <p:cNvSpPr/>
          <p:nvPr/>
        </p:nvSpPr>
        <p:spPr>
          <a:xfrm>
            <a:off x="566640" y="6165720"/>
            <a:ext cx="13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onstantia"/>
              </a:rPr>
              <a:t>Data Source: Mix Market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Content Placeholder 3"/>
          <p:cNvSpPr/>
          <p:nvPr/>
        </p:nvSpPr>
        <p:spPr>
          <a:xfrm>
            <a:off x="464832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As an example we look at how operational culture plays a role in cost efficiency for Nigerian MFIs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Although cost of operations is higher in Nigeria than Bangladesh (used as a benchmark from South Asia), there are marked difference between for-profit and not-for-profit institution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Operational philosophy plays a large role in cost acceptance / cost tolerance of an MFI – could be blamed on management apathy towards cost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4" name="Chart 5" descr=""/>
          <p:cNvPicPr/>
          <p:nvPr/>
        </p:nvPicPr>
        <p:blipFill>
          <a:blip r:embed="rId2"/>
          <a:stretch/>
        </p:blipFill>
        <p:spPr>
          <a:xfrm>
            <a:off x="682560" y="1487520"/>
            <a:ext cx="3816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78720" cy="15606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Driven by RoA and on providing a return to shareholder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Often criticized for being in the microfinance space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Some examples have been the recent IPOs in the sector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Could be dictated by external market conditions such as ‘acceptable’ margins in the country and the lending rat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Price skimming and price competition are examples of tactics employe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Recent examples are Compartamos – which came under criticism for its IPO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And SKS in India which also came under criticism for similar reason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The debate remain on how much profit is ‘too much’? And should MFIs be allowed to generate surplus over a certain size? Should they distribute this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Is there a space for commercial investors to be in, and a case for ‘commercial microfinance’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But, perhaps this is a regional phenomenon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78720" cy="1560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39640" y="4508280"/>
            <a:ext cx="8167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nstantia"/>
              </a:rPr>
              <a:t>Using Yield on Gross Loan Portfolio as a proxy of profitability, we see that there are wide regional variances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nstantia"/>
              </a:rPr>
              <a:t>Africa, Latin America and MENA seems to command the highest Yield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nstantia"/>
              </a:rPr>
              <a:t>South Asia being the lowest – perhaps because of intense competition and a mature market?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0" name="Chart 4" descr=""/>
          <p:cNvPicPr/>
          <p:nvPr/>
        </p:nvPicPr>
        <p:blipFill>
          <a:blip r:embed="rId2"/>
          <a:stretch/>
        </p:blipFill>
        <p:spPr>
          <a:xfrm>
            <a:off x="469800" y="1554120"/>
            <a:ext cx="8204400" cy="274320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6949440" y="4221000"/>
            <a:ext cx="181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onstantia"/>
              </a:rPr>
              <a:t>Data Source: Mix Market for 2010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Classify these and perhaps expand the classifications to include more organizational culture typ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Get case studies and highlight practices for ea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3" name="Title 2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78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Deal, T.E &amp; Kennedy, A.A. 1982. </a:t>
            </a:r>
            <a:r>
              <a:rPr b="0" i="1" lang="en-US" sz="1000" spc="-1" strike="noStrike">
                <a:solidFill>
                  <a:srgbClr val="ffffff"/>
                </a:solidFill>
                <a:latin typeface="Constantia"/>
              </a:rPr>
              <a:t>Corporate Cultures: The Rites and Rituals of corporate Life</a:t>
            </a: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. Reading MA: Addison-Wesley.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Spender, J.C. 1983</a:t>
            </a:r>
            <a:r>
              <a:rPr b="0" i="1" lang="en-US" sz="1000" spc="-1" strike="noStrike">
                <a:solidFill>
                  <a:srgbClr val="ffffff"/>
                </a:solidFill>
                <a:latin typeface="Constantia"/>
              </a:rPr>
              <a:t>. Myths, Recipes, and Knowledge-bases in Organizational Analysis</a:t>
            </a: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. Unpublished manuscript, Graduate School of Management, University of California at Lost Angeles.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Mitchell, C. 2000. </a:t>
            </a:r>
            <a:r>
              <a:rPr b="0" i="1" lang="en-US" sz="1000" spc="-1" strike="noStrike">
                <a:solidFill>
                  <a:srgbClr val="ffffff"/>
                </a:solidFill>
                <a:latin typeface="Constantia"/>
              </a:rPr>
              <a:t>A Short Course in International Business Culture</a:t>
            </a: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. California, USA. World Trade Press. 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Mr. Femi Fabamwo,  Director , Central Bank of Nigeria,quoted </a:t>
            </a:r>
            <a:r>
              <a:rPr b="0" lang="fr-CH" sz="1000" spc="-1" strike="noStrike">
                <a:solidFill>
                  <a:srgbClr val="ffffff"/>
                </a:solidFill>
                <a:latin typeface="Constantia"/>
              </a:rPr>
              <a:t>by </a:t>
            </a:r>
            <a:r>
              <a:rPr b="0" lang="en-GB" sz="1000" spc="-1" strike="noStrike">
                <a:solidFill>
                  <a:srgbClr val="ffffff"/>
                </a:solidFill>
                <a:latin typeface="Constantia"/>
              </a:rPr>
              <a:t>Abayomi, A., 2011. </a:t>
            </a:r>
            <a:r>
              <a:rPr b="0" i="1" lang="en-GB" sz="1000" spc="-1" strike="noStrike">
                <a:solidFill>
                  <a:srgbClr val="ffffff"/>
                </a:solidFill>
                <a:latin typeface="Constantia"/>
              </a:rPr>
              <a:t>Why 103 MFBs Failed - CBN</a:t>
            </a:r>
            <a:r>
              <a:rPr b="0" lang="en-GB" sz="1000" spc="-1" strike="noStrike">
                <a:solidFill>
                  <a:srgbClr val="ffffff"/>
                </a:solidFill>
                <a:latin typeface="Constantia"/>
              </a:rPr>
              <a:t>. [Online] Vanguard Nigeria Available at: http://www.vanguardngr.com/2011/01/why-103-mfbs-failed-%E2%80%94-cbn/ [Accessed 31 October 2011]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Source: </a:t>
            </a:r>
            <a:r>
              <a:rPr b="0" lang="en-GB" sz="1000" spc="-1" strike="noStrike">
                <a:solidFill>
                  <a:srgbClr val="ffffff"/>
                </a:solidFill>
                <a:latin typeface="Constantia"/>
              </a:rPr>
              <a:t>http://www.socialenterpriseportal.org/files/Library/BSEP_Bangladesh_Case_Studies.pdf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Source: BlueOrchard’s website at </a:t>
            </a:r>
            <a:r>
              <a:rPr b="0" lang="en-GB" sz="1000" spc="-1" strike="noStrike">
                <a:solidFill>
                  <a:srgbClr val="ffffff"/>
                </a:solidFill>
                <a:latin typeface="Constantia"/>
              </a:rPr>
              <a:t>http://www.blueorchard.com/jahia/Jahia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5" name="Title 2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78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15235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OXUS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 (for-profit): Bottom-up/decentralized ; Efficiency-oriented; Committe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ADIE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 (not-for-profit): engagement, initiative, sérieux, respect, confiance (trust)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nstantia"/>
              </a:rPr>
              <a:t>How can we interpret it 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Elements of profit orientation…or for-profit culture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Constantia"/>
              </a:rPr>
              <a:t>OXUS: Efficiency oriented</a:t>
            </a:r>
            <a:endParaRPr b="0" lang="en-US" sz="16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Elements of social orientation (to poor) or a culture to think of the poor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Constantia"/>
              </a:rPr>
              <a:t>OXUS: Committed</a:t>
            </a:r>
            <a:endParaRPr b="0" lang="en-US" sz="16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Constantia"/>
              </a:rPr>
              <a:t>ADIE :  engagement, respect, confiance (trust).</a:t>
            </a:r>
            <a:endParaRPr b="0" lang="en-US" sz="16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Element of internal social orientation (to employees) or a culture of internal working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Constantia"/>
              </a:rPr>
              <a:t>OXUS : Bottom-up/decentralized</a:t>
            </a:r>
            <a:endParaRPr b="0" lang="en-US" sz="16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Constantia"/>
              </a:rPr>
              <a:t>ADIE:  Initiative, Serious</a:t>
            </a:r>
            <a:endParaRPr b="0" lang="en-US" sz="1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27" name="Titre 2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78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This is a work in progress, hopefully leading to a paper by Dr. Arvind Ashta and myself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Draws upon our current work on “Cost Control in MFIs” – forthcoming in (the Journal of) Cost Management – a paper that evaluates the business case for lean operations management in MF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We intend to use this discussion forum to generate ideas, map operational knowledge and identify future collabora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Title 2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78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The way we do things around here” – Deal &amp; Kennedy</a:t>
            </a:r>
            <a:r>
              <a:rPr b="0" lang="en-GB" sz="2600" spc="-1" strike="noStrike" baseline="30000">
                <a:solidFill>
                  <a:srgbClr val="ffffff"/>
                </a:solidFill>
                <a:latin typeface="Constantia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A belief system shared by an organization’s members” – Spender</a:t>
            </a:r>
            <a:r>
              <a:rPr b="0" lang="en-GB" sz="26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Corporate culture is the glue, if you will, that holds an organization together” – Mitchell</a:t>
            </a:r>
            <a:r>
              <a:rPr b="0" lang="en-GB" sz="2600" spc="-1" strike="noStrike" baseline="30000">
                <a:solidFill>
                  <a:srgbClr val="ffffff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Title 2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78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</a:rPr>
              <a:t>Management philosophies and organizational culture can define how a Microfinance Institution (MFI) manages its business operations and strategic pla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</a:rPr>
              <a:t>From taking a patient approach to investments with a higher risk appetite (as demonstrated by donor or government driven MFIs) to strict risk management and operational practices (as required by commercial investors) these dictate the path followed by a MFI to sustainabilit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</a:rPr>
              <a:t>It also defines the ‘nature’ and ‘flavour’ of the institution, from Spartan offices like those of Grameen Bank or ASA to large Microfinance Banks in Nigeria often called  ‘micro-commercial banks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GB" sz="20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</a:rPr>
              <a:t>An examination of these culture and grouping them should improve our understanding of MFIs and their likely evolutionary path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Title 2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78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78720" cy="1560600"/>
          </a:xfrm>
          <a:prstGeom prst="rect">
            <a:avLst/>
          </a:prstGeom>
          <a:ln w="0">
            <a:noFill/>
          </a:ln>
        </p:spPr>
      </p:pic>
      <p:pic>
        <p:nvPicPr>
          <p:cNvPr id="268" name="Diagram 2" descr=""/>
          <p:cNvPicPr/>
          <p:nvPr/>
        </p:nvPicPr>
        <p:blipFill>
          <a:blip r:embed="rId2"/>
          <a:stretch/>
        </p:blipFill>
        <p:spPr>
          <a:xfrm>
            <a:off x="1438200" y="1736640"/>
            <a:ext cx="6310440" cy="4280040"/>
          </a:xfrm>
          <a:prstGeom prst="rect">
            <a:avLst/>
          </a:prstGeom>
          <a:ln w="0">
            <a:noFill/>
          </a:ln>
        </p:spPr>
      </p:pic>
      <p:grpSp>
        <p:nvGrpSpPr>
          <p:cNvPr id="269" name="TextBox 4"/>
          <p:cNvGrpSpPr/>
          <p:nvPr/>
        </p:nvGrpSpPr>
        <p:grpSpPr>
          <a:xfrm>
            <a:off x="3127320" y="2077920"/>
            <a:ext cx="2955960" cy="1390680"/>
            <a:chOff x="3127320" y="2077920"/>
            <a:chExt cx="2955960" cy="1390680"/>
          </a:xfrm>
        </p:grpSpPr>
        <p:pic>
          <p:nvPicPr>
            <p:cNvPr id="270" name="TextBox 4" descr=""/>
            <p:cNvPicPr/>
            <p:nvPr/>
          </p:nvPicPr>
          <p:blipFill>
            <a:blip r:embed="rId3"/>
            <a:stretch/>
          </p:blipFill>
          <p:spPr>
            <a:xfrm>
              <a:off x="3127320" y="2077920"/>
              <a:ext cx="29559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3637080" y="2117160"/>
              <a:ext cx="19350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ff"/>
                  </a:solidFill>
                  <a:latin typeface="Constantia"/>
                </a:rPr>
                <a:t>Impact Investing</a:t>
              </a:r>
              <a:endParaRPr b="0" lang="en-US" sz="16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ff"/>
                  </a:solidFill>
                  <a:latin typeface="Constantia"/>
                </a:rPr>
                <a:t>Social Businesses</a:t>
              </a:r>
              <a:endParaRPr b="0" lang="en-US" sz="16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ffff"/>
                  </a:solidFill>
                  <a:latin typeface="Constantia"/>
                </a:rPr>
                <a:t>Triple Bottom line</a:t>
              </a:r>
              <a:endParaRPr b="0" lang="en-US" sz="1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7"/>
          <p:cNvSpPr/>
          <p:nvPr/>
        </p:nvSpPr>
        <p:spPr>
          <a:xfrm>
            <a:off x="5219640" y="3372120"/>
            <a:ext cx="3456000" cy="272880"/>
          </a:xfrm>
          <a:prstGeom prst="roundRect">
            <a:avLst>
              <a:gd name="adj" fmla="val 16667"/>
            </a:avLst>
          </a:prstGeom>
          <a:solidFill>
            <a:srgbClr val="ffffcc">
              <a:alpha val="10000"/>
            </a:srgbClr>
          </a:solidFill>
          <a:ln w="38160">
            <a:solidFill>
              <a:srgbClr val="e7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Constantia"/>
              </a:rPr>
              <a:t>The Double / Triple Bottom Line Zone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255600" y="115920"/>
            <a:ext cx="8443800" cy="151128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6"/>
          <p:cNvGrpSpPr/>
          <p:nvPr/>
        </p:nvGrpSpPr>
        <p:grpSpPr>
          <a:xfrm>
            <a:off x="596880" y="1484280"/>
            <a:ext cx="8078760" cy="4977000"/>
            <a:chOff x="596880" y="1484280"/>
            <a:chExt cx="8078760" cy="4977000"/>
          </a:xfrm>
        </p:grpSpPr>
        <p:grpSp>
          <p:nvGrpSpPr>
            <p:cNvPr id="275" name="TextBox 4"/>
            <p:cNvGrpSpPr/>
            <p:nvPr/>
          </p:nvGrpSpPr>
          <p:grpSpPr>
            <a:xfrm>
              <a:off x="608400" y="5975280"/>
              <a:ext cx="8067240" cy="486000"/>
              <a:chOff x="608400" y="5975280"/>
              <a:chExt cx="8067240" cy="486000"/>
            </a:xfrm>
          </p:grpSpPr>
          <p:pic>
            <p:nvPicPr>
              <p:cNvPr id="276" name="TextBox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00" y="5975280"/>
                <a:ext cx="806724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717120" y="6076800"/>
                <a:ext cx="77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onstantia"/>
                  </a:rPr>
                  <a:t>Profit Orientation</a:t>
                </a:r>
                <a:endParaRPr b="0" lang="en-US" sz="10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278" name="TextBox 5"/>
            <p:cNvGrpSpPr/>
            <p:nvPr/>
          </p:nvGrpSpPr>
          <p:grpSpPr>
            <a:xfrm>
              <a:off x="596880" y="1484280"/>
              <a:ext cx="498600" cy="4925160"/>
              <a:chOff x="596880" y="1484280"/>
              <a:chExt cx="498600" cy="4925160"/>
            </a:xfrm>
          </p:grpSpPr>
          <p:pic>
            <p:nvPicPr>
              <p:cNvPr id="279" name="Text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596880" y="1484280"/>
                <a:ext cx="498600" cy="49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 rot="16200000">
                <a:off x="-1502640" y="3851280"/>
                <a:ext cx="465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onstantia"/>
                  </a:rPr>
                  <a:t>Social  Motivation</a:t>
                </a:r>
                <a:endParaRPr b="0" lang="en-US" sz="10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281" name="TextBox 9"/>
          <p:cNvSpPr/>
          <p:nvPr/>
        </p:nvSpPr>
        <p:spPr>
          <a:xfrm>
            <a:off x="7380360" y="5445000"/>
            <a:ext cx="1217520" cy="908640"/>
          </a:xfrm>
          <a:prstGeom prst="flowChartConnector">
            <a:avLst/>
          </a:prstGeom>
          <a:solidFill>
            <a:srgbClr val="fefac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Price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Skimmin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TextBox 10"/>
          <p:cNvSpPr/>
          <p:nvPr/>
        </p:nvSpPr>
        <p:spPr>
          <a:xfrm>
            <a:off x="7186680" y="4076640"/>
            <a:ext cx="1488960" cy="908640"/>
          </a:xfrm>
          <a:prstGeom prst="flowChartConnector">
            <a:avLst/>
          </a:prstGeom>
          <a:solidFill>
            <a:srgbClr val="fefac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Lean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3780000" y="3068640"/>
            <a:ext cx="1712880" cy="908640"/>
          </a:xfrm>
          <a:prstGeom prst="flowChartConnector">
            <a:avLst/>
          </a:prstGeom>
          <a:solidFill>
            <a:srgbClr val="fefac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Comprehensive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Presence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TextBox 12"/>
          <p:cNvSpPr/>
          <p:nvPr/>
        </p:nvSpPr>
        <p:spPr>
          <a:xfrm>
            <a:off x="5508720" y="1628640"/>
            <a:ext cx="1285920" cy="908640"/>
          </a:xfrm>
          <a:prstGeom prst="flowChartConnector">
            <a:avLst/>
          </a:prstGeom>
          <a:solidFill>
            <a:srgbClr val="fefac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Social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Businesses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755640" y="1916280"/>
            <a:ext cx="1584360" cy="908640"/>
          </a:xfrm>
          <a:prstGeom prst="flowChartConnector">
            <a:avLst/>
          </a:prstGeom>
          <a:solidFill>
            <a:srgbClr val="fefac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900000" y="5660640"/>
            <a:ext cx="863640" cy="391680"/>
          </a:xfrm>
          <a:prstGeom prst="flowChartConnector">
            <a:avLst/>
          </a:prstGeom>
          <a:solidFill>
            <a:srgbClr val="fefac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CSR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5640" y="1498320"/>
            <a:ext cx="1714680" cy="649800"/>
          </a:xfrm>
          <a:prstGeom prst="flowChartConnector">
            <a:avLst/>
          </a:prstGeom>
          <a:solidFill>
            <a:srgbClr val="fefac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“</a:t>
            </a: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Lets do good”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TextBox 7"/>
          <p:cNvSpPr/>
          <p:nvPr/>
        </p:nvSpPr>
        <p:spPr>
          <a:xfrm>
            <a:off x="4062240" y="3643200"/>
            <a:ext cx="1148040" cy="908640"/>
          </a:xfrm>
          <a:prstGeom prst="flowChartConnector">
            <a:avLst/>
          </a:prstGeom>
          <a:solidFill>
            <a:srgbClr val="fefac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Scale /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Outreach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2050920" y="1700280"/>
            <a:ext cx="865440" cy="908640"/>
          </a:xfrm>
          <a:prstGeom prst="flowChartConnector">
            <a:avLst/>
          </a:prstGeom>
          <a:solidFill>
            <a:srgbClr val="fefac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“</a:t>
            </a: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local” MFIs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6804000" y="3776760"/>
            <a:ext cx="1343160" cy="650520"/>
          </a:xfrm>
          <a:prstGeom prst="flowChartConnector">
            <a:avLst/>
          </a:prstGeom>
          <a:solidFill>
            <a:srgbClr val="fefac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Constantia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78720" cy="15606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523520"/>
            <a:ext cx="40593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nstantia"/>
              </a:rPr>
              <a:t>Usually inspired by a “do good to people” philosophy and most institution sare structured as not-for-profit NGOs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nstantia"/>
              </a:rPr>
              <a:t>Social motive seems to be the driving force for the majority of MFIs, looking at the institutional type for MFIs globally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nstantia"/>
              </a:rPr>
              <a:t>They might be gigantic in size (as in Grameen Bank), but, most often are small scale MFIs that are focused within specific sub-regions of a country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nstantia"/>
              </a:rPr>
              <a:t>Have broader development objectives beyond just providing microcredit or microsavings services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nstantia"/>
              </a:rPr>
              <a:t>Microfinance is may be just one of the services offered by them – others being healthcare, education, etc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716360" y="4365720"/>
            <a:ext cx="417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nstantia"/>
              </a:rPr>
              <a:t>Most MFIs are NGOs by charter type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nstantia"/>
              </a:rPr>
              <a:t>But most clients belong to for profit institutions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nstantia"/>
              </a:rPr>
              <a:t>Made famous by Grameen Bank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nstantia"/>
              </a:rPr>
              <a:t>Mostly small MFIs (Tier 3 and Tier 2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nstantia"/>
              </a:rPr>
              <a:t>BRAC (for their holistic approach to development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GB" sz="1400" spc="-1" strike="noStrike">
                <a:solidFill>
                  <a:srgbClr val="ffffff"/>
                </a:solidFill>
                <a:latin typeface="Constantia"/>
              </a:rPr>
              <a:t>Slow money” and “patient capital” movements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Chart 4" descr=""/>
          <p:cNvPicPr/>
          <p:nvPr/>
        </p:nvPicPr>
        <p:blipFill>
          <a:blip r:embed="rId2"/>
          <a:stretch/>
        </p:blipFill>
        <p:spPr>
          <a:xfrm>
            <a:off x="4211640" y="1414440"/>
            <a:ext cx="4572000" cy="2949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5"/>
          <p:cNvSpPr/>
          <p:nvPr/>
        </p:nvSpPr>
        <p:spPr>
          <a:xfrm>
            <a:off x="7524720" y="1700280"/>
            <a:ext cx="1295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Constantia"/>
              </a:rPr>
              <a:t>Outer Circle: </a:t>
            </a:r>
            <a:r>
              <a:rPr b="0" i="1" lang="en-GB" sz="1200" spc="-1" strike="noStrike">
                <a:solidFill>
                  <a:srgbClr val="ffffff"/>
                </a:solidFill>
                <a:latin typeface="Constantia"/>
              </a:rPr>
              <a:t>Number of Active Borrowers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Constantia"/>
              </a:rPr>
              <a:t>Inner Circle:</a:t>
            </a:r>
            <a:r>
              <a:rPr b="0" i="1" lang="en-GB" sz="1200" spc="-1" strike="noStrike">
                <a:solidFill>
                  <a:srgbClr val="ffffff"/>
                </a:solidFill>
                <a:latin typeface="Constantia"/>
              </a:rPr>
              <a:t> MFI count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TextBox 6"/>
          <p:cNvSpPr/>
          <p:nvPr/>
        </p:nvSpPr>
        <p:spPr>
          <a:xfrm>
            <a:off x="7093080" y="4149720"/>
            <a:ext cx="181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onstantia"/>
              </a:rPr>
              <a:t>Data Source: Mix Market for 2010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78720" cy="15606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6840" y="1523880"/>
            <a:ext cx="3754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Driven by the need to reach out to as many people as possible – due to various motivations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Could be to widen financial inclusion (BRI), to generate economies of scale (ASA), or simple to establish market dominance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Could be part of the government’s plan to expand access to finance and could be part of development assistance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Scale and outreach certainly depends on external factors, including population density and poverty rate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7960" y="4941360"/>
            <a:ext cx="4059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07360" indent="-207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BRI (Indonesia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07360" indent="-207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VBSP (Vietnam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07360" indent="-207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Top 3 Bangladeshi MFIs (Grameen / BRAC / ASA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07360" indent="-207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Indian MFIs (SKS, Spandana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Chart 4" descr=""/>
          <p:cNvPicPr/>
          <p:nvPr/>
        </p:nvPicPr>
        <p:blipFill>
          <a:blip r:embed="rId2"/>
          <a:stretch/>
        </p:blipFill>
        <p:spPr>
          <a:xfrm>
            <a:off x="4359240" y="401760"/>
            <a:ext cx="4388040" cy="4682880"/>
          </a:xfrm>
          <a:prstGeom prst="rect">
            <a:avLst/>
          </a:prstGeom>
          <a:ln w="0">
            <a:noFill/>
          </a:ln>
        </p:spPr>
      </p:pic>
      <p:sp>
        <p:nvSpPr>
          <p:cNvPr id="301" name="TextBox 7"/>
          <p:cNvSpPr/>
          <p:nvPr/>
        </p:nvSpPr>
        <p:spPr>
          <a:xfrm>
            <a:off x="4645080" y="4653000"/>
            <a:ext cx="181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onstantia"/>
              </a:rPr>
              <a:t>Data Source: Mix Market for 2010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7093080" y="1413000"/>
            <a:ext cx="172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Constantia"/>
              </a:rPr>
              <a:t>Total Number of Active Borrowers by Region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2360" cy="15112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People, planet, profit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Double and Triple Bottom line seeker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Made famous by Dr. Yunus’ call for social businesses and his work in this fiel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Impact investing seeks to follow this model - most MF funds and MIVs are modelled along these lin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But, is this a new concept? Or are all MFIs, by pure definition of working with poor people and seeking to be sustainable, social businesses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Grameen Bank initiatives – for example: Grameen Danone is a joint  venture between four </a:t>
            </a:r>
            <a:r>
              <a:rPr b="0" i="1" lang="en-GB" sz="1600" spc="-1" strike="noStrike">
                <a:solidFill>
                  <a:srgbClr val="ffffff"/>
                </a:solidFill>
                <a:latin typeface="Constantia"/>
              </a:rPr>
              <a:t>Grameen</a:t>
            </a: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 companies; </a:t>
            </a:r>
            <a:r>
              <a:rPr b="0" i="1" lang="en-GB" sz="1600" spc="-1" strike="noStrike">
                <a:solidFill>
                  <a:srgbClr val="ffffff"/>
                </a:solidFill>
                <a:latin typeface="Constantia"/>
              </a:rPr>
              <a:t>Grameen Byabosa Bikash</a:t>
            </a: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en-GB" sz="1600" spc="-1" strike="noStrike">
                <a:solidFill>
                  <a:srgbClr val="ffffff"/>
                </a:solidFill>
                <a:latin typeface="Constantia"/>
              </a:rPr>
              <a:t>Grameen Kalyan</a:t>
            </a: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en-GB" sz="1600" spc="-1" strike="noStrike">
                <a:solidFill>
                  <a:srgbClr val="ffffff"/>
                </a:solidFill>
                <a:latin typeface="Constantia"/>
              </a:rPr>
              <a:t>Grameen Shakti</a:t>
            </a: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 and Grameen Telecom -- and </a:t>
            </a:r>
            <a:r>
              <a:rPr b="0" i="1" lang="en-GB" sz="1600" spc="-1" strike="noStrike">
                <a:solidFill>
                  <a:srgbClr val="ffffff"/>
                </a:solidFill>
                <a:latin typeface="Constantia"/>
              </a:rPr>
              <a:t>Groupe Danone</a:t>
            </a:r>
            <a:r>
              <a:rPr b="0" lang="en-GB" sz="1600" spc="-1" strike="noStrike" baseline="30000">
                <a:solidFill>
                  <a:srgbClr val="ffffff"/>
                </a:solidFill>
                <a:latin typeface="Constanti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Microfinance fund, such as BlueOrchard – a commercial microfinance investment company that invests in MFIs and seeks profitable return to its investors</a:t>
            </a:r>
            <a:r>
              <a:rPr b="0" lang="en-GB" sz="1600" spc="-1" strike="noStrike" baseline="30000">
                <a:solidFill>
                  <a:srgbClr val="ffffff"/>
                </a:solidFill>
                <a:latin typeface="Constanti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0:10:11Z</dcterms:created>
  <dc:creator/>
  <dc:description/>
  <dc:language>en-US</dc:language>
  <cp:lastModifiedBy/>
  <dcterms:modified xsi:type="dcterms:W3CDTF">2011-11-21T17:56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79719990</vt:lpwstr>
  </property>
</Properties>
</file>