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077D-B88D-4AFE-8A8D-83EA48EEE441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091E-870D-4490-A451-04FB2D5998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4859-23BE-4542-A771-2150BD3E690D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640" y="1557360"/>
            <a:ext cx="766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ural Outreach and Innovation e-MFP Action Group: Lessons learned from member based MFIs on governance and strategic alliances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Moderator 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Laurent Biot, SOS Faim 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Speakers 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Victor Chati Perez, Coop Los Andes (Per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Alou Sidibe, Kafo Jiginew (Mali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Luis Panzer, Cresol (Brasil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Maira Gonzales, Coop. Jardin Azuayo (Ecuador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292929"/>
                </a:solidFill>
                <a:latin typeface="Arial"/>
              </a:rPr>
              <a:t>With contributions from Bernard Ornilla (Alterfin), Lamarana Sadio Diall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292929"/>
                </a:solidFill>
                <a:latin typeface="Arial"/>
              </a:rPr>
              <a:t>(CRG-Guinea), Anaïs Perilleux and Annabel Vanroose (CERMi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Luxemburg, November 4, 201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9280" y="1595160"/>
            <a:ext cx="846936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configu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Finalized in 201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From 113 local branches to 19 branch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But conserve the 167 service po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From 22 elected presidents at Union BoD to 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Advantage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Increases efficiency (speeds up decision process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Reduces strongly the operating expens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Easier to meet regulatory n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Improves professionaliz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Disadvantage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Weakens the link with memb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9280" y="1595160"/>
            <a:ext cx="846936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iversification in order to reduce risk (reduce dependency on cotton sector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522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Geographic diversific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92700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reation of new local branche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lvl="3" marL="131436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Urban: Bamako and Kaye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lvl="3" marL="131436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Rural: Office du Niger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lvl="3" marL="131436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Head Office transfer to Bamako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lvl="3" marL="1314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5223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Sector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2700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Diversification of service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lvl="3" marL="131436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Finance new activities (other activities than cotton production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lvl="3" marL="1314360">
              <a:lnSpc>
                <a:spcPct val="80000"/>
              </a:lnSpc>
              <a:spcBef>
                <a:spcPts val="2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lvl="2" marL="927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9270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Result: the portfolio dependency on the cotton sector reduced from 85% to 45%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8000" y="1484280"/>
            <a:ext cx="8578800" cy="65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trategic Allian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ultiple partnership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2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Strategy convergence (defined by Kafo Jiginew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E.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Geographic diversifi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Rural – Office du Niger (rice) (SOS Faim – FAIR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Urban –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Bamako (with own funds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One crucial partner: the Confédération des Institutions Financières (CIF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Regional partnership: CIF groups 6 financial cooperative networks in 5 West-African countr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Same type of institutions: know very w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hallenges of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each oth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Exchange of experiences and expertis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- E.g. Reference group on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agricultural fin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Increases independence from external technical suppor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Possibilities to implement new too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to mutualize services, e.g. bank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and insurance compan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9640" y="1557360"/>
            <a:ext cx="766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ural Outreach and Innovation e-MFP Action Group: Lessons learned from member based MFIs on governance and strategic alliances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experience of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RESOL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(Brazil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292929"/>
                </a:solidFill>
                <a:latin typeface="Arial"/>
              </a:rPr>
              <a:t>Presented b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Luis Panzer, CRESOL General Direc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35461"/>
                </a:solidFill>
                <a:latin typeface="Arial"/>
              </a:rPr>
              <a:t>II. Casos</a:t>
            </a:r>
            <a:br>
              <a:rPr sz="3200"/>
            </a:br>
            <a:r>
              <a:rPr b="1" lang="es-BO" sz="3200" spc="-1" strike="noStrike">
                <a:solidFill>
                  <a:srgbClr val="935461"/>
                </a:solidFill>
                <a:latin typeface="Arial"/>
              </a:rPr>
              <a:t>latinos</a:t>
            </a:r>
            <a:r>
              <a:rPr b="1" lang="es-BO" sz="2600" spc="-1" strike="noStrike">
                <a:solidFill>
                  <a:srgbClr val="935461"/>
                </a:solidFill>
                <a:latin typeface="Arial"/>
              </a:rPr>
              <a:t>II.3.  CRESOL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57000" y="3933720"/>
            <a:ext cx="27622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DI: 0.69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ank: 73/16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9" name="Picture 6" descr="Mapa_Brasil_Cresol"/>
          <p:cNvPicPr/>
          <p:nvPr/>
        </p:nvPicPr>
        <p:blipFill>
          <a:blip r:embed="rId1"/>
          <a:stretch/>
        </p:blipFill>
        <p:spPr>
          <a:xfrm>
            <a:off x="2651040" y="1447920"/>
            <a:ext cx="510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7520" y="1539720"/>
            <a:ext cx="8445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reated in 1995, with the objective to help local rural communities to access credit and saving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ming from social move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orks intensively with government program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centralized institution: network of cooperatives (79) composed by rural fami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ctive in two Southern regions of Brazil, currently considering expans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RESOL in figures of December 2010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41,200 savers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and </a:t>
            </a:r>
            <a:r>
              <a:rPr b="0" lang="es-PE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45,023 active borrowers (18.38% wome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100% rural activit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417.7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M$ credit portfolio and </a:t>
            </a:r>
            <a:r>
              <a:rPr b="0" lang="es-PE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137.3 M$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saving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118.6% OSS; OE/ assets: 5.36%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3,800 USD average loan siz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2.81% PaR3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560" y="1557000"/>
            <a:ext cx="81039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he MBOs are all initiated locally and directed towards rural families; average number of members: 500-2,00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RESOL puts a lot of effort in the decentralization of the COOP so that the management stays in the hands of the farmers. Therefore all members and directors receive training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ll committees (e.g. credit, audit) are composed of members and consequently decisions are taken by the communit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1028880" indent="-228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Recently discussion towards putting “managers” in charge of the operational task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1028880" indent="-228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hree level system: local, regional and central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1028880" indent="-228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MBO is a network: have local and regional meetings and a central cooperative who manages the IT system, is responsible for audit, lobby and advocacy towards external part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1028880" indent="-22860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Principio Solidario: Local COOP is “guaranteed” in case of default, by its regional service centre who covers 70% of the lo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102888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000" y="1467000"/>
            <a:ext cx="7972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trategic Allian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ll the cooperatives have constructed alliances with local organizations (trade unions, NGOs, producer oriented cooperatives) =&gt; member has access to different servic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as developed different activities with other institu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35040" indent="-2793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raining activities (training of credit officers) with Infoco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35040" indent="-2793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o create access to insurance products for its members, CRESOL created alliances with MAFRE, Liberty, HDI etc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he CRESOL system has national alliances with the government, banks and national cooperative systems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35040" indent="-2793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Banco de Brasil (public-private bank) and the BNDES (National Development Bank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35040" indent="-2793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entral CRESOL is member of Unicafes (National Union of Cooperatives) and Confesol (National Union of Credit Cooperative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upport of international partners such as Trias, Rabobank Foundation, BRS etc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35040" indent="-279360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Receives technical support which have been decisive in the growth proces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9640" y="1557360"/>
            <a:ext cx="766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ural Outreach and Innovation e-MFP Action Group: Lessons learned from member based MFIs on governance and strategic alliances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experience of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avings and Credit Cooperative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Jardin Azuayo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Ecuador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292929"/>
                </a:solidFill>
                <a:latin typeface="Arial"/>
              </a:rPr>
              <a:t>Presented b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Maira Gonzales, Jardin Azuayo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reasur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3640" y="5157360"/>
            <a:ext cx="3368520" cy="13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cuad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24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DI: 0.69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24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ank: 77/16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5" name="Image 3" descr=""/>
          <p:cNvPicPr/>
          <p:nvPr/>
        </p:nvPicPr>
        <p:blipFill>
          <a:blip r:embed="rId1"/>
          <a:stretch/>
        </p:blipFill>
        <p:spPr>
          <a:xfrm>
            <a:off x="395280" y="1550880"/>
            <a:ext cx="7761240" cy="4697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1557360"/>
            <a:ext cx="766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ural Outreach and Innovation e-MFP Action Group: Lessons learned from member based MFIs on governance and strategic alliances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experience of the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avings and Credit Cooperative Los Ande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(Per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292929"/>
                </a:solidFill>
                <a:latin typeface="Arial"/>
              </a:rPr>
              <a:t>Presented b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Victor Chati Perez, Los Andes General Manager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8920" y="1484280"/>
            <a:ext cx="799956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262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reated in 1996, as a response to local disaster in the village of Pau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urrently the second biggest MBO in terms of assets in Ecuad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centralized institution: 27 offices and 3 service poin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262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JA in figures of October 2011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205,000 Members (52% women borrowers);  289 employe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70% rural memb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205 M$ credit portfolio and 191.5 M$ voluntary saving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120.7% OS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/assets: 4.14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4.830 USD average loan siz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2.80 % PaR3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9640" y="1628280"/>
            <a:ext cx="7499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Governa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 model - Training focus: Educational programs towards members, directors and employe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ffect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2793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appropriation and embeddedness, people know very well the cooperativ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2793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ontributes to local develop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2793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Social control of the operational part of J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2793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Balance between social and financial objecti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279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centralized governance model, except for the technical areas of the 27 offi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279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ffec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2793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 and products adapted towards the needs of the cli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914400" indent="-279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 remittances, shared financial services within national cooperati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9280" y="1447920"/>
            <a:ext cx="8431200" cy="66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trategic Allian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with the support of a local NGO called CECCA (NGO specialized in education and training of farmers) but without international suppor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development organiz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730080" indent="-2617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 de Mujeres de Paute, local governments, producer organiz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73008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s: Alliances, part of local development, knowledge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 etc.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2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ember of several microfinance networks in Ecuad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730080" indent="-2617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 Financiera Rural, Ucacsur y FINANCOOP: ratings, publications, trainings, product suppor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73008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s: representativeness, knowledge development, product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, financ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partners and organiz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730080" indent="-2617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ce 2003 started to build international alliances: FUSM, BID (B-loan),  Alterfi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73008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s: technical support, long term financing, development of ne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1557360"/>
            <a:ext cx="8202600" cy="65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43080" indent="-262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Thank you for your attention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156360" y="2133360"/>
            <a:ext cx="2178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er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82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824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HDI Peru: 0.72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24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HDI Apurimac: 0.52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24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Rank Peru: 63/16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" name="Image 3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9690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1557360"/>
            <a:ext cx="7999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eated in 200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oming from a rural microcredit program (1999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Founders: 5 rural communit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Very rural focused, basically with savings and credi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Some figu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s Andes, in constant growth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28,620 active Members (44% women); 97 salaried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21.63 M$ credit portfolio; around 85% of credit lines covered by saving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25.3 M$ equity and liabilit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114.9% OSS; OE/assets 9.93%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1,419 USD average loan siz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89120" indent="-282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30 is 2.3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9280" y="1699920"/>
            <a:ext cx="74995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Governa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operative model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Decentralized and participatory: 12 offices and 42 service point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Every office has elected representati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hey control oper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hey represent the members  in the General Meeting (100 representative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he law prohibits participation of the members in the credit committee but they design the credit polic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For this model to be performing, Los Andes puts its efforts at two level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ooperative train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erritorial focus: the Coop acts as an active actor in local develop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1450440"/>
            <a:ext cx="757080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29"/>
                </a:solidFill>
                <a:latin typeface="Arial"/>
              </a:rPr>
              <a:t>Strategic Allianc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Natural alliances with local partners: Villages associations /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rmers´ associations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and local governmen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Strategic alliances with international development organization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But in the current context and for the model to be sustainable at long term, need to build new alliances with pe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reation of CIDERURAL (2008): Second floor cooperativ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Objective is to: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Exchange experiences and to learn from each oth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Economies of scale (TA, training, audits etc.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Financing possibilit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Lobby, national represent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reation of the Union of cooperatives from Apurimac (2011): with any type of cooperativ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Make the local economy more dynami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Represent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81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640" y="1557360"/>
            <a:ext cx="766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ural Outreach and Innovation e-MFP Action Group: Lessons learned from member based MFIs on governance and strategic alliances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The experience of </a:t>
            </a:r>
            <a:r>
              <a:rPr b="1" lang="fr-BE" sz="1800" spc="-1" strike="noStrike">
                <a:solidFill>
                  <a:srgbClr val="292929"/>
                </a:solidFill>
                <a:latin typeface="Arial"/>
              </a:rPr>
              <a:t>Kafo Jiginew 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(Mali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292929"/>
                </a:solidFill>
                <a:latin typeface="Arial"/>
              </a:rPr>
              <a:t>Presented b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Alou Sidibe, Kafo Jiginew General Manag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5616720" cy="5229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227640" y="2487600"/>
            <a:ext cx="2354400" cy="15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Mal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824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DI: 0.30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824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ank: 160/16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198160" y="5003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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67920" y="4797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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44280" y="5219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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1483920"/>
            <a:ext cx="84247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9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792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reated in 1987 in the South of Mali: cotton are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92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upported by an NGO consortium and the Crédit Coopératif França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92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ook its autonomy in 199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92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etwork: 19 local branches – 5 Regional Delegations – 1 Union – 167 service po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9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Kafo in figures of September 201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302,000 Members – With 27% of wom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647 employe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Credit portfolio reaches: 33.29 millions of dollars (M$) and total savings: 32.64 M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106.2% operationally self-sufficiency and 98.5% FS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OE/Assets: 13.48% – Borrowers/staff: 8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612 $ average loan siz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371600" indent="-282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7.3% PaR3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04:31Z</dcterms:created>
  <dc:creator>Martin Kinsella</dc:creator>
  <dc:description/>
  <dc:language>en-US</dc:language>
  <cp:lastModifiedBy> Niamh</cp:lastModifiedBy>
  <dcterms:modified xsi:type="dcterms:W3CDTF">2011-11-18T11:01:26Z</dcterms:modified>
  <cp:revision>74</cp:revision>
  <dc:subject/>
  <dc:title>Slide 1</dc:title>
</cp:coreProperties>
</file>