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3A8-973E-492C-9E55-ED22824D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FBA-1D47-4727-8FAE-056E0D14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BD2-45B4-4416-B46A-D13A004D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158-5FC8-4F6A-94E9-96CCCB8B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8A3-798A-4693-8FF5-F36C10DE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A3E-CCC0-4A33-9251-6AB35EF7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A44-7F4F-4AAF-9380-8DBF21AB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2BA-8EDB-4BB3-AB71-BFA35799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EB9-4D23-448A-B9DF-1E0579F4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443-2462-4C68-AF6A-78491191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154-524F-4333-A731-01CA8A9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2D5-6593-40DB-847B-841C5D36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8A60-53D1-4C0E-9C18-7D54EA582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effect of religion in development efforts – evidence from the microfinance industry and a research 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898989"/>
                </a:solidFill>
                <a:latin typeface="Calibri"/>
              </a:rPr>
              <a:t>Roy Mersland University of Agder, Kristiansand, Nor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898989"/>
                </a:solidFill>
                <a:latin typeface="Calibri"/>
              </a:rPr>
              <a:t>Bert d’Espallier Hogeschool-Universiteit Brussel,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898989"/>
                </a:solidFill>
                <a:latin typeface="Calibri"/>
              </a:rPr>
              <a:t>Magne Supphellen Norwegian School of Economics, Bergen, Norw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data from the microfinance industry to study the effect of Christian religion on organizational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from 405 microfinance providers over up to 8 years in 73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in 6 institutions have a Christian 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Performance areas that w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cial perform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each to poor cl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each to female cl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ancial perform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imizing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ing financial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ing operational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ing loan lo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tom line perform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cial sus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should Christian actors perform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reach to the po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 for the poor is a Christian vir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"If you would be perfect, go, sell what you possess and give to the poor, and you will have treasure in heaven; and come, follow me.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reach to w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male empowerment may in some contexts still be against Christian doct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, women are poorer and Christians should care for the p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should Christian actors perform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ncial perform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imizing inc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ging high interest rates is a stark dilemma for Christian 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 antithesis of charity inherent in Christia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ssion is to “help” the 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st of fun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wer local networks (operate in isol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r international networks (easy access to fun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Christian international len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should Christian actors perform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nancial perform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ing operational c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eing Christian should foster self-regulation and self-control (less corruption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ore motivated work for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reater goals, more rewarding, a divine call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T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rk goals at odds with efficie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competitive organizational culture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staff efficiency ratio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fficult to fire staff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ly hiring staff with the “right faith”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 focused on the mission and lack financial control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nagement and boards focusing on theology and not efficie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ing loan lo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lack loan enforcement because want to help the custom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thical challenges related to loan enforce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othes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istian versus secular 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00000" y="1844640"/>
          <a:ext cx="7201080" cy="3427560"/>
        </p:xfrm>
        <a:graphic>
          <a:graphicData uri="http://schemas.openxmlformats.org/drawingml/2006/table">
            <a:tbl>
              <a:tblPr/>
              <a:tblGrid>
                <a:gridCol w="1720800"/>
                <a:gridCol w="3265560"/>
                <a:gridCol w="2214720"/>
              </a:tblGrid>
              <a:tr h="76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ypt.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formance vari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ected re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orer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male cl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erational inco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erational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an lo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ttom line perfor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itial finding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e 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1557360"/>
          <a:ext cx="8209080" cy="4896000"/>
        </p:xfrm>
        <a:graphic>
          <a:graphicData uri="http://schemas.openxmlformats.org/drawingml/2006/table">
            <a:tbl>
              <a:tblPr/>
              <a:tblGrid>
                <a:gridCol w="2927520"/>
                <a:gridCol w="880920"/>
                <a:gridCol w="879480"/>
                <a:gridCol w="880920"/>
                <a:gridCol w="879480"/>
                <a:gridCol w="881280"/>
                <a:gridCol w="879480"/>
              </a:tblGrid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n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n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rist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-s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rist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χ²-s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performance dr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folio y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6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95</a:t>
                      </a: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st of fu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8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63</a:t>
                      </a: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erational costs / T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ttom line financial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89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8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7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lo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female cl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6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</a:t>
                      </a: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al performance differences – advanced statistics (RE-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1523880"/>
          <a:ext cx="7561440" cy="5154840"/>
        </p:xfrm>
        <a:graphic>
          <a:graphicData uri="http://schemas.openxmlformats.org/drawingml/2006/table">
            <a:tbl>
              <a:tblPr/>
              <a:tblGrid>
                <a:gridCol w="2673360"/>
                <a:gridCol w="2721240"/>
                <a:gridCol w="2166840"/>
              </a:tblGrid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perf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loan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female cl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ristian MF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19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67*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rm-specific contro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n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.01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2*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regul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3.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6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ownershi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6.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11*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extual contro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ri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3.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DP per cap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D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4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 dumm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 dumm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sta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d χ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4.40*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56*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ancial performance differences – advanced statistics (RE-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1673280"/>
          <a:ext cx="7416720" cy="5321160"/>
        </p:xfrm>
        <a:graphic>
          <a:graphicData uri="http://schemas.openxmlformats.org/drawingml/2006/table">
            <a:tbl>
              <a:tblPr/>
              <a:tblGrid>
                <a:gridCol w="2232000"/>
                <a:gridCol w="1297080"/>
                <a:gridCol w="1520640"/>
                <a:gridCol w="1184400"/>
                <a:gridCol w="1182600"/>
              </a:tblGrid>
              <a:tr h="4899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performance dri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st of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sts / T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ristian MF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25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26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rm-specific contr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59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52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2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reg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74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own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9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extual contr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ri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DP per cap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62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2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 dumm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 dumm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st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d χ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9.63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9.09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1.90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9.95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ttom line performance differences – advanced statistics (RE-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5640" y="1531800"/>
          <a:ext cx="7561440" cy="5529240"/>
        </p:xfrm>
        <a:graphic>
          <a:graphicData uri="http://schemas.openxmlformats.org/drawingml/2006/table">
            <a:tbl>
              <a:tblPr/>
              <a:tblGrid>
                <a:gridCol w="2774880"/>
                <a:gridCol w="1559160"/>
                <a:gridCol w="1612800"/>
                <a:gridCol w="1614600"/>
              </a:tblGrid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ttom-l</a:t>
                      </a: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e per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ristian MF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2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3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59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rm-specific contr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9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92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re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owne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extual contr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ri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DP per cap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 dumm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 dumm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s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d χ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.16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5.05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4.46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igion is a hot topic in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glected factor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y influen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ipi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al guidance, will and effor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studies (e.g. Teer Haar and Ellis, 200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stu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icy interes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K, Holland, Norway, World Ba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er president Bus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 there differences between Catholic and Protestant acto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1484280"/>
          <a:ext cx="7920000" cy="5075280"/>
        </p:xfrm>
        <a:graphic>
          <a:graphicData uri="http://schemas.openxmlformats.org/drawingml/2006/table">
            <a:tbl>
              <a:tblPr/>
              <a:tblGrid>
                <a:gridCol w="1793880"/>
                <a:gridCol w="765360"/>
                <a:gridCol w="766800"/>
                <a:gridCol w="765000"/>
                <a:gridCol w="766800"/>
                <a:gridCol w="765360"/>
                <a:gridCol w="766440"/>
                <a:gridCol w="765360"/>
                <a:gridCol w="765000"/>
              </a:tblGrid>
              <a:tr h="42048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performance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folio 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st of f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sts/T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3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tholic MFIs (yes/n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7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33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testant MFIs (yes/n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rm-specific cont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58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57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71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6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owne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4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4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extual cont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 dumm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 dumm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st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d χ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3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2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2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7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480" marR="60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 there differences between Catholic and Protestant acto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557360"/>
          <a:ext cx="8064360" cy="4494240"/>
        </p:xfrm>
        <a:graphic>
          <a:graphicData uri="http://schemas.openxmlformats.org/drawingml/2006/table">
            <a:tbl>
              <a:tblPr/>
              <a:tblGrid>
                <a:gridCol w="1658880"/>
                <a:gridCol w="799920"/>
                <a:gridCol w="801720"/>
                <a:gridCol w="800280"/>
                <a:gridCol w="801720"/>
                <a:gridCol w="799920"/>
                <a:gridCol w="801720"/>
                <a:gridCol w="800280"/>
                <a:gridCol w="799920"/>
              </a:tblGrid>
              <a:tr h="4201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ttom line and social per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female cl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lo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tholic MFIs (yes/n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7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27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7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8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1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testant MFIs (yes/n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3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2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6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8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rm-specific cont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33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32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.2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.2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92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91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6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64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39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3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2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5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owne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102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97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1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6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extual cont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 dumm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 dumm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st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d χ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93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60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4.42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0.21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4.64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3.29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5.16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2.41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2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ristian actors are as good in enforcing loan repayment as secular a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ristian actors struggle in reaching female cli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ristian actors don’t reach poorer clients than secular a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ristian actors have lower cost of funds probably because they have better access to international networks and thereby fun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y being spoil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lower cost of funds are in Catholic institutions brought forward to the clients (lower interest rates) while the protestant actors become ineffici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ications for Christian practitio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600200"/>
            <a:ext cx="836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ching out to women is still an issue in Christian development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partners are a challen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ching the most vulnerable does not come automatically because you are a Christi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sy access to international funding may result in inefficien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ors need to strengthen their monitoring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ristian actors disappear if they don’t assure their financial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donors need to strengthen financial monitoring and somewhat loosen social monitor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me to use our Christian motivation to become better and not use it as a “sleeping pillow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ristian actors should be the most efficient actors servicing the most marginalized groups while assuring their long term survi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ember that statistics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 about aver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hristian top perfo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Diaconia FRIF in Boliv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ith based organizations can produce important social outcomes becaus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take people’s faith into accou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have access to local networks (church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are motiv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kep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blic money will be used for religious purpo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professional 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ice Christian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ith based organizations on many arena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ools /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pitals / health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 homes / homes for ret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 too, the effect of religion on providers’ performance remain an unsolved and debated puzz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eber the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otestant ethic and the spirit of capitalism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ims that protestant ethic, with its focus on personal responsibility and diligence, spur economic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stant countries should therefore have higher economic growth than catholic coun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ill uncertain whether Weber was r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happening in Latin countries moving from being mainly catholic to having larger protestant population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know about performance differences between Christian and secular act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y little actual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red to secular actors Christian development actors (Harper et al. 2008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ive lower portions of their budgets from public don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more don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more volunte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y lower salaries to top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y equal salaries to the rest of the employe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equal fundraising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should we expect Christian and secular actors to be differ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al theory: Organizations become similar 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ll depend on the same donor (e.g. No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ll need to follow the same regulations (e.g. Riksrevisjonen and Innsamlingskontrol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ll depend on the same networks (e.g. Bistandstor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sub-networks tailored especially for them (e.g. Bistandsnemnd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tian organizations and individuals have long been involved in entrepreneurship and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Pawn shops in Italia 500 years ago (Franciscan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Hans Nielsen Hau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The father of savings banks” (Duncan) 200 years a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Catholic priests’ involvement in the savings and credit cooperative movement 150 years ago and ungo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MEDA in Paraguay in the 1950-60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David Bussau and Al Whittaker (197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Misjonsalliansen 19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many Christi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crofinance initia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00120"/>
            <a:ext cx="82296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y Intern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43 MFIs in 26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Vis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41 MFIs in 41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bitad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orld’s largest housing finance initiative for po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ione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holic Relief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ve moved down marke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d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ikocredi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cl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rdai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isjonsallians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rømmestiftels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Y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07:41:16Z</dcterms:created>
  <dc:creator>Roy Mersland</dc:creator>
  <dc:description/>
  <dc:language>en-US</dc:language>
  <cp:lastModifiedBy>Juana Ramirez e-MFP</cp:lastModifiedBy>
  <dcterms:modified xsi:type="dcterms:W3CDTF">2011-11-21T17:55:32Z</dcterms:modified>
  <cp:revision>2</cp:revision>
  <dc:subject/>
  <dc:title>The effect of religion in development efforts – evidence from the microfinance industry and a research agenda</dc:title>
</cp:coreProperties>
</file>