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420640"/>
            <a:ext cx="81360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92929"/>
                </a:solidFill>
                <a:latin typeface="Arial"/>
              </a:rPr>
              <a:t>La microfinance pour quoi faire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ésultats et aspi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Philippe Serres, Agence Française de Développe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Semaine Européenne de la Microfinance – 3 novembre 201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La microfinance connait une crise d’adolescence…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3320" y="2082960"/>
          <a:ext cx="8861400" cy="4460760"/>
        </p:xfrm>
        <a:graphic>
          <a:graphicData uri="http://schemas.openxmlformats.org/drawingml/2006/table">
            <a:tbl>
              <a:tblPr/>
              <a:tblGrid>
                <a:gridCol w="2952720"/>
                <a:gridCol w="2955960"/>
                <a:gridCol w="29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s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56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udes « décevantes »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56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tiques dangereus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561c"/>
                    </a:solidFill>
                  </a:tcPr>
                </a:tc>
              </a:tr>
              <a:tr h="40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nnues: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olivie (surendettemen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osnie (surendettemen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roc (surendettemen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icaragua (interférence politique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énin (interférence politique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ndra Pradesh (surendettement en interférence politique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…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t celles à venir (Cambodge, Pérou?)</a:t>
                      </a:r>
                      <a:r>
                        <a:rPr b="0" lang="fr-FR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 u="sng">
                          <a:solidFill>
                            <a:srgbClr val="292929"/>
                          </a:solidFill>
                          <a:uFillTx/>
                          <a:latin typeface="Arial"/>
                        </a:rPr>
                        <a:t>Hyderabad, Inde, 2010: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pas d’impact sur la consommation ou le développement huma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 u="sng">
                          <a:solidFill>
                            <a:srgbClr val="292929"/>
                          </a:solidFill>
                          <a:uFillTx/>
                          <a:latin typeface="Arial"/>
                        </a:rPr>
                        <a:t>Zones urbaines, Philippines, 2011: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pas d’effets sur les profits ou la croissance des activité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 u="sng">
                          <a:solidFill>
                            <a:srgbClr val="292929"/>
                          </a:solidFill>
                          <a:uFillTx/>
                          <a:latin typeface="Arial"/>
                        </a:rPr>
                        <a:t>Zones rurales dispersées, Maroc, 2011: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pas d’effets sur les bénéfices ou la croissance des activités non agricoles, pas d’effet sur la création de nouvelles activités, pas d’impact sur la consommation ou le développement huma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 u="sng">
                          <a:solidFill>
                            <a:srgbClr val="292929"/>
                          </a:solidFill>
                          <a:uFillTx/>
                          <a:latin typeface="Arial"/>
                        </a:rPr>
                        <a:t>Etudes qualitatives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démontrant l’orientation d’une partie du microcrédit productif vers la consomm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troductions en bourse à rentabilité excessiv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aux d’intérêt qui restent trop élevés malgré l’augmentation de la concurrence et une rentabilité confortabl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nque de transparence des coût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3300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atiques de recouvrement abusiv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54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35461"/>
                </a:solidFill>
                <a:latin typeface="Arial"/>
              </a:rPr>
              <a:t>… </a:t>
            </a:r>
            <a:r>
              <a:rPr b="1" lang="fr-FR" sz="3200" spc="-1" strike="noStrike">
                <a:solidFill>
                  <a:srgbClr val="935461"/>
                </a:solidFill>
                <a:latin typeface="Arial"/>
              </a:rPr>
              <a:t>qui a conduit à la fin d’un mythe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136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Elle n’est pas une panacée pour lutter contre la pauvreté, et souvent elle ne doit pas être proposée aux plus pauvr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Elle ne se suffit pas à elle-mê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Elle peut être détournée de ses objectifs fondate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Elle peut être nuisi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35461"/>
                </a:solidFill>
                <a:latin typeface="Arial"/>
              </a:rPr>
              <a:t>Mais des objectifs plus modestes (ou le passage à l’âge adulte)…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615760"/>
            <a:ext cx="81360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92929"/>
                </a:solidFill>
                <a:uFillTx/>
                <a:latin typeface="Arial"/>
              </a:rPr>
              <a:t>Alors, pour quoi faire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 instrument d’inclusion financière (et pas de financiarisation de l’économi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 instrument de « lissage » des flux financi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e pièce maîtresse dans la création de secteurs financiers locau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 outil structurant de liens sociaux (cas du coopérativism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 amortisseur de crises (Congo, Comor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…</a:t>
            </a: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et des résultats positifs…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336600" y="2108160"/>
            <a:ext cx="81360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tude quantitative sur l’accès au microcrédit en milieu rural dispersé au Maroc (J-PAL, 2011)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  <a:ea typeface="Arial"/>
              </a:rPr>
              <a:t>Réduction des contraintes d’accès au crédit (doublement des ménages pouvant accéder au crédi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  <a:ea typeface="Arial"/>
              </a:rPr>
              <a:t>Elargissement des activités existantes agricoles et d’élevage (+ ventes, + stocks, + diversification des activités, ≈ bénéfice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  <a:ea typeface="Arial"/>
              </a:rPr>
              <a:t>Augmentation de l’épargne en nature (bétail, actif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250920" y="4944960"/>
            <a:ext cx="936360" cy="505080"/>
          </a:xfrm>
          <a:prstGeom prst="rightArrow">
            <a:avLst>
              <a:gd name="adj1" fmla="val 50000"/>
              <a:gd name="adj2" fmla="val 46347"/>
            </a:avLst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1332000" y="46371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étérogénéité des résultats en fonction des marchés étudiés, des produits offerts, de la typologie des clients…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893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…</a:t>
            </a: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lancent les bases d’un nouveau paradigme: créer des systèmes financiers inclusifs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87360" y="2514600"/>
            <a:ext cx="2735280" cy="1152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Les non-bancarisé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aspirent à la même variété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de services financi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que les bancaris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3157560" y="2514600"/>
            <a:ext cx="2735280" cy="1152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Ils ont déjà accès à une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grande variété de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récaires et chers fourni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ar le secteur inform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5915160" y="2514600"/>
            <a:ext cx="2735280" cy="1152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Les institutions financière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doivent répondre à leur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besoins par des service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financiers diversifiés, inclusif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et adapt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3644640"/>
            <a:ext cx="8569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S’efforcer de toujours mieux comprendre les clients, leurs profils financiers, leurs besoi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Rompre avec le tabou du crédit à la consommation et des crédits non productifs: gérés de manière responsable et explicite, ils répondent à un besoin financier réel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"/>
          <a:stretch/>
        </p:blipFill>
        <p:spPr>
          <a:xfrm>
            <a:off x="7236000" y="0"/>
            <a:ext cx="18572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8T10:56:55Z</dcterms:modified>
  <cp:revision>23</cp:revision>
  <dc:subject/>
  <dc:title>Slide 1</dc:title>
</cp:coreProperties>
</file>