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DE8-641E-471A-B5B1-2E8127B5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AC8-3BB0-466C-B7F2-164A9573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677-96AB-4CAA-91E6-B56C4A47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D00-44D5-4EE8-A49C-609AAB68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D77-93FB-40CD-ADBF-AD84859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A6B-3F84-4EFC-9160-E230070E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566-6849-47B2-8C20-ECA98958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EC5-0BCE-4B7F-A78A-2689EE87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968-B873-46B4-A5AE-608529D9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FF4-E788-426C-A1E7-1545770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5F3-9D43-4B9A-BCC1-A857121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DEF-ADCA-4EDF-A98E-A9777D2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4F36-66CE-4377-AF83-05D261239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:\Documents and Settings\Jaimon\Desktop\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:\Documents and Settings\Jaimon\Desktop\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Jaimon\Desktop\2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C:\Documents and Settings\Jaimon\Desktop\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304920" y="38862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0773"/>
                </a:solidFill>
                <a:latin typeface="Arial"/>
              </a:rPr>
              <a:t>Responsible Finance: Is there a need to certify accomplishments of social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60948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Paul Th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DSCF3107.JPG"/>
          <p:cNvPicPr/>
          <p:nvPr/>
        </p:nvPicPr>
        <p:blipFill>
          <a:blip r:embed="rId1"/>
          <a:stretch/>
        </p:blipFill>
        <p:spPr>
          <a:xfrm>
            <a:off x="5257800" y="18288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304920" y="2209680"/>
            <a:ext cx="48006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ies in place to protect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SMART CAMAPIG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ll the 6 client protection principles are translated into vernacular  languages and displayed  across the 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What is required to put SPM in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" y="1371600"/>
            <a:ext cx="50292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Aharoni"/>
                <a:ea typeface="Aharoni"/>
              </a:rPr>
              <a:t>ESAF’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Commitment from the manageme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social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Trained professionals to design tools and    monit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rained staff to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Incentives to staff for faithful implementation     of SPM strate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E:\SOLAR PROJECT PHOTOS\Sept.2010 Photos\OD Training photos,Hotel Pride 18th -19 th 2010\DSC04421.JPG"/>
          <p:cNvPicPr/>
          <p:nvPr/>
        </p:nvPicPr>
        <p:blipFill>
          <a:blip r:embed="rId1"/>
          <a:stretch/>
        </p:blipFill>
        <p:spPr>
          <a:xfrm>
            <a:off x="5029200" y="2257560"/>
            <a:ext cx="3753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838080" y="1523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</a:rPr>
              <a:t>Certification  to achieve Social Goals: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609480" y="2133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sponsibility to maintain the standards of cert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credibility and recognition of SPM initiatives glob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commitment of the management and staff to set new social targets and to find ways to meet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H:\Water rally &amp; Empowerment program,march\SHG empowerment program,Bhawaninagar,23rd march 09.jpg"/>
          <p:cNvPicPr/>
          <p:nvPr/>
        </p:nvPicPr>
        <p:blipFill>
          <a:blip r:embed="rId1"/>
          <a:stretch/>
        </p:blipFill>
        <p:spPr>
          <a:xfrm>
            <a:off x="5334120" y="2666880"/>
            <a:ext cx="3429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Some concerns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143000" y="182880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fic recognition by the banks and donors  on SPM initi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dditional benefits like reduced interest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inancial support to meet the additional cost of training and putting SPM systems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king a balance in terms of setting financial targets vis a vis social one is quite challen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DSCF2529.JPG"/>
          <p:cNvPicPr/>
          <p:nvPr/>
        </p:nvPicPr>
        <p:blipFill>
          <a:blip r:embed="rId1"/>
          <a:stretch/>
        </p:blipFill>
        <p:spPr>
          <a:xfrm>
            <a:off x="5562720" y="1981080"/>
            <a:ext cx="3454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33520" y="251460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609480" y="160020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stellar"/>
              </a:rPr>
              <a:t>In Conclusion</a:t>
            </a: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Certification should ensure certain advantages like reduced interest rate to the MFIs. Banks and investors should have a stake in the certificat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Cost of certification should be min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Upon the certification, the certifying agency may mentor the MFI for a period of time with regard to adherence to th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Certification should be a tool to reaffirm a  client’s faith on the MFI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62120" y="1905120"/>
            <a:ext cx="10666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DSCF2572.JPG"/>
          <p:cNvPicPr/>
          <p:nvPr/>
        </p:nvPicPr>
        <p:blipFill>
          <a:blip r:embed="rId1"/>
          <a:stretch/>
        </p:blipFill>
        <p:spPr>
          <a:xfrm>
            <a:off x="2743200" y="2133720"/>
            <a:ext cx="4191120" cy="2876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1600200" y="5181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Aiming at holistic development of the poo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685800" y="15238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Microcredit (Microfin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Sustainable Health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Livlihood Support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Dai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Community Development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P1050022.JPG"/>
          <p:cNvPicPr/>
          <p:nvPr/>
        </p:nvPicPr>
        <p:blipFill>
          <a:blip r:embed="rId1"/>
          <a:stretch/>
        </p:blipFill>
        <p:spPr>
          <a:xfrm>
            <a:off x="6095880" y="1600200"/>
            <a:ext cx="2819520" cy="188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family 1"/>
          <p:cNvPicPr/>
          <p:nvPr/>
        </p:nvPicPr>
        <p:blipFill>
          <a:blip r:embed="rId2"/>
          <a:stretch/>
        </p:blipFill>
        <p:spPr>
          <a:xfrm>
            <a:off x="838080" y="3581280"/>
            <a:ext cx="2133720" cy="2202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4495680" y="38862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Water and Sanitatio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Educational programs for   children and y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Environment and Natural Resource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562720" y="1905120"/>
            <a:ext cx="30286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0773"/>
                </a:solidFill>
                <a:latin typeface="Times New Roman"/>
              </a:rPr>
              <a:t>Ker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30773"/>
                </a:solidFill>
                <a:latin typeface="Times New Roman"/>
              </a:rPr>
              <a:t>Chhattisga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30773"/>
                </a:solidFill>
                <a:latin typeface="Times New Roman"/>
              </a:rPr>
              <a:t>Maharash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30773"/>
                </a:solidFill>
                <a:latin typeface="Times New Roman"/>
              </a:rPr>
              <a:t>Tamil Nadu</a:t>
            </a:r>
            <a:r>
              <a:rPr b="0" lang="en-US" sz="2200" spc="-1" strike="noStrike">
                <a:solidFill>
                  <a:srgbClr val="23077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0773"/>
                </a:solidFill>
                <a:latin typeface="Times New Roman"/>
              </a:rPr>
              <a:t>Madhya Prade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0773"/>
                </a:solidFill>
                <a:latin typeface="Times New Roman"/>
              </a:rPr>
              <a:t>Jhark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0773"/>
                </a:solidFill>
                <a:latin typeface="Times New Roman"/>
              </a:rPr>
              <a:t>Karnata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0773"/>
                </a:solidFill>
                <a:latin typeface="Times New Roman"/>
              </a:rPr>
              <a:t>Del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25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3077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0773"/>
                </a:solidFill>
                <a:latin typeface="Times New Roman"/>
              </a:rPr>
              <a:t>Gujar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52280" y="1189080"/>
            <a:ext cx="883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ESAF – Targeting the poor in 9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ESAF India Map"/>
          <p:cNvPicPr/>
          <p:nvPr/>
        </p:nvPicPr>
        <p:blipFill>
          <a:blip r:embed="rId1"/>
          <a:stretch/>
        </p:blipFill>
        <p:spPr>
          <a:xfrm>
            <a:off x="1523880" y="1893960"/>
            <a:ext cx="33339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129528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ESAF-Reaching more than 4,50,000 low income families.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62120" y="1752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DSCF2440.JPG"/>
          <p:cNvPicPr/>
          <p:nvPr/>
        </p:nvPicPr>
        <p:blipFill>
          <a:blip r:embed="rId1"/>
          <a:stretch/>
        </p:blipFill>
        <p:spPr>
          <a:xfrm>
            <a:off x="5791320" y="24382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685800" y="2286000"/>
            <a:ext cx="4876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2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F was registered as a charitable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crocredit activities of ESAF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red to ESAF MICROFINA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MENTS Pvt. Ltd which has the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n M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Business Highlights: Sept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1905120"/>
            <a:ext cx="48765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tal  Member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420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tal Borrower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91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urrent portfolio (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in millions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) 1820.43 Rs.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7" descr="Sangam meeting"/>
          <p:cNvPicPr/>
          <p:nvPr/>
        </p:nvPicPr>
        <p:blipFill>
          <a:blip r:embed="rId1"/>
          <a:stretch/>
        </p:blipFill>
        <p:spPr>
          <a:xfrm>
            <a:off x="5638680" y="2743200"/>
            <a:ext cx="3451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67816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utreach to the Unrea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689040" y="1450800"/>
            <a:ext cx="3041640" cy="2359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685800" y="1676520"/>
            <a:ext cx="29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hart 5" descr=""/>
          <p:cNvPicPr/>
          <p:nvPr/>
        </p:nvPicPr>
        <p:blipFill>
          <a:blip r:embed="rId2"/>
          <a:stretch/>
        </p:blipFill>
        <p:spPr>
          <a:xfrm>
            <a:off x="835200" y="1365120"/>
            <a:ext cx="3054240" cy="2219400"/>
          </a:xfrm>
          <a:prstGeom prst="rect">
            <a:avLst/>
          </a:prstGeom>
          <a:ln w="0">
            <a:noFill/>
          </a:ln>
        </p:spPr>
      </p:pic>
      <p:pic>
        <p:nvPicPr>
          <p:cNvPr id="142" name="Chart 7" descr=""/>
          <p:cNvPicPr/>
          <p:nvPr/>
        </p:nvPicPr>
        <p:blipFill>
          <a:blip r:embed="rId3"/>
          <a:stretch/>
        </p:blipFill>
        <p:spPr>
          <a:xfrm>
            <a:off x="5022720" y="1365120"/>
            <a:ext cx="2756160" cy="2146320"/>
          </a:xfrm>
          <a:prstGeom prst="rect">
            <a:avLst/>
          </a:prstGeom>
          <a:ln w="0">
            <a:noFill/>
          </a:ln>
        </p:spPr>
      </p:pic>
      <p:pic>
        <p:nvPicPr>
          <p:cNvPr id="143" name="Chart 9" descr=""/>
          <p:cNvPicPr/>
          <p:nvPr/>
        </p:nvPicPr>
        <p:blipFill>
          <a:blip r:embed="rId4"/>
          <a:stretch/>
        </p:blipFill>
        <p:spPr>
          <a:xfrm>
            <a:off x="1974960" y="3882960"/>
            <a:ext cx="3590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003366"/>
                </a:solidFill>
                <a:uFillTx/>
                <a:latin typeface="Calibri"/>
              </a:rPr>
              <a:t>                 </a:t>
            </a:r>
            <a:br>
              <a:rPr sz="3600"/>
            </a:br>
            <a:br>
              <a:rPr sz="3600"/>
            </a:b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Initiatives taken </a:t>
            </a:r>
            <a:r>
              <a:rPr b="1" i="1" lang="en-US" sz="1600" spc="-1" strike="noStrike">
                <a:solidFill>
                  <a:srgbClr val="1f497d"/>
                </a:solidFill>
                <a:latin typeface="Arial"/>
              </a:rPr>
              <a:t>.........</a:t>
            </a:r>
            <a:br>
              <a:rPr sz="1600"/>
            </a:br>
            <a:br>
              <a:rPr sz="1600"/>
            </a:br>
            <a:r>
              <a:rPr b="1" i="1" lang="en-US" sz="1600" spc="-1" strike="noStrike" u="sng">
                <a:solidFill>
                  <a:srgbClr val="1f497d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strategy workshops on setting social performance goal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 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  to all the branch staff on SPM strategy implementatio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I (Grameen tool )  collected from over 100 branches 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dedicated staff in Head Office to provide PPI support to the branches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AF Received the PPI ‘CERTIFICATE OF COMPLETION’-BASIC AND ADVANCED’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828800" y="1371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Research and Development Departmen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3124080" y="2209680"/>
            <a:ext cx="50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Franklin Gothic Heavy"/>
              </a:rPr>
              <a:t>Oversees Socia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ivities undertaken by R and D department: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09480" y="152388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urvey before product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to understand the over- indebtedness of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vity Analysis of  selected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satisfaction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- out studies (Random b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satisfaction Stu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Audit using CERIS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DSCF2609.JPG"/>
          <p:cNvPicPr/>
          <p:nvPr/>
        </p:nvPicPr>
        <p:blipFill>
          <a:blip r:embed="rId1"/>
          <a:stretch/>
        </p:blipFill>
        <p:spPr>
          <a:xfrm>
            <a:off x="6477120" y="198108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Activities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066680" y="167652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reporting of social data to external stakeh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ssessment of the EMFIL operations-Productivity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case studies, papers on EMFIL’s SPM and presenting it  at different plat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1:04:36Z</dcterms:created>
  <dc:creator>Sree</dc:creator>
  <dc:description/>
  <dc:language>en-US</dc:language>
  <cp:lastModifiedBy> Niamh</cp:lastModifiedBy>
  <dcterms:modified xsi:type="dcterms:W3CDTF">2011-11-22T14:45:15Z</dcterms:modified>
  <cp:revision>96</cp:revision>
  <dc:subject/>
  <dc:title>Slide 1</dc:title>
</cp:coreProperties>
</file>