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249D-FA18-4D2A-A1D1-CB3F48BF98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DE1E-2091-4A9F-A0EC-F07EB2492E53}" type="slidenum">
              <a:rPr b="0" lang="en-US" sz="1200" spc="-1" strike="noStrike">
                <a:solidFill>
                  <a:srgbClr val="29292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C454-E081-48F8-A862-84AA4F1DB6BC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5F40-7069-4E86-80F5-30C951473529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7640" y="1915920"/>
            <a:ext cx="52930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  <a:ea typeface="Helvetica Neue"/>
              </a:rPr>
              <a:t>Client Protection: Are we there Yet? </a:t>
            </a:r>
            <a:br>
              <a:rPr sz="6000"/>
            </a:br>
            <a:br>
              <a:rPr sz="6000"/>
            </a:b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Helvetica Neue"/>
              </a:rPr>
              <a:t>November 3, 2011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Helvetica Neue"/>
              </a:rPr>
              <a:t>Ging Ledesma, Manager Social Performance</a:t>
            </a:r>
            <a:br>
              <a:rPr sz="2000"/>
            </a:b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Helvetica Neue"/>
              </a:rPr>
              <a:t>Oikocredit</a:t>
            </a:r>
            <a:br>
              <a:rPr sz="2000"/>
            </a:br>
            <a:r>
              <a:rPr b="1" i="1" lang="en-US" sz="2000" spc="-1" strike="noStrike">
                <a:solidFill>
                  <a:srgbClr val="292929"/>
                </a:solidFill>
                <a:latin typeface="Arial"/>
                <a:ea typeface="Helvetica Neue"/>
              </a:rPr>
              <a:t>www.oikocredit.org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0" name="Picture 4" descr="C:\Users\lledesma.EDCS\AppData\Local\Microsoft\Windows\Temporary Internet Files\Content.Outlook\LVG1VULA\Oikocredit_ENG_RGB.png"/>
          <p:cNvPicPr/>
          <p:nvPr/>
        </p:nvPicPr>
        <p:blipFill>
          <a:blip r:embed="rId1"/>
          <a:stretch/>
        </p:blipFill>
        <p:spPr>
          <a:xfrm>
            <a:off x="6156360" y="5013360"/>
            <a:ext cx="14857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5508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Timeline Oikocredi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844280"/>
            <a:ext cx="766116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Endorsement of Principles – 2008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Encourage partners to endorse – 200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Today – 44% of 600 partners have endors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2012 – target is to have 80% of partners endors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rainings, workshops for partners: Peru, Costa Rica (region wide), Ghana, Kenya, Philippines, Cambodia, Ind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30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Timeline Oikocredi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2133360"/>
            <a:ext cx="76615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Integrate in loan agreement – late 200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Integrate in ESG scorecard – 201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Promotion, skills training – 2010 to pres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Oikocredit staff training (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EA, India, Kenya) 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– 2010 – 201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CPP assessment – 201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8000" y="1628640"/>
          <a:ext cx="8856720" cy="4761000"/>
        </p:xfrm>
        <a:graphic>
          <a:graphicData uri="http://schemas.openxmlformats.org/drawingml/2006/table">
            <a:tbl>
              <a:tblPr/>
              <a:tblGrid>
                <a:gridCol w="1712880"/>
                <a:gridCol w="689040"/>
                <a:gridCol w="6454800"/>
              </a:tblGrid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tion of client over-indebtednes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 or 2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redit application process includes a standardised evaluation of client's ability to repay the loan including a check on client credit history and existing debt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apacity of the client to repay the loan is not assessed as a standard practice. (0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apacity of the client to repay is assessed as a standard practice, the MFI has a formal policy on it. (1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apacity of the client to repay is assessed as a standard practice, the MFI has a formal policy on it and has a formal system for regularly coordinating with other MFIs (e.g. in a credit bureau). (2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ent feedback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 or 2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organisation collects data systematically through standard client satisfaction forms and/or conducts client exit interviews or focus group discussions and uses the data to improve products and services.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organisation collects data from clients but only on an irregular basis, e.g. only an idea box at organisation's premises. (0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organization collects data from clients to improve programs and services but on an irregular basis.  (1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organisation involves clients in products and services development, for example by using standard forms, client exit interviews, focus groups and does that on a regular basis, at least annually. Collected data are available upon request. (2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28440" y="1557360"/>
          <a:ext cx="893628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557360"/>
                    <a:ext cx="89362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5461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From endorsing to practicing – how can we support partners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Qualified consulta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Which principles to prioritiz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What is fair &amp; responsible in terms of pricing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1" name="Picture 4" descr="C:\Users\lledesma.EDCS\AppData\Local\Microsoft\Windows\Temporary Internet Files\Content.Outlook\LVG1VULA\Oikocredit_ENG_RGB.png"/>
          <p:cNvPicPr/>
          <p:nvPr/>
        </p:nvPicPr>
        <p:blipFill>
          <a:blip r:embed="rId1"/>
          <a:stretch/>
        </p:blipFill>
        <p:spPr>
          <a:xfrm>
            <a:off x="6372360" y="4941720"/>
            <a:ext cx="14857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1-10-31T11:43:33Z</dcterms:modified>
  <cp:revision>31</cp:revision>
  <dc:subject/>
  <dc:title>Slide 1</dc:title>
</cp:coreProperties>
</file>