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69E0-668C-46C0-B062-EFC0D3A774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Supprimer les critères discriminatoires définis pour le produit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: pas de limite d’âge et montant en fonction des capacités de remboursement sauf si c’est une première expérience de créd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Œuvrer pour une pérennisation d’un produit spécifique pour les PSH ?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: quel produit pour éviter la stigmatisation des PSH? Allongement de la durée du prêt de 1 à 2 ans pour réduire les remboursements mensuels, même si le taux d’intérêt augmente? Importance d’interroger les PSH elles-mêmes sur leurs beso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Déterminer si le Système de Gestion d’Information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renforce ou non la discrimination contre les PSH et s’il est utile d’avoir des données spécifiques sur e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Théorie d’impact social dans la microfinance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: des produits adressés à des groupes spécifiques permettent d’augmenter l’impact so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Conception de subventions croisées dans la Microfinance: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Entre des produits pour attirer plus des clients, des produits avec gros bénéfices et des produits avec moins des bénéficies mais qui améliorent l’impact so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108000" y="1773360"/>
            <a:ext cx="8567640" cy="94716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périence pilote pour la prise en compte du handicap au sein de l’IMF Nyèsigiso, Mal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1" name="Picture 3" descr="HI_Logo_small"/>
          <p:cNvPicPr/>
          <p:nvPr/>
        </p:nvPicPr>
        <p:blipFill>
          <a:blip r:embed="rId1"/>
          <a:stretch/>
        </p:blipFill>
        <p:spPr>
          <a:xfrm>
            <a:off x="179280" y="5734080"/>
            <a:ext cx="1733760" cy="58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332000" y="3141720"/>
            <a:ext cx="3095640" cy="232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4427640" y="3141720"/>
            <a:ext cx="3095640" cy="232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7812000" y="5300640"/>
            <a:ext cx="1332000" cy="1120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2050920" y="5877000"/>
            <a:ext cx="597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92929"/>
                </a:solidFill>
                <a:latin typeface="Goudy Old Style"/>
              </a:rPr>
              <a:t>Présenté par: M. Modibo DEMBELE Chef Service Crédit Nyèsigis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10920" y="1916280"/>
            <a:ext cx="76611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8561c"/>
                </a:solidFill>
                <a:latin typeface="Arial"/>
              </a:rPr>
              <a:t>Présentation de l’IMF, Nyesigis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8561c"/>
                </a:solidFill>
                <a:latin typeface="Arial"/>
              </a:rPr>
              <a:t>Description des 2 projets pilo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8561c"/>
                </a:solidFill>
                <a:latin typeface="Arial"/>
              </a:rPr>
              <a:t>Dispositif élaboré pour favoriser l’accès des personnes handicapées aux services financier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8561c"/>
                </a:solidFill>
                <a:latin typeface="Arial"/>
              </a:rPr>
              <a:t>Leçons appris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8561c"/>
                </a:solidFill>
                <a:latin typeface="Arial"/>
              </a:rPr>
              <a:t>Défis et perspectiv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4105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 u="sng">
                <a:solidFill>
                  <a:srgbClr val="292929"/>
                </a:solidFill>
                <a:uFillTx/>
                <a:latin typeface="Arial"/>
              </a:rPr>
              <a:t>Vis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400" spc="-1" strike="noStrike">
                <a:solidFill>
                  <a:srgbClr val="292929"/>
                </a:solidFill>
                <a:latin typeface="Arial"/>
              </a:rPr>
              <a:t>« Être le réseau financier mutualiste de référence au Mali, ayant des entités de bases fortes, pérennes, bien enracinées dans leur milieu »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3141720"/>
            <a:ext cx="3816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292929"/>
                </a:solidFill>
                <a:uFillTx/>
                <a:latin typeface="Arial"/>
              </a:rPr>
              <a:t>Miss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400" spc="-1" strike="noStrike">
                <a:solidFill>
                  <a:srgbClr val="292929"/>
                </a:solidFill>
                <a:latin typeface="Arial"/>
              </a:rPr>
              <a:t>« Rendre accessibles sous un mode mutualiste des services financiers de proximité adaptés aux besoins des populations rurales et urbaines afin d’améliorer leurs conditions de vie »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8000" y="2205000"/>
            <a:ext cx="3781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 u="sng">
                <a:solidFill>
                  <a:srgbClr val="292929"/>
                </a:solidFill>
                <a:uFillTx/>
                <a:latin typeface="Arial"/>
              </a:rPr>
              <a:t>Quelques données:</a:t>
            </a:r>
            <a:r>
              <a:rPr b="1" i="1" lang="fr-CA" sz="3200" spc="-1" strike="noStrike" u="sng">
                <a:solidFill>
                  <a:srgbClr val="29292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292929"/>
                </a:solidFill>
                <a:latin typeface="Arial"/>
              </a:rPr>
              <a:t>2ème plus importante IMF malienne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400" spc="-1" strike="noStrike">
                <a:solidFill>
                  <a:srgbClr val="292929"/>
                </a:solidFill>
                <a:latin typeface="Arial"/>
              </a:rPr>
              <a:t>15 caisses et 67 points servic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400" spc="-1" strike="noStrike">
                <a:solidFill>
                  <a:srgbClr val="292929"/>
                </a:solidFill>
                <a:latin typeface="Arial"/>
              </a:rPr>
              <a:t>300 employé-e-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400" spc="-1" strike="noStrike">
                <a:solidFill>
                  <a:srgbClr val="292929"/>
                </a:solidFill>
                <a:latin typeface="Arial"/>
              </a:rPr>
              <a:t>188 657 membres dont 44% de femm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400" spc="-1" strike="noStrike">
                <a:solidFill>
                  <a:srgbClr val="292929"/>
                </a:solidFill>
                <a:latin typeface="Arial"/>
              </a:rPr>
              <a:t>16,7 milliards de Fcfa d’actif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400" spc="-1" strike="noStrike">
                <a:solidFill>
                  <a:srgbClr val="292929"/>
                </a:solidFill>
                <a:latin typeface="Arial"/>
              </a:rPr>
              <a:t>9,7milliards de Fcfa d’éparg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400" spc="-1" strike="noStrike">
                <a:solidFill>
                  <a:srgbClr val="292929"/>
                </a:solidFill>
                <a:latin typeface="Arial"/>
              </a:rPr>
              <a:t>11,5 milliards de Fcfa d’encours de crédi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31640" y="1557000"/>
            <a:ext cx="5111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8561c"/>
                </a:solidFill>
                <a:latin typeface="Arial"/>
              </a:rPr>
              <a:t>Présentation de Nyèsigiso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179280" y="4365720"/>
            <a:ext cx="424836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292929"/>
                </a:solidFill>
                <a:uFillTx/>
                <a:latin typeface="Arial"/>
              </a:rPr>
              <a:t>Historiq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292929"/>
                </a:solidFill>
                <a:latin typeface="Arial"/>
              </a:rPr>
              <a:t>1990- 1993: Projet Pilote (DID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292929"/>
                </a:solidFill>
                <a:latin typeface="Arial"/>
              </a:rPr>
              <a:t>1993-1998: Phase d’Implantation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292929"/>
                </a:solidFill>
                <a:latin typeface="Arial"/>
              </a:rPr>
              <a:t>1998- 2003: Consolid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292929"/>
                </a:solidFill>
                <a:latin typeface="Arial"/>
              </a:rPr>
              <a:t>2003 à nos jours: Modernisation et transformation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488360" y="5157720"/>
            <a:ext cx="1655640" cy="1295640"/>
          </a:xfrm>
          <a:prstGeom prst="rect">
            <a:avLst/>
          </a:prstGeom>
          <a:ln w="0">
            <a:noFill/>
          </a:ln>
        </p:spPr>
      </p:pic>
      <p:sp>
        <p:nvSpPr>
          <p:cNvPr id="63" name="Text Placeholder 14"/>
          <p:cNvSpPr/>
          <p:nvPr/>
        </p:nvSpPr>
        <p:spPr>
          <a:xfrm>
            <a:off x="4427640" y="4581360"/>
            <a:ext cx="424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292929"/>
                </a:solidFill>
                <a:uFillTx/>
                <a:latin typeface="Arial"/>
              </a:rPr>
              <a:t>Répartition Géographiq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292929"/>
                </a:solidFill>
                <a:latin typeface="Arial"/>
              </a:rPr>
              <a:t>Régions: Kayes, Koulikoro, Ségou, Sikasso, Tombouctou et le district de Bamako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4" name="Picture 26" descr="DSCN1318"/>
          <p:cNvPicPr/>
          <p:nvPr/>
        </p:nvPicPr>
        <p:blipFill>
          <a:blip r:embed="rId2"/>
          <a:stretch/>
        </p:blipFill>
        <p:spPr>
          <a:xfrm>
            <a:off x="6588000" y="549360"/>
            <a:ext cx="223848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557000"/>
            <a:ext cx="88930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e8561c"/>
                </a:solidFill>
                <a:latin typeface="Arial"/>
              </a:rPr>
              <a:t>Deux initiatives partenariales favorisant l’accès aux services financiers des Personnes Handicapées</a:t>
            </a:r>
            <a:endParaRPr b="1" lang="en-US" sz="1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24000" y="1844640"/>
            <a:ext cx="8820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292929"/>
                </a:solidFill>
                <a:latin typeface="Arial"/>
              </a:rPr>
              <a:t>Objectif des proje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292929"/>
                </a:solidFill>
                <a:latin typeface="Arial"/>
              </a:rPr>
              <a:t>Principales activités du proje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539640" y="3787920"/>
            <a:ext cx="8355240" cy="52020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Améliorer l’insertion professionnelle des personnes handicapées en favorisant le développement d’activités économiques et l’accès aux services de micro-financ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539640" y="4941720"/>
            <a:ext cx="8353440" cy="137268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1. Former au handicap les partenaires non-spécialistes du handicap et améliorer l’accessibilité des services aux Personnes handicapées dans les structures partenair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2. Accompagner les personnes handicapées désirant mettre en œuvre un projet professionnel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3. Renforcer les capacités des entrepreneurs par des formations en business plan et gestion comptab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4. Appuyer le financement de micro-entrepris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468360" y="2349360"/>
            <a:ext cx="8424720" cy="73332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PIPROPH, Projet d’Insertion Professionnelle des Personnes en Situation de Handicap (2008-2010) dans le district de Bamak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PIEPH (2010-2012) dans la région de Tombouctou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345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e8561c"/>
                </a:solidFill>
                <a:latin typeface="Arial"/>
              </a:rPr>
              <a:t>Dispositif pour favoriser l’accès des Personnes Handicapées</a:t>
            </a:r>
            <a:endParaRPr b="1" lang="en-US" sz="1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187280" y="306864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39640" y="1844640"/>
            <a:ext cx="79297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t-PT" sz="1400" spc="-1" strike="noStrike">
                <a:solidFill>
                  <a:srgbClr val="292929"/>
                </a:solidFill>
                <a:latin typeface="Arial"/>
              </a:rPr>
              <a:t>Accompagnement de Nyesigiso à la prise en compte du handicap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292929"/>
                </a:solidFill>
                <a:latin typeface="Arial"/>
              </a:rPr>
              <a:t>Accompagnement des personnes handicapé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468360" y="2133720"/>
            <a:ext cx="7056360" cy="286452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29"/>
                </a:solidFill>
                <a:latin typeface="Arial"/>
              </a:rPr>
              <a:t>Proposition </a:t>
            </a:r>
            <a:r>
              <a:rPr b="1" lang="fr-CA" sz="1400" spc="-1" strike="noStrike">
                <a:solidFill>
                  <a:srgbClr val="ea632c"/>
                </a:solidFill>
                <a:latin typeface="Arial"/>
              </a:rPr>
              <a:t>d’un produit spécifique</a:t>
            </a:r>
            <a:r>
              <a:rPr b="0" lang="fr-CA" sz="1400" spc="-1" strike="noStrike">
                <a:solidFill>
                  <a:srgbClr val="ea632c"/>
                </a:solidFill>
                <a:latin typeface="Arial"/>
              </a:rPr>
              <a:t> de crédit</a:t>
            </a:r>
            <a:r>
              <a:rPr b="0" lang="fr-CA" sz="1400" spc="-1" strike="noStrike">
                <a:solidFill>
                  <a:srgbClr val="292929"/>
                </a:solidFill>
                <a:latin typeface="Arial"/>
              </a:rPr>
              <a:t> adapté aux besoins :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292929"/>
                </a:solidFill>
                <a:latin typeface="Arial"/>
                <a:ea typeface="Arial"/>
              </a:rPr>
              <a:t>un taux d’intérêt préférentiel pour un 1</a:t>
            </a:r>
            <a:r>
              <a:rPr b="0" lang="fr-CA" sz="1400" spc="-1" strike="noStrike" baseline="30000">
                <a:solidFill>
                  <a:srgbClr val="292929"/>
                </a:solidFill>
                <a:latin typeface="Arial"/>
                <a:ea typeface="Arial"/>
              </a:rPr>
              <a:t>er</a:t>
            </a:r>
            <a:r>
              <a:rPr b="0" lang="fr-CA" sz="1400" spc="-1" strike="noStrike">
                <a:solidFill>
                  <a:srgbClr val="292929"/>
                </a:solidFill>
                <a:latin typeface="Arial"/>
                <a:ea typeface="Arial"/>
              </a:rPr>
              <a:t> prêt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292929"/>
                </a:solidFill>
                <a:latin typeface="Arial"/>
                <a:ea typeface="Arial"/>
              </a:rPr>
              <a:t>ancienneté non exigé, création de l’entreprise acceptée,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292929"/>
                </a:solidFill>
                <a:latin typeface="Arial"/>
                <a:ea typeface="Arial"/>
              </a:rPr>
              <a:t>apport personnel 10% versus 20%, absence de fonds de cautionnemen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292929"/>
                </a:solidFill>
                <a:latin typeface="Arial"/>
              </a:rPr>
              <a:t>Partage des risques financiers 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(fonds de garantie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Soutien technique de DID pour évaluer</a:t>
            </a:r>
            <a:r>
              <a:rPr b="0" lang="fr-CA" sz="1400" spc="-1" strike="noStrike">
                <a:solidFill>
                  <a:srgbClr val="292929"/>
                </a:solidFill>
                <a:latin typeface="Arial"/>
              </a:rPr>
              <a:t> la rentabilité du produi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ea632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ea632c"/>
                </a:solidFill>
                <a:latin typeface="Arial"/>
              </a:rPr>
              <a:t>Formation / </a:t>
            </a:r>
            <a:r>
              <a:rPr b="1" lang="fr-FR" sz="1400" spc="-1" strike="noStrike">
                <a:solidFill>
                  <a:srgbClr val="ea632c"/>
                </a:solidFill>
                <a:latin typeface="Arial"/>
              </a:rPr>
              <a:t>sensibilisation au handicap des employés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: approche sociale du handicap, adaptation de l’accueil (ex. sensibilisation à la langue des signes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ea632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ea632c"/>
                </a:solidFill>
                <a:latin typeface="Arial"/>
              </a:rPr>
              <a:t>Mise en accessibilité physique</a:t>
            </a:r>
            <a:r>
              <a:rPr b="0" lang="fr-CA" sz="1400" spc="-1" strike="noStrike">
                <a:solidFill>
                  <a:srgbClr val="292929"/>
                </a:solidFill>
                <a:latin typeface="Arial"/>
              </a:rPr>
              <a:t> des caisses (ex. rampe d’accès, toilettes, circulation à l’intérieur de la caisse…)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Participation au choix des projets avec les autres acteurs (Organisation de Personnes Handicapées, Collectivités Territoriales, Agences Etatiques de l’Emploi, etc...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611280" y="5516640"/>
            <a:ext cx="7921440" cy="94644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ea632c"/>
                </a:solidFill>
                <a:latin typeface="Arial"/>
              </a:rPr>
              <a:t>Formation des entrepreneurs handicapés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en business plan et en gestion comptable simplifié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ea632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a632c"/>
                </a:solidFill>
                <a:latin typeface="Arial"/>
              </a:rPr>
              <a:t>Appui au montage de projet et suivi / coaching régulier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des entrepreneurs par Nyesigiso, les Organisations de Personnes Handicapées, et H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5" name="Picture 13" descr="rampe d acces ├á la caisse"/>
          <p:cNvPicPr/>
          <p:nvPr/>
        </p:nvPicPr>
        <p:blipFill>
          <a:blip r:embed="rId1"/>
          <a:stretch/>
        </p:blipFill>
        <p:spPr>
          <a:xfrm flipH="1" rot="9600">
            <a:off x="7451280" y="3427920"/>
            <a:ext cx="15163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8"/>
          <p:cNvSpPr/>
          <p:nvPr/>
        </p:nvSpPr>
        <p:spPr>
          <a:xfrm>
            <a:off x="324000" y="1700280"/>
            <a:ext cx="782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e8561c"/>
                </a:solidFill>
                <a:latin typeface="Arial"/>
              </a:rPr>
              <a:t>Résulta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468360" y="2349360"/>
            <a:ext cx="79293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292929"/>
                </a:solidFill>
                <a:latin typeface="Arial"/>
              </a:rPr>
              <a:t>Résultats financiers et sociaux positif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468360" y="2781360"/>
            <a:ext cx="8459640" cy="349020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Meilleure inclusion des Personnes handicapées à travers une augmentation et diversification de la clientèle pour l’IMF : 70 microcrédits accordés jusqu’ic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→ 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Historique d’une expérience avec Handi-caisse de 1998 à 2007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ea632c"/>
                </a:solidFill>
                <a:latin typeface="Arial"/>
              </a:rPr>
              <a:t>Meilleurs résultats financiers des Personnes handicapées</a:t>
            </a:r>
            <a:r>
              <a:rPr b="1" lang="fr-FR" sz="1400" spc="-1" strike="noStrike">
                <a:solidFill>
                  <a:srgbClr val="292929"/>
                </a:solidFill>
                <a:latin typeface="Arial"/>
              </a:rPr>
              <a:t> que des personnes valid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→  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PAR 30 jours &lt; 5% (clientèle classique : 8%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Le développement d’une clientèle de personnes handicapées contribue à la mission financière et sociale de Nyesigis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→  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La perception des personnes handicapées par le personnel est améliorée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→ 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Impact important pour la réputation locale (gouvernement/ OPH/OSC) et internationale (Cerise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- Amélioration de la visibilité du réseau et renforcement de la confiance avec les personnes handicapé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8"/>
          <p:cNvSpPr/>
          <p:nvPr/>
        </p:nvSpPr>
        <p:spPr>
          <a:xfrm>
            <a:off x="468360" y="155736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e8561c"/>
                </a:solidFill>
                <a:latin typeface="Arial"/>
              </a:rPr>
              <a:t>Leçons appris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611280" y="2060640"/>
            <a:ext cx="79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t-PT" sz="1400" spc="-1" strike="noStrike">
                <a:solidFill>
                  <a:srgbClr val="292929"/>
                </a:solidFill>
                <a:latin typeface="Arial"/>
              </a:rPr>
              <a:t>Sur le produit financier à destination des PS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468360" y="2492280"/>
            <a:ext cx="8424720" cy="199404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Suppression des critères discriminatoires définis pour le produit (âge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Pérennisation d’un produit financier spécifique pour les personnes handicapées? Quel impact d’un produit spécifique sur la perception des personnes ?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→  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Objectif: maintenir un produit spécifique pour faciliter un premier prêt puis même condition que les autres clients pour les autres crédits accordé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468360" y="4395960"/>
            <a:ext cx="8423280" cy="18831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Mieux impliquer le Top Management de l’IMF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Intégrer le “handicap” dans la communication interne et exter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Favoriser l’accès aux services d’épargne et de credit aux Personnes handicapées dans les autres caisses du réseau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Renforcer les partenariats entre la FEMAPH et le réseau des IMF pour attirer une nouvelle clientèle et impliquer d’autres IMF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Plaidoyer pour la prise en compte de la clientèle des PSH comme une opportunité de business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07320" y="407664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9292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292929"/>
                </a:solidFill>
                <a:latin typeface="Arial"/>
              </a:rPr>
              <a:t>Sur l’appui aux IMF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Défis et perspective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435640" y="3284640"/>
            <a:ext cx="5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284720" y="1989000"/>
            <a:ext cx="4032360" cy="294192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a632c"/>
                </a:solidFill>
                <a:latin typeface="Arial"/>
              </a:rPr>
              <a:t>Perspectives</a:t>
            </a:r>
            <a:r>
              <a:rPr b="0" lang="fr-FR" sz="1800" spc="-1" strike="noStrike">
                <a:solidFill>
                  <a:srgbClr val="ea632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1400" spc="-1" strike="noStrike">
                <a:solidFill>
                  <a:srgbClr val="ea632c"/>
                </a:solidFill>
                <a:latin typeface="Arial"/>
              </a:rPr>
              <a:t>Communiquer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pour valoriser les actions menées auprès des Personnes handicapé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ea632c"/>
                </a:solidFill>
                <a:latin typeface="Arial"/>
              </a:rPr>
              <a:t>Evaluer le dispositif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et envisager sa duplication sur l’ensemble des caisses de Bamako (à partir de 2012) et du réseau (à partir de 2013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ea632c"/>
                </a:solidFill>
                <a:latin typeface="Arial"/>
              </a:rPr>
              <a:t>Intégrer des indicateurs</a:t>
            </a: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 sur les Personnes handicapées dans le Système d’Information ?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92929"/>
                </a:solidFill>
                <a:latin typeface="Arial"/>
              </a:rPr>
              <a:t>Demarrer la phase 2 du projet PIPROPH dans les caisses de Nyèsigiso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250920" y="1844640"/>
            <a:ext cx="3673440" cy="432612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a632c"/>
                </a:solidFill>
                <a:latin typeface="Arial"/>
              </a:rPr>
              <a:t>Défis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Assurer une meilleure prise en compte du handicap dans les </a:t>
            </a:r>
            <a:r>
              <a:rPr b="0" lang="fr-FR" sz="1400" spc="-1" strike="noStrike">
                <a:solidFill>
                  <a:srgbClr val="ea632c"/>
                </a:solidFill>
                <a:latin typeface="Arial"/>
              </a:rPr>
              <a:t>outils de performance sociale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: plaidoyer sur adaptation de l’outil CERIS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Même si l’IMF est dans la Confédération des Institutions Financières, </a:t>
            </a:r>
            <a:r>
              <a:rPr b="0" lang="fr-FR" sz="1400" spc="-1" strike="noStrike">
                <a:solidFill>
                  <a:srgbClr val="ea632c"/>
                </a:solidFill>
                <a:latin typeface="Arial"/>
              </a:rPr>
              <a:t>la performance sociale est secondaire dans les pratiques de Nyésigis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→ 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Primes attribuées sur le volume et la qualité des PARs du prêt et non le nombre des prê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→  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Pas de personne spécifiquement dédiée sur la performance sociale et handicap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75436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7"/>
          <p:cNvSpPr/>
          <p:nvPr/>
        </p:nvSpPr>
        <p:spPr>
          <a:xfrm>
            <a:off x="3492360" y="2492280"/>
            <a:ext cx="4861080" cy="222696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entrepreneur handicapé ayant réussi ….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 nombreuses histoires de vie attendent votre implication !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6732720" y="5589720"/>
            <a:ext cx="1944720" cy="52056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erci !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 Niamh</cp:lastModifiedBy>
  <dcterms:modified xsi:type="dcterms:W3CDTF">2011-11-10T10:02:01Z</dcterms:modified>
  <cp:revision>44</cp:revision>
  <dc:subject/>
  <dc:title>Slide 1</dc:title>
</cp:coreProperties>
</file>