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DE5-7146-499F-BA7D-00AC209414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87E9-2E53-4F3B-B80C-DA1CD2B61934}" type="slidenum">
              <a:rPr b="0" lang="fr-FR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ovember 3, 201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292929"/>
                </a:solidFill>
                <a:latin typeface="Arial"/>
              </a:rPr>
              <a:t>Microfinance: What is it for ? – Results and Aspira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arc Labi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ERMi (UMONS and ULB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www.cermi.e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1857240"/>
            <a:ext cx="76615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« </a:t>
            </a:r>
            <a:r>
              <a:rPr b="1" i="1" lang="fr-BE" sz="1800" spc="-1" strike="noStrike">
                <a:solidFill>
                  <a:srgbClr val="292929"/>
                </a:solidFill>
                <a:latin typeface="Arial"/>
              </a:rPr>
              <a:t>The Handbook of Microfinance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 »  (Armendariz, Labie, ed, 2011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BE" sz="1800" spc="-1" strike="noStrike">
                <a:solidFill>
                  <a:srgbClr val="292929"/>
                </a:solidFill>
                <a:latin typeface="Arial"/>
              </a:rPr>
              <a:t>Microfinance has developed tremendously but there is still however a mismatch between supply and deman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What has been learned by the field (in a nutshell) 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Information asymetries and transaction costs analys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Decentralized methodologies and social press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Cost structure management through various business model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292929"/>
                </a:solidFill>
                <a:latin typeface="Arial"/>
              </a:rPr>
              <a:t>Mainstream standardized Microfin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Flèche droite 3"/>
          <p:cNvSpPr/>
          <p:nvPr/>
        </p:nvSpPr>
        <p:spPr>
          <a:xfrm>
            <a:off x="1000080" y="5500800"/>
            <a:ext cx="50004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501040" cy="3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35461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935461"/>
                </a:solidFill>
                <a:latin typeface="Arial"/>
              </a:rPr>
              <a:t>Results so far….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928520"/>
            <a:ext cx="7661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Many promising results and experienc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A maturing process (through critics, crisis and re-assessment) and…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a more balanced vision of what microfinance can acheiv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Conclusion : two options : desillusion (due mainly to exagerated previous expectations) or </a:t>
            </a: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back to basic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292929"/>
                </a:solidFill>
                <a:latin typeface="Arial"/>
              </a:rPr>
              <a:t>Double bottom line </a:t>
            </a: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(call for more profesionalism  in many MFIs and higher social priority – including in the very profesional one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How ? Microfinance should be a permanent search for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better and cheaper service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new « adapted products »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292929"/>
                </a:solidFill>
                <a:latin typeface="Arial"/>
              </a:rPr>
              <a:t>a real transparency on how MFIs create value and who benefit from it ? And the client should benefit the most !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Flèche droite 3"/>
          <p:cNvSpPr/>
          <p:nvPr/>
        </p:nvSpPr>
        <p:spPr>
          <a:xfrm>
            <a:off x="571680" y="3000240"/>
            <a:ext cx="357120" cy="642960"/>
          </a:xfrm>
          <a:prstGeom prst="rightArrow">
            <a:avLst>
              <a:gd name="adj1" fmla="val 50000"/>
              <a:gd name="adj2" fmla="val 6190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Flèche droite 4"/>
          <p:cNvSpPr/>
          <p:nvPr/>
        </p:nvSpPr>
        <p:spPr>
          <a:xfrm>
            <a:off x="571680" y="4000680"/>
            <a:ext cx="785520" cy="48384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85723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35461"/>
                </a:solidFill>
                <a:latin typeface="Arial"/>
              </a:rPr>
              <a:t>Unmet demand : three major examples… among others…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2499840"/>
            <a:ext cx="7661520" cy="33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Agricultural and rural microfinance (still a lot to d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Money transfers (and not only for remittance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92929"/>
                </a:solidFill>
                <a:latin typeface="Arial"/>
              </a:rPr>
              <a:t>And Savings (properly articulated with microcredit ; a real service for poor people, not just another source of funding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6439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935461"/>
                </a:solidFill>
                <a:latin typeface="Arial"/>
              </a:rPr>
              <a:t>(Kind of a) concluding remark…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2857680"/>
            <a:ext cx="7661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When Microfinance got created, it was in order to respond to unmet demand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292929"/>
                </a:solidFill>
                <a:latin typeface="Arial"/>
              </a:rPr>
              <a:t>As it developed, it became more and more of a « supply driven industry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292929"/>
                </a:solidFill>
                <a:latin typeface="Arial"/>
              </a:rPr>
              <a:t>In order to make some more steps forward, wouldn’t it be the right time to refocus on demand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292929"/>
                </a:solidFill>
                <a:latin typeface="Arial"/>
              </a:rPr>
              <a:t>Thanks for your attention 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 Niamh</cp:lastModifiedBy>
  <dcterms:modified xsi:type="dcterms:W3CDTF">2011-11-22T14:52:46Z</dcterms:modified>
  <cp:revision>160</cp:revision>
  <dc:subject/>
  <dc:title>Slide 1</dc:title>
</cp:coreProperties>
</file>