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993-833C-43C4-826A-EBC1E0F9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9AF-63DA-48AB-8572-04E32302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5D2-D526-49ED-8CD5-6DFF4AC0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0E5-5304-4A02-B06F-5B7D259D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E501-968C-403A-B3E1-63B79CCF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33B9-4A0F-401B-BAA4-EFCC6219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C127-CB78-4C51-B22B-90CDBEDC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62E2-F0BB-431D-B8FA-2ADA1B1D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14A3-6A3D-496A-A79F-08FFB036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D1EF-8C84-43DC-92D0-7691EEEF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8592-9EF4-44A2-8601-C29CB35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189-67E8-4FA5-A401-CCBF9CD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FB3-15D8-45E3-AA86-49D4AEE2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CF06-1F6D-48FC-A578-BBF20BBE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0FCA-14ED-4DE4-BBB3-4EEFF81C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BBBA-B746-4E73-B729-63BDC96B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5D02-1317-40C1-AE4D-DE74D682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0BE6C-7C23-452C-8179-C54224B4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0DF0A-5CBB-4410-9EFB-179C6977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66C0B-4B88-4C67-AA22-63C19023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032B5-1817-4714-A8C3-CD305AFD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33037-BB31-49FD-A7E2-0258EE37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34D-807A-4C89-B528-7E914AE1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95C33-7479-4D39-9703-9C088582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8837E-6B8C-4339-AEA1-8751DFE2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4A1A9-D778-44E3-AB5E-1AB131A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A0B6F-0FB9-4F02-91A4-763176E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7BE14-1773-4582-8FAD-3C28B354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52DBA-9AD0-4B11-A020-D8649EF4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76B95-B7A5-49F0-9FBA-8688DB08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2823-6D8F-409D-87FA-276CE6B6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73151-D9FF-459F-8520-760A778D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024E9-E66C-4395-A490-B73A93D6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5E0-0593-48BE-BA1A-32AECAE7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9696-B534-441D-8C3E-2D40DD47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A8AFB-0C10-4DD0-A3D7-FE305EE3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AC146-9343-4A38-ACD4-3D0497FD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1B617-FE63-453B-A983-020787B0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E8125-A926-4963-912F-4B2EDB5B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A962-1958-4538-8266-017370DF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BACB-FD2D-4405-BD41-4F936BDF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FEE79-95C3-4CE1-B2B7-15C7C29D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9B9B2-7B3D-461C-914C-71AF1E46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C03-97CD-4189-B17B-AC67E156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EC3-B0FB-4C8E-8BB5-C9685B21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BA4-3DCC-432A-91BD-18B526C3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64A-290B-46BA-A1B3-8D45501F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EA0-0F78-4EA2-9D08-03BD290E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202D-9165-4F86-858D-75760F38092A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EC99-B02A-4032-8FEF-62DFAA4EEA4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A67B-1C97-4A14-9DEC-350427D8BF3B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9EBB-1D55-4C1B-905C-A3F8364DA882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2158-82AD-41F2-939A-C07C93623491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C9AC-DC6F-4AC0-9F4D-3CB523FB3BF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25DD-6326-4346-AF94-749B76F62BF5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6841-53B3-40AC-8577-3A0C9CDD441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Jsolli@Consint.org" TargetMode="External"/><Relationship Id="rId2" Type="http://schemas.openxmlformats.org/officeDocument/2006/relationships/hyperlink" Target="mailto:Jamisolli@gmail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139200"/>
            <a:ext cx="685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3720960"/>
            <a:ext cx="74088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24242"/>
                </a:solidFill>
                <a:latin typeface="Century Gothic"/>
              </a:rPr>
              <a:t>The Microfinance Loan Agreement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24242"/>
                </a:solidFill>
                <a:latin typeface="Century Gothic"/>
              </a:rPr>
              <a:t>Why</a:t>
            </a:r>
            <a:r>
              <a:rPr b="0" i="1" lang="it-IT" sz="3200" spc="-1" strike="noStrike">
                <a:solidFill>
                  <a:srgbClr val="424242"/>
                </a:solidFill>
                <a:latin typeface="Century Gothic"/>
              </a:rPr>
              <a:t> “As is” </a:t>
            </a:r>
            <a:r>
              <a:rPr b="0" lang="it-IT" sz="3200" spc="-1" strike="noStrike">
                <a:solidFill>
                  <a:srgbClr val="424242"/>
                </a:solidFill>
                <a:latin typeface="Century Gothic"/>
              </a:rPr>
              <a:t>fails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24242"/>
                </a:solidFill>
                <a:latin typeface="Century Gothic"/>
              </a:rPr>
              <a:t>to Protect Consumer Rights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Immagine 3" descr="nerothumbsdownimage.jpg"/>
          <p:cNvPicPr/>
          <p:nvPr/>
        </p:nvPicPr>
        <p:blipFill>
          <a:blip r:embed="rId1"/>
          <a:stretch/>
        </p:blipFill>
        <p:spPr>
          <a:xfrm>
            <a:off x="685800" y="746280"/>
            <a:ext cx="6858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4c600"/>
                </a:solidFill>
                <a:latin typeface="Century Gothic"/>
              </a:rPr>
              <a:t>How can we improve the loan agreement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e3d2d"/>
                </a:solidFill>
                <a:latin typeface="Century Gothic"/>
              </a:rPr>
              <a:t>Hire a local lawyer</a:t>
            </a: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e3d2d"/>
                </a:solidFill>
                <a:latin typeface="Century Gothic"/>
              </a:rPr>
              <a:t>Keep it simple &amp; use local language (at least for key terms); give a copy of loan to client before they sign</a:t>
            </a: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e3d2d"/>
                </a:solidFill>
                <a:latin typeface="Century Gothic"/>
              </a:rPr>
              <a:t>Do a real household budget with the client</a:t>
            </a: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e3d2d"/>
                </a:solidFill>
                <a:latin typeface="Century Gothic"/>
              </a:rPr>
              <a:t>Guarantors should have their own contract: spouses should give consent when their rights are at issue</a:t>
            </a: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e3d2d"/>
                </a:solidFill>
                <a:latin typeface="Century Gothic"/>
              </a:rPr>
              <a:t>Separate the issues &amp; explain them in the contract:  ex. Insurance coverage should be in the agreement.</a:t>
            </a: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e3d2d"/>
                </a:solidFill>
                <a:latin typeface="Century Gothic"/>
              </a:rPr>
              <a:t>If you wouldn’t sign it yourself; it probably isn’t fair. </a:t>
            </a: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94c600"/>
                </a:solidFill>
                <a:latin typeface="Century Gothic"/>
              </a:rPr>
              <a:t>Being Socially responsible is about protecting the client; not </a:t>
            </a:r>
            <a:r>
              <a:rPr b="0" i="1" lang="it-IT" sz="3200" spc="-1" strike="noStrike">
                <a:solidFill>
                  <a:srgbClr val="94c600"/>
                </a:solidFill>
                <a:latin typeface="Century Gothic"/>
              </a:rPr>
              <a:t>preserving</a:t>
            </a:r>
            <a:r>
              <a:rPr b="0" lang="it-IT" sz="3200" spc="-1" strike="noStrike">
                <a:solidFill>
                  <a:srgbClr val="94c600"/>
                </a:solidFill>
                <a:latin typeface="Century Gothic"/>
              </a:rPr>
              <a:t> him in perpetual debt …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7" name="Segnaposto contenuto 3" descr="cartoon.jpg"/>
          <p:cNvPicPr/>
          <p:nvPr/>
        </p:nvPicPr>
        <p:blipFill>
          <a:blip r:embed="rId1"/>
          <a:srcRect l="2719" t="13142" r="28262" b="0"/>
          <a:stretch/>
        </p:blipFill>
        <p:spPr>
          <a:xfrm>
            <a:off x="2813040" y="2170080"/>
            <a:ext cx="38196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4c600"/>
                </a:solidFill>
                <a:latin typeface="Century Gothic"/>
              </a:rPr>
              <a:t>Thanks for your interest in consumer protection </a:t>
            </a:r>
            <a:r>
              <a:rPr b="0" lang="it-IT" sz="3600" spc="-1" strike="noStrike">
                <a:solidFill>
                  <a:srgbClr val="94c6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Jami Hubbard Solli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Jsolli@Consint.or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Jamisolli@gmail.com</a:t>
            </a: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Enjoy the E-MFP Conference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4c600"/>
                </a:solidFill>
                <a:latin typeface="Century Gothic"/>
              </a:rPr>
              <a:t>A few words about Consumer Rights: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e3d2d"/>
                </a:solidFill>
                <a:latin typeface="Century Gothic"/>
              </a:rPr>
              <a:t>To know what they are you must refer to the national legislation (ex. From Kenya);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e3d2d"/>
                </a:solidFill>
                <a:latin typeface="Century Gothic"/>
              </a:rPr>
              <a:t>There may be a general CPL (and reg. authority),or contained in financial sector laws; competition laws; advertising laws; civil procedure laws; collaterals/pledges/mortgages laws. 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e3d2d"/>
                </a:solidFill>
                <a:latin typeface="Century Gothic"/>
              </a:rPr>
              <a:t>It is lazy &amp; risky to be ignorant of the law where you are doing business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e3d2d"/>
                </a:solidFill>
                <a:latin typeface="Century Gothic"/>
              </a:rPr>
              <a:t>The </a:t>
            </a:r>
            <a:r>
              <a:rPr b="0" lang="it-IT" sz="1800" spc="-1" strike="noStrike">
                <a:solidFill>
                  <a:srgbClr val="ff0000"/>
                </a:solidFill>
                <a:latin typeface="Century Gothic"/>
              </a:rPr>
              <a:t>bare minimum </a:t>
            </a:r>
            <a:r>
              <a:rPr b="0" lang="it-IT" sz="1800" spc="-1" strike="noStrike">
                <a:solidFill>
                  <a:srgbClr val="3e3d2d"/>
                </a:solidFill>
                <a:latin typeface="Century Gothic"/>
              </a:rPr>
              <a:t>a socially responsible lender/investor should do is follow the law of the land. 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4c600"/>
                </a:solidFill>
                <a:latin typeface="Century Gothic"/>
              </a:rPr>
              <a:t>What your contract says to the world re: your business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Century Gothic"/>
              </a:rPr>
              <a:t>The contract is a mirror of the MFI’s mission.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Standard form contracts are not a business trade secret :  copies should be given to clients BEFORE signature.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Not giving a copy is a </a:t>
            </a:r>
            <a:r>
              <a:rPr b="0" lang="it-IT" sz="2400" spc="-1" strike="noStrike">
                <a:solidFill>
                  <a:srgbClr val="ff0000"/>
                </a:solidFill>
                <a:latin typeface="Century Gothic"/>
              </a:rPr>
              <a:t>red flag</a:t>
            </a: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Failure to convey accurate information to clients is not </a:t>
            </a:r>
            <a:r>
              <a:rPr b="0" i="1" lang="it-IT" sz="2400" spc="-1" strike="noStrike">
                <a:solidFill>
                  <a:srgbClr val="3e3d2d"/>
                </a:solidFill>
                <a:latin typeface="Century Gothic"/>
              </a:rPr>
              <a:t>socially responsible</a:t>
            </a: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, and demonstrates bad business sens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4c600"/>
                </a:solidFill>
                <a:latin typeface="Century Gothic"/>
              </a:rPr>
              <a:t>Business case for transparent, easy to read contract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e3d2d"/>
                </a:solidFill>
                <a:latin typeface="Century Gothic"/>
              </a:rPr>
              <a:t>For clients: It is difficult to honor an agreement you do not understand.  Local language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e3d2d"/>
                </a:solidFill>
                <a:latin typeface="Century Gothic"/>
              </a:rPr>
              <a:t>From business risk perspective:  you may be violating the law of the land(ex. Unconscionability/fraud laws beginning to be enforced &amp; for those operating in Kenya –there’s a new Const. And new competition law in force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e3d2d"/>
                </a:solidFill>
                <a:latin typeface="Century Gothic"/>
              </a:rPr>
              <a:t>An educated client can protect against MFI corruption (ex. Pay late pay double scheme in Kenya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e3d2d"/>
                </a:solidFill>
                <a:latin typeface="Century Gothic"/>
              </a:rPr>
              <a:t>Over indebtedness &amp; default may be linked to not understanding full impact of repayment amounts due on the household budget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4c600"/>
                </a:solidFill>
                <a:latin typeface="Century Gothic"/>
              </a:rPr>
              <a:t>What are some current anti consumer practices contained in MFI contracts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e3d2d"/>
                </a:solidFill>
                <a:latin typeface="Century Gothic"/>
              </a:rPr>
              <a:t>Blocking a percentage of loan while charging interest on the whole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e3d2d"/>
                </a:solidFill>
                <a:latin typeface="Century Gothic"/>
              </a:rPr>
              <a:t>the fake bailor-bailee relationship clause; abuse of promissory notes and blank checks and even contracts as collateral)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e3d2d"/>
                </a:solidFill>
                <a:latin typeface="Century Gothic"/>
              </a:rPr>
              <a:t>not giving a copy of the contract</a:t>
            </a:r>
            <a:r>
              <a:rPr b="0" lang="it-IT" sz="19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it-IT" sz="1900" spc="-1" strike="noStrike">
                <a:solidFill>
                  <a:srgbClr val="3e3d2d"/>
                </a:solidFill>
                <a:latin typeface="Century Gothic"/>
              </a:rPr>
              <a:t>(includes guarantor/spouse)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e3d2d"/>
                </a:solidFill>
                <a:latin typeface="Century Gothic"/>
              </a:rPr>
              <a:t>not allowing rescheduling for would be defaulters, relying instead on heavy handedness of group debt collection &amp; seizure of collateral – signing away rights to auction by law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e3d2d"/>
                </a:solidFill>
                <a:latin typeface="Century Gothic"/>
              </a:rPr>
              <a:t>hyper collateralization at 3-4 times value of loan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e3d2d"/>
                </a:solidFill>
                <a:latin typeface="Century Gothic"/>
              </a:rPr>
              <a:t>Is it insurance or isn’t it?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4c600"/>
                </a:solidFill>
                <a:latin typeface="Century Gothic"/>
              </a:rPr>
              <a:t>Example from Kenya: MFI group loan agreement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Particular MFI has institutional investors, grants and almost $3m USD loan from Kiv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Has a 5 Diamond rating on mix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Offers loans and voluntary savings (</a:t>
            </a:r>
            <a:r>
              <a:rPr b="0" lang="it-IT" sz="2400" spc="-1" strike="noStrike">
                <a:solidFill>
                  <a:srgbClr val="ff0000"/>
                </a:solidFill>
                <a:latin typeface="Century Gothic"/>
              </a:rPr>
              <a:t>does not have deposit taking license</a:t>
            </a: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PAR in ‘09 was </a:t>
            </a:r>
            <a:r>
              <a:rPr b="0" lang="it-IT" sz="2400" spc="-1" strike="noStrike">
                <a:solidFill>
                  <a:srgbClr val="ff0000"/>
                </a:solidFill>
                <a:latin typeface="Century Gothic"/>
              </a:rPr>
              <a:t>over 10% </a:t>
            </a: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with ZERO defaul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4c600"/>
                </a:solidFill>
                <a:latin typeface="Century Gothic"/>
              </a:rPr>
              <a:t>Contract terms of a Kenyan group loan w/ sample MFI: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e3d2d"/>
                </a:solidFill>
                <a:latin typeface="Century Gothic"/>
              </a:rPr>
              <a:t>Requires personal guarantees and physical collaterals which are 328.5% of the loan amoun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e3d2d"/>
                </a:solidFill>
                <a:latin typeface="Century Gothic"/>
              </a:rPr>
              <a:t>30% of loan amount is blocked,though client pays interest on 100% of loan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e3d2d"/>
                </a:solidFill>
                <a:latin typeface="Century Gothic"/>
              </a:rPr>
              <a:t>Stated interest rate is 19.5% (flat or declining?) but considering all admin. Fees and unexplained insurance: EIR is 63%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e3d2d"/>
                </a:solidFill>
                <a:latin typeface="Century Gothic"/>
              </a:rPr>
              <a:t>Contract states that borrower is giving authority to group to seize collaterals w/o involving “public authorities.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e3d2d"/>
                </a:solidFill>
                <a:latin typeface="Century Gothic"/>
              </a:rPr>
              <a:t>Fee for insurance and that’s all the language dedicated to coverag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4c600"/>
                </a:solidFill>
                <a:latin typeface="Century Gothic"/>
              </a:rPr>
              <a:t>How many Kenyan laws does this contract violate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The Kenyan Constitution (Bill of Rights CP, Chpt. 4 sec 46 &amp; </a:t>
            </a:r>
            <a:r>
              <a:rPr b="0" lang="it-IT" sz="2400" spc="-1" strike="noStrike">
                <a:solidFill>
                  <a:srgbClr val="ff0000"/>
                </a:solidFill>
                <a:latin typeface="Century Gothic"/>
              </a:rPr>
              <a:t>22: anyone has rt. To sue</a:t>
            </a: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The Competition Act of 201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Chpt. 128 Chief Authority Ac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Chpt. 504 Restrictive Trade Practices Ac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Chpt. 28 Chattels Transfer Ac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e3d2d"/>
                </a:solidFill>
                <a:latin typeface="Century Gothic"/>
              </a:rPr>
              <a:t>Microfinance Act of 20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4c600"/>
                </a:solidFill>
                <a:latin typeface="Century Gothic"/>
              </a:rPr>
              <a:t>Example of a bad MF loan agreement (fiction but a fusion of  Ugandan contracts)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e3d2d"/>
                </a:solidFill>
                <a:latin typeface="Century Gothic"/>
              </a:rPr>
              <a:t>The hand out is a loan agreement containing multiple unfair terms which negatively impact consumer rights.  (there are 13 or more imbedded in the agreement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e3d2d"/>
                </a:solidFill>
                <a:latin typeface="Century Gothic"/>
              </a:rPr>
              <a:t>It also contains clauses which are illegal in certain jurisdictio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e3d2d"/>
                </a:solidFill>
                <a:latin typeface="Century Gothic"/>
              </a:rPr>
              <a:t>How many of these clauses does your MFI use?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2:06:34Z</dcterms:created>
  <dc:creator>antonio solli</dc:creator>
  <dc:description/>
  <dc:language>en-US</dc:language>
  <cp:lastModifiedBy>Juana Ramirez e-MFP</cp:lastModifiedBy>
  <dcterms:modified xsi:type="dcterms:W3CDTF">2011-10-31T17:01:04Z</dcterms:modified>
  <cp:revision>31</cp:revision>
  <dc:subject/>
  <dc:title>Presentazione di PowerPoint</dc:title>
</cp:coreProperties>
</file>