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3" descr="C:\Users\Cox\Desktop\Sans-titre-1.jpg"/>
          <p:cNvPicPr/>
          <p:nvPr/>
        </p:nvPicPr>
        <p:blipFill>
          <a:blip r:embed="rId2"/>
          <a:stretch/>
        </p:blipFill>
        <p:spPr>
          <a:xfrm>
            <a:off x="0" y="0"/>
            <a:ext cx="637236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The Microfinance Crisis 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and the Role of Transparenc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Picture 3" descr="C:\Users\avargas\AppData\Local\Temp\Luminis_primary_logo.jpg"/>
          <p:cNvPicPr/>
          <p:nvPr/>
        </p:nvPicPr>
        <p:blipFill>
          <a:blip r:embed="rId1"/>
          <a:stretch/>
        </p:blipFill>
        <p:spPr>
          <a:xfrm>
            <a:off x="6618240" y="260280"/>
            <a:ext cx="2259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Which Crisis?</a:t>
            </a:r>
            <a:endParaRPr b="1" lang="en-US" sz="3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30200" y="243792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ncreasing Systemic Ris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solated Trouble Spo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edia coverage =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ublic Perce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165280" y="496404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ere we complicit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1234080" y="5516640"/>
            <a:ext cx="6880680" cy="914400"/>
            <a:chOff x="1234080" y="5516640"/>
            <a:chExt cx="6880680" cy="914400"/>
          </a:xfrm>
        </p:grpSpPr>
        <p:sp>
          <p:nvSpPr>
            <p:cNvPr id="48" name="TextBox 5"/>
            <p:cNvSpPr/>
            <p:nvPr/>
          </p:nvSpPr>
          <p:spPr>
            <a:xfrm>
              <a:off x="1234080" y="5686560"/>
              <a:ext cx="256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Arial"/>
                </a:rPr>
                <a:t>Oversold promise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TextBox 6"/>
            <p:cNvSpPr/>
            <p:nvPr/>
          </p:nvSpPr>
          <p:spPr>
            <a:xfrm>
              <a:off x="7004520" y="568656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62626"/>
                  </a:solidFill>
                  <a:latin typeface="Arial"/>
                </a:rPr>
                <a:t>Reality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Right Arrow 7"/>
            <p:cNvSpPr/>
            <p:nvPr/>
          </p:nvSpPr>
          <p:spPr>
            <a:xfrm>
              <a:off x="3965400" y="5686560"/>
              <a:ext cx="977760" cy="48420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bfbfbf"/>
            </a:solidFill>
            <a:ln w="9360">
              <a:solidFill>
                <a:srgbClr val="cc98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Left Arrow 8"/>
            <p:cNvSpPr/>
            <p:nvPr/>
          </p:nvSpPr>
          <p:spPr>
            <a:xfrm>
              <a:off x="5992920" y="5686560"/>
              <a:ext cx="977760" cy="484200"/>
            </a:xfrm>
            <a:prstGeom prst="leftArrow">
              <a:avLst>
                <a:gd name="adj1" fmla="val 50000"/>
                <a:gd name="adj2" fmla="val 49997"/>
              </a:avLst>
            </a:prstGeom>
            <a:solidFill>
              <a:srgbClr val="bfbfbf"/>
            </a:solidFill>
            <a:ln w="9360">
              <a:solidFill>
                <a:srgbClr val="cc98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Explosion 1 9"/>
            <p:cNvSpPr/>
            <p:nvPr/>
          </p:nvSpPr>
          <p:spPr>
            <a:xfrm>
              <a:off x="5027760" y="5516640"/>
              <a:ext cx="914400" cy="91440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cc98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53" name="Picture 3" descr="C:\Users\avargas\AppData\Local\Temp\Luminis_primary_logo.jpg"/>
          <p:cNvPicPr/>
          <p:nvPr/>
        </p:nvPicPr>
        <p:blipFill>
          <a:blip r:embed="rId1"/>
          <a:stretch/>
        </p:blipFill>
        <p:spPr>
          <a:xfrm>
            <a:off x="6618240" y="260280"/>
            <a:ext cx="2259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nvestment Clarity</a:t>
            </a:r>
            <a:endParaRPr b="1" lang="en-US" sz="36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13800" y="2362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Contex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065400" y="236232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Concer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981760" y="2362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Clar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58" name="Straight Arrow Connector 6"/>
          <p:cNvCxnSpPr/>
          <p:nvPr/>
        </p:nvCxnSpPr>
        <p:spPr>
          <a:xfrm>
            <a:off x="1638360" y="2585520"/>
            <a:ext cx="1334160" cy="252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59" name="Straight Arrow Connector 7"/>
          <p:cNvCxnSpPr/>
          <p:nvPr/>
        </p:nvCxnSpPr>
        <p:spPr>
          <a:xfrm>
            <a:off x="4422240" y="2584440"/>
            <a:ext cx="1334520" cy="216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60" name="TextBox 8"/>
          <p:cNvSpPr/>
          <p:nvPr/>
        </p:nvSpPr>
        <p:spPr>
          <a:xfrm>
            <a:off x="668880" y="46483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ocial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80400" y="38498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vestment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2951280" y="2901960"/>
            <a:ext cx="1896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incipal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Headline Ris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ocial progres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rack Recor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Right Arrow 11"/>
          <p:cNvSpPr/>
          <p:nvPr/>
        </p:nvSpPr>
        <p:spPr>
          <a:xfrm>
            <a:off x="4853160" y="5732640"/>
            <a:ext cx="977760" cy="242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bfbfbf"/>
          </a:soli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Right Arrow 12"/>
          <p:cNvSpPr/>
          <p:nvPr/>
        </p:nvSpPr>
        <p:spPr>
          <a:xfrm>
            <a:off x="4853160" y="3003480"/>
            <a:ext cx="977760" cy="243000"/>
          </a:xfrm>
          <a:prstGeom prst="rightArrow">
            <a:avLst>
              <a:gd name="adj1" fmla="val 50000"/>
              <a:gd name="adj2" fmla="val 49793"/>
            </a:avLst>
          </a:prstGeom>
          <a:solidFill>
            <a:srgbClr val="bfbfbf"/>
          </a:soli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Right Arrow 13"/>
          <p:cNvSpPr/>
          <p:nvPr/>
        </p:nvSpPr>
        <p:spPr>
          <a:xfrm>
            <a:off x="4853160" y="3544920"/>
            <a:ext cx="977760" cy="243000"/>
          </a:xfrm>
          <a:prstGeom prst="rightArrow">
            <a:avLst>
              <a:gd name="adj1" fmla="val 50000"/>
              <a:gd name="adj2" fmla="val 49793"/>
            </a:avLst>
          </a:prstGeom>
          <a:solidFill>
            <a:srgbClr val="bfbfbf"/>
          </a:soli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Right Arrow 14"/>
          <p:cNvSpPr/>
          <p:nvPr/>
        </p:nvSpPr>
        <p:spPr>
          <a:xfrm>
            <a:off x="4853160" y="4329000"/>
            <a:ext cx="977760" cy="243000"/>
          </a:xfrm>
          <a:prstGeom prst="rightArrow">
            <a:avLst>
              <a:gd name="adj1" fmla="val 50000"/>
              <a:gd name="adj2" fmla="val 49793"/>
            </a:avLst>
          </a:prstGeom>
          <a:solidFill>
            <a:srgbClr val="bfbfbf"/>
          </a:soli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064200" y="290052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rform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6035040" y="345924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s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041520" y="4255920"/>
            <a:ext cx="2115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S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utput/Outcom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061680" y="561960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nag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Rectangular Callout 19"/>
          <p:cNvSpPr/>
          <p:nvPr/>
        </p:nvSpPr>
        <p:spPr>
          <a:xfrm>
            <a:off x="7451640" y="3505320"/>
            <a:ext cx="1338480" cy="1164960"/>
          </a:xfrm>
          <a:prstGeom prst="wedgeRectCallout">
            <a:avLst>
              <a:gd name="adj1" fmla="val -98388"/>
              <a:gd name="adj2" fmla="val -7629"/>
            </a:avLst>
          </a:prstGeom>
          <a:solidFill>
            <a:srgbClr val="f2f2f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Understand the Tradeoff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Notched Right Arrow 20"/>
          <p:cNvSpPr/>
          <p:nvPr/>
        </p:nvSpPr>
        <p:spPr>
          <a:xfrm>
            <a:off x="2216160" y="3227400"/>
            <a:ext cx="585720" cy="26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5400"/>
                </a:moveTo>
                <a:lnTo>
                  <a:pt x="-22008" y="5400"/>
                </a:lnTo>
                <a:lnTo>
                  <a:pt x="-22008" y="0"/>
                </a:lnTo>
                <a:lnTo>
                  <a:pt x="21600" y="10800"/>
                </a:lnTo>
                <a:lnTo>
                  <a:pt x="-22008" y="21600"/>
                </a:lnTo>
                <a:lnTo>
                  <a:pt x="-22008" y="16200"/>
                </a:lnTo>
                <a:lnTo>
                  <a:pt x="0" y="16200"/>
                </a:lnTo>
                <a:lnTo>
                  <a:pt x="218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9d9d9"/>
          </a:soli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3" name="Picture 3" descr="C:\Users\avargas\AppData\Local\Temp\Luminis_primary_logo.jpg"/>
          <p:cNvPicPr/>
          <p:nvPr/>
        </p:nvPicPr>
        <p:blipFill>
          <a:blip r:embed="rId1"/>
          <a:stretch/>
        </p:blipFill>
        <p:spPr>
          <a:xfrm>
            <a:off x="6618240" y="260280"/>
            <a:ext cx="2259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nvestment Diversity</a:t>
            </a:r>
            <a:endParaRPr b="1" lang="en-US" sz="3600" spc="-1" strike="noStrike">
              <a:solidFill>
                <a:srgbClr val="93546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11200" y="2133720"/>
          <a:ext cx="8313840" cy="1630080"/>
        </p:xfrm>
        <a:graphic>
          <a:graphicData uri="http://schemas.openxmlformats.org/drawingml/2006/table">
            <a:tbl>
              <a:tblPr/>
              <a:tblGrid>
                <a:gridCol w="735120"/>
                <a:gridCol w="653760"/>
                <a:gridCol w="576360"/>
                <a:gridCol w="749520"/>
                <a:gridCol w="83880"/>
                <a:gridCol w="735120"/>
                <a:gridCol w="655560"/>
                <a:gridCol w="574920"/>
                <a:gridCol w="750600"/>
                <a:gridCol w="84240"/>
                <a:gridCol w="733320"/>
                <a:gridCol w="655920"/>
                <a:gridCol w="574560"/>
                <a:gridCol w="750960"/>
              </a:tblGrid>
              <a:tr h="2728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V I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V II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V III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R / Sovereign Rating Matrix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R / Sovereign Rating Matrix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R / Sovereign Rating Matrix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 to BBB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+ to B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 to D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 to BBB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+ to B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 to D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 to BBB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+ to B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 to D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3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-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 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 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6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7%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r>
                        <a:rPr b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 </a:t>
                      </a:r>
                      <a:endParaRPr b="0" lang="en-US" sz="1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11200" y="5146560"/>
            <a:ext cx="2220840" cy="127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3330720" y="5153040"/>
            <a:ext cx="2174760" cy="1265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111720" y="5157720"/>
            <a:ext cx="2225880" cy="129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3330720" y="3860640"/>
            <a:ext cx="2166840" cy="1236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5"/>
          <a:stretch/>
        </p:blipFill>
        <p:spPr>
          <a:xfrm>
            <a:off x="511200" y="3860640"/>
            <a:ext cx="2201760" cy="1236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6"/>
          <a:stretch/>
        </p:blipFill>
        <p:spPr>
          <a:xfrm>
            <a:off x="6111720" y="3860640"/>
            <a:ext cx="2225880" cy="123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avargas\AppData\Local\Temp\Luminis_primary_logo.jpg"/>
          <p:cNvPicPr/>
          <p:nvPr/>
        </p:nvPicPr>
        <p:blipFill>
          <a:blip r:embed="rId7"/>
          <a:stretch/>
        </p:blipFill>
        <p:spPr>
          <a:xfrm>
            <a:off x="6618240" y="260280"/>
            <a:ext cx="2259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0:48:03Z</dcterms:created>
  <dc:creator>Martin Kinsella</dc:creator>
  <dc:description/>
  <dc:language>en-US</dc:language>
  <cp:lastModifiedBy> Niamh</cp:lastModifiedBy>
  <cp:lastPrinted>2011-10-26T21:22:03Z</cp:lastPrinted>
  <dcterms:modified xsi:type="dcterms:W3CDTF">2011-11-10T11:23:40Z</dcterms:modified>
  <cp:revision>22</cp:revision>
  <dc:subject/>
  <dc:title>Slide 1</dc:title>
</cp:coreProperties>
</file>