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9E76-58EB-4E31-AECE-81928ED1A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F65E-7B48-41B5-97BF-5131D68D9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CB198-93FF-4E64-A7EB-40FF9F7AD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41AAD-9E56-4DD5-A0C9-4F4382AFD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684E4-7C62-4B4F-A491-11667B55A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06712-9F8B-43F3-AF81-CACB8E6BC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636A8-8FCE-4694-A00B-733C72FE99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70E4E-6259-40D8-BDEF-D366F155E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FBE40-497F-4A12-82EF-60F8AEC9B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CE181-5C05-4EAC-B929-C8B334FEB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88E58-D52C-4B1D-8B97-6590F567D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D41B8-9334-4BD0-B9E9-49F74DEAA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421D2-68C3-4601-B33A-0766F05B7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3898-0D69-4D5F-BA8B-8F19AA5D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55AF0-527C-4D85-9CEC-18D560650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D795D-DACF-4263-B7C0-8830091E2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1E2C6-DC1F-4576-8726-E25776B2F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59BD7-CCD5-4E6E-BDBB-9C3DDDD61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90B3A-BF3B-4F68-96B9-14C02179B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00BF8B-AD1B-4879-B4E9-AFC506F78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D2BA7-C4E8-47AA-8C37-E8150DF93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31B65-B449-437E-8DB2-FDDEAC4D9D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3554B-7087-466A-B20B-C0F205CFD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F13B8-D2AD-4244-AB3F-EE490439D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39B39-049E-4ABD-81F3-167ECFE81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13A05D-BC4F-415D-B0F3-10D5E9CD4B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C0D37-AC82-4CFE-B82F-CCED0D5CD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7B7CD-B46E-4ECE-B979-B0E925724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BE90D-2E4C-438E-9A42-1F4B8E32E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59DE85-807E-472C-B44C-4F27969F1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4AF628-F517-4E3E-8BB8-C4EFC760E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EE66AC-82D2-4534-B1D2-C45D4D14C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849E5-DF65-45B0-ABC3-66A537AE93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79FC9-518A-450D-8189-6C5DCB4FF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03368-0E7F-482D-89D0-D1EA0C0DE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D0A4E-C963-45BD-A3EB-BE7B74E2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D96E66-0BFE-49F2-9833-A02E87728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EDF9BD-6E7D-4A23-ABAD-6282A5DE9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DB4BB-95FA-4E9F-A612-DA6B89B148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A1C3F-1690-4C8B-93BD-8DAC80265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85C48-65B4-47FC-B44A-BDFC96B73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C107E-6320-4318-BF7F-4E2479BA9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DBF3C-D5DD-4075-95B8-8F760D240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3EB09-6D89-4589-8A28-46C67C0859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C2E4DE-F674-47DB-AD62-848592CB3C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97904E-AF8F-4B76-B728-D5919194BF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49A5A-D087-4A99-A4D5-D68615AD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42ED81-2F13-49A1-AF62-68FD612C5E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2E465-EF12-4109-A9A4-9E49355F8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77592-07E9-45F5-B157-8DC53AB51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2B2633-8416-4A78-907E-538BF776E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646B48-B5FA-43D9-9F8F-1ED439119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DADC8-9074-47C5-BE0A-3600EAE2C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97B78D-9E6E-492D-8705-F125524C8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114F0-1E98-441F-9813-E4CEC8AB1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B13273-96F0-4E6A-8347-F13F5D749E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6A125E-18DD-4302-94E4-61BD5E769C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9AF7-C8A7-4313-B95A-39D46C83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448D7-F8B5-4C0F-B3B8-6D6D6A5BEE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38605E-CF75-472D-88F9-7A1EB2EDE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D79E8-6D7D-4073-91B3-9C7E2CFF68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AB5F78-BA27-4A2E-B9AF-A34A6E6D87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EF7DC3-D586-4448-A7A4-11231C81B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F0D74-C89A-4A88-B710-8DADDBAA6D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7BBB10-8B1B-47ED-B1A3-A7DAF52478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2CC81-2421-4708-88FE-0581EE12F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1728E7-13BE-44EC-93B5-71381DD93B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5A6AD-BD6A-452E-A146-D259B1271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DEAA-6287-481E-AAC3-EAAAED01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54451-45BE-43EF-8413-1CE83FADA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14A611-C550-4595-A89B-46143B267A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9E7C0E-28EF-4927-A16A-A11F8AC2DD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FD5FC4-AAC2-42F8-BFE7-4CB8F77E73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A60021-B827-46B1-9BDC-5F1BD1550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64EC4-8193-45CB-B963-DC955EA313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ADA8F-0D98-468C-9E44-8FA058CF0F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FF8784-E1E4-4E09-A065-EBF98630F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F7CAA-A3B3-4845-8C1E-66460AD529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3450C-BF20-490A-AB89-943F4A4BEC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3861-D20A-4F68-831D-007348314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56365F-5CF9-4B6D-A0E0-51A47221E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6B0E1-BD1B-49C8-85F1-7430C2716F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81522-1B04-486D-852E-B73864607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914806-54FA-4CFD-9C77-047969AF46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168558-D77A-4F26-9185-A8D8FDAA38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4088-36DA-42B5-981F-3C4D3C0C6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f3f3f"/>
                </a:solidFill>
                <a:latin typeface="Corbe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A336-BBBF-48BA-B8D4-977632D3E0AA}" type="slidenum">
              <a:rPr b="0" lang="es-E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F8D3-86F4-49ED-83BF-E0C775CA0997}" type="slidenum">
              <a:rPr b="0" lang="es-E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rbel"/>
              </a:rPr>
              <a:t>&lt;date/time&gt;</a:t>
            </a:r>
            <a:endParaRPr b="0" lang="en-US" sz="12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1A5B-CB0F-4F40-963E-966DC3EFA858}" type="slidenum">
              <a:rPr b="0" lang="es-ES" sz="1200" spc="-1" strike="noStrike">
                <a:solidFill>
                  <a:srgbClr val="fffff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f3f3f"/>
                </a:solidFill>
                <a:latin typeface="Corbel"/>
              </a:rPr>
              <a:t>&lt;date/time&gt;</a:t>
            </a:r>
            <a:endParaRPr b="0" lang="en-US" sz="12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B9DB-A563-4712-9DA6-36D02E1870F3}" type="slidenum">
              <a:rPr b="0" lang="es-E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f3f3f"/>
                </a:solidFill>
                <a:latin typeface="Corbel"/>
              </a:rPr>
              <a:t>&lt;date/time&gt;</a:t>
            </a:r>
            <a:endParaRPr b="0" lang="en-US" sz="12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7CFC-FEBD-45F6-9D4C-5AF8DB2D3259}" type="slidenum">
              <a:rPr b="0" lang="es-E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f3f3f"/>
                </a:solidFill>
                <a:latin typeface="Corbel"/>
              </a:rPr>
              <a:t>&lt;date/time&gt;</a:t>
            </a:r>
            <a:endParaRPr b="0" lang="en-US" sz="12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13A4-CE3C-4717-AF1C-CDE3D6DF9C5C}" type="slidenum">
              <a:rPr b="0" lang="es-E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f3f3f"/>
                </a:solidFill>
                <a:latin typeface="Corbel"/>
              </a:rPr>
              <a:t>&lt;date/time&gt;</a:t>
            </a:r>
            <a:endParaRPr b="0" lang="en-US" sz="12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29AC-2492-47E7-8CA2-587E98B9C05D}" type="slidenum">
              <a:rPr b="0" lang="es-ES" sz="1200" spc="-1" strike="noStrike">
                <a:solidFill>
                  <a:srgbClr val="3f3f3f"/>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1" descr=""/>
          <p:cNvPicPr/>
          <p:nvPr/>
        </p:nvPicPr>
        <p:blipFill>
          <a:blip r:embed="rId1"/>
          <a:stretch/>
        </p:blipFill>
        <p:spPr>
          <a:xfrm>
            <a:off x="255600" y="79200"/>
            <a:ext cx="8437680" cy="1335240"/>
          </a:xfrm>
          <a:prstGeom prst="rect">
            <a:avLst/>
          </a:prstGeom>
          <a:ln w="0">
            <a:noFill/>
          </a:ln>
        </p:spPr>
      </p:pic>
      <p:sp>
        <p:nvSpPr>
          <p:cNvPr id="311" name=""/>
          <p:cNvSpPr txBox="1"/>
          <p:nvPr/>
        </p:nvSpPr>
        <p:spPr>
          <a:xfrm>
            <a:off x="428400" y="1857240"/>
            <a:ext cx="8429400" cy="4626000"/>
          </a:xfrm>
          <a:prstGeom prst="rect">
            <a:avLst/>
          </a:prstGeom>
          <a:noFill/>
          <a:ln w="0">
            <a:noFill/>
          </a:ln>
        </p:spPr>
        <p:txBody>
          <a:bodyPr lIns="54720" tIns="91440" anchor="t">
            <a:normAutofit/>
          </a:bodyPr>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rbel"/>
                <a:ea typeface="ＭＳ Ｐゴシック"/>
              </a:rPr>
              <a:t>UGANDA</a:t>
            </a:r>
            <a:endParaRPr b="0" lang="en-US" sz="2400" spc="-1" strike="noStrike">
              <a:solidFill>
                <a:srgbClr val="000000"/>
              </a:solidFill>
              <a:latin typeface="Corbel"/>
            </a:endParaRPr>
          </a:p>
          <a:p>
            <a:pPr marL="82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ea typeface="ＭＳ Ｐゴシック"/>
              </a:rPr>
              <a:t>HDI: 0.422</a:t>
            </a:r>
            <a:endParaRPr b="0" lang="en-US" sz="2000" spc="-1" strike="noStrike">
              <a:solidFill>
                <a:srgbClr val="000000"/>
              </a:solidFill>
              <a:latin typeface="Corbel"/>
            </a:endParaRPr>
          </a:p>
          <a:p>
            <a:pPr marL="82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ea typeface="ＭＳ Ｐゴシック"/>
              </a:rPr>
              <a:t>Rank: 143/169</a:t>
            </a:r>
            <a:endParaRPr b="0" lang="en-US" sz="2000" spc="-1" strike="noStrike">
              <a:solidFill>
                <a:srgbClr val="000000"/>
              </a:solidFill>
              <a:latin typeface="Corbel"/>
            </a:endParaRPr>
          </a:p>
        </p:txBody>
      </p:sp>
      <p:sp>
        <p:nvSpPr>
          <p:cNvPr id="312" name="Oval 7"/>
          <p:cNvSpPr/>
          <p:nvPr/>
        </p:nvSpPr>
        <p:spPr>
          <a:xfrm>
            <a:off x="1500120" y="5072040"/>
            <a:ext cx="285840" cy="285840"/>
          </a:xfrm>
          <a:prstGeom prst="ellipse">
            <a:avLst/>
          </a:prstGeom>
          <a:gradFill rotWithShape="0">
            <a:gsLst>
              <a:gs pos="0">
                <a:srgbClr val="3489a1"/>
              </a:gs>
              <a:gs pos="100000">
                <a:srgbClr val="4bbfde"/>
              </a:gs>
            </a:gsLst>
            <a:lin ang="16200000"/>
          </a:gradFill>
          <a:ln cap="rnd" w="6480">
            <a:solidFill>
              <a:srgbClr val="5bb2ca"/>
            </a:solidFill>
            <a:miter/>
          </a:ln>
          <a:effectLst>
            <a:outerShdw dist="1260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
          <p:cNvSpPr/>
          <p:nvPr/>
        </p:nvSpPr>
        <p:spPr>
          <a:xfrm>
            <a:off x="6072120" y="4929120"/>
            <a:ext cx="285840" cy="285840"/>
          </a:xfrm>
          <a:prstGeom prst="ellipse">
            <a:avLst/>
          </a:prstGeom>
          <a:gradFill rotWithShape="0">
            <a:gsLst>
              <a:gs pos="0">
                <a:srgbClr val="3489a1"/>
              </a:gs>
              <a:gs pos="100000">
                <a:srgbClr val="4bbfde"/>
              </a:gs>
            </a:gsLst>
            <a:lin ang="16200000"/>
          </a:gradFill>
          <a:ln cap="rnd" w="6480">
            <a:solidFill>
              <a:srgbClr val="5bb2ca"/>
            </a:solidFill>
            <a:miter/>
          </a:ln>
          <a:effectLst>
            <a:outerShdw dist="1260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9"/>
          <p:cNvSpPr/>
          <p:nvPr/>
        </p:nvSpPr>
        <p:spPr>
          <a:xfrm>
            <a:off x="6262560" y="4857840"/>
            <a:ext cx="268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Location of EBO SACCO</a:t>
            </a:r>
            <a:endParaRPr b="0" lang="en-US" sz="1800" spc="-1" strike="noStrike">
              <a:solidFill>
                <a:srgbClr val="000000"/>
              </a:solidFill>
              <a:latin typeface="Arial"/>
            </a:endParaRPr>
          </a:p>
        </p:txBody>
      </p:sp>
      <p:sp>
        <p:nvSpPr>
          <p:cNvPr id="315" name="TextBox 12"/>
          <p:cNvSpPr/>
          <p:nvPr/>
        </p:nvSpPr>
        <p:spPr>
          <a:xfrm>
            <a:off x="6215040" y="2857680"/>
            <a:ext cx="2357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HDI  0.44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RANK 143/1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opulation - 34Mill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14"/>
          <p:cNvSpPr/>
          <p:nvPr/>
        </p:nvSpPr>
        <p:spPr>
          <a:xfrm>
            <a:off x="1643040" y="5000760"/>
            <a:ext cx="285840" cy="285480"/>
          </a:xfrm>
          <a:prstGeom prst="ellipse">
            <a:avLst/>
          </a:prstGeom>
          <a:gradFill rotWithShape="0">
            <a:gsLst>
              <a:gs pos="0">
                <a:srgbClr val="3489a1"/>
              </a:gs>
              <a:gs pos="100000">
                <a:srgbClr val="4bbfde"/>
              </a:gs>
            </a:gsLst>
            <a:lin ang="16200000"/>
          </a:gradFill>
          <a:ln cap="rnd" w="6480">
            <a:solidFill>
              <a:srgbClr val="5bb2ca"/>
            </a:solidFill>
            <a:miter/>
          </a:ln>
          <a:effectLst>
            <a:outerShdw dist="1260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20"/>
          <p:cNvGrpSpPr/>
          <p:nvPr/>
        </p:nvGrpSpPr>
        <p:grpSpPr>
          <a:xfrm>
            <a:off x="571680" y="1679400"/>
            <a:ext cx="5357520" cy="4964400"/>
            <a:chOff x="571680" y="1679400"/>
            <a:chExt cx="5357520" cy="4964400"/>
          </a:xfrm>
        </p:grpSpPr>
        <p:pic>
          <p:nvPicPr>
            <p:cNvPr id="318" name="Picture 1" descr="329103ug-map"/>
            <p:cNvPicPr/>
            <p:nvPr/>
          </p:nvPicPr>
          <p:blipFill>
            <a:blip r:embed="rId2"/>
            <a:stretch/>
          </p:blipFill>
          <p:spPr>
            <a:xfrm>
              <a:off x="571680" y="1679400"/>
              <a:ext cx="5357520" cy="4964400"/>
            </a:xfrm>
            <a:prstGeom prst="rect">
              <a:avLst/>
            </a:prstGeom>
            <a:ln w="0">
              <a:noFill/>
            </a:ln>
          </p:spPr>
        </p:pic>
        <p:sp>
          <p:nvSpPr>
            <p:cNvPr id="319" name="Oval 19"/>
            <p:cNvSpPr/>
            <p:nvPr/>
          </p:nvSpPr>
          <p:spPr>
            <a:xfrm>
              <a:off x="1762200" y="5400000"/>
              <a:ext cx="275760" cy="313560"/>
            </a:xfrm>
            <a:prstGeom prst="ellipse">
              <a:avLst/>
            </a:prstGeom>
            <a:gradFill rotWithShape="0">
              <a:gsLst>
                <a:gs pos="0">
                  <a:srgbClr val="3489a1"/>
                </a:gs>
                <a:gs pos="100000">
                  <a:srgbClr val="4bbfde"/>
                </a:gs>
              </a:gsLst>
              <a:lin ang="16200000"/>
            </a:gradFill>
            <a:ln cap="rnd" w="6480">
              <a:solidFill>
                <a:srgbClr val="5bb2ca"/>
              </a:solidFill>
              <a:miter/>
            </a:ln>
            <a:effectLst>
              <a:outerShdw dist="1260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fontScale="92000"/>
          </a:bodyPr>
          <a:p>
            <a:pPr marL="72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The initiative was developed through participatory step by step process to come to agreement on the intervention design with the partners of the program.</a:t>
            </a:r>
            <a:endParaRPr b="0" lang="en-US" sz="3200" spc="-1" strike="noStrike">
              <a:solidFill>
                <a:srgbClr val="000000"/>
              </a:solidFill>
              <a:latin typeface="Corbel"/>
            </a:endParaRPr>
          </a:p>
          <a:p>
            <a:pPr marL="72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MBADIFA(district farmers association) is designated to support farmers in developing remunerative agricultural enterprises in enhancing food security.</a:t>
            </a:r>
            <a:endParaRPr b="0" lang="en-US" sz="3200" spc="-1" strike="noStrike">
              <a:solidFill>
                <a:srgbClr val="000000"/>
              </a:solidFill>
              <a:latin typeface="Corbel"/>
            </a:endParaRPr>
          </a:p>
          <a:p>
            <a:pPr marL="727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EBO’s role in the program design is to provide farmer friendly  savings and loans services .</a:t>
            </a:r>
            <a:endParaRPr b="0" lang="en-US" sz="3200" spc="-1" strike="noStrike">
              <a:solidFill>
                <a:srgbClr val="000000"/>
              </a:solidFill>
              <a:latin typeface="Corbel"/>
            </a:endParaRPr>
          </a:p>
          <a:p>
            <a:pPr marL="72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ias Uganda is a like minded investor whose role is to provide local partners with financial, technical and institutional development and strengthen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tter Agribusiness financial skill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ssion focu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hanced outreach efficienc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munerative marke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mers exchange and exposure visi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mproved utilization of sacco financial services and improved farm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n- financial services to membe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189000" y="152280"/>
            <a:ext cx="8504280" cy="1262160"/>
          </a:xfrm>
          <a:prstGeom prst="rect">
            <a:avLst/>
          </a:prstGeom>
          <a:ln w="0">
            <a:noFill/>
          </a:ln>
        </p:spPr>
      </p:pic>
      <p:sp>
        <p:nvSpPr>
          <p:cNvPr id="35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duced on entrenched widespread poverty, diseases and illiterac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re than one million people’s livelihoods have been improved through saving investments increased household income and food securit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219240" y="-6480"/>
            <a:ext cx="8662680" cy="1427400"/>
          </a:xfrm>
          <a:prstGeom prst="rect">
            <a:avLst/>
          </a:prstGeom>
          <a:ln w="0">
            <a:noFill/>
          </a:ln>
        </p:spPr>
      </p:pic>
      <p:sp>
        <p:nvSpPr>
          <p:cNvPr id="358"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ypically ,its members are farmers,has 30 group members(18 males and 12 females)</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group received various trainings as result of programme intervention.</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ll group members have atleast an activity that generates income per week.</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y grow crops for both commercial and consumption purposes(Banana plantation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189000" y="152280"/>
            <a:ext cx="8504280" cy="1262160"/>
          </a:xfrm>
          <a:prstGeom prst="rect">
            <a:avLst/>
          </a:prstGeom>
          <a:ln w="0">
            <a:noFill/>
          </a:ln>
        </p:spPr>
      </p:pic>
      <p:sp>
        <p:nvSpPr>
          <p:cNvPr id="36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ll members with school going children are able borrow from EBO or mobilize from their savings and send their children to school without defaulting as it used to be befor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ibuted to the economic well being of the members in the area.</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189000" y="152280"/>
            <a:ext cx="8504280" cy="1262160"/>
          </a:xfrm>
          <a:prstGeom prst="rect">
            <a:avLst/>
          </a:prstGeom>
          <a:ln w="0">
            <a:noFill/>
          </a:ln>
        </p:spPr>
      </p:pic>
      <p:sp>
        <p:nvSpPr>
          <p:cNvPr id="36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rmonization and collabor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oint planning and training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oint follow up and monitor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THANKS FOR YOUR ATTEN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66600"/>
            <a:ext cx="8474040" cy="866880"/>
          </a:xfrm>
          <a:prstGeom prst="rect">
            <a:avLst/>
          </a:prstGeom>
          <a:ln w="0">
            <a:noFill/>
          </a:ln>
        </p:spPr>
      </p:pic>
      <p:sp>
        <p:nvSpPr>
          <p:cNvPr id="321" name=""/>
          <p:cNvSpPr txBox="1"/>
          <p:nvPr/>
        </p:nvSpPr>
        <p:spPr>
          <a:xfrm>
            <a:off x="457200" y="1499760"/>
            <a:ext cx="8229600" cy="490068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Founded in 1995 and legally registered in 2002</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Vision: “To become a financially sustainable Sacco serving a prosperous enterprising membership in a rural setting”</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Mission: To provide sustainable quality financial services that promote improved livelihoods of the rural and peri-urban active poor members.</a:t>
            </a:r>
            <a:endParaRPr b="0" lang="en-US" sz="32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ea typeface="ＭＳ Ｐゴシック"/>
              </a:rPr>
              <a:t>Farmer focused Sacco(MBO)</a:t>
            </a:r>
            <a:endParaRPr b="0" lang="en-US" sz="32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2" descr=""/>
          <p:cNvPicPr/>
          <p:nvPr/>
        </p:nvPicPr>
        <p:blipFill>
          <a:blip r:embed="rId1"/>
          <a:stretch/>
        </p:blipFill>
        <p:spPr>
          <a:xfrm>
            <a:off x="189000" y="152280"/>
            <a:ext cx="8821800" cy="1262160"/>
          </a:xfrm>
          <a:prstGeom prst="rect">
            <a:avLst/>
          </a:prstGeom>
          <a:ln w="0">
            <a:noFill/>
          </a:ln>
        </p:spPr>
      </p:pic>
      <p:sp>
        <p:nvSpPr>
          <p:cNvPr id="323" name=""/>
          <p:cNvSpPr txBox="1"/>
          <p:nvPr/>
        </p:nvSpPr>
        <p:spPr>
          <a:xfrm>
            <a:off x="0" y="1499760"/>
            <a:ext cx="9144000" cy="4900680"/>
          </a:xfrm>
          <a:prstGeom prst="rect">
            <a:avLst/>
          </a:prstGeom>
          <a:noFill/>
          <a:ln w="0">
            <a:noFill/>
          </a:ln>
        </p:spPr>
        <p:txBody>
          <a:bodyPr lIns="54720" tIns="91440" anchor="t">
            <a:normAutofit/>
          </a:bodyPr>
          <a:p>
            <a:pPr marL="79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a:p>
            <a:pPr marL="792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ea typeface="ＭＳ Ｐゴシック"/>
              </a:rPr>
              <a:t> </a:t>
            </a:r>
            <a:r>
              <a:rPr b="0" lang="en-US" sz="4400" spc="-1" strike="noStrike">
                <a:solidFill>
                  <a:srgbClr val="000000"/>
                </a:solidFill>
                <a:latin typeface="Corbel"/>
                <a:ea typeface="ＭＳ Ｐゴシック"/>
              </a:rPr>
              <a:t>Geographic coverage:  Started in the core district of Mbarara </a:t>
            </a:r>
            <a:endParaRPr b="0" lang="en-US" sz="4400" spc="-1" strike="noStrike">
              <a:solidFill>
                <a:srgbClr val="000000"/>
              </a:solidFill>
              <a:latin typeface="Corbel"/>
            </a:endParaRPr>
          </a:p>
          <a:p>
            <a:pPr marL="792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ea typeface="ＭＳ Ｐゴシック"/>
              </a:rPr>
              <a:t>Spreading to other 4 neighboring district</a:t>
            </a:r>
            <a:endParaRPr b="0" lang="en-US" sz="4400" spc="-1" strike="noStrike">
              <a:solidFill>
                <a:srgbClr val="000000"/>
              </a:solidFill>
              <a:latin typeface="Corbel"/>
            </a:endParaRPr>
          </a:p>
          <a:p>
            <a:pPr marL="792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ea typeface="ＭＳ Ｐゴシック"/>
              </a:rPr>
              <a:t>Four branches</a:t>
            </a:r>
            <a:endParaRPr b="0" lang="en-US" sz="4400" spc="-1" strike="noStrike">
              <a:solidFill>
                <a:srgbClr val="000000"/>
              </a:solidFill>
              <a:latin typeface="Corbel"/>
            </a:endParaRPr>
          </a:p>
          <a:p>
            <a:pPr marL="792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ea typeface="ＭＳ Ｐゴシック"/>
              </a:rPr>
              <a:t>Agriculture main activity.</a:t>
            </a:r>
            <a:endParaRPr b="0" lang="en-US" sz="4400" spc="-1" strike="noStrike">
              <a:solidFill>
                <a:srgbClr val="000000"/>
              </a:solidFill>
              <a:latin typeface="Corbel"/>
            </a:endParaRPr>
          </a:p>
          <a:p>
            <a:pPr marL="792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ists when all people, at all times ,have physical and economic access to sufficient, safe and nutritious food that meets their dietary needs and food preferences for an active and healthy life.</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s a fin. Coop we developed and implements financial products and services  that promote increased food and income security at household level.</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6480"/>
            <a:ext cx="8474040" cy="142740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vision of financial services(savings and loa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versified product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avings: Ordinary, compulsory, minor accounts, collection accounts, money transfer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oans: Banana improvement, general agriculture, livestock, commercial, school fees, emergency</a:t>
            </a:r>
            <a:endParaRPr b="0" lang="en-US" sz="2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298440" y="152280"/>
            <a:ext cx="839484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cial goals and objectives</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ffer services to the rural &amp; peri-urban active poor members</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ffer sustainable quality financial services that meet the needs of our clients(product review and development,train &amp; sensitise clients in fin.literacy)</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romote improved livelihoods of our clients(clients graduating from living below 2$ per day,children attending school,increased sav. </a:t>
            </a:r>
            <a:endParaRPr b="0" lang="en-US" sz="28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89000" y="152280"/>
            <a:ext cx="8504280" cy="126216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pansion and outreach</a:t>
            </a:r>
            <a:endParaRPr b="0" lang="en-US" sz="32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nhanced outreach effective savings mobolisation</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mproved financial products &amp; better agribusiness financial skills</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mall householder farm have increased access to and participate in remunerative markets</a:t>
            </a:r>
            <a:endParaRPr b="0" lang="en-US" sz="28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mall holder farmers not reached by commercial bank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mall holder farm house holds have increased investment in their farming busines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BO &amp; MBADIFA  provides appropriate products and services to an increased clientele on a sustainable basi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mallholder farmers have adopted practices of ensuring good and balanced nutrition throughout the yea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1"/>
          <p:cNvSpPr/>
          <p:nvPr/>
        </p:nvSpPr>
        <p:spPr>
          <a:xfrm>
            <a:off x="857160" y="2214720"/>
            <a:ext cx="2357640" cy="2357280"/>
          </a:xfrm>
          <a:prstGeom prst="ellipse">
            <a:avLst/>
          </a:prstGeom>
          <a:gradFill rotWithShape="0">
            <a:gsLst>
              <a:gs pos="0">
                <a:srgbClr val="ffde7f"/>
              </a:gs>
              <a:gs pos="100000">
                <a:srgbClr val="fff5da"/>
              </a:gs>
            </a:gsLst>
            <a:lin ang="16200000"/>
          </a:gradFill>
          <a:ln cap="rnd" w="6480">
            <a:solidFill>
              <a:srgbClr val="f0ac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BO SACCO (MBO)</a:t>
            </a:r>
            <a:endParaRPr b="0" lang="en-US" sz="1800" spc="-1" strike="noStrike">
              <a:solidFill>
                <a:srgbClr val="000000"/>
              </a:solidFill>
              <a:latin typeface="Arial"/>
            </a:endParaRPr>
          </a:p>
        </p:txBody>
      </p:sp>
      <p:grpSp>
        <p:nvGrpSpPr>
          <p:cNvPr id="335" name="Group 50"/>
          <p:cNvGrpSpPr/>
          <p:nvPr/>
        </p:nvGrpSpPr>
        <p:grpSpPr>
          <a:xfrm>
            <a:off x="285840" y="357120"/>
            <a:ext cx="8643960" cy="5919840"/>
            <a:chOff x="285840" y="357120"/>
            <a:chExt cx="8643960" cy="5919840"/>
          </a:xfrm>
        </p:grpSpPr>
        <p:sp>
          <p:nvSpPr>
            <p:cNvPr id="336" name="Oval 2"/>
            <p:cNvSpPr/>
            <p:nvPr/>
          </p:nvSpPr>
          <p:spPr>
            <a:xfrm>
              <a:off x="6072480" y="2143080"/>
              <a:ext cx="2357280" cy="2357280"/>
            </a:xfrm>
            <a:prstGeom prst="ellipse">
              <a:avLst/>
            </a:prstGeom>
            <a:gradFill rotWithShape="0">
              <a:gsLst>
                <a:gs pos="0">
                  <a:srgbClr val="ff9ca9"/>
                </a:gs>
                <a:gs pos="100000">
                  <a:srgbClr val="ffe2e5"/>
                </a:gs>
              </a:gsLst>
              <a:lin ang="16200000"/>
            </a:gradFill>
            <a:ln cap="rnd" w="6480">
              <a:solidFill>
                <a:srgbClr val="e46678"/>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FA (MB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AED APPROACH</a:t>
              </a:r>
              <a:endParaRPr b="0" lang="en-US" sz="1800" spc="-1" strike="noStrike">
                <a:solidFill>
                  <a:srgbClr val="000000"/>
                </a:solidFill>
                <a:latin typeface="Arial"/>
              </a:endParaRPr>
            </a:p>
          </p:txBody>
        </p:sp>
        <p:sp>
          <p:nvSpPr>
            <p:cNvPr id="337" name="Rounded Rectangle 3"/>
            <p:cNvSpPr/>
            <p:nvPr/>
          </p:nvSpPr>
          <p:spPr>
            <a:xfrm>
              <a:off x="3643200" y="785520"/>
              <a:ext cx="2000160" cy="857160"/>
            </a:xfrm>
            <a:prstGeom prst="roundRect">
              <a:avLst>
                <a:gd name="adj" fmla="val 16667"/>
              </a:avLst>
            </a:prstGeom>
            <a:solidFill>
              <a:srgbClr val="6bb76d"/>
            </a:solidFill>
            <a:ln w="47880">
              <a:solidFill>
                <a:srgbClr val="4d86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RIAS UGANDA &amp; OTHER PARTNERS</a:t>
              </a:r>
              <a:endParaRPr b="0" lang="en-US" sz="1800" spc="-1" strike="noStrike">
                <a:solidFill>
                  <a:srgbClr val="000000"/>
                </a:solidFill>
                <a:latin typeface="Arial"/>
              </a:endParaRPr>
            </a:p>
          </p:txBody>
        </p:sp>
        <p:sp>
          <p:nvSpPr>
            <p:cNvPr id="338" name="Right Arrow 25"/>
            <p:cNvSpPr/>
            <p:nvPr/>
          </p:nvSpPr>
          <p:spPr>
            <a:xfrm rot="17200200">
              <a:off x="5916600" y="4568760"/>
              <a:ext cx="1425600" cy="485640"/>
            </a:xfrm>
            <a:prstGeom prst="rightArrow">
              <a:avLst>
                <a:gd name="adj1" fmla="val 50000"/>
                <a:gd name="adj2" fmla="val 50012"/>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ight Arrow 26"/>
            <p:cNvSpPr/>
            <p:nvPr/>
          </p:nvSpPr>
          <p:spPr>
            <a:xfrm rot="15275400">
              <a:off x="1866600" y="4557600"/>
              <a:ext cx="1425600" cy="485640"/>
            </a:xfrm>
            <a:prstGeom prst="rightArrow">
              <a:avLst>
                <a:gd name="adj1" fmla="val 50000"/>
                <a:gd name="adj2" fmla="val 50012"/>
              </a:avLst>
            </a:prstGeom>
            <a:solidFill>
              <a:srgbClr val="f0ad00"/>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27"/>
            <p:cNvSpPr/>
            <p:nvPr/>
          </p:nvSpPr>
          <p:spPr>
            <a:xfrm flipV="1" rot="10800000">
              <a:off x="1356840" y="5214960"/>
              <a:ext cx="6072120" cy="1062000"/>
            </a:xfrm>
            <a:prstGeom prst="ellipse">
              <a:avLst/>
            </a:prstGeom>
            <a:gradFill rotWithShape="0">
              <a:gsLst>
                <a:gs pos="0">
                  <a:srgbClr val="b0f6b1"/>
                </a:gs>
                <a:gs pos="100000">
                  <a:srgbClr val="e9fde9"/>
                </a:gs>
              </a:gsLst>
              <a:lin ang="5400000"/>
            </a:gradFill>
            <a:ln cap="rnd" w="6480">
              <a:solidFill>
                <a:srgbClr val="67b569"/>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FARMER GROUPS</a:t>
              </a:r>
              <a:endParaRPr b="0" lang="en-US" sz="1800" spc="-1" strike="noStrike">
                <a:solidFill>
                  <a:srgbClr val="000000"/>
                </a:solidFill>
                <a:latin typeface="Arial"/>
              </a:endParaRPr>
            </a:p>
          </p:txBody>
        </p:sp>
        <p:sp>
          <p:nvSpPr>
            <p:cNvPr id="341" name="Left-Right Arrow 28"/>
            <p:cNvSpPr/>
            <p:nvPr/>
          </p:nvSpPr>
          <p:spPr>
            <a:xfrm>
              <a:off x="3214800" y="2714400"/>
              <a:ext cx="2857320" cy="1143000"/>
            </a:xfrm>
            <a:prstGeom prst="leftRightArrow">
              <a:avLst>
                <a:gd name="adj1" fmla="val 50000"/>
                <a:gd name="adj2" fmla="val 49765"/>
              </a:avLst>
            </a:prstGeom>
            <a:solidFill>
              <a:srgbClr val="ffffff"/>
            </a:solidFill>
            <a:ln w="478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UTUAL COLLABORATION</a:t>
              </a:r>
              <a:endParaRPr b="0" lang="en-US" sz="1800" spc="-1" strike="noStrike">
                <a:solidFill>
                  <a:srgbClr val="000000"/>
                </a:solidFill>
                <a:latin typeface="Arial"/>
              </a:endParaRPr>
            </a:p>
          </p:txBody>
        </p:sp>
        <p:cxnSp>
          <p:nvCxnSpPr>
            <p:cNvPr id="342" name="Straight Arrow Connector 32"/>
            <p:cNvCxnSpPr/>
            <p:nvPr/>
          </p:nvCxnSpPr>
          <p:spPr>
            <a:xfrm flipH="1">
              <a:off x="2714040" y="1570320"/>
              <a:ext cx="929160" cy="857880"/>
            </a:xfrm>
            <a:prstGeom prst="straightConnector1">
              <a:avLst/>
            </a:prstGeom>
            <a:ln w="47880">
              <a:solidFill>
                <a:srgbClr val="000000"/>
              </a:solidFill>
              <a:miter/>
              <a:tailEnd len="med" type="arrow" w="med"/>
            </a:ln>
          </p:spPr>
        </p:cxnSp>
        <p:cxnSp>
          <p:nvCxnSpPr>
            <p:cNvPr id="343" name="Straight Arrow Connector 33"/>
            <p:cNvCxnSpPr/>
            <p:nvPr/>
          </p:nvCxnSpPr>
          <p:spPr>
            <a:xfrm>
              <a:off x="5500800" y="1499760"/>
              <a:ext cx="786240" cy="1143720"/>
            </a:xfrm>
            <a:prstGeom prst="straightConnector1">
              <a:avLst/>
            </a:prstGeom>
            <a:ln w="47880">
              <a:solidFill>
                <a:srgbClr val="000000"/>
              </a:solidFill>
              <a:miter/>
              <a:tailEnd len="med" type="arrow" w="med"/>
            </a:ln>
          </p:spPr>
        </p:cxnSp>
        <p:sp>
          <p:nvSpPr>
            <p:cNvPr id="344" name="TextBox 39"/>
            <p:cNvSpPr/>
            <p:nvPr/>
          </p:nvSpPr>
          <p:spPr>
            <a:xfrm>
              <a:off x="6000840" y="150012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D/INSTITUTIONAL STRENGTHENING</a:t>
              </a:r>
              <a:endParaRPr b="0" lang="en-US" sz="1800" spc="-1" strike="noStrike">
                <a:solidFill>
                  <a:srgbClr val="000000"/>
                </a:solidFill>
                <a:latin typeface="Arial"/>
              </a:endParaRPr>
            </a:p>
          </p:txBody>
        </p:sp>
        <p:sp>
          <p:nvSpPr>
            <p:cNvPr id="345" name="TextBox 40"/>
            <p:cNvSpPr/>
            <p:nvPr/>
          </p:nvSpPr>
          <p:spPr>
            <a:xfrm>
              <a:off x="857160" y="157140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D/INSTITUTIONAL STRENGTHENING</a:t>
              </a:r>
              <a:endParaRPr b="0" lang="en-US" sz="1800" spc="-1" strike="noStrike">
                <a:solidFill>
                  <a:srgbClr val="000000"/>
                </a:solidFill>
                <a:latin typeface="Arial"/>
              </a:endParaRPr>
            </a:p>
          </p:txBody>
        </p:sp>
        <p:sp>
          <p:nvSpPr>
            <p:cNvPr id="346" name="Oval 41"/>
            <p:cNvSpPr/>
            <p:nvPr/>
          </p:nvSpPr>
          <p:spPr>
            <a:xfrm>
              <a:off x="285840" y="357120"/>
              <a:ext cx="1357200" cy="1000080"/>
            </a:xfrm>
            <a:prstGeom prst="ellipse">
              <a:avLst/>
            </a:prstGeom>
            <a:gradFill rotWithShape="0">
              <a:gsLst>
                <a:gs pos="0">
                  <a:srgbClr val="ffde7f"/>
                </a:gs>
                <a:gs pos="100000">
                  <a:srgbClr val="fff5da"/>
                </a:gs>
              </a:gsLst>
              <a:lin ang="16200000"/>
            </a:gradFill>
            <a:ln cap="rnd" w="6480">
              <a:solidFill>
                <a:srgbClr val="f0ac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OTHER MFIs</a:t>
              </a:r>
              <a:endParaRPr b="0" lang="en-US" sz="1800" spc="-1" strike="noStrike">
                <a:solidFill>
                  <a:srgbClr val="000000"/>
                </a:solidFill>
                <a:latin typeface="Arial"/>
              </a:endParaRPr>
            </a:p>
          </p:txBody>
        </p:sp>
        <p:cxnSp>
          <p:nvCxnSpPr>
            <p:cNvPr id="347" name="Straight Arrow Connector 43"/>
            <p:cNvCxnSpPr>
              <a:endCxn id="346" idx="6"/>
            </p:cNvCxnSpPr>
            <p:nvPr/>
          </p:nvCxnSpPr>
          <p:spPr>
            <a:xfrm flipH="1" flipV="1">
              <a:off x="1642680" y="856800"/>
              <a:ext cx="2000880" cy="2160"/>
            </a:xfrm>
            <a:prstGeom prst="straightConnector1">
              <a:avLst/>
            </a:prstGeom>
            <a:ln w="47880">
              <a:solidFill>
                <a:srgbClr val="000000"/>
              </a:solidFill>
              <a:miter/>
              <a:tailEnd len="med" type="arrow" w="med"/>
            </a:ln>
          </p:spPr>
        </p:cxnSp>
        <p:sp>
          <p:nvSpPr>
            <p:cNvPr id="348" name="Arc 47"/>
            <p:cNvSpPr/>
            <p:nvPr/>
          </p:nvSpPr>
          <p:spPr>
            <a:xfrm rot="10498800">
              <a:off x="510480" y="913680"/>
              <a:ext cx="1385640" cy="1936800"/>
            </a:xfrm>
            <a:prstGeom prst="pie">
              <a:avLst/>
            </a:prstGeom>
            <a:noFill/>
            <a:ln w="478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5:33:18Z</dcterms:created>
  <dc:creator>Bernard Ornilla</dc:creator>
  <dc:description/>
  <dc:language>en-US</dc:language>
  <cp:lastModifiedBy>GODWIN</cp:lastModifiedBy>
  <dcterms:modified xsi:type="dcterms:W3CDTF">2012-11-09T09:56:58Z</dcterms:modified>
  <cp:revision>69</cp:revision>
  <dc:subject/>
  <dc:title>Slide 1</dc:title>
</cp:coreProperties>
</file>