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A81-B8C1-44ED-B1D6-90E1AD21E7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4088-7167-4F79-9A32-E6D4CC8623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2B5-6E54-4EF6-B063-D297120577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72C3-EB04-43FB-BAD3-DFEEC78CC5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23E2-72D6-42B7-9084-812648D837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097-C637-4215-960C-D9D59710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333-7751-4038-AAF3-D1627EB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96B-D123-435E-9907-A5511812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E39-222E-446A-BB47-4419732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65C-20F4-4A07-950F-3840A2C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B86-C922-46DD-9A9B-51AB3DF2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362-B7FA-4401-A32B-5D6FD63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E01-F382-4AD0-B290-F141A2D9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128-AFE5-48B5-A09D-77EE34D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777-D836-4B28-8D2D-0989153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D65-7391-4A6E-A8CD-BEEAC72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60D-79B1-42EE-9468-6624481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AD94-E7C5-4069-9A8C-A5F5BD0B931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édition 201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8E0-2DFA-4E4C-88A2-5CB163F18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5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jpe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2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LOGO 2011 with texte ENG.jpg"/>
          <p:cNvPicPr/>
          <p:nvPr/>
        </p:nvPicPr>
        <p:blipFill>
          <a:blip r:embed="rId1"/>
          <a:stretch/>
        </p:blipFill>
        <p:spPr>
          <a:xfrm>
            <a:off x="3564000" y="4437000"/>
            <a:ext cx="4753080" cy="7603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5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2824200" y="1125360"/>
            <a:ext cx="66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7030a0"/>
                </a:solidFill>
                <a:latin typeface="Calibri"/>
              </a:rPr>
              <a:t>THE PARIS APPEAL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FOR RESPONSIBLE  MICROFIN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7030a0"/>
                </a:solidFill>
                <a:latin typeface="Calibri"/>
              </a:rPr>
              <a:t>CAMPAIG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2124000" y="5634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EUROPEAN MICROFINANCE WEEK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NOVEMBER 3rd, 2011, LUXEMBOU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2" descr=""/>
          <p:cNvPicPr/>
          <p:nvPr/>
        </p:nvPicPr>
        <p:blipFill>
          <a:blip r:embed="rId6"/>
          <a:stretch/>
        </p:blipFill>
        <p:spPr>
          <a:xfrm>
            <a:off x="457200" y="1187280"/>
            <a:ext cx="2962440" cy="42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3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1"/>
          <p:cNvSpPr/>
          <p:nvPr/>
        </p:nvSpPr>
        <p:spPr>
          <a:xfrm>
            <a:off x="2000160" y="1071720"/>
            <a:ext cx="671508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57888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that microfinance institutions must pursue a long-term double objectiv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ancial viability and social impa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by offering products and servic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apted to the po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by leading a policy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est ra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by complying to the highest standards of information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ent prote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The compliance of policies and practices must b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rtified by recognized social performance indicat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4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4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11"/>
          <p:cNvSpPr/>
          <p:nvPr/>
        </p:nvSpPr>
        <p:spPr>
          <a:xfrm>
            <a:off x="2000160" y="1071720"/>
            <a:ext cx="6715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888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ind of the importanc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lid governan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dapt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udential ru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fficient reporting and control syste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uch rules and practices must be given an efficient and objective supervision and notation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:\03. ACTED MF\Photos\Gwenn Dubourthoumieu RDC 2007\Watsan_Construction de latrines_Lulimba.jpg"/>
          <p:cNvPicPr/>
          <p:nvPr/>
        </p:nvPicPr>
        <p:blipFill>
          <a:blip r:embed="rId4"/>
          <a:stretch/>
        </p:blipFill>
        <p:spPr>
          <a:xfrm>
            <a:off x="5357880" y="4286160"/>
            <a:ext cx="3554280" cy="2370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7" name="ZoneTexte 7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5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53" name="ZoneTexte 11"/>
          <p:cNvSpPr/>
          <p:nvPr/>
        </p:nvSpPr>
        <p:spPr>
          <a:xfrm>
            <a:off x="2000160" y="1071720"/>
            <a:ext cx="6715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888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 on to microfinance institutions, their national and regional associations, and regulation authorities,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atically apply the principles and rules established by the industr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just and prevent the sector’s mission drifts, and to prevent and complete them with regulations adapted to the context in each coun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4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5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11"/>
          <p:cNvSpPr/>
          <p:nvPr/>
        </p:nvSpPr>
        <p:spPr>
          <a:xfrm>
            <a:off x="2000160" y="1071720"/>
            <a:ext cx="671508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888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ourag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o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in microfinance to subscribe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Code of conduct serving the long term interes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MFIs they support, allowing them to strengthen financial viability and to reach their social objecti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V:\03. ACTED MF\Photos\Gwenn Dubourthoumieu RDC 2007\Haute définition\Autres\Watsan_Borne fontaine_Baraka_2.JPG"/>
          <p:cNvPicPr/>
          <p:nvPr/>
        </p:nvPicPr>
        <p:blipFill>
          <a:blip r:embed="rId4"/>
          <a:stretch/>
        </p:blipFill>
        <p:spPr>
          <a:xfrm>
            <a:off x="5214960" y="4000680"/>
            <a:ext cx="3571920" cy="25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ZoneTexte 7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11"/>
          <p:cNvSpPr/>
          <p:nvPr/>
        </p:nvSpPr>
        <p:spPr>
          <a:xfrm>
            <a:off x="2000160" y="1071720"/>
            <a:ext cx="6715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888"/>
                </a:solidFill>
                <a:latin typeface="Calibri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ourag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niversiti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ale up cooperation with MFIs to conduct impact studies and disseminate best pract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oneTexte 6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4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11"/>
          <p:cNvSpPr/>
          <p:nvPr/>
        </p:nvSpPr>
        <p:spPr>
          <a:xfrm>
            <a:off x="2000160" y="1071720"/>
            <a:ext cx="671508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030a0"/>
                </a:solidFill>
                <a:latin typeface="Calibri"/>
              </a:rPr>
              <a:t>The signatori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888"/>
                </a:solidFill>
                <a:latin typeface="Calibri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 on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private founda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uphold their microfinance commitments, to encourag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novation and diversific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support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 cli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o focus programs on geographical regions, particular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ectors such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ricul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products and services such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ro-insurance and credit for the poor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ere the needs are manife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V:\03. ACTED MF\Photos\Gwenn Dubourthoumieu RDC 2007\AGR - Micro Crédit\AGR-Micro Credit_Remboursements Micro Crédit_Groupement Maitaji (Besoin)_Kala_2.JPG"/>
          <p:cNvPicPr/>
          <p:nvPr/>
        </p:nvPicPr>
        <p:blipFill>
          <a:blip r:embed="rId4"/>
          <a:srcRect l="25222" t="0" r="0" b="16764"/>
          <a:stretch/>
        </p:blipFill>
        <p:spPr>
          <a:xfrm>
            <a:off x="5786280" y="4357800"/>
            <a:ext cx="317664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7" name="ZoneTexte 7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8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83" name="ZoneTexte 11"/>
          <p:cNvSpPr/>
          <p:nvPr/>
        </p:nvSpPr>
        <p:spPr>
          <a:xfrm>
            <a:off x="1785960" y="785880"/>
            <a:ext cx="71438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breathe life into this fundamental basis of rules and regulations, in the respect of the diversity of microfinance, the signatories are launching an appeal for the organization of a ‘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General Assembly for Responsible Microfin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under the aegis of an Organization Committee mandated by the G-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 few steps towards the G-20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1, the </a:t>
            </a:r>
            <a:r>
              <a:rPr b="0" lang="en-US" sz="1800" spc="-1" strike="noStrike">
                <a:solidFill>
                  <a:srgbClr val="357888"/>
                </a:solidFill>
                <a:latin typeface="Calibri"/>
              </a:rPr>
              <a:t>G20 Microfinan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aris (Fr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mber 2011, the </a:t>
            </a:r>
            <a:r>
              <a:rPr b="0" lang="en-US" sz="1800" spc="-1" strike="noStrike">
                <a:solidFill>
                  <a:srgbClr val="357888"/>
                </a:solidFill>
                <a:latin typeface="Calibri"/>
              </a:rPr>
              <a:t>European Microfinance Wee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Luxembou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mber 2011, the </a:t>
            </a:r>
            <a:r>
              <a:rPr b="0" lang="en-US" sz="1800" spc="-1" strike="noStrike">
                <a:solidFill>
                  <a:srgbClr val="357888"/>
                </a:solidFill>
                <a:latin typeface="Calibri"/>
              </a:rPr>
              <a:t>Global Microcredit Summ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Valladolid (Spa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mber 2011, the </a:t>
            </a:r>
            <a:r>
              <a:rPr b="0" lang="en-US" sz="1800" spc="-1" strike="noStrike">
                <a:solidFill>
                  <a:srgbClr val="357888"/>
                </a:solidFill>
                <a:latin typeface="Calibri"/>
              </a:rPr>
              <a:t>G20 Cann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r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6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9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ZoneTexte 11"/>
          <p:cNvSpPr/>
          <p:nvPr/>
        </p:nvSpPr>
        <p:spPr>
          <a:xfrm>
            <a:off x="2000160" y="50004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hey have already signed the Paris Appea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859c"/>
                </a:solidFill>
                <a:latin typeface="Calibri"/>
              </a:rPr>
              <a:t>More than 400 beneficiaries, regulators, investors and operators have already responded positively and an increasing number of individuals and organizations are expressing their suppor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Including public fig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Gérard Andreck, the Grand Duchess of Luxembourg, Anne Hidalgo, Natalie Portman, Jean-Michel Severino, Jean-Michel Servet, Chuck Waterfield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6"/>
          <p:cNvSpPr/>
          <p:nvPr/>
        </p:nvSpPr>
        <p:spPr>
          <a:xfrm>
            <a:off x="2000160" y="407196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1859c"/>
                </a:solidFill>
                <a:latin typeface="Calibri"/>
              </a:rPr>
              <a:t>And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All Mécén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Crédit Coopérat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Crédit municipal de 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e-MF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Entrepreneurs du Mo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ESG Microfi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European Microfinance Plat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7"/>
          <p:cNvSpPr/>
          <p:nvPr/>
        </p:nvSpPr>
        <p:spPr>
          <a:xfrm>
            <a:off x="5364000" y="43498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Grameen Credit Agricole Found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I&amp;P pour le Développ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MAC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Oiko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OXUS Microfinanc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1859c"/>
                </a:solidFill>
                <a:latin typeface="Calibri"/>
              </a:rPr>
              <a:t>SI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oneTexte 8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9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2" descr=""/>
          <p:cNvPicPr/>
          <p:nvPr/>
        </p:nvPicPr>
        <p:blipFill>
          <a:blip r:embed="rId20"/>
          <a:stretch/>
        </p:blipFill>
        <p:spPr>
          <a:xfrm>
            <a:off x="468360" y="1380960"/>
            <a:ext cx="934920" cy="124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1"/>
          <a:stretch/>
        </p:blipFill>
        <p:spPr>
          <a:xfrm>
            <a:off x="468360" y="2676600"/>
            <a:ext cx="934920" cy="1200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2"/>
          <a:srcRect l="18531" t="0" r="15523" b="38817"/>
          <a:stretch/>
        </p:blipFill>
        <p:spPr>
          <a:xfrm>
            <a:off x="453960" y="5210280"/>
            <a:ext cx="936720" cy="130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3"/>
          <a:srcRect l="0" t="0" r="0" b="10205"/>
          <a:stretch/>
        </p:blipFill>
        <p:spPr>
          <a:xfrm>
            <a:off x="468360" y="3927600"/>
            <a:ext cx="934920" cy="12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20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203" name="ZoneTexte 11"/>
          <p:cNvSpPr/>
          <p:nvPr/>
        </p:nvSpPr>
        <p:spPr>
          <a:xfrm>
            <a:off x="1619280" y="486252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1859c"/>
                </a:solidFill>
                <a:latin typeface="Calibri"/>
              </a:rPr>
              <a:t>Tell your colleagu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www.appeldeparis.o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1908000" y="1224000"/>
            <a:ext cx="6715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We would like to invite you to </a:t>
            </a:r>
            <a:r>
              <a:rPr b="1" lang="en-US" sz="2400" spc="-1" strike="noStrike">
                <a:solidFill>
                  <a:srgbClr val="d99694"/>
                </a:solidFill>
                <a:latin typeface="Calibri"/>
              </a:rPr>
              <a:t>join us 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n supporting this Appeal. We believe that your signature will give a significant echo to this engagement and this initiative within the sector, towards policy makers and audiences at larg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oneTexte 7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4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ZoneTexte 13"/>
          <p:cNvSpPr/>
          <p:nvPr/>
        </p:nvSpPr>
        <p:spPr>
          <a:xfrm>
            <a:off x="1979640" y="327816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1859c"/>
                </a:solidFill>
                <a:latin typeface="Calibri"/>
              </a:rPr>
              <a:t>Sign the Appeal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MFP Plaza : stand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780000" y="2567160"/>
            <a:ext cx="2754000" cy="39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09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21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" descr=""/>
            <p:cNvPicPr/>
            <p:nvPr/>
          </p:nvPicPr>
          <p:blipFill>
            <a:blip r:embed="rId3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4" descr=""/>
          <p:cNvPicPr/>
          <p:nvPr/>
        </p:nvPicPr>
        <p:blipFill>
          <a:blip r:embed="rId4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213" name="ZoneTexte 11"/>
          <p:cNvSpPr/>
          <p:nvPr/>
        </p:nvSpPr>
        <p:spPr>
          <a:xfrm>
            <a:off x="1857240" y="981000"/>
            <a:ext cx="681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Thank you for your attention and your support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5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0" y="98100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2063880" y="1730520"/>
            <a:ext cx="6119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xel DE VI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ecutive Director, 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2076480" y="14130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Modera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13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2071440" y="309888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Speak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2050920" y="3732120"/>
            <a:ext cx="61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Jean-Luc PER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neral Delegate, Grameen Credit Agricole Fou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ard Member, Convergences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ichaël KNA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O, OXUS Group &amp; Octopus Microfinance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ecutive Director, Convergences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7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1"/>
          <p:cNvSpPr/>
          <p:nvPr/>
        </p:nvSpPr>
        <p:spPr>
          <a:xfrm>
            <a:off x="1649520" y="1851120"/>
            <a:ext cx="521496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some MFIs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tabilit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bstruct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cial miss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FIs’ clientele is rapidly growing, at the risk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akening the relation of proximity and tru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nd leading to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ver-indebtednes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the cl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igh expectations on MFIs’ ROI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ket saturatio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 fuelling  over-indebted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FIs have increased their credit portfolio at a very fast pace, with the risk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akening the progressive implementation of financing cycles, reimbursement discipline, and the attention paid to the nature of the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Os of large MFIs have triggered animated debates among the se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refinance their booming credit portfolio, some institutions have incurr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cessive deb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12"/>
          <p:cNvSpPr/>
          <p:nvPr/>
        </p:nvSpPr>
        <p:spPr>
          <a:xfrm>
            <a:off x="1643040" y="78588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Mission drifts overview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Excessive commercialization of microfinance along with other negative trends have led to a cri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V:\03. ACTED MF\Photos\Gwenn Dubourthoumieu RDC 2007\Soutien Agro_Vente de la recolte_Marché de Sébélé.jpg"/>
          <p:cNvPicPr/>
          <p:nvPr/>
        </p:nvPicPr>
        <p:blipFill>
          <a:blip r:embed="rId10"/>
          <a:stretch/>
        </p:blipFill>
        <p:spPr>
          <a:xfrm>
            <a:off x="6885000" y="3071880"/>
            <a:ext cx="2187720" cy="3247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5" name="ZoneTexte 13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1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15"/>
          <p:cNvSpPr/>
          <p:nvPr/>
        </p:nvSpPr>
        <p:spPr>
          <a:xfrm>
            <a:off x="1627200" y="10526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As a result of those drifts and excesses, MFIs are exposed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16"/>
          <p:cNvSpPr/>
          <p:nvPr/>
        </p:nvSpPr>
        <p:spPr>
          <a:xfrm>
            <a:off x="1643040" y="2492280"/>
            <a:ext cx="335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31859c"/>
                </a:solidFill>
                <a:latin typeface="Calibri"/>
              </a:rPr>
              <a:t>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31859c"/>
                </a:solidFill>
                <a:latin typeface="Calibri"/>
              </a:rPr>
              <a:t>Reputation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31859c"/>
                </a:solidFill>
                <a:latin typeface="Calibri"/>
              </a:rPr>
              <a:t>Governance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31859c"/>
                </a:solidFill>
                <a:latin typeface="Calibri"/>
              </a:rPr>
              <a:t>Political interference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V:\03. ACTED MF\Photos\Gwenn Dubourthoumieu RDC 2007\Haute définition\AGR - Micro Crédit\AGR-Micro Credit_Atelier couture_Moba-Port_2.JPG"/>
          <p:cNvPicPr/>
          <p:nvPr/>
        </p:nvPicPr>
        <p:blipFill>
          <a:blip r:embed="rId8"/>
          <a:srcRect l="3449" t="0" r="0" b="0"/>
          <a:stretch/>
        </p:blipFill>
        <p:spPr>
          <a:xfrm>
            <a:off x="4929120" y="2857680"/>
            <a:ext cx="4000680" cy="276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ZoneTexte 8"/>
          <p:cNvSpPr/>
          <p:nvPr/>
        </p:nvSpPr>
        <p:spPr>
          <a:xfrm>
            <a:off x="1738440" y="628668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crofinance Banana Ski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11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9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8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11"/>
          <p:cNvSpPr/>
          <p:nvPr/>
        </p:nvSpPr>
        <p:spPr>
          <a:xfrm>
            <a:off x="1674720" y="4071960"/>
            <a:ext cx="45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Calibri"/>
              </a:rPr>
              <a:t>The excessive commercialization of microfinance have thus led to 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several self-regulation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15"/>
          <p:cNvSpPr/>
          <p:nvPr/>
        </p:nvSpPr>
        <p:spPr>
          <a:xfrm>
            <a:off x="1619280" y="1052640"/>
            <a:ext cx="700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Consequenc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icrofinance reports in the media </a:t>
            </a:r>
            <a:r>
              <a:rPr b="0" lang="en-US" sz="2400" spc="-1" strike="noStrike">
                <a:solidFill>
                  <a:srgbClr val="31859c"/>
                </a:solidFill>
                <a:latin typeface="Calibri"/>
              </a:rPr>
              <a:t>have put the stress on the crisis and raised concerns that seriously undermine both the 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reputation of microfinance </a:t>
            </a:r>
            <a:r>
              <a:rPr b="0" lang="en-US" sz="2400" spc="-1" strike="noStrike">
                <a:solidFill>
                  <a:srgbClr val="31859c"/>
                </a:solidFill>
                <a:latin typeface="Calibri"/>
              </a:rPr>
              <a:t>and its very ess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V:\03. ACTED MF\Photos\Gwenn Dubourthoumieu RDC 2007\Haute définition\Autres\Rehab infrastructure_Réhabilitation de la route Mwanza-Kasenga.JPG"/>
          <p:cNvPicPr/>
          <p:nvPr/>
        </p:nvPicPr>
        <p:blipFill>
          <a:blip r:embed="rId6"/>
          <a:srcRect l="0" t="0" r="41275" b="12937"/>
          <a:stretch/>
        </p:blipFill>
        <p:spPr>
          <a:xfrm>
            <a:off x="6367320" y="3933720"/>
            <a:ext cx="2490840" cy="242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ZoneTexte 13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7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9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ZoneTexte 11"/>
          <p:cNvSpPr/>
          <p:nvPr/>
        </p:nvSpPr>
        <p:spPr>
          <a:xfrm>
            <a:off x="-214200" y="1214280"/>
            <a:ext cx="450036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201"/>
              </a:spcAft>
              <a:buClr>
                <a:srgbClr val="3578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Social Performance Task Forc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versal standards for social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1859c"/>
                </a:solidFill>
                <a:latin typeface="Calibri"/>
              </a:rPr>
              <a:t>MFTransparency:</a:t>
            </a:r>
            <a:r>
              <a:rPr b="1" lang="fr-FR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global initiative for a fair and transparent pric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Seal of Excellence for Poverty Outreach and Transformation in Microfinance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label to certify MFIs using microfinance as a tool against pover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Pocantico Declaration:</a:t>
            </a:r>
            <a:r>
              <a:rPr b="0" lang="en-US" sz="16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irst step toward a common ground and set of principles to bring microfinance back to its social mi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1859c"/>
                </a:solidFill>
                <a:latin typeface="Calibri"/>
              </a:rPr>
              <a:t>CGAP Key Principles of Microfinance: </a:t>
            </a:r>
            <a:r>
              <a:rPr b="0" lang="fr-FR" sz="16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key principles for a sustainable micro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1859c"/>
                </a:solidFill>
                <a:latin typeface="Calibri"/>
              </a:rPr>
              <a:t>Smart Campaign:</a:t>
            </a:r>
            <a:r>
              <a:rPr b="0" lang="en-US" sz="16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global effort to ensure clients remain the industry’s dri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V:\03. ACTED MF\Photos\Gwenn Dubourthoumieu RDC 2007\AGR-Micro Credit_Menuisiers_Baraka.jpg"/>
          <p:cNvPicPr/>
          <p:nvPr/>
        </p:nvPicPr>
        <p:blipFill>
          <a:blip r:embed="rId9"/>
          <a:srcRect l="0" t="0" r="12231" b="0"/>
          <a:stretch/>
        </p:blipFill>
        <p:spPr>
          <a:xfrm>
            <a:off x="5786280" y="1000080"/>
            <a:ext cx="3197520" cy="24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1" name="ZoneTexte 12"/>
          <p:cNvSpPr/>
          <p:nvPr/>
        </p:nvSpPr>
        <p:spPr>
          <a:xfrm>
            <a:off x="-204840" y="9288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Several initiatives in plac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oneTexte 8"/>
          <p:cNvSpPr/>
          <p:nvPr/>
        </p:nvSpPr>
        <p:spPr>
          <a:xfrm>
            <a:off x="4214880" y="3286080"/>
            <a:ext cx="492912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Principles for Investors in Inclusive Finance (PIIF)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framework for responsible investment in inclusive 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57888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1859c"/>
                </a:solidFill>
                <a:latin typeface="Calibri"/>
              </a:rPr>
              <a:t>AFI’s </a:t>
            </a: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G20 Principles for Innovative Financial Inclusion:</a:t>
            </a:r>
            <a:r>
              <a:rPr b="0" lang="en-US" sz="16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ciples to promote financial inclu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13"/>
          <p:cNvSpPr/>
          <p:nvPr/>
        </p:nvSpPr>
        <p:spPr>
          <a:xfrm>
            <a:off x="4788000" y="5527800"/>
            <a:ext cx="4143240" cy="1214280"/>
          </a:xfrm>
          <a:prstGeom prst="roundRect">
            <a:avLst>
              <a:gd name="adj" fmla="val 16667"/>
            </a:avLst>
          </a:prstGeom>
          <a:solidFill>
            <a:srgbClr val="35788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14"/>
          <p:cNvSpPr/>
          <p:nvPr/>
        </p:nvSpPr>
        <p:spPr>
          <a:xfrm>
            <a:off x="4500720" y="5541840"/>
            <a:ext cx="4643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udential regulation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 Basel Core Principles for Effective Banking Supervision of microfinance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- Microfinance Regulation Bill  in In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5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2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e 8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0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0" y="1000080"/>
            <a:ext cx="1666800" cy="557208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11"/>
          <p:cNvSpPr/>
          <p:nvPr/>
        </p:nvSpPr>
        <p:spPr>
          <a:xfrm>
            <a:off x="1571760" y="1601640"/>
            <a:ext cx="72864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To bring microfinance back to its original mission: a social mission dedicated to the p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201"/>
              </a:spcAft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31859c"/>
                </a:solidFill>
                <a:latin typeface="Calibri"/>
              </a:rPr>
              <a:t>To create and rally a movement involving all MF stakeholders, including regulators, supervisors and international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31859c"/>
                </a:solidFill>
                <a:latin typeface="Calibri"/>
              </a:rPr>
              <a:t>To renew the interest of international organizations, media and other observers in microfinance as a tool to fight against poverty and financial exclusion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t is neither a label nor a certification procedure and does not aim to certify a small minority of highly committed play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t is neither a criticism nor a rejection of all the self-regulation policies yet implemented in th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oneTexte 16"/>
          <p:cNvSpPr/>
          <p:nvPr/>
        </p:nvSpPr>
        <p:spPr>
          <a:xfrm>
            <a:off x="749160" y="9828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The Paris Appeal has been launche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oneTexte 13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9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080" y="785520"/>
            <a:ext cx="8494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Convergences 2015 Forum – 2011 E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2920" y="1499760"/>
            <a:ext cx="48607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200 expe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on microfinance, social economy and social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A high attendance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over 3000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3 day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mixing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 networking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an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40 round tabl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with a focus on 3 major issues: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 impact, investment,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13" descr="20110505_99_890.jpg"/>
          <p:cNvPicPr/>
          <p:nvPr/>
        </p:nvPicPr>
        <p:blipFill>
          <a:blip r:embed="rId5"/>
          <a:stretch/>
        </p:blipFill>
        <p:spPr>
          <a:xfrm>
            <a:off x="5003640" y="1577880"/>
            <a:ext cx="385632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8" name="Image 14" descr="20110505_99_711.jpg"/>
          <p:cNvPicPr/>
          <p:nvPr/>
        </p:nvPicPr>
        <p:blipFill>
          <a:blip r:embed="rId6"/>
          <a:stretch/>
        </p:blipFill>
        <p:spPr>
          <a:xfrm>
            <a:off x="468360" y="4167360"/>
            <a:ext cx="342900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9" name="ZoneTexte 16"/>
          <p:cNvSpPr/>
          <p:nvPr/>
        </p:nvSpPr>
        <p:spPr>
          <a:xfrm>
            <a:off x="4071960" y="4357800"/>
            <a:ext cx="50720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A market plac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an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 a library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to stimulate ex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The launch of 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Convergences 2015 Aw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3 Great Debat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with prestigious speakers, hosted under the patronage of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MS Gothic"/>
              </a:rPr>
              <a:t>Le Mo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e 17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21" name="Picture 2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"/>
            <p:cNvPicPr/>
            <p:nvPr/>
          </p:nvPicPr>
          <p:blipFill>
            <a:blip r:embed="rId11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ZoneTexte 11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2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821556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030a0"/>
                </a:solidFill>
                <a:latin typeface="Calibri"/>
              </a:rPr>
              <a:t>The Launch of the Paris Appeal for responsible microfi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e 17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2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14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"/>
            <p:cNvPicPr/>
            <p:nvPr/>
          </p:nvPicPr>
          <p:blipFill>
            <a:blip r:embed="rId2"/>
            <a:stretch/>
          </p:blipFill>
          <p:spPr>
            <a:xfrm>
              <a:off x="3643200" y="0"/>
              <a:ext cx="550080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" descr="V:\03. ACTED MF\Convergences 2015\2010-2011\17.Post Forum\Medias du Forum\Photos\2011_05_05 CONV3\5 -  Cloture\6- Clôture- RB\JL Perron\20110505_99_1746.JPG"/>
          <p:cNvPicPr/>
          <p:nvPr/>
        </p:nvPicPr>
        <p:blipFill>
          <a:blip r:embed="rId3"/>
          <a:srcRect l="0" t="0" r="0" b="50780"/>
          <a:stretch/>
        </p:blipFill>
        <p:spPr>
          <a:xfrm>
            <a:off x="2698920" y="2666880"/>
            <a:ext cx="6049800" cy="19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Titre 6"/>
          <p:cNvSpPr/>
          <p:nvPr/>
        </p:nvSpPr>
        <p:spPr>
          <a:xfrm>
            <a:off x="642960" y="4119480"/>
            <a:ext cx="82152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Officially presented at the 4th annual Convergences 2015 Forum in May 2011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the Paris Appeal for responsible microfinance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is part of a campaign of advocacy and action among all concerned actors: decision makers, microfinance professionals and people art large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31859c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8"/>
          <p:cNvSpPr/>
          <p:nvPr/>
        </p:nvSpPr>
        <p:spPr>
          <a:xfrm>
            <a:off x="3600360" y="2491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alibri"/>
              </a:rPr>
              <a:t>The Paris Appeal for responsible micro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239760" y="2211480"/>
            <a:ext cx="2100240" cy="301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2" descr=""/>
          <p:cNvPicPr/>
          <p:nvPr/>
        </p:nvPicPr>
        <p:blipFill>
          <a:blip r:embed="rId5"/>
          <a:stretch/>
        </p:blipFill>
        <p:spPr>
          <a:xfrm rot="20700000">
            <a:off x="129960" y="102960"/>
            <a:ext cx="55692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4:43:11Z</dcterms:created>
  <dc:creator>emilie.perbost</dc:creator>
  <dc:description/>
  <dc:language>en-US</dc:language>
  <cp:lastModifiedBy>Juana Ramirez e-MFP</cp:lastModifiedBy>
  <dcterms:modified xsi:type="dcterms:W3CDTF">2011-11-21T17:50:02Z</dcterms:modified>
  <cp:revision>337</cp:revision>
  <dc:subject/>
  <dc:title>4ème édition du Forum Convergences 2015</dc:title>
</cp:coreProperties>
</file>