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ared@childfinance.org" TargetMode="External"/><Relationship Id="rId2" Type="http://schemas.openxmlformats.org/officeDocument/2006/relationships/hyperlink" Target="http://www.childfinance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CA" sz="3600" spc="-1" strike="noStrike">
                <a:solidFill>
                  <a:srgbClr val="292929"/>
                </a:solidFill>
                <a:latin typeface="Arial"/>
              </a:rPr>
              <a:t>Building the ChildFinance Movement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40caa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c40caa"/>
                </a:solidFill>
                <a:latin typeface="Arial"/>
              </a:rPr>
              <a:t>Luxembourg, European Microfinance We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40caa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c40caa"/>
                </a:solidFill>
                <a:latin typeface="Arial"/>
              </a:rPr>
              <a:t>November 3</a:t>
            </a:r>
            <a:r>
              <a:rPr b="0" lang="en-CA" sz="2400" spc="-1" strike="noStrike" baseline="30000">
                <a:solidFill>
                  <a:srgbClr val="c40caa"/>
                </a:solidFill>
                <a:latin typeface="Arial"/>
              </a:rPr>
              <a:t>rd</a:t>
            </a:r>
            <a:r>
              <a:rPr b="0" lang="en-CA" sz="2400" spc="-1" strike="noStrike">
                <a:solidFill>
                  <a:srgbClr val="c40caa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40caa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c40caa"/>
                </a:solidFill>
                <a:latin typeface="Arial"/>
              </a:rPr>
              <a:t>Jared Penner, ChildFinance Education Mana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569080" cy="2865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39640" y="184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ission and Vision of the ChildFinance Mov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0" y="1628280"/>
            <a:ext cx="8794800" cy="2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35461"/>
                </a:solidFill>
                <a:latin typeface="Arial"/>
              </a:rPr>
              <a:t>ChildFriendly Banking Certification Criteria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F9C1-4498-46BC-A00C-B3F313D956A2}" type="slidenum"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&lt;number&gt;</a:t>
            </a:fld>
            <a:r>
              <a:rPr b="0" lang="en-US" sz="18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92120" y="947880"/>
            <a:ext cx="75373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lvl="1" marL="196920" indent="-1954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Rectangle 93"/>
          <p:cNvSpPr/>
          <p:nvPr/>
        </p:nvSpPr>
        <p:spPr>
          <a:xfrm>
            <a:off x="395280" y="2205000"/>
            <a:ext cx="3954600" cy="4103640"/>
          </a:xfrm>
          <a:prstGeom prst="rect">
            <a:avLst/>
          </a:prstGeom>
          <a:solidFill>
            <a:srgbClr val="eaeaea">
              <a:alpha val="31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Rectangle 93"/>
          <p:cNvSpPr/>
          <p:nvPr/>
        </p:nvSpPr>
        <p:spPr>
          <a:xfrm>
            <a:off x="4511520" y="2205000"/>
            <a:ext cx="4508640" cy="4248360"/>
          </a:xfrm>
          <a:prstGeom prst="rect">
            <a:avLst/>
          </a:prstGeom>
          <a:solidFill>
            <a:srgbClr val="eaeaea">
              <a:alpha val="31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490680" y="2421000"/>
            <a:ext cx="37940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14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Minimum Institutional Requirem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 financial institution is licensed under appropriate national laws and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 institution is in good standing with its national regulatory author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 institution is covered by a deposit guarantee scheme, if applicable, in the count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The institution has a code of conduct with respect to children including staff training and development programs on how to interact with childre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579920" y="2421000"/>
            <a:ext cx="4297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1400" spc="-1" strike="noStrike">
                <a:solidFill>
                  <a:srgbClr val="292929"/>
                </a:solidFill>
                <a:latin typeface="Arial"/>
              </a:rPr>
              <a:t>Certified ChildFriendly Produc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n-discriminatory access to 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ximum control by the child within the national legal and regulatory framework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et positive financial return received by the child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 penalty in case of withdrawa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 or minimal requirements with respect to initial opening deposi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 credit facilities related to produ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hild-friendly communication surrounding the produ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ancial education component to the product (different levels ranging from educational brochures to “Bank in School programs”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9200" indent="-3492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267000" y="1773360"/>
            <a:ext cx="1712880" cy="11509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71195"/>
                </a:solidFill>
                <a:latin typeface="Arial"/>
              </a:rPr>
              <a:t>Nat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71195"/>
                </a:solidFill>
                <a:latin typeface="Arial"/>
              </a:rPr>
              <a:t>Advisory Committe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11280" y="3213000"/>
            <a:ext cx="1712880" cy="10796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sion Taskfor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187280" y="5229360"/>
            <a:ext cx="1713240" cy="865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ademia TaskFor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276720" y="5229360"/>
            <a:ext cx="1711080" cy="8776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a Taskfor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6227640" y="3213000"/>
            <a:ext cx="2016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Finance Education Taskfor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435640" y="5229360"/>
            <a:ext cx="1908000" cy="865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ology Taskfor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TextBox 49"/>
          <p:cNvSpPr/>
          <p:nvPr/>
        </p:nvSpPr>
        <p:spPr>
          <a:xfrm>
            <a:off x="6227640" y="404640"/>
            <a:ext cx="2779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ildFinance Country Platfor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dvisory committee steered by Finance Author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skforces implement ChildFinance activit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85840" indent="-285840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60" name="Shape 25"/>
          <p:cNvCxnSpPr>
            <a:stCxn id="53" idx="2"/>
          </p:cNvCxnSpPr>
          <p:nvPr/>
        </p:nvCxnSpPr>
        <p:spPr>
          <a:xfrm flipH="1" rot="16200000">
            <a:off x="4850280" y="2196720"/>
            <a:ext cx="649800" cy="2104200"/>
          </a:xfrm>
          <a:prstGeom prst="bentConnector2">
            <a:avLst/>
          </a:prstGeom>
          <a:ln w="9360">
            <a:solidFill>
              <a:srgbClr val="cc9800"/>
            </a:solidFill>
            <a:miter/>
          </a:ln>
        </p:spPr>
      </p:cxnSp>
      <p:cxnSp>
        <p:nvCxnSpPr>
          <p:cNvPr id="61" name="Shape 27"/>
          <p:cNvCxnSpPr>
            <a:stCxn id="53" idx="2"/>
          </p:cNvCxnSpPr>
          <p:nvPr/>
        </p:nvCxnSpPr>
        <p:spPr>
          <a:xfrm rot="5400000">
            <a:off x="2907000" y="2356560"/>
            <a:ext cx="649800" cy="1784880"/>
          </a:xfrm>
          <a:prstGeom prst="bentConnector2">
            <a:avLst/>
          </a:prstGeom>
          <a:ln w="9360">
            <a:solidFill>
              <a:srgbClr val="cc9800"/>
            </a:solidFill>
            <a:miter/>
          </a:ln>
        </p:spPr>
      </p:cxnSp>
      <p:cxnSp>
        <p:nvCxnSpPr>
          <p:cNvPr id="62" name="Elbow Connector 31"/>
          <p:cNvCxnSpPr/>
          <p:nvPr/>
        </p:nvCxnSpPr>
        <p:spPr>
          <a:xfrm flipH="1" rot="16200000">
            <a:off x="4068000" y="3645360"/>
            <a:ext cx="1656720" cy="1512000"/>
          </a:xfrm>
          <a:prstGeom prst="bentConnector3">
            <a:avLst>
              <a:gd name="adj1" fmla="val 49989"/>
            </a:avLst>
          </a:prstGeom>
          <a:ln w="9360">
            <a:solidFill>
              <a:srgbClr val="cc9800"/>
            </a:solidFill>
            <a:miter/>
          </a:ln>
        </p:spPr>
      </p:cxnSp>
      <p:cxnSp>
        <p:nvCxnSpPr>
          <p:cNvPr id="63" name="Elbow Connector 33"/>
          <p:cNvCxnSpPr>
            <a:endCxn id="56" idx="0"/>
          </p:cNvCxnSpPr>
          <p:nvPr/>
        </p:nvCxnSpPr>
        <p:spPr>
          <a:xfrm rot="5400000">
            <a:off x="3307680" y="4397400"/>
            <a:ext cx="1656720" cy="8640"/>
          </a:xfrm>
          <a:prstGeom prst="bentConnector3">
            <a:avLst>
              <a:gd name="adj1" fmla="val 49989"/>
            </a:avLst>
          </a:prstGeom>
          <a:ln w="9360">
            <a:solidFill>
              <a:srgbClr val="cc9800"/>
            </a:solidFill>
            <a:miter/>
          </a:ln>
        </p:spPr>
      </p:cxnSp>
      <p:cxnSp>
        <p:nvCxnSpPr>
          <p:cNvPr id="64" name="Elbow Connector 37"/>
          <p:cNvCxnSpPr/>
          <p:nvPr/>
        </p:nvCxnSpPr>
        <p:spPr>
          <a:xfrm rot="5400000">
            <a:off x="2554920" y="3644640"/>
            <a:ext cx="1656720" cy="1513800"/>
          </a:xfrm>
          <a:prstGeom prst="bentConnector3">
            <a:avLst>
              <a:gd name="adj1" fmla="val 49989"/>
            </a:avLst>
          </a:prstGeom>
          <a:ln w="9360">
            <a:solidFill>
              <a:srgbClr val="cc98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68360" y="2421000"/>
            <a:ext cx="7775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iculum Development Guide, Not Independent Progra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rning Outcomes along Four Levels of Complex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Level 1 – 0-5 ye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Level 2 – 6-9 ye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Level 3 – 10-14 ye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Arial"/>
              </a:rPr>
              <a:t>Level 4 – 15+ yea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al Education (OECD, UNCDF)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sources and Use, Planning and Budgeting, Risks and Rewards, Financial Landscap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Skills Education (UNICEF, UNESCO)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gnitive Skills, Personal Skills, Interpersonal Skill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lihoods Education (ILO)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ntrepreneurship, Lifepath Mapp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95280" y="170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ChildFinance Education Core Content Framewor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39640" y="1916280"/>
            <a:ext cx="820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Sustainability of the ChildFinance Movement and its activit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ffective coordination of multiple initia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Making the business case within the current financial clima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Child labour critics / The realities of working children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Impact evalu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Please join the ChildFinance Movement!!!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Contact </a:t>
            </a:r>
            <a:r>
              <a:rPr b="0" lang="nl-NL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jared@childfinance.org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0" lang="nl-NL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www.childfinanceinternational.org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17:37:22Z</dcterms:modified>
  <cp:revision>26</cp:revision>
  <dc:subject/>
  <dc:title>Slide 1</dc:title>
</cp:coreProperties>
</file>