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3" descr="C:\Users\Cox\Desktop\Sans-titre-1.jpg"/>
          <p:cNvPicPr/>
          <p:nvPr/>
        </p:nvPicPr>
        <p:blipFill>
          <a:blip r:embed="rId2"/>
          <a:stretch/>
        </p:blipFill>
        <p:spPr>
          <a:xfrm>
            <a:off x="0" y="0"/>
            <a:ext cx="637236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92929"/>
                </a:solidFill>
                <a:latin typeface="Arial"/>
              </a:rPr>
              <a:t>JUSTIFIC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Most interventions targeting persons with disabilities have been charity-based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Persons with disabilities have limited access to financial servic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In 2005, NUDIPU in collaboration AMFIU launched a Microfinance &amp; Disability project – </a:t>
            </a: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(NAD Funded)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The project intended to promote financial inclusion for persons with disabiliti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4000" y="1557360"/>
            <a:ext cx="8712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spcBef>
                <a:spcPts val="700"/>
              </a:spcBef>
              <a:spcAft>
                <a:spcPts val="1199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fter 3 years the Project was reaching out to affluent section of persons with disabilities;-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spcAft>
                <a:spcPts val="601"/>
              </a:spcAft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gular income earners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spcAft>
                <a:spcPts val="601"/>
              </a:spcAft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igh self-esteem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spcAft>
                <a:spcPts val="601"/>
              </a:spcAft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sident in the vicinity of MFI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Hence, the need to include the poorer persons with disabiliti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SLAs were a choice, but </a:t>
            </a: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Facilitating Agency had deliberate &amp; systematic efforts to include persons with disabilitie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0560" y="155736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92929"/>
                </a:solidFill>
                <a:latin typeface="Arial"/>
              </a:rPr>
              <a:t>This led to the birth 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of </a:t>
            </a:r>
            <a:r>
              <a:rPr b="1" i="1" lang="en-GB" sz="3000" spc="-1" strike="noStrike">
                <a:solidFill>
                  <a:srgbClr val="292929"/>
                </a:solidFill>
                <a:latin typeface="Arial"/>
              </a:rPr>
              <a:t>“We can manage” </a:t>
            </a:r>
            <a:r>
              <a:rPr b="0" lang="en-GB" sz="3000" spc="-1" strike="noStrike">
                <a:solidFill>
                  <a:srgbClr val="292929"/>
                </a:solidFill>
                <a:latin typeface="Arial"/>
              </a:rPr>
              <a:t>persons with disabilities’</a:t>
            </a:r>
            <a:r>
              <a:rPr b="1" i="1" lang="en-GB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292929"/>
                </a:solidFill>
                <a:latin typeface="Arial"/>
              </a:rPr>
              <a:t>savings and credit project to:-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ovide for safe savings, easy loan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uild members’ self-esteem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omote participation in community development initiatives to improve livelihood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5472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3640" y="1988640"/>
            <a:ext cx="8569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disseminated through political leadership, local administration and leadership of persons with disabiliti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DIPU facilitates process through the Disability structures – District Union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of persons with disabilities especially tasked to do the mobilization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mises for external funding/handouts are made right from the beginn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5472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cont’d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8000" y="1916280"/>
            <a:ext cx="9036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s with disabilities take lead in implementation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WCM groups consist of 20-25 member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s with disabilities should comprise at least 60% of group members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3/5 of the Management Committee members must be persons with disabilitie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members should be majority and take at least 2/5 positions on the Management Committe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places MUST be accessible to all member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5472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 ADDITION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560" y="2133360"/>
            <a:ext cx="8785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fter 2 years (by 30</a:t>
            </a:r>
            <a:r>
              <a:rPr b="1" lang="en-US" sz="27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Sept, 2011)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60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36 active groups operational.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60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,358 members registered, men are 1,238 (37%) while women are 2,120 (63%) and 904 caretakers.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60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ons with disabilities are 2,026 (60.3%).Many of these were not known to NUDIPU/District Union.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60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vings worth Ush.263,691,000/= mobilized.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60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ans worth Ush.209,352,600/=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5472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ADDITION cont’d: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91592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447480">
              <a:spcBef>
                <a:spcPts val="675"/>
              </a:spcBef>
              <a:spcAft>
                <a:spcPts val="60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blicity of NUDIPU activities; since only 759 of the members new knew about NUDIPU prior to WCM.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marL="539640" indent="-447480">
              <a:spcBef>
                <a:spcPts val="675"/>
              </a:spcBef>
              <a:spcAft>
                <a:spcPts val="60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864 WCM members testified to having started businesses resulting joining WCM groups.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marL="539640" indent="-447480">
              <a:spcBef>
                <a:spcPts val="675"/>
              </a:spcBef>
              <a:spcAft>
                <a:spcPts val="60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CM groups enhance livelihoods of persons with disabilities through self-empowerment, for example:- 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marL="539640" indent="-447480">
              <a:spcBef>
                <a:spcPts val="601"/>
              </a:spcBef>
              <a:spcAft>
                <a:spcPts val="601"/>
              </a:spcAft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have taken leadership position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9640" indent="-447480">
              <a:spcBef>
                <a:spcPts val="601"/>
              </a:spcBef>
              <a:spcAft>
                <a:spcPts val="601"/>
              </a:spcAft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cases of begging among persons with disabilities in areas where WCM is prevalent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5472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ADDITION cont’d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4000" y="191592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36440" indent="-518400"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CM members with disabilities have started taking leadership positions in the community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036440" indent="-518400"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cases of persons with disabilities begging on the streets, places of worship, etc. in areas where WCM project is prevalent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036440" indent="-518400">
              <a:spcBef>
                <a:spcPts val="700"/>
              </a:spcBef>
              <a:spcAft>
                <a:spcPts val="60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CM groups reach out to more people to create social inclusion, participation and empowerment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036440" indent="-518400">
              <a:spcBef>
                <a:spcPts val="700"/>
              </a:spcBef>
              <a:spcAft>
                <a:spcPts val="60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WCM model will be replicated as a poverty fighting tool and incorporate value addition for holistic livelihoods enhancement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036440" indent="-51840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 Niamh</cp:lastModifiedBy>
  <dcterms:modified xsi:type="dcterms:W3CDTF">2011-11-10T10:05:51Z</dcterms:modified>
  <cp:revision>80</cp:revision>
  <dc:subject/>
  <dc:title>Slide 1</dc:title>
</cp:coreProperties>
</file>