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427640" cy="14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280" y="1412640"/>
            <a:ext cx="7667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s-ES" sz="3200" spc="-1" strike="noStrike">
                <a:solidFill>
                  <a:srgbClr val="aeae5d"/>
                </a:solidFill>
                <a:latin typeface="Arial Unicode MS"/>
                <a:ea typeface="Arial Unicode MS"/>
              </a:rPr>
              <a:t>ALIANZAS ESTRATEGICAS PÁRA LOGRAR EL DESARROLLO DE SUS SOCIOS</a:t>
            </a:r>
            <a:br>
              <a:rPr sz="3200"/>
            </a:br>
            <a:br>
              <a:rPr sz="1100"/>
            </a:br>
            <a:br>
              <a:rPr sz="1100"/>
            </a:br>
            <a:r>
              <a:rPr b="0" lang="es-ES" sz="3200" spc="-1" strike="noStrike">
                <a:solidFill>
                  <a:srgbClr val="cc9900"/>
                </a:solidFill>
                <a:latin typeface="Arial Unicode MS"/>
                <a:ea typeface="Arial Unicode MS"/>
              </a:rPr>
              <a:t> </a:t>
            </a:r>
            <a:br>
              <a:rPr sz="1800"/>
            </a:b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715920"/>
            <a:ext cx="77835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EGURIDAD ALIMENTARIA EXPERIENCIA CREDIFLORID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Frank Jesús Fuentes Valencia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	</a:t>
            </a:r>
            <a:r>
              <a:rPr b="0" lang="es-ES" sz="11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	</a:t>
            </a:r>
            <a:r>
              <a:rPr b="0" lang="es-ES" sz="11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	</a:t>
            </a:r>
            <a:r>
              <a:rPr b="0" lang="es-ES" sz="11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11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Gerente General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	</a:t>
            </a:r>
            <a:r>
              <a:rPr b="0" lang="es-ES" sz="11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	</a:t>
            </a:r>
            <a:r>
              <a:rPr b="0" lang="es-ES" sz="11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                      </a:t>
            </a:r>
            <a:r>
              <a:rPr b="0" lang="es-ES" sz="11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Luxemburgo, 16 Noviembre 2012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4" name="1 Título" descr=""/>
          <p:cNvPicPr/>
          <p:nvPr/>
        </p:nvPicPr>
        <p:blipFill>
          <a:blip r:embed="rId1"/>
          <a:stretch/>
        </p:blipFill>
        <p:spPr>
          <a:xfrm>
            <a:off x="3998880" y="360360"/>
            <a:ext cx="4950000" cy="498600"/>
          </a:xfrm>
          <a:prstGeom prst="rect">
            <a:avLst/>
          </a:prstGeom>
          <a:ln w="0">
            <a:noFill/>
          </a:ln>
        </p:spPr>
      </p:pic>
      <p:pic>
        <p:nvPicPr>
          <p:cNvPr id="45" name="5 Imagen" descr=""/>
          <p:cNvPicPr/>
          <p:nvPr/>
        </p:nvPicPr>
        <p:blipFill>
          <a:blip r:embed="rId2"/>
          <a:stretch/>
        </p:blipFill>
        <p:spPr>
          <a:xfrm>
            <a:off x="3121200" y="1901880"/>
            <a:ext cx="323676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1357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TOS</a:t>
            </a:r>
            <a:br>
              <a:rPr sz="2400"/>
            </a:b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99" name="1 Título" descr=""/>
          <p:cNvPicPr/>
          <p:nvPr/>
        </p:nvPicPr>
        <p:blipFill>
          <a:blip r:embed="rId1"/>
          <a:stretch/>
        </p:blipFill>
        <p:spPr>
          <a:xfrm>
            <a:off x="3998880" y="360360"/>
            <a:ext cx="4950000" cy="498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989000"/>
            <a:ext cx="86043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3284640"/>
            <a:ext cx="777240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102" name="1 Título" descr=""/>
          <p:cNvPicPr/>
          <p:nvPr/>
        </p:nvPicPr>
        <p:blipFill>
          <a:blip r:embed="rId1"/>
          <a:stretch/>
        </p:blipFill>
        <p:spPr>
          <a:xfrm>
            <a:off x="3998880" y="360360"/>
            <a:ext cx="4950000" cy="4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3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AREA DE INTERVENCION Y DESARROLLO</a:t>
            </a:r>
            <a:endParaRPr b="1" lang="en-US" sz="2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2565360"/>
            <a:ext cx="7920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8" name="1 Título" descr=""/>
          <p:cNvPicPr/>
          <p:nvPr/>
        </p:nvPicPr>
        <p:blipFill>
          <a:blip r:embed="rId1"/>
          <a:stretch/>
        </p:blipFill>
        <p:spPr>
          <a:xfrm>
            <a:off x="3998880" y="360360"/>
            <a:ext cx="4950000" cy="49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4392720" cy="172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467000" y="3203640"/>
            <a:ext cx="6264000" cy="260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4"/>
          <a:stretch/>
        </p:blipFill>
        <p:spPr>
          <a:xfrm>
            <a:off x="47520" y="5805360"/>
            <a:ext cx="9144000" cy="6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1 Elipse"/>
          <p:cNvGrpSpPr/>
          <p:nvPr/>
        </p:nvGrpSpPr>
        <p:grpSpPr>
          <a:xfrm>
            <a:off x="2146320" y="2066760"/>
            <a:ext cx="4565520" cy="3840480"/>
            <a:chOff x="2146320" y="2066760"/>
            <a:chExt cx="4565520" cy="3840480"/>
          </a:xfrm>
        </p:grpSpPr>
        <p:pic>
          <p:nvPicPr>
            <p:cNvPr id="53" name="1 Elipse" descr=""/>
            <p:cNvPicPr/>
            <p:nvPr/>
          </p:nvPicPr>
          <p:blipFill>
            <a:blip r:embed="rId1"/>
            <a:stretch/>
          </p:blipFill>
          <p:spPr>
            <a:xfrm>
              <a:off x="2146320" y="2066760"/>
              <a:ext cx="4565520" cy="38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849400" y="2644920"/>
              <a:ext cx="3157560" cy="26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5" name="2 CuadroTexto"/>
          <p:cNvSpPr/>
          <p:nvPr/>
        </p:nvSpPr>
        <p:spPr>
          <a:xfrm>
            <a:off x="2932200" y="335772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CARACTERISTICAS DEL SERVICIO DE CREDITO RUR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6156360" y="2133720"/>
            <a:ext cx="2249280" cy="1284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3419640" y="1268280"/>
            <a:ext cx="230472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3419640" y="5084640"/>
            <a:ext cx="2054160" cy="127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6262560" y="4005360"/>
            <a:ext cx="2054520" cy="140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6"/>
          <a:stretch/>
        </p:blipFill>
        <p:spPr>
          <a:xfrm>
            <a:off x="179280" y="2781360"/>
            <a:ext cx="2952720" cy="3659040"/>
          </a:xfrm>
          <a:prstGeom prst="rect">
            <a:avLst/>
          </a:prstGeom>
          <a:ln w="0">
            <a:noFill/>
          </a:ln>
        </p:spPr>
      </p:pic>
      <p:sp>
        <p:nvSpPr>
          <p:cNvPr id="61" name="6 CuadroTexto"/>
          <p:cNvSpPr/>
          <p:nvPr/>
        </p:nvSpPr>
        <p:spPr>
          <a:xfrm>
            <a:off x="468360" y="1628640"/>
            <a:ext cx="2154240" cy="916920"/>
          </a:xfrm>
          <a:prstGeom prst="rect">
            <a:avLst/>
          </a:prstGeom>
          <a:gradFill rotWithShape="0">
            <a:gsLst>
              <a:gs pos="0">
                <a:srgbClr val="fbfbc1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c9c99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METODOLOGIA DE CREDITO INDIVIDU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CREDITO DE MUJERES COMO ALTERNATIVA DE ALCANZAR LA SEGURIDAD ALIMENTARIA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13880" y="2205000"/>
            <a:ext cx="79297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Problemática que motiva el desarrollo de este produc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Zonas de intervención ligadas al monocultiv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Carencia de vías de acces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Elevados costos de los productos de pan llev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Desnutrición infantil en edad escol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     </a:t>
            </a: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4" name="1 Título" descr=""/>
          <p:cNvPicPr/>
          <p:nvPr/>
        </p:nvPicPr>
        <p:blipFill>
          <a:blip r:embed="rId1"/>
          <a:stretch/>
        </p:blipFill>
        <p:spPr>
          <a:xfrm>
            <a:off x="3998880" y="360360"/>
            <a:ext cx="4863960" cy="49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627280" y="4076640"/>
            <a:ext cx="3673440" cy="24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2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CREDITO DE MUJERES COMO ALTERNATIVA DE ALCANZAR LA SEGURIDAD ALIMENTARI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13880" y="1557000"/>
            <a:ext cx="7929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2.   Aliados en el Desarrollo del Producto</a:t>
            </a: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	</a:t>
            </a: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	</a:t>
            </a: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Cooperativa Agraria Cafetelera “La Florida” con 19 Comités de Desarrollo Integral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Organizada los grupos de familia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Brinda Asistencia técnica en desarrollo de cultivos de seguridad alimentaria con o sin procesamient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292929"/>
                </a:solidFill>
                <a:latin typeface="Arial Unicode MS"/>
                <a:ea typeface="Arial Unicode MS"/>
              </a:rPr>
              <a:t>Apoyo de ONG “Asociación La Florida” (Suiza) para constituir Fondos de Garantía (37.500 USD)para respaldar créditos de Crediflorida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8" name="1 Título" descr=""/>
          <p:cNvPicPr/>
          <p:nvPr/>
        </p:nvPicPr>
        <p:blipFill>
          <a:blip r:embed="rId1"/>
          <a:stretch/>
        </p:blipFill>
        <p:spPr>
          <a:xfrm>
            <a:off x="3998880" y="360360"/>
            <a:ext cx="4950000" cy="4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Elipse"/>
          <p:cNvSpPr/>
          <p:nvPr/>
        </p:nvSpPr>
        <p:spPr>
          <a:xfrm>
            <a:off x="3579840" y="3578400"/>
            <a:ext cx="1806480" cy="12189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b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2 CuadroTexto"/>
          <p:cNvSpPr/>
          <p:nvPr/>
        </p:nvSpPr>
        <p:spPr>
          <a:xfrm>
            <a:off x="3925800" y="3819600"/>
            <a:ext cx="11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Arial"/>
              </a:rPr>
              <a:t>CREDITO DE MUJER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6 Elipse"/>
          <p:cNvSpPr/>
          <p:nvPr/>
        </p:nvSpPr>
        <p:spPr>
          <a:xfrm>
            <a:off x="1116000" y="3213000"/>
            <a:ext cx="1730520" cy="1235160"/>
          </a:xfrm>
          <a:prstGeom prst="ellipse">
            <a:avLst/>
          </a:prstGeom>
          <a:solidFill>
            <a:srgbClr val="f3eadd"/>
          </a:solidFill>
          <a:ln w="9360">
            <a:solidFill>
              <a:srgbClr val="b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7 Elipse"/>
          <p:cNvSpPr/>
          <p:nvPr/>
        </p:nvSpPr>
        <p:spPr>
          <a:xfrm>
            <a:off x="3579840" y="1789200"/>
            <a:ext cx="1765440" cy="1135080"/>
          </a:xfrm>
          <a:prstGeom prst="ellips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9360">
            <a:solidFill>
              <a:srgbClr val="b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Arial"/>
              </a:rPr>
              <a:t>Entre USD $100 y $50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8 Elipse"/>
          <p:cNvSpPr/>
          <p:nvPr/>
        </p:nvSpPr>
        <p:spPr>
          <a:xfrm>
            <a:off x="2124000" y="5013360"/>
            <a:ext cx="1708200" cy="1100160"/>
          </a:xfrm>
          <a:prstGeom prst="ellipse">
            <a:avLst/>
          </a:prstGeom>
          <a:gradFill rotWithShape="0">
            <a:gsLst>
              <a:gs pos="0">
                <a:srgbClr val="ffe085"/>
              </a:gs>
              <a:gs pos="100000">
                <a:srgbClr val="7128a8"/>
              </a:gs>
            </a:gsLst>
            <a:lin ang="18900000"/>
          </a:gradFill>
          <a:ln w="9360">
            <a:solidFill>
              <a:srgbClr val="b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9 Elipse"/>
          <p:cNvSpPr/>
          <p:nvPr/>
        </p:nvSpPr>
        <p:spPr>
          <a:xfrm>
            <a:off x="5392800" y="4937040"/>
            <a:ext cx="1671480" cy="1220760"/>
          </a:xfrm>
          <a:prstGeom prst="ellipse">
            <a:avLst/>
          </a:prstGeom>
          <a:solidFill>
            <a:srgbClr val="f1f1e8"/>
          </a:solidFill>
          <a:ln w="9360">
            <a:solidFill>
              <a:srgbClr val="b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10 Elipse"/>
          <p:cNvSpPr/>
          <p:nvPr/>
        </p:nvSpPr>
        <p:spPr>
          <a:xfrm>
            <a:off x="6000840" y="3141720"/>
            <a:ext cx="1955880" cy="1274760"/>
          </a:xfrm>
          <a:prstGeom prst="ellipse">
            <a:avLst/>
          </a:prstGeom>
          <a:gradFill rotWithShape="0">
            <a:gsLst>
              <a:gs pos="0">
                <a:srgbClr val="ffe085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b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11 CuadroTexto"/>
          <p:cNvSpPr/>
          <p:nvPr/>
        </p:nvSpPr>
        <p:spPr>
          <a:xfrm>
            <a:off x="1332000" y="35733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Arial"/>
              </a:rPr>
              <a:t>Plazo de 6 a 12 mes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12 CuadroTexto"/>
          <p:cNvSpPr/>
          <p:nvPr/>
        </p:nvSpPr>
        <p:spPr>
          <a:xfrm>
            <a:off x="5651640" y="5157720"/>
            <a:ext cx="116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Arial"/>
              </a:rPr>
              <a:t>En función a fondos de garantí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13 CuadroTexto"/>
          <p:cNvSpPr/>
          <p:nvPr/>
        </p:nvSpPr>
        <p:spPr>
          <a:xfrm>
            <a:off x="2411280" y="5229360"/>
            <a:ext cx="112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292929"/>
                </a:solidFill>
                <a:latin typeface="Arial"/>
              </a:rPr>
              <a:t>Tasa de interés socia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14 CuadroTexto"/>
          <p:cNvSpPr/>
          <p:nvPr/>
        </p:nvSpPr>
        <p:spPr>
          <a:xfrm>
            <a:off x="6372360" y="3284640"/>
            <a:ext cx="1276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292929"/>
                </a:solidFill>
                <a:latin typeface="Arial"/>
              </a:rPr>
              <a:t>Metodología Individual y con garantía de grupo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15 CuadroTexto"/>
          <p:cNvSpPr/>
          <p:nvPr/>
        </p:nvSpPr>
        <p:spPr>
          <a:xfrm>
            <a:off x="1257480" y="3881520"/>
            <a:ext cx="17301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81" name="17 Conector recto de flecha"/>
          <p:cNvCxnSpPr>
            <a:stCxn id="72" idx="4"/>
            <a:endCxn id="69" idx="0"/>
          </p:cNvCxnSpPr>
          <p:nvPr/>
        </p:nvCxnSpPr>
        <p:spPr>
          <a:xfrm>
            <a:off x="4462200" y="2923920"/>
            <a:ext cx="20880" cy="654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18 Conector recto de flecha"/>
          <p:cNvCxnSpPr>
            <a:endCxn id="69" idx="2"/>
          </p:cNvCxnSpPr>
          <p:nvPr/>
        </p:nvCxnSpPr>
        <p:spPr>
          <a:xfrm>
            <a:off x="2843280" y="4005000"/>
            <a:ext cx="737280" cy="183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19 Conector recto de flecha"/>
          <p:cNvCxnSpPr>
            <a:stCxn id="73" idx="7"/>
          </p:cNvCxnSpPr>
          <p:nvPr/>
        </p:nvCxnSpPr>
        <p:spPr>
          <a:xfrm flipV="1">
            <a:off x="3580920" y="4701600"/>
            <a:ext cx="559800" cy="471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20 Conector recto de flecha"/>
          <p:cNvCxnSpPr>
            <a:stCxn id="74" idx="1"/>
          </p:cNvCxnSpPr>
          <p:nvPr/>
        </p:nvCxnSpPr>
        <p:spPr>
          <a:xfrm flipH="1" flipV="1">
            <a:off x="4995360" y="4650480"/>
            <a:ext cx="642240" cy="466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" name="21 Conector recto de flecha"/>
          <p:cNvCxnSpPr>
            <a:endCxn id="69" idx="6"/>
          </p:cNvCxnSpPr>
          <p:nvPr/>
        </p:nvCxnSpPr>
        <p:spPr>
          <a:xfrm flipH="1">
            <a:off x="5386320" y="3933720"/>
            <a:ext cx="626040" cy="254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37 CuadroTexto"/>
          <p:cNvSpPr/>
          <p:nvPr/>
        </p:nvSpPr>
        <p:spPr>
          <a:xfrm>
            <a:off x="468360" y="1401840"/>
            <a:ext cx="85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92929"/>
                </a:solidFill>
                <a:latin typeface="Arial"/>
              </a:rPr>
              <a:t>CARACTERISTICAS DEL PRODUCTO CREDITO DE MUJE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0" y="2374920"/>
            <a:ext cx="460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7632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70c0"/>
                </a:solidFill>
                <a:latin typeface="Arial"/>
              </a:rPr>
              <a:t>INDICADORES DEL PROGRAMA CREDITO DE MUJER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3280" y="2421000"/>
            <a:ext cx="389592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437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6762600" cy="3459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857680" y="1909800"/>
            <a:ext cx="3360600" cy="807840"/>
          </a:xfrm>
          <a:prstGeom prst="rect">
            <a:avLst/>
          </a:prstGeom>
          <a:ln w="0">
            <a:noFill/>
          </a:ln>
        </p:spPr>
      </p:pic>
      <p:sp>
        <p:nvSpPr>
          <p:cNvPr id="94" name="3 Rectángulo"/>
          <p:cNvSpPr/>
          <p:nvPr/>
        </p:nvSpPr>
        <p:spPr>
          <a:xfrm>
            <a:off x="1919880" y="1539720"/>
            <a:ext cx="52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92929"/>
                </a:solidFill>
                <a:latin typeface="Arial"/>
              </a:rPr>
              <a:t>IMPACTO SEGÚN SPI 2011 en CREDIFLOR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6920" y="1484280"/>
            <a:ext cx="6301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935461"/>
                </a:solidFill>
                <a:latin typeface="Arial"/>
              </a:rPr>
              <a:t>RESULTADOS POR INDICADORES SPI 2011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2420640"/>
            <a:ext cx="7661520" cy="3459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539640" y="1920960"/>
            <a:ext cx="82090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Juana Ramirez e-MFP</cp:lastModifiedBy>
  <dcterms:modified xsi:type="dcterms:W3CDTF">2012-11-23T12:55:12Z</dcterms:modified>
  <cp:revision>37</cp:revision>
  <dc:subject/>
  <dc:title>Slide 1</dc:title>
</cp:coreProperties>
</file>