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57335-5DD6-4067-95C3-B59911E62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2F0F8-8545-4F30-83E1-B581ADC92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5ABCE-C7EF-4A39-AD33-4D66E290D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24043-A74B-4858-A8A5-05F8DC3D4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10674-EF7E-4328-BD6F-45E91F4B0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1C418-B2F5-4E1F-AEA3-31F6BF1FA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A1E43-F8E0-46EC-995D-13337543A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04775-CEA6-49CC-B435-84C1E9426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48076-7075-4EFA-A63E-C9F78DEAC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677F3-1CF2-403B-9BDD-A0A71FB38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9C574-F91D-4774-BD5F-93BFF24A9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E6368-0D77-4F69-B32D-28448ED37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AA91-3946-4E14-8D29-7880A16DBEE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newvision.co.u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120"/>
            <a:ext cx="78152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ad Industrial practices in the  Microfinance industry using loan Agreements. The case of Uganda</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By Flavian Zeija</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irecto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Justice for Microfinance Consumer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story in the Government Dairy Newspaper-The New Vision</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Tuesday, 21st June, 2011</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53 stuck in Luzira over money lenders; </a:t>
            </a:r>
            <a:r>
              <a:rPr b="1" lang="en-US" sz="1800" spc="-1" strike="noStrike">
                <a:solidFill>
                  <a:srgbClr val="000000"/>
                </a:solidFill>
                <a:latin typeface="Calibri"/>
              </a:rPr>
              <a:t>by Raymond Baguma</a:t>
            </a:r>
            <a:r>
              <a:rPr b="0" lang="en-US" sz="1800" spc="-1" strike="noStrike">
                <a:solidFill>
                  <a:srgbClr val="000000"/>
                </a:solidFill>
                <a:latin typeface="Calibri"/>
              </a:rPr>
              <a:t> </a:t>
            </a:r>
            <a:br>
              <a:rPr sz="1800"/>
            </a:br>
            <a:br>
              <a:rPr sz="1800"/>
            </a:br>
            <a:r>
              <a:rPr b="0" lang="en-US" sz="1800" spc="-1" strike="noStrike">
                <a:solidFill>
                  <a:srgbClr val="000000"/>
                </a:solidFill>
                <a:latin typeface="Calibri"/>
              </a:rPr>
              <a:t>OVER 50 inmates stuck in Luzira Prison over failure to pay civil debts have petitioned Chief Justice Benjamin Odoki to probe alleged corruption by magistrates and court bailiffs. </a:t>
            </a:r>
            <a:br>
              <a:rPr sz="1800"/>
            </a:br>
            <a:br>
              <a:rPr sz="1800"/>
            </a:br>
            <a:r>
              <a:rPr b="0" lang="en-US" sz="1800" spc="-1" strike="noStrike">
                <a:solidFill>
                  <a:srgbClr val="000000"/>
                </a:solidFill>
                <a:latin typeface="Calibri"/>
              </a:rPr>
              <a:t>The petitioners said the corrupt magistrates are found in Mengo, Nakawa, Mwanga II and Makindye courts. They also said they are ready to name and shame the corrupt court officers and bailiffs. </a:t>
            </a:r>
            <a:br>
              <a:rPr sz="1800"/>
            </a:br>
            <a:br>
              <a:rPr sz="1800"/>
            </a:br>
            <a:r>
              <a:rPr b="0" lang="en-US" sz="1800" spc="-1" strike="noStrike">
                <a:solidFill>
                  <a:srgbClr val="000000"/>
                </a:solidFill>
                <a:latin typeface="Calibri"/>
              </a:rPr>
              <a:t>The spokesperson of the judiciary, Elias Kisawuzi, yesterday confirmed receipt of the petition and said Odoki had instituted an investigation to be headed by the chief registrar, Henry Adonyo. </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5" name="Picture 7" descr="The New Vision - Uganda's Leading Website">
            <a:hlinkClick r:id="rId1"/>
          </p:cNvPr>
          <p:cNvPicPr/>
          <p:nvPr/>
        </p:nvPicPr>
        <p:blipFill>
          <a:blip r:embed="rId2"/>
          <a:stretch/>
        </p:blipFill>
        <p:spPr>
          <a:xfrm>
            <a:off x="1357200" y="1643040"/>
            <a:ext cx="4857840" cy="78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ory Cont..</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civil debtors in the petition said: “We bring to your attention the illegal mafia-like syndicate and connivance between magistrates, court clerks, lawyers and court bailiffs, who have turned the above-mentioned courts into money-minting machines for selfish interests at the detriment of litigants who are no longer accorded the right to fair hearing and trial as provided for in the constituti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petitioners said they were not served with court summons to defend themselves on soft loans offered by money lenders and banks against post-dated cheques and loan agreements. </a:t>
            </a:r>
            <a:br>
              <a:rPr sz="2500"/>
            </a:br>
            <a:br>
              <a:rPr sz="2500"/>
            </a:br>
            <a:r>
              <a:rPr b="0" lang="en-U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ustrial Practices of MFI</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me Microfinance Companies defrauding clients -</a:t>
            </a:r>
            <a:r>
              <a:rPr b="0" lang="en-GB" sz="2000" spc="-1" strike="noStrike">
                <a:solidFill>
                  <a:srgbClr val="000000"/>
                </a:solidFill>
                <a:latin typeface="Calibri"/>
              </a:rPr>
              <a:t>In December 2007, the Support Organisation for Microfinance Development (SOMED), a rural based Microfinance institution closed its doors and the directors disappear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tory that appeared in the Microcapital Monitor 2007, read “Ugandan Police are investigating four savings and co-operative credit organizations (SACCOs) suspected of fraud. (Front Page Microfinance, Faster Micro Finance, Savings and Credit Cooperative Society Support Uganda Finance Limited and Stade Rugando Finance), all based in Kampala-refusing clients to withdraw their saving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ceiving insufficient loan funds, and sometimes the institutions keeping loan cash collateral yet clients pay interest on full amou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est calculated on Flat rate instead of reduced balance method and changing interest rates without client’s cons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gh interest rates that sometimes goes beyond 100% in a ye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Cont..</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formation Gap to Clients: </a:t>
            </a:r>
            <a:r>
              <a:rPr b="0" lang="en-US" sz="1800" spc="-1" strike="noStrike">
                <a:solidFill>
                  <a:srgbClr val="000000"/>
                </a:solidFill>
                <a:latin typeface="Calibri"/>
              </a:rPr>
              <a:t>Clients</a:t>
            </a:r>
            <a:r>
              <a:rPr b="1" lang="en-US" sz="1800" spc="-1" strike="noStrike">
                <a:solidFill>
                  <a:srgbClr val="000000"/>
                </a:solidFill>
                <a:latin typeface="Calibri"/>
              </a:rPr>
              <a:t> </a:t>
            </a:r>
            <a:r>
              <a:rPr b="0" lang="en-US" sz="1800" spc="-1" strike="noStrike">
                <a:solidFill>
                  <a:srgbClr val="000000"/>
                </a:solidFill>
                <a:latin typeface="Calibri"/>
              </a:rPr>
              <a:t>informed of the advantages of obtaining the loans but had not been informed of the underlying pitfalls related to the repayment of these loans. the loans officers do not explain to clients the effect of the loan documents they sig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formation gap to Guarantors</a:t>
            </a:r>
            <a:r>
              <a:rPr b="0" lang="en-US" sz="1800" spc="-1" strike="noStrike">
                <a:solidFill>
                  <a:srgbClr val="000000"/>
                </a:solidFill>
                <a:latin typeface="Calibri"/>
              </a:rPr>
              <a:t>: Guarantors not appreciating that they are as liable as the principal debto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dden costs that are not explained to clients before taking up the loa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ultiple borrowing to clear loans of other institutions without clear benefi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ailure to appreciate the contents of the loan agreements by both loan officer and client. Many clients only ask for a space where to sign. Loan agreements drawn by lawyers without the intervention of local counse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fusal to allow clients to redeem their loans before paying a certain number of instalments(Usually half way the loa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tachment of properties without recourse to cour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above issues present  challenges for the continued survival of the industr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2T13:05:18Z</dcterms:created>
  <dc:creator>Zeija</dc:creator>
  <dc:description/>
  <dc:language>en-US</dc:language>
  <cp:lastModifiedBy>Juana Ramirez e-MFP</cp:lastModifiedBy>
  <dcterms:modified xsi:type="dcterms:W3CDTF">2011-11-22T11:45:09Z</dcterms:modified>
  <cp:revision>28</cp:revision>
  <dc:subject/>
  <dc:title>Bad Industrial practices of MFI in Ugands</dc:title>
</cp:coreProperties>
</file>