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60BF-4F25-4A1B-A21F-30DA8D087F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5 Pill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1- a full product su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2- provided with 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3- reaching all who can use the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4- in a diverse, competitive market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5- to an informed cliente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171-4A95-4D40-B250-53A16D26449A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640" y="1844640"/>
            <a:ext cx="766152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YOUTH FINANCIAL INCLUS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November 3rd, 201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35461"/>
                </a:solidFill>
                <a:latin typeface="Arial"/>
              </a:rPr>
              <a:t>What is financial inclusion?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«Full financial inclusion is a state in which all people who can use them have access to a suite of quality financial services, provided at affordable prices, in a convenient manner and with dignity for the client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Financial services are delivered by a range of providers, most of them private, and reach everyone who can use them, including disabled, poor and rural populations»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292929"/>
                </a:solidFill>
                <a:latin typeface="Arial"/>
              </a:rPr>
              <a:t>Center for Financial Inclusion at ACCION Internationa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35461"/>
                </a:solidFill>
                <a:latin typeface="Arial"/>
              </a:rPr>
              <a:t>Some food for thought: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989000"/>
            <a:ext cx="7661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Where is the gap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UNCDF market research study in SubSaharian Africa, Maria Perdom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How to understand the clients bet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Child’s Finance Certification Initiative with youth entrepreneurs, Jared Penn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292929"/>
                </a:solidFill>
                <a:latin typeface="Arial"/>
              </a:rPr>
              <a:t>How to design products responding to clients’ nee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Partner Microfinance Foundation and young entrepreneurs, Selma Climkov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WWB youth programs in Mongolia, Kenya, Dominican Republic Janiece Green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35461"/>
                </a:solidFill>
                <a:latin typeface="Arial"/>
              </a:rPr>
              <a:t>Key question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1988640"/>
            <a:ext cx="766152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What are the specific challenges for youth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Is it more in terms of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Offer of servi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Demand of servi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What are the most effective interventions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Capacity building of the financial sect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Financial educ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292929"/>
                </a:solidFill>
                <a:latin typeface="Arial"/>
              </a:rPr>
              <a:t>Regulatory measures – enabling environment and consumer protec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1-10-27T12:09:42Z</dcterms:modified>
  <cp:revision>23</cp:revision>
  <dc:subject/>
  <dc:title>Slide 1</dc:title>
</cp:coreProperties>
</file>