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B36-0031-44F0-ABAC-2D41AE70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828-654D-4E03-B02F-918CF28C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52D-F5A3-4A3C-9E6C-3BDA8AE6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0B4-4C7D-454E-8789-ABEAA61A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189-7CD1-4667-9E55-A4FC1C78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46B-1D46-4993-AE83-A3D8FDC4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158-90FE-4415-AE50-2CAAD16C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79F-D04D-459F-8FDE-F22C73C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999-6E83-4033-9B78-9AA1C859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F08-C5F9-418E-986A-63079C16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420-7972-450E-99D5-6AC35E19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4EE-153E-412A-8F87-B361181D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67DA-CEB3-47F1-B965-5445A8967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enjamin.ada@microfinance.lu" TargetMode="External"/><Relationship Id="rId2" Type="http://schemas.openxmlformats.org/officeDocument/2006/relationships/hyperlink" Target="mailto:flavia.nakamatte@financetrust.org" TargetMode="External"/><Relationship Id="rId3" Type="http://schemas.openxmlformats.org/officeDocument/2006/relationships/hyperlink" Target="mailto:maria.perdomo@uncdf.or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ontentBox2"/>
          <p:cNvSpPr/>
          <p:nvPr/>
        </p:nvSpPr>
        <p:spPr>
          <a:xfrm>
            <a:off x="785880" y="6500880"/>
            <a:ext cx="46080" cy="7128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Snapshot of the Publication</a:t>
            </a:r>
            <a:endParaRPr b="0" lang="en-US" sz="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ContentBox6"/>
          <p:cNvSpPr/>
          <p:nvPr/>
        </p:nvSpPr>
        <p:spPr>
          <a:xfrm>
            <a:off x="142920" y="6500880"/>
            <a:ext cx="142920" cy="1429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Thanks</a:t>
            </a:r>
            <a:endParaRPr b="0" lang="en-US" sz="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ContentBox5"/>
          <p:cNvSpPr/>
          <p:nvPr/>
        </p:nvSpPr>
        <p:spPr>
          <a:xfrm>
            <a:off x="2552760" y="2185920"/>
            <a:ext cx="2590920" cy="13525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FT, MCF and UNCDF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ContentBox4"/>
          <p:cNvSpPr/>
          <p:nvPr/>
        </p:nvSpPr>
        <p:spPr>
          <a:xfrm>
            <a:off x="5867280" y="2214720"/>
            <a:ext cx="2590920" cy="13525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used Section Space 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ContentBox3"/>
          <p:cNvSpPr/>
          <p:nvPr/>
        </p:nvSpPr>
        <p:spPr>
          <a:xfrm>
            <a:off x="5877000" y="4286160"/>
            <a:ext cx="2590560" cy="13525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A-RCPB-CIF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ContentBox1"/>
          <p:cNvSpPr/>
          <p:nvPr/>
        </p:nvSpPr>
        <p:spPr>
          <a:xfrm>
            <a:off x="395280" y="6519960"/>
            <a:ext cx="104760" cy="522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Slides before 1st Section Divider</a:t>
            </a:r>
            <a:endParaRPr b="0" lang="en-US" sz="6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90" name="Group 36"/>
          <p:cNvGrpSpPr/>
          <p:nvPr/>
        </p:nvGrpSpPr>
        <p:grpSpPr>
          <a:xfrm>
            <a:off x="2142000" y="1499760"/>
            <a:ext cx="6459120" cy="4674240"/>
            <a:chOff x="2142000" y="1499760"/>
            <a:chExt cx="6459120" cy="4674240"/>
          </a:xfrm>
        </p:grpSpPr>
        <p:cxnSp>
          <p:nvCxnSpPr>
            <p:cNvPr id="91" name="Straight Arrow Connector 15"/>
            <p:cNvCxnSpPr/>
            <p:nvPr/>
          </p:nvCxnSpPr>
          <p:spPr>
            <a:xfrm flipV="1">
              <a:off x="2142000" y="1499760"/>
              <a:ext cx="1080" cy="4672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2" name="Straight Arrow Connector 16"/>
            <p:cNvCxnSpPr/>
            <p:nvPr/>
          </p:nvCxnSpPr>
          <p:spPr>
            <a:xfrm>
              <a:off x="2142720" y="6172200"/>
              <a:ext cx="645876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93" name="TextBox 17"/>
          <p:cNvSpPr/>
          <p:nvPr/>
        </p:nvSpPr>
        <p:spPr>
          <a:xfrm>
            <a:off x="2928960" y="6143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aving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TextBox 19"/>
          <p:cNvSpPr/>
          <p:nvPr/>
        </p:nvSpPr>
        <p:spPr>
          <a:xfrm>
            <a:off x="6000840" y="6143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0" y="2428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engthier Edu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19080" y="4572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iefer Edu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14720" y="1714680"/>
          <a:ext cx="5940360" cy="4381200"/>
        </p:xfrm>
        <a:graphic>
          <a:graphicData uri="http://schemas.openxmlformats.org/drawingml/2006/table">
            <a:tbl>
              <a:tblPr/>
              <a:tblGrid>
                <a:gridCol w="2970000"/>
                <a:gridCol w="2970360"/>
              </a:tblGrid>
              <a:tr h="21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21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428760" y="2357280"/>
          <a:ext cx="8459640" cy="3484800"/>
        </p:xfrm>
        <a:graphic>
          <a:graphicData uri="http://schemas.openxmlformats.org/drawingml/2006/table">
            <a:tbl>
              <a:tblPr/>
              <a:tblGrid>
                <a:gridCol w="3082680"/>
                <a:gridCol w="537696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ivering age appropriate savings products for youth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632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ype of youth service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avings, financial literacy and reproductive healt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ge group serve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-17 (Teen Classic) and 18-24 (Youth Progress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Year youth program launche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009 with scale up in 201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umber of beneficiaries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,200 (60% female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Youth savings volum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€</a:t>
                      </a: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4,22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Youth loan volum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n-financial services mode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Unifie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artner organisations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UN Capital Development Fund, The MasterCard Foundation and YSO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4" descr="UNCDF logo.jpg"/>
          <p:cNvPicPr/>
          <p:nvPr/>
        </p:nvPicPr>
        <p:blipFill>
          <a:blip r:embed="rId1"/>
          <a:stretch/>
        </p:blipFill>
        <p:spPr>
          <a:xfrm>
            <a:off x="7929720" y="114480"/>
            <a:ext cx="1008000" cy="1071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mcf_pos_ppt_png.png"/>
          <p:cNvPicPr/>
          <p:nvPr/>
        </p:nvPicPr>
        <p:blipFill>
          <a:blip r:embed="rId2"/>
          <a:stretch/>
        </p:blipFill>
        <p:spPr>
          <a:xfrm>
            <a:off x="6143760" y="228600"/>
            <a:ext cx="1357200" cy="958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49" name="Object 2"/>
          <p:cNvGraphicFramePr/>
          <p:nvPr/>
        </p:nvGraphicFramePr>
        <p:xfrm>
          <a:off x="4971960" y="147600"/>
          <a:ext cx="86688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1960" y="147600"/>
                    <a:ext cx="866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5880" y="2357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35461"/>
                </a:solidFill>
                <a:latin typeface="Arial"/>
              </a:rPr>
              <a:t>THANKS!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000080" y="378612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Benjamin Mackay (</a:t>
            </a:r>
            <a:r>
              <a:rPr b="0" lang="fr-FR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benjamin.ada@microfinance.lu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Flavia Nakamatte (</a:t>
            </a:r>
            <a:r>
              <a:rPr b="0" lang="fr-FR" sz="1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flavia.nakamatte@financetrust.org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Maria Perdomo (</a:t>
            </a:r>
            <a:r>
              <a:rPr b="0" lang="fr-FR" sz="1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maria.perdomo@uncdf.org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35461"/>
                </a:solidFill>
                <a:latin typeface="Arial"/>
              </a:rPr>
              <a:t>Youth Financial Inclusion: Promising Examples for Achieving Youth Economic Empowerment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57200" y="5285880"/>
            <a:ext cx="640080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Luxembourg, 20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Snapshot of the Publicatio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An Effort of the e-MFP Youth Financial Inclusion Action Member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04" name="Picture 40" descr="http://t2.gstatic.com/images?q=tbn:ANd9GcRWeuzu8baJWwGlrJVcc8uNLdOw_7vkyq8o3zra6Po-miG1s5KA"/>
          <p:cNvPicPr/>
          <p:nvPr/>
        </p:nvPicPr>
        <p:blipFill>
          <a:blip r:embed="rId1"/>
          <a:stretch/>
        </p:blipFill>
        <p:spPr>
          <a:xfrm>
            <a:off x="357120" y="2500200"/>
            <a:ext cx="1857600" cy="9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t2.gstatic.com/images?q=tbn:ANd9GcSfLkNYB91NZ_3vONd9XvPIGu8cAyFZH3iT9VCv6h0bZODynl2r"/>
          <p:cNvPicPr/>
          <p:nvPr/>
        </p:nvPicPr>
        <p:blipFill>
          <a:blip r:embed="rId2"/>
          <a:stretch/>
        </p:blipFill>
        <p:spPr>
          <a:xfrm>
            <a:off x="6053040" y="2666880"/>
            <a:ext cx="2428920" cy="60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t0.gstatic.com/images?q=tbn:ANd9GcS9oBNjHVtcE-iY7cF5yRaMWSSBW5MiqpVdcdfhI7Sf7idYCx4Egw"/>
          <p:cNvPicPr/>
          <p:nvPr/>
        </p:nvPicPr>
        <p:blipFill>
          <a:blip r:embed="rId3"/>
          <a:stretch/>
        </p:blipFill>
        <p:spPr>
          <a:xfrm>
            <a:off x="285840" y="3747960"/>
            <a:ext cx="1571400" cy="123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4"/>
          <a:stretch/>
        </p:blipFill>
        <p:spPr>
          <a:xfrm>
            <a:off x="2319480" y="3819600"/>
            <a:ext cx="1716120" cy="928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5"/>
          <a:stretch/>
        </p:blipFill>
        <p:spPr>
          <a:xfrm>
            <a:off x="4819680" y="3971880"/>
            <a:ext cx="163836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6"/>
          <a:stretch/>
        </p:blipFill>
        <p:spPr>
          <a:xfrm>
            <a:off x="142920" y="5357880"/>
            <a:ext cx="2151000" cy="571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7"/>
          <a:stretch/>
        </p:blipFill>
        <p:spPr>
          <a:xfrm>
            <a:off x="2500200" y="5500800"/>
            <a:ext cx="2009880" cy="50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UNCDF logo.jpg"/>
          <p:cNvPicPr/>
          <p:nvPr/>
        </p:nvPicPr>
        <p:blipFill>
          <a:blip r:embed="rId8"/>
          <a:stretch/>
        </p:blipFill>
        <p:spPr>
          <a:xfrm>
            <a:off x="7358040" y="3571920"/>
            <a:ext cx="1278000" cy="13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http://t2.gstatic.com/images?q=tbn:ANd9GcRof6OXZGEe7DHYMc1cy1QhKDbxTBsZ3cFHfjLkGGpdh_ngXUg86Q"/>
          <p:cNvPicPr/>
          <p:nvPr/>
        </p:nvPicPr>
        <p:blipFill>
          <a:blip r:embed="rId9"/>
          <a:stretch/>
        </p:blipFill>
        <p:spPr>
          <a:xfrm>
            <a:off x="4929120" y="5000760"/>
            <a:ext cx="1009800" cy="133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http://t2.gstatic.com/images?q=tbn:ANd9GcRz9F2IEFg_kLdbumjrkBxEgpqUR1q8ieeeaCVzUj5Ht9bLkiOm"/>
          <p:cNvPicPr/>
          <p:nvPr/>
        </p:nvPicPr>
        <p:blipFill>
          <a:blip r:embed="rId10"/>
          <a:stretch/>
        </p:blipFill>
        <p:spPr>
          <a:xfrm>
            <a:off x="7215120" y="535788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C:\Users\mcmuker\Documents\CVs y trabajo\UNCDF YouthStart\Docs YouthStart\Difusión exterior\logo CYFI.png"/>
          <p:cNvPicPr/>
          <p:nvPr/>
        </p:nvPicPr>
        <p:blipFill>
          <a:blip r:embed="rId11"/>
          <a:stretch/>
        </p:blipFill>
        <p:spPr>
          <a:xfrm>
            <a:off x="2857680" y="2693880"/>
            <a:ext cx="3286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35461"/>
                </a:solidFill>
                <a:latin typeface="Arial"/>
              </a:rPr>
              <a:t>Common themes that emerged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500040" y="235728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egmentation of youth according to age and life cycle statu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ommitment of leadership and staff is key to succes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Youth need a bundle of servi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trategic marketing to yout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Bringing services to where youth ar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ngaging the broader commu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ppropriate monitoring and evalu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eek sustainability and scale from the begin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Be aware of regulatory challenges and constraint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14720" y="1714680"/>
          <a:ext cx="5940360" cy="4381200"/>
        </p:xfrm>
        <a:graphic>
          <a:graphicData uri="http://schemas.openxmlformats.org/drawingml/2006/table">
            <a:tbl>
              <a:tblPr/>
              <a:tblGrid>
                <a:gridCol w="2970000"/>
                <a:gridCol w="2970360"/>
              </a:tblGrid>
              <a:tr h="21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561c"/>
                    </a:solidFill>
                  </a:tcPr>
                </a:tc>
              </a:tr>
              <a:tr h="21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grpSp>
        <p:nvGrpSpPr>
          <p:cNvPr id="118" name="Group 36"/>
          <p:cNvGrpSpPr/>
          <p:nvPr/>
        </p:nvGrpSpPr>
        <p:grpSpPr>
          <a:xfrm>
            <a:off x="2142000" y="1499760"/>
            <a:ext cx="6459120" cy="4674240"/>
            <a:chOff x="2142000" y="1499760"/>
            <a:chExt cx="6459120" cy="4674240"/>
          </a:xfrm>
        </p:grpSpPr>
        <p:cxnSp>
          <p:nvCxnSpPr>
            <p:cNvPr id="119" name="Straight Arrow Connector 4"/>
            <p:cNvCxnSpPr/>
            <p:nvPr/>
          </p:nvCxnSpPr>
          <p:spPr>
            <a:xfrm flipV="1">
              <a:off x="2142000" y="1499760"/>
              <a:ext cx="1080" cy="4672800"/>
            </a:xfrm>
            <a:prstGeom prst="straightConnector1">
              <a:avLst/>
            </a:prstGeom>
            <a:ln w="9360">
              <a:solidFill>
                <a:srgbClr val="cc9800"/>
              </a:solidFill>
              <a:miter/>
              <a:tailEnd len="med" type="arrow" w="med"/>
            </a:ln>
          </p:spPr>
        </p:cxnSp>
        <p:cxnSp>
          <p:nvCxnSpPr>
            <p:cNvPr id="120" name="Straight Arrow Connector 5"/>
            <p:cNvCxnSpPr/>
            <p:nvPr/>
          </p:nvCxnSpPr>
          <p:spPr>
            <a:xfrm>
              <a:off x="2142720" y="6172200"/>
              <a:ext cx="6458760" cy="2160"/>
            </a:xfrm>
            <a:prstGeom prst="straightConnector1">
              <a:avLst/>
            </a:prstGeom>
            <a:ln w="9360">
              <a:solidFill>
                <a:srgbClr val="cc9800"/>
              </a:solidFill>
              <a:miter/>
              <a:tailEnd len="med" type="arrow" w="med"/>
            </a:ln>
          </p:spPr>
        </p:cxnSp>
      </p:grpSp>
      <p:sp>
        <p:nvSpPr>
          <p:cNvPr id="121" name="TextBox 8"/>
          <p:cNvSpPr/>
          <p:nvPr/>
        </p:nvSpPr>
        <p:spPr>
          <a:xfrm>
            <a:off x="2928960" y="6143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aving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000840" y="6143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0" y="2428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engthier Edu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19080" y="4572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iefer Edu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2571840" y="1857240"/>
            <a:ext cx="20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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AATCO/Aflatou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2614680" y="215748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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OPEM/XacBank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2614680" y="2448000"/>
            <a:ext cx="22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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RC Burundi VSL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2604960" y="3143160"/>
            <a:ext cx="24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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Uganda Finance Trus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2571840" y="4572000"/>
            <a:ext cx="246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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KfW World Savings Da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6000840" y="2000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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AT/YAP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6053040" y="29624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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artn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4800600" y="37148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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l Ama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6024600" y="23479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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EDA-YouthInves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5929200" y="4643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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CPB-Cred’A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ADA-RCPB-CIF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360" y="1844640"/>
          <a:ext cx="8459640" cy="4149720"/>
        </p:xfrm>
        <a:graphic>
          <a:graphicData uri="http://schemas.openxmlformats.org/drawingml/2006/table">
            <a:tbl>
              <a:tblPr/>
              <a:tblGrid>
                <a:gridCol w="3083040"/>
                <a:gridCol w="5376600"/>
              </a:tblGrid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dit for Young Artisans: Mali and Burkina Faso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632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ype of youth services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Loans, entrepreneurship education and financial literac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ge group serve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0-3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Year youth program launche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F: 2008-2009 (pilot test); mid-2011 (extension and replication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ali: 2010-2012 (pilot test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umber of beneficiaries (direct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51 (377 in Burkina Faso; 74 in Mali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umber of beneficiaries (indirect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74 (employees and apprentices in Burkina Faso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ata n/a for Mal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Youth savings volum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,544,910 FCFA (€2,355) in Burkina Fas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Youth loan volum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€</a:t>
                      </a: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66,891 in Burkina Fas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€</a:t>
                      </a: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0,648 in Mal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n-financial services mode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Unifie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artner organisations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CPB, Nyésigiso, Kafo Jiginew, ADA, CIF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pic>
        <p:nvPicPr>
          <p:cNvPr id="139" name="Picture 37" descr=""/>
          <p:cNvPicPr/>
          <p:nvPr/>
        </p:nvPicPr>
        <p:blipFill>
          <a:blip r:embed="rId1"/>
          <a:stretch/>
        </p:blipFill>
        <p:spPr>
          <a:xfrm>
            <a:off x="4786200" y="21420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8" descr=""/>
          <p:cNvPicPr/>
          <p:nvPr/>
        </p:nvPicPr>
        <p:blipFill>
          <a:blip r:embed="rId2"/>
          <a:stretch/>
        </p:blipFill>
        <p:spPr>
          <a:xfrm>
            <a:off x="6129360" y="333360"/>
            <a:ext cx="1214280" cy="50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http://t2.gstatic.com/images?q=tbn:ANd9GcRWeuzu8baJWwGlrJVcc8uNLdOw_7vkyq8o3zra6Po-miG1s5KA"/>
          <p:cNvPicPr/>
          <p:nvPr/>
        </p:nvPicPr>
        <p:blipFill>
          <a:blip r:embed="rId3"/>
          <a:stretch/>
        </p:blipFill>
        <p:spPr>
          <a:xfrm>
            <a:off x="7667640" y="252360"/>
            <a:ext cx="12859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UFT, MCF and UNCDF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MARIA</cp:lastModifiedBy>
  <dcterms:modified xsi:type="dcterms:W3CDTF">2012-11-16T11:45:43Z</dcterms:modified>
  <cp:revision>51</cp:revision>
  <dc:subject/>
  <dc:title>Slide 1</dc:title>
</cp:coreProperties>
</file>