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9640" y="422748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654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020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2040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964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020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2040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43280" y="1484280"/>
            <a:ext cx="6300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654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6485040"/>
            <a:ext cx="9144000" cy="380880"/>
          </a:xfrm>
          <a:prstGeom prst="rect">
            <a:avLst/>
          </a:prstGeom>
          <a:solidFill>
            <a:srgbClr val="e856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5160" indent="-42516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44200" indent="-417240">
              <a:spcBef>
                <a:spcPts val="7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29040" indent="-3830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3" marL="1596960" indent="-366480">
              <a:spcBef>
                <a:spcPts val="7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4" marL="1966320" indent="-36792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5" marL="1966320" indent="-367920">
              <a:spcBef>
                <a:spcPts val="700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6" marL="1966320" indent="-367920">
              <a:spcBef>
                <a:spcPts val="700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22120" y="6559560"/>
            <a:ext cx="288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Arial"/>
              </a:rPr>
              <a:t>contact@e-mfp.eu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6084720" y="6597720"/>
            <a:ext cx="28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Arial"/>
              </a:rPr>
              <a:t>www.e-mfp.eu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pic>
        <p:nvPicPr>
          <p:cNvPr id="5" name="Picture 3" descr="C:\Users\Cox\Desktop\Sans-titre-1.jpg"/>
          <p:cNvPicPr/>
          <p:nvPr/>
        </p:nvPicPr>
        <p:blipFill>
          <a:blip r:embed="rId2"/>
          <a:stretch/>
        </p:blipFill>
        <p:spPr>
          <a:xfrm>
            <a:off x="0" y="0"/>
            <a:ext cx="6372360" cy="1484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bs-BA" sz="2400" spc="-1" strike="noStrike">
                <a:solidFill>
                  <a:srgbClr val="935461"/>
                </a:solidFill>
                <a:latin typeface="Arial"/>
              </a:rPr>
              <a:t>CLIENT PROTECTION – ARE WE THERE YET?</a:t>
            </a:r>
            <a:endParaRPr b="1" lang="en-US" sz="24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292929"/>
                </a:solidFill>
                <a:latin typeface="Arial"/>
              </a:rPr>
              <a:t>Sadina Bina, Director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92929"/>
                </a:solidFill>
                <a:latin typeface="Arial"/>
              </a:rPr>
              <a:t>EKI Microcredit Foundatio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92929"/>
                </a:solidFill>
                <a:latin typeface="Arial"/>
              </a:rPr>
              <a:t>Bosnia and Herzegovin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935461"/>
                </a:solidFill>
                <a:latin typeface="Arial"/>
              </a:rPr>
              <a:t>EKI Microcredi Foundation, B&amp;H</a:t>
            </a:r>
            <a:br>
              <a:rPr sz="2000"/>
            </a:br>
            <a:r>
              <a:rPr b="1" i="1" lang="hr-HR" sz="2000" spc="-1" strike="noStrike">
                <a:solidFill>
                  <a:srgbClr val="935461"/>
                </a:solidFill>
                <a:latin typeface="Arial"/>
              </a:rPr>
              <a:t>Highlights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4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Founded in 1996 by World Vision International as a Microcredit Programme, later transformed into a local institution - Microcredit Organization EKI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The mission of EKI is to reduce economic causes of poverty in Bosnia and Herzegovina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EKI today is one of top three Microcredit organizations at the B&amp;H market with market share close to 17% in terms of portfolio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EKI serves a base with over than 37.000 clients and employs 270 peopl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EKI is recognized as an institution willing to introduce new ideas and project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bs-BA" sz="2000" spc="-1" strike="noStrike">
                <a:solidFill>
                  <a:srgbClr val="935461"/>
                </a:solidFill>
                <a:latin typeface="Arial"/>
              </a:rPr>
              <a:t>Contextual</a:t>
            </a: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 factors</a:t>
            </a:r>
            <a:r>
              <a:rPr b="1" lang="bs-BA" sz="2000" spc="-1" strike="noStrike">
                <a:solidFill>
                  <a:srgbClr val="935461"/>
                </a:solidFill>
                <a:latin typeface="Arial"/>
              </a:rPr>
              <a:t> to Client Protection in B&amp;H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ompetitive marke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risis: overindebtedness of clients &amp; financial problems of MFI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MFIs reputatio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upportive regulations: Central Registry,data privacy requirement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68000" y="1484280"/>
            <a:ext cx="68756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hr-HR" sz="2000" spc="-1" strike="noStrike">
                <a:solidFill>
                  <a:srgbClr val="935461"/>
                </a:solidFill>
                <a:latin typeface="Arial"/>
              </a:rPr>
              <a:t>What is common by local regulation to CPP?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4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MCO’s are required to disclose the effective interest rates following a formula established by the Banking Agency. The effective interest rate must be published at all marketing materials and clearly stated at the loan contract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MCO’s are required to submit annual audited financial statements to the Banking Agency, as well as to publish them in one or more daily newspapers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MCOs are required to participate in the credit registry, submitting client data on a monthly basis .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hr-HR" sz="2000" spc="-1" strike="noStrike">
                <a:solidFill>
                  <a:srgbClr val="935461"/>
                </a:solidFill>
                <a:latin typeface="Arial"/>
              </a:rPr>
              <a:t>What EKI does about client protection?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425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92929"/>
                </a:solidFill>
                <a:latin typeface="Arial"/>
              </a:rPr>
              <a:t>We support standing that protection of clients equals to protection of institution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25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92929"/>
                </a:solidFill>
                <a:latin typeface="Arial"/>
              </a:rPr>
              <a:t>Client Protection Program introduced and set up at EKI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25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92929"/>
                </a:solidFill>
                <a:latin typeface="Arial"/>
              </a:rPr>
              <a:t>Policy is adopted by the Board of Directors  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25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92929"/>
                </a:solidFill>
                <a:latin typeface="Arial"/>
              </a:rPr>
              <a:t>The Policy is designed in line with the 6 Client Protection Principles (CPP)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25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92929"/>
                </a:solidFill>
                <a:latin typeface="Arial"/>
              </a:rPr>
              <a:t>CPPs are introduced to EKI staff, and EKI tends to make sure that all are aware of CPP importance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25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92929"/>
                </a:solidFill>
                <a:latin typeface="Arial"/>
              </a:rPr>
              <a:t>Senior Management Team is dedicated to implementation of the Policy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hr-HR" sz="2000" spc="-1" strike="noStrike">
                <a:solidFill>
                  <a:srgbClr val="935461"/>
                </a:solidFill>
                <a:latin typeface="Arial"/>
              </a:rPr>
              <a:t>How CPP works at EKI?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There are adopted practices including: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Establishment of an efficient system for preventing overindebtedness and protection of client privacy data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Formal policies for ethical behavior of staff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Transparency </a:t>
            </a:r>
            <a:r>
              <a:rPr b="0" lang="bs-BA" sz="1600" spc="-1" strike="noStrike">
                <a:solidFill>
                  <a:srgbClr val="292929"/>
                </a:solidFill>
                <a:latin typeface="Arial"/>
              </a:rPr>
              <a:t>of information important to clients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and flexible product offering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Well developed polices and systems are fundament for effective client protection.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However, there is a risk that staff practices at the field may vary between branches and individuals.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43280" y="150012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hr-HR" sz="2000" spc="-1" strike="noStrike">
                <a:solidFill>
                  <a:srgbClr val="935461"/>
                </a:solidFill>
                <a:latin typeface="Arial"/>
              </a:rPr>
              <a:t>What EKI finds as very important about CPP?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45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292929"/>
                </a:solidFill>
                <a:latin typeface="Arial"/>
              </a:rPr>
              <a:t>The set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up </a:t>
            </a:r>
            <a:r>
              <a:rPr b="0" lang="bs-BA" sz="1800" spc="-1" strike="noStrike">
                <a:solidFill>
                  <a:srgbClr val="292929"/>
                </a:solidFill>
                <a:latin typeface="Arial"/>
              </a:rPr>
              <a:t>of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a formal system for monitoring field staff practice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292929"/>
                </a:solidFill>
                <a:latin typeface="Arial"/>
              </a:rPr>
              <a:t>Strenghtening of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soft skills of Loan Officers in terms of</a:t>
            </a:r>
            <a:r>
              <a:rPr b="0" lang="bs-BA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communication with clients (i.e. effective communication of rights and obligations, product terms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292929"/>
                </a:solidFill>
                <a:latin typeface="Arial"/>
              </a:rPr>
              <a:t>Including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taff ethics (beyond professional conduct) into appraisal system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92929"/>
                </a:solidFill>
                <a:latin typeface="Arial"/>
              </a:rPr>
              <a:t>Comunicating continuous implementation of the principals at all levels of organization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hr-HR" sz="2000" spc="-1" strike="noStrike">
                <a:solidFill>
                  <a:srgbClr val="935461"/>
                </a:solidFill>
                <a:latin typeface="Arial"/>
              </a:rPr>
              <a:t>Yet to be improved with CPP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39640" y="2421000"/>
            <a:ext cx="7661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45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Ensure that all MFIs to adopt and implement </a:t>
            </a:r>
            <a:r>
              <a:rPr b="0" lang="bs-BA" sz="1800" spc="-1" strike="noStrike">
                <a:solidFill>
                  <a:srgbClr val="292929"/>
                </a:solidFill>
                <a:latin typeface="Arial"/>
              </a:rPr>
              <a:t>CPP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292929"/>
                </a:solidFill>
                <a:latin typeface="Arial"/>
              </a:rPr>
              <a:t>Make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organizations distinctive in terms of CPP by clients and </a:t>
            </a:r>
            <a:r>
              <a:rPr b="0" lang="bs-BA" sz="1800" spc="-1" strike="noStrike">
                <a:solidFill>
                  <a:srgbClr val="292929"/>
                </a:solidFill>
                <a:latin typeface="Arial"/>
              </a:rPr>
              <a:t>funder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Underscore benefits of the implementation of CPP for the organization and to customer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Making a difference between organizations that have only adopted policies and those </a:t>
            </a:r>
            <a:r>
              <a:rPr b="0" lang="bs-BA" sz="1800" spc="-1" strike="noStrike">
                <a:solidFill>
                  <a:srgbClr val="292929"/>
                </a:solidFill>
                <a:latin typeface="Arial"/>
              </a:rPr>
              <a:t>where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olicies are implemented and applied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Introduce certification </a:t>
            </a:r>
            <a:r>
              <a:rPr b="0" lang="bs-BA" sz="1800" spc="-1" strike="noStrike">
                <a:solidFill>
                  <a:srgbClr val="292929"/>
                </a:solidFill>
                <a:latin typeface="Arial"/>
              </a:rPr>
              <a:t>of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organization</a:t>
            </a:r>
            <a:r>
              <a:rPr b="0" lang="bs-BA" sz="1800" spc="-1" strike="noStrike">
                <a:solidFill>
                  <a:srgbClr val="292929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for the CPP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722160" y="2595240"/>
            <a:ext cx="7772400" cy="83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4400" spc="-1" strike="noStrike">
                <a:solidFill>
                  <a:srgbClr val="c0000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10:39:38Z</dcterms:created>
  <dc:creator>Martin Kinsella</dc:creator>
  <dc:description/>
  <dc:language>en-US</dc:language>
  <cp:lastModifiedBy>Juana Ramirez e-MFP</cp:lastModifiedBy>
  <dcterms:modified xsi:type="dcterms:W3CDTF">2011-10-31T11:40:22Z</dcterms:modified>
  <cp:revision>60</cp:revision>
  <dc:subject/>
  <dc:title>Slide 1</dc:title>
</cp:coreProperties>
</file>