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2C6F-F538-4CE7-8B83-F4A47FF92C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Calibri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We are the national network of microfinance practitioners and allied service institutions committed t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900" spc="-1" strike="noStrike">
                <a:solidFill>
                  <a:srgbClr val="000000"/>
                </a:solidFill>
                <a:latin typeface="Calibri"/>
              </a:rPr>
              <a:t>Advocate</a:t>
            </a: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 the eradication of poverty in the Philippines by providing ethical and inclusive financial and non-financial service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900" spc="-1" strike="noStrike">
                <a:solidFill>
                  <a:srgbClr val="000000"/>
                </a:solidFill>
                <a:latin typeface="Calibri"/>
              </a:rPr>
              <a:t>Advance </a:t>
            </a: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he capacity of members to serve poor households in a sustainable, innovative, and client-responsive manne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900" spc="-1" strike="noStrike">
                <a:solidFill>
                  <a:srgbClr val="000000"/>
                </a:solidFill>
                <a:latin typeface="Calibri"/>
              </a:rPr>
              <a:t>Achieve</a:t>
            </a: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 the highest global standards of excellence in governance, stewardship, and service towards staff, clients and communities served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MCPI Goals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advocate for a policy environment that is conducive to the growth and development of a market-oriented microfinance sec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help members serve significant number of poor households with financial and non-financial services that would help speed up the eradication of pover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help build members’ capacity for innovation that enhances the development of client-responsive products, services, and social development program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increase the take-up of social performance management among MFIs for improved achievement of social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promote the adoption of and adherence to international performance standar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increase the availability of industry information, microfinance best practices, and innovati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mobilize resources and to network with government, donors, funding agencies, investors and financial markets in order to enhance the development of the microfinance sec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900" spc="-1" strike="noStrike">
                <a:solidFill>
                  <a:srgbClr val="000000"/>
                </a:solidFill>
                <a:latin typeface="Calibri"/>
              </a:rPr>
              <a:t>To strengthen the operational, technical and financial capacities of MCP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318-B016-41EB-9C7C-B7DCFE45AAD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istory on MCPI’s involvement with Client Prot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sues on client protection such as saturation of MF services, multiple borrowing, unethical practices, etc. have risen for the last 10 years. MCPI came up with a code of ethics among its member-MFIs to address issues on saturation and competition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ocial performance management is a core program of MCPI. MCPI believes that if MFIs are able to translate their mission effectively, MFIs will be able to: reach the marginalized clients, provide appropriate services and products according to the clients’ needs and eventually influence a positive change in the lives of the clients. Client protection is aligned and supportive of the SPM program of MCPI.  The Social Performance Program started in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2009, MCPI partnered with ACCION International in the conduct of the Beyond Codes pro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2010, MCPI officially endorsed the Smart campaign. And part of the commitment is strengthening the capacity of the MCPI secretariat in conducting assess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688-27C7-495C-A21E-38368E42115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r MCPI to pursue its client protection initiatives, there was a need to strengthen the capacity of the secretariat in terms of knowledge and skills on Client protection, thus, through the support of SEEP and ACCION international – MCPI sent three representatives to attend the training on client protection in Mex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CPI also strengthen its pool of mentors and trainers on SPM by involving them as shadow-mentor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following are MCPI’s client protection initi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Advoc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Multiple borrowing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Client-mapping init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Training on Client Protection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Conducted 2 for this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To date MCPI conducted 8 assessments on client protection including the ones during the Beyond Codes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Partner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Bangko Sentral ng Pilipin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MicroFinance Transpar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Oikocre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0E9A-9BBA-473A-87C9-F9A22B75325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ractices among partners (or Experience To-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merging practices on client protection based on the 6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su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Where we are now? – in terms of practices; mention also coordination with a regulator (BSP) on pricing disclos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B1C0-0D31-43CD-B285-07B0E3A726D7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ractices among partners (or Experience To-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merging practices on client protection based on the 6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su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Where we are now? – in terms of practices; mention also coordination with a regulator (BSP) on pricing disclos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9E5E-903E-481F-94DE-CFB6C84E860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Where we are now? – in terms of practices; mention also coordination with a regulator (BSP) on pricing disclos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F2A6-E5B7-4AD6-971F-77EB0BA8DFA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Client Protection – are we there yet?</a:t>
            </a:r>
            <a:br>
              <a:rPr sz="3200"/>
            </a:br>
            <a:r>
              <a:rPr b="0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(The MCPI Experience)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Mila M. Bunker, Chairpers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Microfinance Council of the Philippines, Inc. (MCP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(November 3,201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About MCPI 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2204640"/>
            <a:ext cx="7345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Segoe UI"/>
                <a:ea typeface="Segoe UI"/>
              </a:rPr>
              <a:t>MCPI is the national network of MFIs and support organizations working towards sustainable, innovative, and client-responsive solutions to poverty in the Philippin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292929"/>
                </a:solidFill>
                <a:latin typeface="Segoe UI"/>
                <a:ea typeface="Segoe UI"/>
              </a:rPr>
              <a:t>MCPI is composed of 47 institutions including 39 MFIs and 8 support organization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36558" t="27559" r="29727" b="27559"/>
          <a:stretch/>
        </p:blipFill>
        <p:spPr>
          <a:xfrm>
            <a:off x="6443640" y="1125360"/>
            <a:ext cx="11876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MCPI &amp; Client Protection:</a:t>
            </a:r>
            <a:br>
              <a:rPr sz="3200"/>
            </a:b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how it started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2565360"/>
            <a:ext cx="766152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Social Performance Management </a:t>
            </a: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as one of the core programs of MCP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Client protection (doing no harm to clients) as fundamental in social performance managemen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Arising issues </a:t>
            </a: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on client protection such as: </a:t>
            </a:r>
            <a:r>
              <a:rPr b="0" i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over-saturation of MF services, multiple borrowing, unethical MFI practices, et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Participation in the </a:t>
            </a: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Beyond Codes </a:t>
            </a: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Project in 200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Smart Campaign </a:t>
            </a:r>
            <a:r>
              <a:rPr b="0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endors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Client Protection Initiatives </a:t>
            </a:r>
            <a:br>
              <a:rPr sz="3200"/>
            </a:b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of MCPI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56176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292929"/>
                </a:solidFill>
                <a:latin typeface="Segoe UI"/>
                <a:ea typeface="Segoe UI"/>
              </a:rPr>
              <a:t>Advocacy – raising awareness on client protection issues and on the six Client Protection Principles; research- and information-based advocacy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Pricing transparenc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Multiple borrowing stud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Client-mapping initiative to determine saturation levels of MF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292929"/>
                </a:solidFill>
                <a:latin typeface="Segoe UI"/>
                <a:ea typeface="Segoe UI"/>
              </a:rPr>
              <a:t>Training MFIs on the Client Protection Principl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292929"/>
                </a:solidFill>
                <a:latin typeface="Segoe UI"/>
                <a:ea typeface="Segoe UI"/>
              </a:rPr>
              <a:t>Assessment of MFIs’ client protection practi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600" spc="-1" strike="noStrike">
                <a:solidFill>
                  <a:srgbClr val="292929"/>
                </a:solidFill>
                <a:latin typeface="Segoe UI"/>
                <a:ea typeface="Segoe UI"/>
              </a:rPr>
              <a:t>Engaging key stakeholders and participating in major initiativ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Bangko Sentral ng Pilipinas </a:t>
            </a: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(for the standardized disclosure format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The Smart Campaig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The SEEP Network (network strengthening project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The MIX (reporting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MicroFinance Transparenc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400" spc="-1" strike="noStrike">
                <a:solidFill>
                  <a:srgbClr val="292929"/>
                </a:solidFill>
                <a:latin typeface="Segoe UI"/>
                <a:ea typeface="ＭＳ Ｐゴシック"/>
              </a:rPr>
              <a:t>Oikocredi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Some Findings To-date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280" y="2133360"/>
            <a:ext cx="79930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Appropriate product design and deliver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MFIs with market research and business development services units are more effective in terms of appropriate product design and delive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Prevention of over-indebted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Need to be translated in terms of policies to ensure practice and implemen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Governance (Board and senior management) plays an important ro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Transparenc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Pricing transparency still has to be improved;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Communicating to clients using local language in marketing materials and other documents are commonly practic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Some Findings To-date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213336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Fair and respectful treatment of cli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The role of HR, including training, is critical in ensuring that staff adheres to appropriate treatment of clien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Privacy of client da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A conducive regulatory environment which gives importance to client privacy can be supportive of this principle, particularly for bank M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292929"/>
                </a:solidFill>
                <a:latin typeface="Segoe UI"/>
                <a:ea typeface="Segoe UI"/>
              </a:rPr>
              <a:t>Mechanisms for complaint re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MFIs taking advantage and making use of social networks and SMS in getting feedbacks from clie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292929"/>
                </a:solidFill>
                <a:latin typeface="Segoe UI"/>
                <a:ea typeface="Segoe UI"/>
              </a:rPr>
              <a:t>Presence of a product development unit is effective in incorporating changes or adjustments in products and services based on client feedback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935461"/>
                </a:solidFill>
                <a:latin typeface="Segoe UI"/>
                <a:ea typeface="Segoe UI"/>
              </a:rPr>
              <a:t>Where is MCPI now?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2133720"/>
            <a:ext cx="766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292929"/>
                </a:solidFill>
                <a:latin typeface="Segoe UI"/>
                <a:ea typeface="Segoe UI"/>
              </a:rPr>
              <a:t>Raising awarenes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Continuing efforts on raising awareness through learning activities (training, fora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292929"/>
                </a:solidFill>
                <a:latin typeface="Segoe UI"/>
                <a:ea typeface="Segoe UI"/>
              </a:rPr>
              <a:t>Proposed Microfinance Cod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Integration of client protection principles in the proposed cod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292929"/>
                </a:solidFill>
                <a:latin typeface="Segoe UI"/>
                <a:ea typeface="Segoe UI"/>
              </a:rPr>
              <a:t>Coordination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Bangko Sentral ng Pilipinas </a:t>
            </a:r>
            <a:r>
              <a:rPr b="0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for policy advocacy particularly on pricing disclosu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Microfinance Transparency - the state of pricing transparency in the Philippin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292929"/>
                </a:solidFill>
                <a:latin typeface="Segoe UI"/>
                <a:ea typeface="Segoe UI"/>
              </a:rPr>
              <a:t>Engaging more regulators and MFI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PH" sz="4000" spc="-1" strike="noStrike">
                <a:solidFill>
                  <a:srgbClr val="935461"/>
                </a:solidFill>
                <a:latin typeface="Segoe UI"/>
                <a:ea typeface="Segoe UI"/>
              </a:rPr>
              <a:t>MARAMING SALAMAT!</a:t>
            </a:r>
            <a:endParaRPr b="1" lang="en-US" sz="4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08:20:38Z</dcterms:modified>
  <cp:revision>57</cp:revision>
  <dc:subject/>
  <dc:title>Slide 1</dc:title>
</cp:coreProperties>
</file>