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30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</p:sldMasterIdLst>
  <p:notesMasterIdLst>
    <p:notesMasterId r:id="rId27"/>
  </p:notesMasterIdLst>
  <p:sldIdLst>
    <p:sldId id="256" r:id="rId28"/>
    <p:sldId id="257" r:id="rId29"/>
    <p:sldId id="258" r:id="rId30"/>
    <p:sldId id="259" r:id="rId31"/>
    <p:sldId id="260" r:id="rId32"/>
    <p:sldId id="261" r:id="rId33"/>
    <p:sldId id="262" r:id="rId34"/>
    <p:sldId id="263" r:id="rId35"/>
    <p:sldId id="264" r:id="rId36"/>
    <p:sldId id="265" r:id="rId37"/>
    <p:sldId id="266" r:id="rId38"/>
    <p:sldId id="267" r:id="rId39"/>
    <p:sldId id="268" r:id="rId40"/>
    <p:sldId id="269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notesMaster" Target="notesMasters/notesMaster1.xml"/><Relationship Id="rId28" Type="http://schemas.openxmlformats.org/officeDocument/2006/relationships/slide" Target="slides/slide1.xml"/><Relationship Id="rId29" Type="http://schemas.openxmlformats.org/officeDocument/2006/relationships/slide" Target="slides/slide2.xml"/><Relationship Id="rId30" Type="http://schemas.openxmlformats.org/officeDocument/2006/relationships/slide" Target="slides/slide3.xml"/><Relationship Id="rId31" Type="http://schemas.openxmlformats.org/officeDocument/2006/relationships/slide" Target="slides/slide4.xml"/><Relationship Id="rId32" Type="http://schemas.openxmlformats.org/officeDocument/2006/relationships/slide" Target="slides/slide5.xml"/><Relationship Id="rId33" Type="http://schemas.openxmlformats.org/officeDocument/2006/relationships/slide" Target="slides/slide6.xml"/><Relationship Id="rId34" Type="http://schemas.openxmlformats.org/officeDocument/2006/relationships/slide" Target="slides/slide7.xml"/><Relationship Id="rId35" Type="http://schemas.openxmlformats.org/officeDocument/2006/relationships/slide" Target="slides/slide8.xml"/><Relationship Id="rId36" Type="http://schemas.openxmlformats.org/officeDocument/2006/relationships/slide" Target="slides/slide9.xml"/><Relationship Id="rId37" Type="http://schemas.openxmlformats.org/officeDocument/2006/relationships/slide" Target="slides/slide10.xml"/><Relationship Id="rId38" Type="http://schemas.openxmlformats.org/officeDocument/2006/relationships/slide" Target="slides/slide11.xml"/><Relationship Id="rId39" Type="http://schemas.openxmlformats.org/officeDocument/2006/relationships/slide" Target="slides/slide12.xml"/><Relationship Id="rId40" Type="http://schemas.openxmlformats.org/officeDocument/2006/relationships/slide" Target="slides/slide13.xml"/><Relationship Id="rId41" Type="http://schemas.openxmlformats.org/officeDocument/2006/relationships/slide" Target="slides/slide14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2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 type="dt" idx="7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35461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103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1" name="PlaceHolder 5"/>
          <p:cNvSpPr>
            <a:spLocks noGrp="1"/>
          </p:cNvSpPr>
          <p:nvPr>
            <p:ph type="ftr" idx="7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32" name="PlaceHolder 6"/>
          <p:cNvSpPr>
            <a:spLocks noGrp="1"/>
          </p:cNvSpPr>
          <p:nvPr>
            <p:ph type="sldNum" idx="7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9A8D9-FB88-423D-AF72-5EA384BB78F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21EA8-AE99-4A19-AB81-7BA27CB42FBB}" type="slidenum">
              <a:rPr b="0" lang="en-US" sz="12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40E31-5A78-4E7F-B983-9E05E1C73D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DA6EB-9F4C-4E48-8A68-B4D1E78C76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eep accounting recor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n cash nee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vels of sa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E0AC3-87D4-4CE8-85EE-E36D6F124E41}" type="slidenum">
              <a:rPr b="0" lang="fr-FR" sz="12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5C589-5BDA-45F4-948F-E2D7C31DDB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50 MF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vestors designing too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FBEB7-6270-4EA3-97FD-09B8BC5CECB7}" type="slidenum">
              <a:rPr b="0" lang="fr-FR" sz="12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Exampl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Portfolios of the po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Ethnographic stud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AIMS stud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Brun, Kaboski and Townse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Calibri"/>
              </a:rPr>
              <a:t>Outcomes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RCTs Spandana, Al Amana, First Macro Ban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Calibri"/>
              </a:rPr>
              <a:t>Product testing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Group vs. individual liability Ind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Savings’ commitment devices Philipp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Repayment schedules Ind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56ABB-0FE6-4257-9351-524BE2A548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of the cons affect also other type of stud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B2BB6-3134-4DCC-9F8C-3075A3E1C3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50214-C426-4CA2-B9A0-8022CCB257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w uptak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edit disciplinato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is not like textbooks. It is an opportunity as opposed to an input, and as an opportunity it is embraced in different ways by different people.“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6AB23-0BC9-4AE6-92A2-01B299703A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3D519F-4ED9-488A-9A3A-89F25EA36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DB32A5-9662-4544-962A-6C967F3F1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5E793D-8AAF-4A72-B3A5-6B77DF36E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4BE18B-F35B-46C7-8499-0AAEA3970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9810B5-2515-45D3-A7AE-E59ECCC4A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BC865D-A54B-4394-9CC0-599100AA8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2EA41B-5423-4E03-8A33-980FB9A32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B52D59-ABA1-456F-8E9E-67609A877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3622FD-5E62-4E0E-9A7E-84F291FA6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F49892-A513-42AF-8905-0F193A39F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C35D00-0945-4F7C-99B0-06E87927E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C76953-E926-46DE-B29B-75E89FF6E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AA41B8-FB36-42C4-B8B8-F473B3779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B29A89-CC02-4EAE-8557-EBA31356B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43D33C-AADC-4E38-93DB-FC66863FB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1ECC59-E4BC-4395-8720-901B01F91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47C32C-EF56-4873-BEB5-36088B9C2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44D062-86FE-43FD-963C-637C29018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0499F4-C913-4ED2-AF2A-DD6F5B6FB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BCD679-AAAD-4F1D-86FD-CC1F78D58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3E777B-5526-406F-A39D-E9D7C0994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5AF3D1-ABB2-4AB3-8E60-253263B1A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A7CD43-DB86-4A64-852D-995633506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CC4C00-C1DC-4624-A4BD-29988C9DD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EDC397-4FE3-42F6-AF79-20A7482AA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24A31C-4A93-4FFC-9B48-E13D8D600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C98A7B-CB99-4206-9786-B06B6D701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A01A3E-6CFB-4F01-8A0E-E0B6D42DC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2426C2-75E9-4802-8641-D6760AB59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33D734-A1F2-4D0C-89E4-9CE1ABF5F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A64BF-3F03-47EE-AAA3-21A17E75F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6BC433-CB38-45D1-AED3-1A0A271CF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5B149E-8D04-4FB3-8C7C-17AE1FB42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6294FD-5908-439D-845C-C3121C3E9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EEEBDB-DFE7-4AF8-B5A5-D3D5CB65D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7F4CD0-55CF-4900-93A4-33CBC8185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06F680-882F-4CCE-80D9-0A6F9FE4C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6C1188-9568-404F-8D62-4560050D0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C64974-2105-47E3-85FE-4DB49A22E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D531B8-0C30-4F6A-9E6B-26E794E9D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E856B2-5F86-4C72-93C2-9C4046967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B25C8-BFBC-43E6-A244-2D7620F83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BBB49B-D9C3-4A1A-855E-9200CDFA8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143296-ABE5-4697-B7DD-75DAC00A8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889C32-EB22-4903-9B84-C205A1CAE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6336D6-9872-42D4-B9EE-1BD333F4F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4EB34D-751D-4604-A03F-34D6BA654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B81525-1687-4338-AE36-393ED807B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6C190E-D3DA-4B6B-BC1C-469F0E372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3E1388-AC73-437C-8B09-C4AFB9BCA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CD4B7B-1516-4875-BAF5-BB6A4BDFA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38C702-2B3F-460B-88AF-1D64B72A5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01D16-64D2-4732-AADD-4B7B47E1D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A97563-9727-47A4-8A25-B8A4A10C4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69DF48-FF58-4F08-919D-8B3C813D5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6B646B-BFA0-40EA-9393-B96AB7E78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A75731-5C82-440D-AAE0-2D1DA9D1A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072B8C-A2DF-4235-858D-D5ABF025D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68FF90-0115-43D4-94ED-4ED2C48C8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C35001-E602-4E64-9177-B16420511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7E501C7-1A0C-4F57-8D66-B3025F8CB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F263C3A-FD2A-42FD-B535-34D6F24A7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2622060-AA59-439F-9023-F35AD0B3C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E9749-36E0-42B6-B187-067FCBC90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CE0E6D0-298C-4CBE-944D-605414F66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F549A25-3517-4225-8FFE-97B156507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CFD60DA-3CC7-4DF3-9165-53F345940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6F43143-29D0-4B61-A446-2CB69D772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D29502D-2950-43B7-B03D-9D5ADD284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C79D026-99B5-4A1F-AAA6-471ED04DF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E72559B-8861-46B5-B00B-F891F4432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56068C0-7A5F-475C-9DB2-760A8D75B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6E245FB-8235-43E0-8B37-02E1DF429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9D75119-AA5B-4314-9952-0D224B7D6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B7BAA-98AE-4F99-A026-D5E6DD7B1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9EB626B-65D1-4912-93B9-CC1761F7C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8123AC0-1E45-4490-9891-F16B80965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9E14C6D-E15A-4A4E-9C4B-ACB951236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AFEC4B0-3730-449C-A350-E477742E4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78C1C13-9A98-4C4A-AAB5-79FBC7952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A496933-36A2-4134-8FF9-B715F6D5E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8DC7185-8073-42F1-ACED-83993D8AC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1E84777-CA01-44A4-8FD6-A068F0377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1632174-D8C8-45BF-AA57-3A65DD87B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868500B-7BFF-4296-AF08-8D8AFB34F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4EE6F-4690-451C-B108-647CF457C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F4F5B77-0728-4A85-9963-1F3A663B9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328E26A-BFB4-4218-8190-A3B808093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B5939C8-856A-479F-8FB3-71640BFC6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B6B0BFC-5B8D-4A23-A9EF-BD8FAF932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915A328-15B1-4950-AE13-2F958E609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0C4DEA5-FDD1-47A8-8709-2AA1CF1FF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06E6742-BBE1-4928-A913-79C20A884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ADA5B9D-82FC-486F-ADB5-EEF40DEFE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3A75730-DC29-4B0E-BA78-39B5D8CC1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E871398-FC20-4080-B667-FC8AB379D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F7A0E-7D04-4947-9FCD-60D0F1251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664BBAD-9B03-4CEA-B90B-B9DFD8F5F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DFF8184-76FA-48D5-920A-E4578B1F4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5275A44-905E-4885-AB89-779525E52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FB30539-3DC5-441E-B7F5-B4D810305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F937034-9C89-45E5-94D9-8857A4FFC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8D7F78D-5D89-4530-8540-6A8523206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20D3628-9791-4EBE-B5A9-95049BF7C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BA354EF-A1DF-4449-B2C6-509381792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2CAFAB0-243C-4158-A6FC-3A207F42A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08C57D0-F60C-445F-AA66-006EEE496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7CED0-C599-408C-87F3-35DD62BEB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1F2B465-0E92-4590-8680-44D95DF49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5B5FC8D-CE75-419A-8AF3-80124D49A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AE0D9B2-1323-4021-8C06-20A2E7030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1A8BC64-ADD0-4640-85BA-8715A2296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93E3BA4-40F2-4684-935A-227E42C47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9E181ED-D013-4EB8-A12D-2A83CBCD7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F1F818A-EF1D-4BD9-A6A9-70368ACED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45F68E9-3F88-4A2D-BB66-4A8C0F068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5231681-818B-4D66-84E8-86E1CA6C1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9584C9D-0B48-4AA5-8CB5-6E76EF061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B650A-7B6F-4610-9EF8-DDEB91299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753CB6C-27D5-41ED-8420-A25274E58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C359A6D-0679-4922-BD40-8A7A655C5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2B6B5E9-91D1-4D33-8E30-E5C207772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0AE935E-7E29-446D-B329-D784948DB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292323D-8667-4A14-AFB8-43A24868C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EC233F9-CE9C-4D6F-9F89-E23B6990F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F13443A-A994-489C-9B54-136E3755D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29BD207-2C0A-4FC0-9FCA-54F39CD43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878FFAE-DF5D-41B7-ACA8-7B9813AD8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79B1439-1064-461C-A60E-289A94986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A87AF-C549-4024-A035-7BAF0CC0C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6B6FC72-B662-46FD-AB89-0F23D11F6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9B0FBDB-7D5C-4F18-90AE-2AB5A1E29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D31367B-1AE5-4E1D-BBC4-C1533C9D3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DE32D86-D9C1-471A-B8CC-103C1F7A1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CEF3336-D832-4DA8-A4FF-BB143DAD4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D35049A-3BA9-4201-9759-5E1F67FEE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FDEBFFA-10AD-4FD1-8F46-6EF8D63F8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46B298C-77ED-4067-9A3A-6D948A3ED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892CD17-E3F9-4BEF-9BF9-36D2A55EE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EEB66FE-D31A-4F0E-97AB-D83620AA0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470EF-939D-496A-8C68-938798BAA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CAA25D6-85A7-4D8D-9A78-1F6DB43AA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6C54C8C-E4F2-480C-A472-513207B42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0F31572-A482-4DF9-B2DC-57D0B6F0D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4B29279-A272-4958-8CE4-7FCED9F0E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E542DDD-ABE0-4F81-B4DF-6CFE0FE8C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4B917E2-3E63-4FA9-946B-01C90712B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C9E523A-C3EE-4390-950C-7D4738124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C118D53-9795-483B-875A-4D6A7E3CA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9846D4F-29B1-4AF0-961C-AB9189100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6764A65-31C4-444C-B2DE-CCC00F9D5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A6B34-8C7E-4511-9FD9-FAAA93C06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6748AFD-8D3A-4CEC-A006-142CC5FB7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AA23930-9480-4541-A3E9-5D4ECBEB9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4121A26-D30B-4269-9E06-16E9A9C5F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2427523-D941-455D-8345-B2BAC72F0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56B4D22-077B-418A-93D8-54E7B0DDE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0F976C4-B820-488B-9646-CDC2FC0EA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A9DFDCE-DAF3-4464-8B3B-A9580CE30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A48BF7D-92F3-4DE4-BA86-46F9E45DC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BB7FD3D-C427-4C69-ADF6-79B3CA566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34E351B-70A1-46D6-940B-708C76CC1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15430-3B6C-4429-BADB-8FF498DE6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4A75418-395A-4FEC-951F-40C711125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CBFDD7E-199B-4510-8D16-2F6A5C301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6F8EF10-EC98-46C3-A492-ECDC84993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898DCFF-EC8C-4C33-BBB1-7D19E613E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A06B512-1404-4CE7-A019-506348BC3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D2A655D-56D2-4CB0-9CD7-AC64E26D3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116C005-F832-4426-A757-CB25E140B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B7C8A7A-3666-461D-B4E9-C0D18D2DD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A227684-842D-4FBA-8C58-D38E0A037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798E26A-5EA0-43A6-B406-8265A5AB8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8DD40-92B9-4A2B-B218-107098C3E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22F0EEE-0BC6-464D-BB99-BFB746971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15D8FB0-266D-4DA7-89AC-97A7E6724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7D78E70-5DCD-4A7F-9CF8-64D6AD4A7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3420E38-485D-4BB5-9FCE-82D0AEE4D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B27950F-4B2D-4974-8B2D-42006B189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1BD2FDE-B50D-44E8-BE99-8151B5164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7A6C02D-29AD-47B6-8194-DEA5371A4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4A2BE33-6C02-476D-934D-F2EBDBCC7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E597683-9FFA-4099-9DE2-EA7690773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4D43258-A99C-4B3A-8BF3-63E7A41C2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7E21F-7C60-4F1F-882E-0EA4175A8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7F7F09D-CA3F-4004-8D4C-D8B9B62BE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B9C0F22-764F-4D80-8277-2D3E515CD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9158F5C-872E-4E7D-98F2-D1729B478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53ACBD8-5F8C-4BFB-80FE-1258DFA52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8330810-B51E-4318-96F9-49A9D5A13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713F0BE-0741-4C0D-857B-313B55A70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5FF0C32-0071-4789-AF22-DDDBA6F04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A1B729A-892C-44D2-848D-6B6B84680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A23DC65-FBA7-486F-BB5B-1E47D06D3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52B6868-4AE5-4335-B120-201BC9148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74707-900B-47F8-B5B5-1911CD13D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AFB7DB5-5CBB-4077-B21E-B9D331878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EDE2BFE-5EAF-4A43-83C4-C3888533B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AB258AC-D7FB-4F60-9C97-D4CE24979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601FE29-51A6-4374-A40A-CBC7C4922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D54F11D-2D12-465E-AB18-DE472A7DD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4563B98-9FB7-4075-AA44-47F645C9C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C09CBAF-D4CF-43F3-83D2-71C1D8E4F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C453188-F393-4B0D-A975-0CA9A4ABF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FE57D1D-D881-4ADF-8262-3D2CABC28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F89F8EC-C4EB-40E9-9D56-84B18A9CF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7E46C-AEF6-4B4C-AAE6-79CE41831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D2F6696-C1E1-4F69-B6C1-7F871E393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5C9AE7F-9753-4E3C-BB9B-949C9234D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5261C1D-0948-4392-9254-60CA90EB6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46171F3-64BF-466A-AD9A-64B8518A4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2A1CF15-7B35-4039-99F7-17F20A652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AED4916-366A-4EE2-9304-03FB2935D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7065400-639B-4FC4-B02F-737204BC3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2F527B7-A0EF-4AEE-A3F8-E6AB8FA63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6498D29-F1B4-4C1D-8E62-8F4AEB749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0BD0717-C2A4-4944-A696-EDF23CA32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AC105-FDD6-4192-9AF1-F24B5F9B3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26B6647-7B87-49CD-8916-23CE2EC7F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90809-FB05-47AD-9181-3DF69185B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9B086-9803-4615-9984-2370F0533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E6DF4-8330-4131-A6E9-D1E9CC756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B1DAD-8873-407F-8436-9EB97E658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1AE62-F14C-49C1-884B-A6A270F0C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B1AC7-5FBD-426F-8AD5-795C7EF19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B294B0-8C24-45E4-A7E3-FDC8049C7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6C2452-71C2-407D-A540-D6C3E7FC6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09CC56-D4EC-484F-9B05-66C90C2B5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57FB99-6F48-47A6-A8B6-81A1D5D8B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3B1FC2-40FF-482C-AF08-D2BAFDFEA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DD63EC-1861-40AA-9169-39CC4EB56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0B55E7-C630-43D6-8A5D-AD43E7E39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53A7F6-6E64-4FD5-BBC6-5160D087D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3F3FD9-8747-4E2D-B9D5-EB65CCD5A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33AF01-E057-4683-B612-A46CC0E38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39D546-FED5-45B2-B492-77FF1BF62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AAE5D2-4AD3-4747-8DB3-50C1738BC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1B3293-A7B1-4B14-84CF-02ED03F97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141998-8EBC-4535-9261-32654CAFA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0E6C02-4CBF-4822-8BA4-FC8B31F81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2C3B36-A576-499B-9955-67ECA4352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A17EAF-C6FB-4554-B4A1-063C0AA50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706617-D0DC-44E7-B495-2B77610EE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727B02-BE23-4923-B6BF-514242352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8A665C-1D0B-43A9-8F07-FE3EA0EA1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3FB79C-7CA0-4CFE-AE35-F3850913C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314C98-EAA3-474E-A4A6-C1E5E6508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C3CECA-4E6E-4C53-A017-324647068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701B55-F1F7-422D-A235-4533BB780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466F69-EDFA-4FE4-8B4A-D54BFBB49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230915-CC79-4C3F-B04D-1B0EB7A49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7C807D-47F9-4BCB-BE44-581E60A61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C78375-68E3-4A2A-A91C-5763FCA6E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EE2D31-ED60-4D0F-B500-63AE6BEA6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94E052-4D13-497D-BD29-8334C9272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80DB90-23FD-4BF7-9A8C-8173BCE7D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E7000C-19A3-48EE-8400-19D03FDA7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10AE39-F22A-453F-8338-A1FE8A532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E1D6D1-8804-41F0-A807-CC030BC32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9C02CD-1FAE-4A3C-8F7A-E7654E511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704129-2B41-4F84-894B-A28084188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4AF1DF-8CB4-45C4-B042-96A1961FF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60AEE5-6FBB-4DB9-8E32-24EECBD96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25789A-F83D-4878-AAB9-C6A95AA21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FF9984-5962-4F38-A885-A9CEF914F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B56FD2-D546-4289-A331-624F59E25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582690-5092-4BFC-8CB1-4D333DC05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55195D-2F8C-47B8-AD49-ECFC83C7E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A85E9A-FBAE-4A0E-BBC5-F9E590911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97AF58-508C-453E-8874-7C5EFB79B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FC6A65-FA31-4A69-BFBA-CFD4ED1C0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77239F-4C62-4125-9955-398D35A88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A309D3-3678-4D7D-9692-A1F72BA82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42F437-483E-4A41-A5EF-CD81974C5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59A51D-93CC-45DE-B1BF-CFEECD40A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2199DC-B837-4F36-B723-198591C84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94D7FB-D101-4D2D-88CB-0C533A3C0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10C02D-A926-418A-8E85-61C517D2B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DF1A09-E7EB-423B-A454-CF211B6CD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BD6087-6806-48AD-B9C1-C6835F05D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BDCB22-6517-4C25-96C9-A0A3AC70D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D1A0CB-CC7E-4D6C-9824-1AD60F328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86624A-AEF5-4EF2-A7BD-902518BBB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F8FDAA-A55E-4395-99B2-8C13CFD89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81AD6B-24E6-4C34-83E2-BA38E5253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F10764-9F58-49E2-A7BD-F60BA0C64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B28761-B19A-4066-8405-4B1C046FD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CE6E80-461B-4855-A546-E40066AFB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5"/>
          <p:cNvSpPr/>
          <p:nvPr/>
        </p:nvSpPr>
        <p:spPr>
          <a:xfrm>
            <a:off x="0" y="6485040"/>
            <a:ext cx="9144000" cy="380880"/>
          </a:xfrm>
          <a:prstGeom prst="rect">
            <a:avLst/>
          </a:prstGeom>
          <a:solidFill>
            <a:srgbClr val="e856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539640" y="2420640"/>
            <a:ext cx="7661520" cy="34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25160" indent="-425160">
              <a:spcBef>
                <a:spcPts val="700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44200" indent="-417240">
              <a:spcBef>
                <a:spcPts val="700"/>
              </a:spcBef>
              <a:buClr>
                <a:srgbClr val="ff33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2" marL="1229040" indent="-383040">
              <a:spcBef>
                <a:spcPts val="700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3" marL="1596960" indent="-366480">
              <a:spcBef>
                <a:spcPts val="700"/>
              </a:spcBef>
              <a:buClr>
                <a:srgbClr val="ff33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4" marL="1966320" indent="-367920">
              <a:spcBef>
                <a:spcPts val="700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5" marL="1966320" indent="-367920">
              <a:spcBef>
                <a:spcPts val="700"/>
              </a:spcBef>
              <a:buClr>
                <a:srgbClr val="29292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6" marL="1966320" indent="-367920">
              <a:spcBef>
                <a:spcPts val="700"/>
              </a:spcBef>
              <a:buClr>
                <a:srgbClr val="29292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Rectangle 8"/>
          <p:cNvSpPr/>
          <p:nvPr/>
        </p:nvSpPr>
        <p:spPr>
          <a:xfrm>
            <a:off x="222120" y="6559560"/>
            <a:ext cx="2880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ffffff"/>
                </a:solidFill>
                <a:latin typeface="Arial"/>
              </a:rPr>
              <a:t>contact@e-mfp.eu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Rectangle 18"/>
          <p:cNvSpPr/>
          <p:nvPr/>
        </p:nvSpPr>
        <p:spPr>
          <a:xfrm>
            <a:off x="6084720" y="6597720"/>
            <a:ext cx="2880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ffffff"/>
                </a:solidFill>
                <a:latin typeface="Arial"/>
              </a:rPr>
              <a:t>www.e-mfp.eu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4" name="Picture 13" descr=""/>
          <p:cNvPicPr/>
          <p:nvPr/>
        </p:nvPicPr>
        <p:blipFill>
          <a:blip r:embed="rId2"/>
          <a:stretch/>
        </p:blipFill>
        <p:spPr>
          <a:xfrm>
            <a:off x="0" y="0"/>
            <a:ext cx="6372360" cy="19908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35461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42259-10B4-4F45-93D4-7BDE4CC67D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5B3F4-6395-46F8-8AB5-F18BD0DE14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D2995-5C27-46BF-90B9-60F1163ABC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86C1F-82B1-4349-8B3D-D12719A84F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4EC3B-4926-4142-B7A9-83F15C8172F8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A3295-177D-4DE4-AF2E-4F6ADE7C63DF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 type="dt" idx="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 type="ftr" idx="4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20" name="PlaceHolder 5"/>
          <p:cNvSpPr>
            <a:spLocks noGrp="1"/>
          </p:cNvSpPr>
          <p:nvPr>
            <p:ph type="sldNum" idx="4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74AF6-0938-4C68-9A46-AF78821C2B1B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 type="dt" idx="4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 type="ftr" idx="4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 type="sldNum" idx="4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D6C89-3093-4D0F-AD9C-BC06FC699A8F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 type="dt" idx="4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 type="ftr" idx="5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02" name="PlaceHolder 5"/>
          <p:cNvSpPr>
            <a:spLocks noGrp="1"/>
          </p:cNvSpPr>
          <p:nvPr>
            <p:ph type="sldNum" idx="5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955E1-DB77-4625-85B7-E91A10A54E8D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 type="dt" idx="5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 type="ftr" idx="5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43" name="PlaceHolder 5"/>
          <p:cNvSpPr>
            <a:spLocks noGrp="1"/>
          </p:cNvSpPr>
          <p:nvPr>
            <p:ph type="sldNum" idx="5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1969D-F0D2-403C-9256-7269829CE94F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516DD-41A5-4E3E-8600-57AC5CA2BB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 type="dt" idx="5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 type="ftr" idx="5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84" name="PlaceHolder 5"/>
          <p:cNvSpPr>
            <a:spLocks noGrp="1"/>
          </p:cNvSpPr>
          <p:nvPr>
            <p:ph type="sldNum" idx="5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26BA3-D121-44E7-A23E-04A9A9C1126C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 type="dt" idx="5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 type="ftr" idx="5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25" name="PlaceHolder 5"/>
          <p:cNvSpPr>
            <a:spLocks noGrp="1"/>
          </p:cNvSpPr>
          <p:nvPr>
            <p:ph type="sldNum" idx="6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5E059-967F-4D02-A8BE-52C893A18FEC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 type="dt" idx="6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 type="ftr" idx="6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66" name="PlaceHolder 5"/>
          <p:cNvSpPr>
            <a:spLocks noGrp="1"/>
          </p:cNvSpPr>
          <p:nvPr>
            <p:ph type="sldNum" idx="6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640BD-0AE9-4D3D-9C35-7B478D00E439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 type="dt" idx="6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 type="ftr" idx="6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 type="sldNum" idx="6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6A792-331D-4C86-90B0-ECD84360283A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 type="dt" idx="6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 type="ftr" idx="6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 type="sldNum" idx="6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248D7-862C-439E-A004-6FDB1F7940BE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 type="dt" idx="7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4"/>
          <p:cNvSpPr>
            <a:spLocks noGrp="1"/>
          </p:cNvSpPr>
          <p:nvPr>
            <p:ph type="ftr" idx="7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89" name="PlaceHolder 5"/>
          <p:cNvSpPr>
            <a:spLocks noGrp="1"/>
          </p:cNvSpPr>
          <p:nvPr>
            <p:ph type="sldNum" idx="7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9E8DA-E6A7-434C-951B-DD8FB0BDC2C5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BD958-78C3-4FF8-8D21-C741550EA0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4FADB-F935-4E6F-94C5-595D729B58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851E2-F0E2-4921-B342-7CF7DE823C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CB5AD-30A4-4B40-A6B2-0796237212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DD12D-83BF-4EC7-9D18-555AC6EB44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33612-0600-4AF4-B1F8-226FD37D3A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22BF2-4D29-4BC4-8C70-7ABB99A32D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9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17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4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108000" y="1988640"/>
            <a:ext cx="903600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r>
              <a:rPr b="1" lang="en-US" sz="6000" spc="-1" strike="noStrike">
                <a:solidFill>
                  <a:srgbClr val="292929"/>
                </a:solidFill>
                <a:latin typeface="Arial"/>
              </a:rPr>
              <a:t>Measuring the</a:t>
            </a:r>
            <a:br>
              <a:rPr sz="6000"/>
            </a:br>
            <a:r>
              <a:rPr b="1" lang="en-US" sz="6000" spc="-1" strike="noStrike">
                <a:solidFill>
                  <a:srgbClr val="292929"/>
                </a:solidFill>
                <a:latin typeface="Arial"/>
              </a:rPr>
              <a:t>Impact of Microfinance</a:t>
            </a:r>
            <a:br>
              <a:rPr sz="6000"/>
            </a:br>
            <a:br>
              <a:rPr sz="6000"/>
            </a:b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Meritxell Martinez- CGAP European Microfinance Week 29 Nov – 1 Dec.</a:t>
            </a:r>
            <a:br>
              <a:rPr sz="1800"/>
            </a:br>
            <a:endParaRPr b="1" lang="en-US" sz="1800" spc="-1" strike="noStrike">
              <a:solidFill>
                <a:srgbClr val="935461"/>
              </a:solidFill>
              <a:latin typeface="Arial"/>
            </a:endParaRPr>
          </a:p>
        </p:txBody>
      </p:sp>
      <p:pic>
        <p:nvPicPr>
          <p:cNvPr id="1034" name="Picture 2" descr=""/>
          <p:cNvPicPr/>
          <p:nvPr/>
        </p:nvPicPr>
        <p:blipFill>
          <a:blip r:embed="rId1"/>
          <a:stretch/>
        </p:blipFill>
        <p:spPr>
          <a:xfrm>
            <a:off x="7093080" y="260280"/>
            <a:ext cx="1847880" cy="60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Rectangle 3"/>
          <p:cNvSpPr/>
          <p:nvPr/>
        </p:nvSpPr>
        <p:spPr>
          <a:xfrm>
            <a:off x="2286000" y="227484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Findings on saving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74" name=""/>
          <p:cNvGraphicFramePr/>
          <p:nvPr/>
        </p:nvGraphicFramePr>
        <p:xfrm>
          <a:off x="533520" y="1905120"/>
          <a:ext cx="8153280" cy="2977920"/>
        </p:xfrm>
        <a:graphic>
          <a:graphicData uri="http://schemas.openxmlformats.org/drawingml/2006/table">
            <a:tbl>
              <a:tblPr/>
              <a:tblGrid>
                <a:gridCol w="3881160"/>
                <a:gridCol w="4272120"/>
              </a:tblGrid>
              <a:tr h="60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Positive Impact</a:t>
                      </a:r>
                      <a:endParaRPr b="0" lang="en-US" sz="2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No Impact</a:t>
                      </a:r>
                      <a:endParaRPr b="0" lang="en-US" sz="2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omen faced shocks better (bought medication, positive effect on food expenditure. (Kenya)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Accounts had minimal impact on men.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(Kenya)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17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Business investment for women increased by 40%. (Kenya)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Not possible  to estimate other effects. 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(Kenya)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</a:tr>
            </a:tbl>
          </a:graphicData>
        </a:graphic>
      </p:graphicFrame>
      <p:sp>
        <p:nvSpPr>
          <p:cNvPr id="1075" name="Title 1"/>
          <p:cNvSpPr/>
          <p:nvPr/>
        </p:nvSpPr>
        <p:spPr>
          <a:xfrm>
            <a:off x="7380360" y="6597720"/>
            <a:ext cx="176364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292929"/>
                </a:solidFill>
                <a:latin typeface="Arial"/>
              </a:rPr>
              <a:t>* 1 study</a:t>
            </a:r>
            <a:endParaRPr b="0" lang="en-US" sz="11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Rectangle 3"/>
          <p:cNvSpPr/>
          <p:nvPr/>
        </p:nvSpPr>
        <p:spPr>
          <a:xfrm>
            <a:off x="2286000" y="227484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Findings on (rainfall) insura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78" name=""/>
          <p:cNvGraphicFramePr/>
          <p:nvPr/>
        </p:nvGraphicFramePr>
        <p:xfrm>
          <a:off x="609480" y="1571760"/>
          <a:ext cx="8077320" cy="4074840"/>
        </p:xfrm>
        <a:graphic>
          <a:graphicData uri="http://schemas.openxmlformats.org/drawingml/2006/table">
            <a:tbl>
              <a:tblPr/>
              <a:tblGrid>
                <a:gridCol w="4114800"/>
                <a:gridCol w="3962520"/>
              </a:tblGrid>
              <a:tr h="595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Positive Impact</a:t>
                      </a:r>
                      <a:endParaRPr b="0" lang="en-US" sz="2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Mixed Impact</a:t>
                      </a:r>
                      <a:endParaRPr b="0" lang="en-US" sz="2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201420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creased farm investment: farmers bought more fertilizer, planted more acreage, hired more labor, had higher yields and more income, missed fewer meals and their children missed less school. (Ghana, India)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option rates are modest but growing (Ghana, India)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armers moved from planting subsistence, low value crops to higher risk, higher value cash crops  that increased their incomes.  (Ghana, India)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ign improvements are important- payouts too slow. (Ghana, India)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</a:tr>
            </a:tbl>
          </a:graphicData>
        </a:graphic>
      </p:graphicFrame>
      <p:sp>
        <p:nvSpPr>
          <p:cNvPr id="1079" name="Title 1"/>
          <p:cNvSpPr/>
          <p:nvPr/>
        </p:nvSpPr>
        <p:spPr>
          <a:xfrm>
            <a:off x="7380360" y="6597720"/>
            <a:ext cx="176364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292929"/>
                </a:solidFill>
                <a:latin typeface="Arial"/>
              </a:rPr>
              <a:t>* 2 studies</a:t>
            </a:r>
            <a:endParaRPr b="0" lang="en-US" sz="11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Findings on financial educ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81" name=""/>
          <p:cNvGraphicFramePr/>
          <p:nvPr/>
        </p:nvGraphicFramePr>
        <p:xfrm>
          <a:off x="457200" y="1523880"/>
          <a:ext cx="8077320" cy="3962520"/>
        </p:xfrm>
        <a:graphic>
          <a:graphicData uri="http://schemas.openxmlformats.org/drawingml/2006/table">
            <a:tbl>
              <a:tblPr/>
              <a:tblGrid>
                <a:gridCol w="4024440"/>
                <a:gridCol w="4052880"/>
              </a:tblGrid>
              <a:tr h="619200">
                <a:tc>
                  <a:txBody>
                    <a:bodyPr lIns="90720" rIns="90720" tIns="45360" bIns="453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292929"/>
                          </a:solidFill>
                          <a:latin typeface="Arial"/>
                          <a:ea typeface="Calibri"/>
                        </a:rPr>
                        <a:t>Positive Impact </a:t>
                      </a:r>
                      <a:endParaRPr b="0" lang="en-US" sz="2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720" marR="90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720" rIns="90720" tIns="45360" bIns="453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292929"/>
                          </a:solidFill>
                          <a:latin typeface="Arial"/>
                          <a:ea typeface="Calibri"/>
                        </a:rPr>
                        <a:t>Mixed Impact </a:t>
                      </a:r>
                      <a:endParaRPr b="0" lang="en-US" sz="2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720" marR="90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1882800">
                <a:tc>
                  <a:txBody>
                    <a:bodyPr lIns="90720" rIns="90720" tIns="45360" bIns="4536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92929"/>
                          </a:solidFill>
                          <a:latin typeface="Arial"/>
                          <a:ea typeface="Calibri"/>
                        </a:rPr>
                        <a:t>5.4% of customers reduce their use of payday lenders after seeing actual cost information on the loan in comparison to credit card charges. (US)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720" marR="90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720" rIns="90720" tIns="45360" bIns="4536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92929"/>
                          </a:solidFill>
                          <a:latin typeface="Arial"/>
                          <a:ea typeface="Calibri"/>
                        </a:rPr>
                        <a:t>APR disclosures did not result in reduction of use of payday lenders. (US)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720" marR="90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460520">
                <a:tc>
                  <a:txBody>
                    <a:bodyPr lIns="90720" rIns="90720" tIns="45360" bIns="4536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92929"/>
                          </a:solidFill>
                          <a:latin typeface="Arial"/>
                          <a:ea typeface="Calibri"/>
                        </a:rPr>
                        <a:t>Basic training using “rules of thumb” lead to improvements in business practices and outcomes. (Dominican Republic)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720" marR="90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720" rIns="90720" tIns="45360" bIns="4536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92929"/>
                          </a:solidFill>
                          <a:latin typeface="Arial"/>
                          <a:ea typeface="Calibri"/>
                        </a:rPr>
                        <a:t>Accounting training did not result in improved business practices. (Dominican Republic)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720" marR="90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</a:tr>
            </a:tbl>
          </a:graphicData>
        </a:graphic>
      </p:graphicFrame>
      <p:sp>
        <p:nvSpPr>
          <p:cNvPr id="1082" name="Title 1"/>
          <p:cNvSpPr/>
          <p:nvPr/>
        </p:nvSpPr>
        <p:spPr>
          <a:xfrm>
            <a:off x="7380360" y="6597720"/>
            <a:ext cx="176364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292929"/>
                </a:solidFill>
                <a:latin typeface="Arial"/>
              </a:rPr>
              <a:t>* 1 study</a:t>
            </a:r>
            <a:endParaRPr b="0" lang="en-US" sz="11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Rectangle 3"/>
          <p:cNvSpPr/>
          <p:nvPr/>
        </p:nvSpPr>
        <p:spPr>
          <a:xfrm>
            <a:off x="2286000" y="227484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Findings on product test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85" name=""/>
          <p:cNvGraphicFramePr/>
          <p:nvPr/>
        </p:nvGraphicFramePr>
        <p:xfrm>
          <a:off x="380880" y="1371600"/>
          <a:ext cx="8382240" cy="3749760"/>
        </p:xfrm>
        <a:graphic>
          <a:graphicData uri="http://schemas.openxmlformats.org/drawingml/2006/table">
            <a:tbl>
              <a:tblPr/>
              <a:tblGrid>
                <a:gridCol w="3989520"/>
                <a:gridCol w="43927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Positive Impact</a:t>
                      </a:r>
                      <a:endParaRPr b="0" lang="en-US" sz="2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Mixed Impact</a:t>
                      </a:r>
                      <a:endParaRPr b="0" lang="en-US" sz="2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182448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avings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: Voluntary commitment devices and phone reminders helped increase savings (Peru, Philippines, Bolivia)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  <a:p>
                      <a:pPr lv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race Period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: Offering (2-month) grace periods  increased investment and business growth after two years, but at the cost of more default in the short term -12% more. (India)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iometrics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: Fingerprinting led to increases in the repayment rates of about 40% for those with higher probability of defaulting. (Malawi)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  <a:p>
                      <a:pPr lv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rrowers’ sensitivity to interest rates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 revenue gains from additional lending at lower interest rates did not fully offset the revenue losses from the lower rates (Mexico)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Deba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o we understand the financial needs of the unbanked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hat else needs to be researched? Is this evidence new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ow does social performance help us understanding the impact of microfinanc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hat are the “evidence needs” of 1- double bottom funders, 2- policymakers, 3- provider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s the reputational risk of investing in microfinance increasing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"/>
          <p:cNvSpPr txBox="1"/>
          <p:nvPr/>
        </p:nvSpPr>
        <p:spPr>
          <a:xfrm>
            <a:off x="228240" y="11430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fter this presentation you wil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fresh your knowledg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of monitoring and evalu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Get an idea of t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ype of evaluation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eing done in microfin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Have an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upd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on experimental research finding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6" name="Straight Connector 4"/>
          <p:cNvSpPr/>
          <p:nvPr/>
        </p:nvSpPr>
        <p:spPr>
          <a:xfrm>
            <a:off x="304920" y="1752480"/>
            <a:ext cx="8229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9296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Monitoring vs. Evaluation in MF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8" name="Rounded Rectangle 4"/>
          <p:cNvSpPr/>
          <p:nvPr/>
        </p:nvSpPr>
        <p:spPr>
          <a:xfrm>
            <a:off x="380880" y="1600200"/>
            <a:ext cx="4191120" cy="4495680"/>
          </a:xfrm>
          <a:custGeom>
            <a:avLst/>
            <a:gdLst>
              <a:gd name="textAreaLeft" fmla="*/ 204480 w 4191120"/>
              <a:gd name="textAreaRight" fmla="*/ 3986640 w 4191120"/>
              <a:gd name="textAreaTop" fmla="*/ 204480 h 4495680"/>
              <a:gd name="textAreaBottom" fmla="*/ 4291200 h 4495680"/>
            </a:gdLst>
            <a:ahLst/>
            <a:rect l="textAreaLeft" t="textAreaTop" r="textAreaRight" b="textAreaBottom"/>
            <a:pathLst>
              <a:path w="21600" h="23169">
                <a:moveTo>
                  <a:pt x="3600" y="0"/>
                </a:moveTo>
                <a:arcTo wR="3600" hR="3600" stAng="16200000" swAng="-5400000"/>
                <a:lnTo>
                  <a:pt x="0" y="19569"/>
                </a:lnTo>
                <a:arcTo wR="3600" hR="3600" stAng="10800000" swAng="-5400000"/>
                <a:lnTo>
                  <a:pt x="18000" y="231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w is my program doing vis-à-vis the set goals?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NITORING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Social Performance – PPI, PAT, scorecards, MIX SP indicators)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39" name="Rounded Rectangle 9"/>
          <p:cNvSpPr/>
          <p:nvPr/>
        </p:nvSpPr>
        <p:spPr>
          <a:xfrm>
            <a:off x="4648320" y="1600200"/>
            <a:ext cx="4190760" cy="4495680"/>
          </a:xfrm>
          <a:custGeom>
            <a:avLst/>
            <a:gdLst>
              <a:gd name="textAreaLeft" fmla="*/ 204480 w 4190760"/>
              <a:gd name="textAreaRight" fmla="*/ 3986280 w 4190760"/>
              <a:gd name="textAreaTop" fmla="*/ 204480 h 4495680"/>
              <a:gd name="textAreaBottom" fmla="*/ 4291200 h 4495680"/>
            </a:gdLst>
            <a:ahLst/>
            <a:rect l="textAreaLeft" t="textAreaTop" r="textAreaRight" b="textAreaBottom"/>
            <a:pathLst>
              <a:path w="21600" h="23171">
                <a:moveTo>
                  <a:pt x="3600" y="0"/>
                </a:moveTo>
                <a:arcTo wR="3600" hR="3600" stAng="16200000" swAng="-5400000"/>
                <a:lnTo>
                  <a:pt x="0" y="19571"/>
                </a:lnTo>
                <a:arcTo wR="3600" hR="3600" stAng="10800000" swAng="-5400000"/>
                <a:lnTo>
                  <a:pt x="18000" y="2317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my clients doing better because of the program?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6104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Evalu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1" name="Elbow Connector 15"/>
          <p:cNvCxnSpPr/>
          <p:nvPr/>
        </p:nvCxnSpPr>
        <p:spPr>
          <a:xfrm rot="5400000">
            <a:off x="2265480" y="1000800"/>
            <a:ext cx="1534320" cy="1494720"/>
          </a:xfrm>
          <a:prstGeom prst="bentConnector3">
            <a:avLst>
              <a:gd name="adj1" fmla="val 49988"/>
            </a:avLst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42" name="Elbow Connector 18"/>
          <p:cNvCxnSpPr>
            <a:endCxn id="1043" idx="0"/>
          </p:cNvCxnSpPr>
          <p:nvPr/>
        </p:nvCxnSpPr>
        <p:spPr>
          <a:xfrm flipH="1" rot="16200000">
            <a:off x="5105160" y="1066320"/>
            <a:ext cx="1524600" cy="13723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44" name="Rectangle 20"/>
          <p:cNvSpPr/>
          <p:nvPr/>
        </p:nvSpPr>
        <p:spPr>
          <a:xfrm>
            <a:off x="685800" y="2514600"/>
            <a:ext cx="2819520" cy="53352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ALITATIVE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43" name="Rectangle 22"/>
          <p:cNvSpPr/>
          <p:nvPr/>
        </p:nvSpPr>
        <p:spPr>
          <a:xfrm>
            <a:off x="5029200" y="2514600"/>
            <a:ext cx="3048120" cy="53352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ANTITATIVE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graphicFrame>
        <p:nvGraphicFramePr>
          <p:cNvPr id="1045" name=""/>
          <p:cNvGraphicFramePr/>
          <p:nvPr/>
        </p:nvGraphicFramePr>
        <p:xfrm>
          <a:off x="4495680" y="3505320"/>
          <a:ext cx="4419720" cy="2041560"/>
        </p:xfrm>
        <a:graphic>
          <a:graphicData uri="http://schemas.openxmlformats.org/drawingml/2006/table">
            <a:tbl>
              <a:tblPr/>
              <a:tblGrid>
                <a:gridCol w="1473480"/>
                <a:gridCol w="1473120"/>
                <a:gridCol w="1473120"/>
              </a:tblGrid>
              <a:tr h="2041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Non Experimental</a:t>
                      </a:r>
                      <a:endParaRPr b="0" lang="en-US" sz="16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(participants to non participants)</a:t>
                      </a:r>
                      <a:endParaRPr b="0" lang="en-US" sz="16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Quasi-Experimental</a:t>
                      </a:r>
                      <a:endParaRPr b="0" lang="en-US" sz="16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(comparison group)</a:t>
                      </a:r>
                      <a:endParaRPr b="0" lang="en-US" sz="16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Experimental </a:t>
                      </a:r>
                      <a:endParaRPr b="0" lang="en-US" sz="16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(control group)</a:t>
                      </a:r>
                      <a:endParaRPr b="0" lang="en-US" sz="16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</a:tr>
            </a:tbl>
          </a:graphicData>
        </a:graphic>
      </p:graphicFrame>
      <p:cxnSp>
        <p:nvCxnSpPr>
          <p:cNvPr id="1046" name="Straight Arrow Connector 27"/>
          <p:cNvCxnSpPr/>
          <p:nvPr/>
        </p:nvCxnSpPr>
        <p:spPr>
          <a:xfrm flipH="1">
            <a:off x="5408280" y="3048120"/>
            <a:ext cx="2160" cy="4593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47" name="Straight Arrow Connector 28"/>
          <p:cNvCxnSpPr/>
          <p:nvPr/>
        </p:nvCxnSpPr>
        <p:spPr>
          <a:xfrm flipH="1">
            <a:off x="6550920" y="3049560"/>
            <a:ext cx="3960" cy="4579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48" name="Straight Arrow Connector 31"/>
          <p:cNvCxnSpPr/>
          <p:nvPr/>
        </p:nvCxnSpPr>
        <p:spPr>
          <a:xfrm flipH="1">
            <a:off x="7848360" y="3048120"/>
            <a:ext cx="2160" cy="4579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graphicFrame>
        <p:nvGraphicFramePr>
          <p:cNvPr id="1049" name=""/>
          <p:cNvGraphicFramePr/>
          <p:nvPr/>
        </p:nvGraphicFramePr>
        <p:xfrm>
          <a:off x="1143000" y="3505320"/>
          <a:ext cx="1600200" cy="2057400"/>
        </p:xfrm>
        <a:graphic>
          <a:graphicData uri="http://schemas.openxmlformats.org/drawingml/2006/table">
            <a:tbl>
              <a:tblPr/>
              <a:tblGrid>
                <a:gridCol w="1600200"/>
              </a:tblGrid>
              <a:tr h="205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i.e. </a:t>
                      </a:r>
                      <a:r>
                        <a:rPr b="0" lang="en-US" sz="16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Focus groups,</a:t>
                      </a:r>
                      <a:endParaRPr b="0" lang="en-US" sz="16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structured interviews,</a:t>
                      </a:r>
                      <a:endParaRPr b="0" lang="en-US" sz="16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direct observation</a:t>
                      </a:r>
                      <a:endParaRPr b="0" lang="en-US" sz="16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</a:tr>
            </a:tbl>
          </a:graphicData>
        </a:graphic>
      </p:graphicFrame>
      <p:cxnSp>
        <p:nvCxnSpPr>
          <p:cNvPr id="1050" name="Straight Arrow Connector 34"/>
          <p:cNvCxnSpPr/>
          <p:nvPr/>
        </p:nvCxnSpPr>
        <p:spPr>
          <a:xfrm flipH="1">
            <a:off x="1751760" y="3048120"/>
            <a:ext cx="2520" cy="4579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51" name="Rectangle 39"/>
          <p:cNvSpPr/>
          <p:nvPr/>
        </p:nvSpPr>
        <p:spPr>
          <a:xfrm>
            <a:off x="228600" y="6477120"/>
            <a:ext cx="22860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re selection bias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52" name="Rectangle 40"/>
          <p:cNvSpPr/>
          <p:nvPr/>
        </p:nvSpPr>
        <p:spPr>
          <a:xfrm>
            <a:off x="6858000" y="6477120"/>
            <a:ext cx="22860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ss selection bias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cxnSp>
        <p:nvCxnSpPr>
          <p:cNvPr id="1053" name="Straight Arrow Connector 17"/>
          <p:cNvCxnSpPr/>
          <p:nvPr/>
        </p:nvCxnSpPr>
        <p:spPr>
          <a:xfrm>
            <a:off x="533520" y="6248520"/>
            <a:ext cx="815400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The probl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5" name="Pentagon 3"/>
          <p:cNvSpPr/>
          <p:nvPr/>
        </p:nvSpPr>
        <p:spPr>
          <a:xfrm>
            <a:off x="457200" y="1905120"/>
            <a:ext cx="3581280" cy="1218960"/>
          </a:xfrm>
          <a:custGeom>
            <a:avLst/>
            <a:gdLst>
              <a:gd name="textAreaLeft" fmla="*/ 0 w 3581280"/>
              <a:gd name="textAreaRight" fmla="*/ 3581640 w 3581280"/>
              <a:gd name="textAreaTop" fmla="*/ 0 h 1218960"/>
              <a:gd name="textAreaBottom" fmla="*/ 1219320 h 12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923" y="0"/>
                </a:lnTo>
                <a:lnTo>
                  <a:pt x="21600" y="10800"/>
                </a:lnTo>
                <a:lnTo>
                  <a:pt x="1792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ecdotes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56" name="Pentagon 5"/>
          <p:cNvSpPr/>
          <p:nvPr/>
        </p:nvSpPr>
        <p:spPr>
          <a:xfrm>
            <a:off x="457200" y="3276720"/>
            <a:ext cx="3581280" cy="1218960"/>
          </a:xfrm>
          <a:custGeom>
            <a:avLst/>
            <a:gdLst>
              <a:gd name="textAreaLeft" fmla="*/ 0 w 3581280"/>
              <a:gd name="textAreaRight" fmla="*/ 3581640 w 3581280"/>
              <a:gd name="textAreaTop" fmla="*/ 0 h 1218960"/>
              <a:gd name="textAreaBottom" fmla="*/ 1219320 h 12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923" y="0"/>
                </a:lnTo>
                <a:lnTo>
                  <a:pt x="21600" y="10800"/>
                </a:lnTo>
                <a:lnTo>
                  <a:pt x="1792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nitoring data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Social performance indicators)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57" name="Pentagon 6"/>
          <p:cNvSpPr/>
          <p:nvPr/>
        </p:nvSpPr>
        <p:spPr>
          <a:xfrm>
            <a:off x="457200" y="4648320"/>
            <a:ext cx="3581280" cy="1218960"/>
          </a:xfrm>
          <a:custGeom>
            <a:avLst/>
            <a:gdLst>
              <a:gd name="textAreaLeft" fmla="*/ 0 w 3581280"/>
              <a:gd name="textAreaRight" fmla="*/ 3581640 w 3581280"/>
              <a:gd name="textAreaTop" fmla="*/ 0 h 1218960"/>
              <a:gd name="textAreaBottom" fmla="*/ 1219320 h 12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923" y="0"/>
                </a:lnTo>
                <a:lnTo>
                  <a:pt x="21600" y="10800"/>
                </a:lnTo>
                <a:lnTo>
                  <a:pt x="1792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n or quasi -experimental studies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58" name="7-Point Star 7"/>
          <p:cNvSpPr/>
          <p:nvPr/>
        </p:nvSpPr>
        <p:spPr>
          <a:xfrm>
            <a:off x="4724280" y="1905120"/>
            <a:ext cx="3657600" cy="3429000"/>
          </a:xfrm>
          <a:prstGeom prst="pi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ACT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59" name="Rectangle 8"/>
          <p:cNvSpPr/>
          <p:nvPr/>
        </p:nvSpPr>
        <p:spPr>
          <a:xfrm>
            <a:off x="6248520" y="3733920"/>
            <a:ext cx="573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Agency FB"/>
              </a:rPr>
              <a:t>?</a:t>
            </a:r>
            <a:endParaRPr b="0" lang="en-US" sz="7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60" name="TextBox 9"/>
          <p:cNvSpPr/>
          <p:nvPr/>
        </p:nvSpPr>
        <p:spPr>
          <a:xfrm>
            <a:off x="1143000" y="6095880"/>
            <a:ext cx="673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Problems establishing attribution!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61" name="TextBox 10"/>
          <p:cNvSpPr/>
          <p:nvPr/>
        </p:nvSpPr>
        <p:spPr>
          <a:xfrm>
            <a:off x="3581280" y="3352680"/>
            <a:ext cx="1514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Calibri"/>
              </a:rPr>
              <a:t>≠</a:t>
            </a:r>
            <a:endParaRPr b="0" lang="en-US" sz="66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mpact evaluation using R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3" name=""/>
          <p:cNvSpPr txBox="1"/>
          <p:nvPr/>
        </p:nvSpPr>
        <p:spPr>
          <a:xfrm>
            <a:off x="304920" y="1523880"/>
            <a:ext cx="86868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andomized Controlled Trials (RCTs) are showing us the importance of truly understanding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ho benefits and who doesn’t and by how mu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74304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unterintuitive resul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74304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 diversity of cli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74304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74304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CTs are not just about </a:t>
            </a:r>
            <a:r>
              <a:rPr b="1" lang="en-US" sz="2800" spc="-1" strike="noStrike">
                <a:solidFill>
                  <a:srgbClr val="1f497d"/>
                </a:solidFill>
                <a:latin typeface="Arial"/>
                <a:ea typeface="Arial"/>
              </a:rPr>
              <a:t>impac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, but the methodology can be used for </a:t>
            </a:r>
            <a:r>
              <a:rPr b="1" lang="en-US" sz="2800" spc="-1" strike="noStrike">
                <a:solidFill>
                  <a:srgbClr val="1f497d"/>
                </a:solidFill>
                <a:latin typeface="Arial"/>
                <a:ea typeface="Arial"/>
              </a:rPr>
              <a:t>market research and product testing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00"/>
              </a:spcBef>
              <a:buClr>
                <a:srgbClr val="1f497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Content Placeholder 3" descr=""/>
          <p:cNvPicPr/>
          <p:nvPr/>
        </p:nvPicPr>
        <p:blipFill>
          <a:blip r:embed="rId1"/>
          <a:stretch/>
        </p:blipFill>
        <p:spPr>
          <a:xfrm>
            <a:off x="-6480" y="944640"/>
            <a:ext cx="9156960" cy="5694120"/>
          </a:xfrm>
          <a:prstGeom prst="rect">
            <a:avLst/>
          </a:prstGeom>
          <a:ln w="0">
            <a:noFill/>
          </a:ln>
        </p:spPr>
      </p:pic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R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"/>
          <p:cNvSpPr txBox="1"/>
          <p:nvPr/>
        </p:nvSpPr>
        <p:spPr>
          <a:xfrm>
            <a:off x="228240" y="1904760"/>
            <a:ext cx="8915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229680" indent="-2296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What are RCTs telling us about microfinance so far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7" name="Pentagon 3"/>
          <p:cNvSpPr/>
          <p:nvPr/>
        </p:nvSpPr>
        <p:spPr>
          <a:xfrm>
            <a:off x="380880" y="5181480"/>
            <a:ext cx="8534520" cy="1219320"/>
          </a:xfrm>
          <a:custGeom>
            <a:avLst/>
            <a:gdLst>
              <a:gd name="textAreaLeft" fmla="*/ 0 w 8534520"/>
              <a:gd name="textAreaRight" fmla="*/ 8534880 w 8534520"/>
              <a:gd name="textAreaTop" fmla="*/ 0 h 1219320"/>
              <a:gd name="textAreaBottom" fmla="*/ 121968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057" y="0"/>
                </a:lnTo>
                <a:lnTo>
                  <a:pt x="21600" y="10800"/>
                </a:lnTo>
                <a:lnTo>
                  <a:pt x="2005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ighlights from the Microfinance Impact and Innovations Conference, Oct 21-23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Rectangle 3"/>
          <p:cNvSpPr/>
          <p:nvPr/>
        </p:nvSpPr>
        <p:spPr>
          <a:xfrm>
            <a:off x="2286000" y="227484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Findings on credi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70" name=""/>
          <p:cNvGraphicFramePr/>
          <p:nvPr/>
        </p:nvGraphicFramePr>
        <p:xfrm>
          <a:off x="457200" y="1219320"/>
          <a:ext cx="8229600" cy="5354640"/>
        </p:xfrm>
        <a:graphic>
          <a:graphicData uri="http://schemas.openxmlformats.org/drawingml/2006/table">
            <a:tbl>
              <a:tblPr/>
              <a:tblGrid>
                <a:gridCol w="3916440"/>
                <a:gridCol w="4313160"/>
              </a:tblGrid>
              <a:tr h="58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Positive Impact</a:t>
                      </a:r>
                      <a:endParaRPr b="0" lang="en-US" sz="2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No Impact</a:t>
                      </a:r>
                      <a:endParaRPr b="0" lang="en-US" sz="2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isting business that took loans generated higher profits (India, Philippines)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No impact on health, education, empowerment (Morocco, India, Philippines) 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an-takers also spent more on home-based durable goods (India) 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redit not helping to cope with shocks -consumption not decreasing in places with access to credit. (Morocco)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nge in activity – diversification – through buying more types of animals (Morocco) 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redit not helping borrowers to start new businesses (Morocco)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t down on "temptation goods" such as cigarettes and tea and reduction in social festivals (India, Morocco)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No significant effect on consumption (Morocco), or household expenditure (India)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</a:tr>
            </a:tbl>
          </a:graphicData>
        </a:graphic>
      </p:graphicFrame>
      <p:sp>
        <p:nvSpPr>
          <p:cNvPr id="1071" name="Title 1"/>
          <p:cNvSpPr/>
          <p:nvPr/>
        </p:nvSpPr>
        <p:spPr>
          <a:xfrm>
            <a:off x="7380360" y="6597720"/>
            <a:ext cx="176364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292929"/>
                </a:solidFill>
                <a:latin typeface="Arial"/>
              </a:rPr>
              <a:t>* 3 studies</a:t>
            </a:r>
            <a:endParaRPr b="0" lang="en-US" sz="11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9T10:39:38Z</dcterms:created>
  <dc:creator>Martin Kinsella</dc:creator>
  <dc:description/>
  <dc:language>en-US</dc:language>
  <cp:lastModifiedBy> </cp:lastModifiedBy>
  <dcterms:modified xsi:type="dcterms:W3CDTF">2010-12-10T10:11:30Z</dcterms:modified>
  <cp:revision>17</cp:revision>
  <dc:subject/>
  <dc:title>Slide 1</dc:title>
</cp:coreProperties>
</file>