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4084-001D-49A3-A45F-E7E9ACC4F1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P: integrating SPM into practices and processes of me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nsparency: increase SP transpar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vocacy: promote renewed vision for indu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6C7A-222F-43CD-B818-1EB574A5EEB0}" type="slidenum">
              <a:rPr b="0" lang="en-US" sz="1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s as key to SPM scale up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as identified by SP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 strategy – key success facto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– as identified by newtorks at SPTF annual meeting in Ber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en it comes to work with members, networks are overwhelmed with a choice of tools and initiatives: which to choose? Which would fit best the members nee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ten, it happend the SP agenda of the network – beginner in SPM – is driven by a tool provider – whoever comes first, brings in own solution and the tool. There is no discussion if this is the first and best step to start with SPM by me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cision Tree” – public good to support network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nd address the above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2360-2622-41B0-A963-70F4BA298D36}" type="slidenum">
              <a:rPr b="0" lang="en-US" sz="1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VE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mited access to market for donors and investors (extern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TO DEMONSTAR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becoasue of shortage of funding, MFIs are not able to provide services: MFIs serving poor market, their operation complimentary to government actions, focusing on rural; MFIs contribute to poverty aliaviation and work in remote areas, priority in women clients; employment creation, self employement, food secu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vernment/ reg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ICATORS IN PLA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reach (# cli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ral / urb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erage loa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nder composition of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ding method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rtfolio by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SING INDICATORS: poverty, outreach to insecured areas (but they have opportunity to measure this, as there are areas defined by government as unsecur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0C5E-C282-4024-94F4-1474016B1720}" type="slidenum">
              <a:rPr b="0" lang="en-US" sz="1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6372360" cy="1990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71640" y="2420640"/>
            <a:ext cx="74167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COHERENT SP STRATEGY FRAMEWOR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353"/>
                </a:solidFill>
                <a:latin typeface="Arial"/>
              </a:rPr>
              <a:t>A Decision Tree for network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353"/>
                </a:solidFill>
                <a:latin typeface="Arial"/>
              </a:rPr>
              <a:t>Cerise – MFC – Imp-Ac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0" name="Picture 2" descr="C:\Documents and Settings\ewa.DOMENAMFC\Moje dokumenty\GRAFIKA\MFC_logo nowe.jpg"/>
          <p:cNvPicPr/>
          <p:nvPr/>
        </p:nvPicPr>
        <p:blipFill>
          <a:blip r:embed="rId1"/>
          <a:stretch/>
        </p:blipFill>
        <p:spPr>
          <a:xfrm>
            <a:off x="3059280" y="5572080"/>
            <a:ext cx="2825640" cy="1285920"/>
          </a:xfrm>
          <a:prstGeom prst="rect">
            <a:avLst/>
          </a:prstGeom>
          <a:ln w="0">
            <a:noFill/>
          </a:ln>
        </p:spPr>
      </p:pic>
      <p:pic>
        <p:nvPicPr>
          <p:cNvPr id="51" name="Image 3" descr="Imp-Act Hi"/>
          <p:cNvPicPr/>
          <p:nvPr/>
        </p:nvPicPr>
        <p:blipFill>
          <a:blip r:embed="rId2"/>
          <a:srcRect l="3882" t="24940" r="6002" b="38914"/>
          <a:stretch/>
        </p:blipFill>
        <p:spPr>
          <a:xfrm>
            <a:off x="6434280" y="6095880"/>
            <a:ext cx="2709720" cy="762120"/>
          </a:xfrm>
          <a:prstGeom prst="rect">
            <a:avLst/>
          </a:prstGeom>
          <a:ln w="0">
            <a:noFill/>
          </a:ln>
        </p:spPr>
      </p:pic>
      <p:pic>
        <p:nvPicPr>
          <p:cNvPr id="52" name="Image 4" descr="petit logo lettres2"/>
          <p:cNvPicPr/>
          <p:nvPr/>
        </p:nvPicPr>
        <p:blipFill>
          <a:blip r:embed="rId3"/>
          <a:stretch/>
        </p:blipFill>
        <p:spPr>
          <a:xfrm>
            <a:off x="0" y="6019920"/>
            <a:ext cx="248904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5"/>
          <p:cNvSpPr/>
          <p:nvPr/>
        </p:nvSpPr>
        <p:spPr>
          <a:xfrm>
            <a:off x="1332000" y="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Responsible finance: how networks can define and implement their strategy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3272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How to use?</a:t>
            </a: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2000" y="1989000"/>
            <a:ext cx="862956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hare case studies / comm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lf-use (with feedback to project team)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ow: request the draft version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une 2011: download the final vers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ternally facilitated deliver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Contac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Cerise: cerise@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cerise-microfinance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.org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MFC: Ewa@mfc.org.pl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Symbol zastępczy numeru slajdu 3"/>
          <p:cNvSpPr/>
          <p:nvPr/>
        </p:nvSpPr>
        <p:spPr>
          <a:xfrm>
            <a:off x="309600" y="214200"/>
            <a:ext cx="438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464B-5D7D-45F0-BF76-4A1E30B90E0C}" type="slidenum">
              <a:rPr b="0" lang="pl-PL" sz="18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ole tekstowe 6"/>
          <p:cNvSpPr/>
          <p:nvPr/>
        </p:nvSpPr>
        <p:spPr>
          <a:xfrm>
            <a:off x="3758760" y="2786040"/>
            <a:ext cx="465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b8d565"/>
                </a:solidFill>
                <a:latin typeface="Arial"/>
              </a:rPr>
              <a:t>Thank you!</a:t>
            </a:r>
            <a:endParaRPr b="0" lang="en-US" sz="6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Picture 2" descr="C:\Documents and Settings\ewa.DOMENAMFC\Moje dokumenty\GRAFIKA\MFC_logo nowe.jpg"/>
          <p:cNvPicPr/>
          <p:nvPr/>
        </p:nvPicPr>
        <p:blipFill>
          <a:blip r:embed="rId1"/>
          <a:stretch/>
        </p:blipFill>
        <p:spPr>
          <a:xfrm>
            <a:off x="3059280" y="5572080"/>
            <a:ext cx="2825640" cy="1285920"/>
          </a:xfrm>
          <a:prstGeom prst="rect">
            <a:avLst/>
          </a:prstGeom>
          <a:ln w="0">
            <a:noFill/>
          </a:ln>
        </p:spPr>
      </p:pic>
      <p:pic>
        <p:nvPicPr>
          <p:cNvPr id="123" name="Image 5" descr="Imp-Act Hi"/>
          <p:cNvPicPr/>
          <p:nvPr/>
        </p:nvPicPr>
        <p:blipFill>
          <a:blip r:embed="rId2"/>
          <a:srcRect l="3882" t="24940" r="6002" b="38914"/>
          <a:stretch/>
        </p:blipFill>
        <p:spPr>
          <a:xfrm>
            <a:off x="6434280" y="6095880"/>
            <a:ext cx="2709720" cy="762120"/>
          </a:xfrm>
          <a:prstGeom prst="rect">
            <a:avLst/>
          </a:prstGeom>
          <a:ln w="0">
            <a:noFill/>
          </a:ln>
        </p:spPr>
      </p:pic>
      <p:pic>
        <p:nvPicPr>
          <p:cNvPr id="124" name="Image 6" descr="petit logo lettres2"/>
          <p:cNvPicPr/>
          <p:nvPr/>
        </p:nvPicPr>
        <p:blipFill>
          <a:blip r:embed="rId3"/>
          <a:stretch/>
        </p:blipFill>
        <p:spPr>
          <a:xfrm>
            <a:off x="0" y="6019920"/>
            <a:ext cx="2489040" cy="838080"/>
          </a:xfrm>
          <a:prstGeom prst="rect">
            <a:avLst/>
          </a:prstGeom>
          <a:ln w="0">
            <a:noFill/>
          </a:ln>
        </p:spPr>
      </p:pic>
      <p:sp>
        <p:nvSpPr>
          <p:cNvPr id="125" name="ZoneTexte 7"/>
          <p:cNvSpPr/>
          <p:nvPr/>
        </p:nvSpPr>
        <p:spPr>
          <a:xfrm>
            <a:off x="545760" y="2924280"/>
            <a:ext cx="34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CERIS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14 Passage Dubai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75010 PARI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Tel/Fax: 00 33 (0) 1 40 36 92 9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cerise@cerise-microfinance.or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www.cerise-microfinance.or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112840" y="685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Oval 7"/>
          <p:cNvSpPr/>
          <p:nvPr/>
        </p:nvSpPr>
        <p:spPr>
          <a:xfrm>
            <a:off x="4448160" y="3257640"/>
            <a:ext cx="1262160" cy="1017360"/>
          </a:xfrm>
          <a:prstGeom prst="ellipse">
            <a:avLst/>
          </a:prstGeom>
          <a:gradFill rotWithShape="0">
            <a:gsLst>
              <a:gs pos="0">
                <a:srgbClr val="cc9900">
                  <a:alpha val="81176"/>
                </a:srgbClr>
              </a:gs>
              <a:gs pos="100000">
                <a:srgbClr val="e7cf8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80c"/>
                </a:solidFill>
                <a:latin typeface="Arial"/>
                <a:ea typeface="ＭＳ Ｐゴシック"/>
              </a:rPr>
              <a:t>Networ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3924360" y="3068640"/>
            <a:ext cx="5414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 flipV="1">
            <a:off x="5651640" y="2852640"/>
            <a:ext cx="703080" cy="4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 flipV="1">
            <a:off x="5014800" y="4358880"/>
            <a:ext cx="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Oval 16"/>
          <p:cNvSpPr/>
          <p:nvPr/>
        </p:nvSpPr>
        <p:spPr>
          <a:xfrm>
            <a:off x="1403280" y="1844640"/>
            <a:ext cx="2379600" cy="1700280"/>
          </a:xfrm>
          <a:prstGeom prst="ellipse">
            <a:avLst/>
          </a:prstGeom>
          <a:gradFill rotWithShape="0">
            <a:gsLst>
              <a:gs pos="0">
                <a:srgbClr val="e0c165"/>
              </a:gs>
              <a:gs pos="100000">
                <a:srgbClr val="cc9900">
                  <a:alpha val="8117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180c"/>
                </a:solidFill>
                <a:latin typeface="Arial"/>
                <a:ea typeface="ＭＳ Ｐゴシック"/>
              </a:rPr>
              <a:t>Awarenes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180c"/>
                </a:solidFill>
                <a:latin typeface="Arial"/>
                <a:ea typeface="ＭＳ Ｐゴシック"/>
              </a:rPr>
              <a:t>&amp; Advocac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" name="Oval 19"/>
          <p:cNvSpPr/>
          <p:nvPr/>
        </p:nvSpPr>
        <p:spPr>
          <a:xfrm>
            <a:off x="6386400" y="1700280"/>
            <a:ext cx="2362320" cy="1700280"/>
          </a:xfrm>
          <a:prstGeom prst="ellipse">
            <a:avLst/>
          </a:prstGeom>
          <a:gradFill rotWithShape="0">
            <a:gsLst>
              <a:gs pos="0">
                <a:srgbClr val="e7cf86"/>
              </a:gs>
              <a:gs pos="100000">
                <a:srgbClr val="cc9900">
                  <a:alpha val="8117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18180c"/>
                </a:solidFill>
                <a:latin typeface="Arial"/>
                <a:ea typeface="ＭＳ Ｐゴシック"/>
              </a:rPr>
              <a:t>Transparency</a:t>
            </a:r>
            <a:endParaRPr b="0" lang="en-US" sz="2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Oval 20"/>
          <p:cNvSpPr/>
          <p:nvPr/>
        </p:nvSpPr>
        <p:spPr>
          <a:xfrm>
            <a:off x="3851280" y="4724280"/>
            <a:ext cx="2308320" cy="1700280"/>
          </a:xfrm>
          <a:prstGeom prst="ellipse">
            <a:avLst/>
          </a:prstGeom>
          <a:gradFill rotWithShape="0">
            <a:gsLst>
              <a:gs pos="0">
                <a:srgbClr val="e7cf86"/>
              </a:gs>
              <a:gs pos="100000">
                <a:srgbClr val="cc9900">
                  <a:alpha val="8117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180c"/>
                </a:solidFill>
                <a:latin typeface="Arial"/>
                <a:ea typeface="ＭＳ Ｐゴシック"/>
              </a:rPr>
              <a:t>Capacity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180c"/>
                </a:solidFill>
                <a:latin typeface="Arial"/>
                <a:ea typeface="ＭＳ Ｐゴシック"/>
              </a:rPr>
              <a:t>Build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511344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92929"/>
                </a:solidFill>
                <a:latin typeface="Arial"/>
              </a:rPr>
              <a:t>Key R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oles of Networks in Advancing S</a:t>
            </a:r>
            <a:r>
              <a:rPr b="1" lang="pl-PL" sz="2800" spc="-1" strike="noStrike">
                <a:solidFill>
                  <a:srgbClr val="292929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3" name="Symbol zastępczy numeru slajdu 17"/>
          <p:cNvSpPr/>
          <p:nvPr/>
        </p:nvSpPr>
        <p:spPr>
          <a:xfrm>
            <a:off x="309600" y="214200"/>
            <a:ext cx="438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979C-236A-4BD0-A664-A2F70A4C5AD5}" type="slidenum">
              <a:rPr b="0" lang="pl-PL" sz="18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5256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29"/>
                </a:solidFill>
                <a:latin typeface="Arial"/>
              </a:rPr>
              <a:t>Rationale for Decision Tree</a:t>
            </a:r>
            <a:endParaRPr b="1" lang="en-US" sz="3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3640" y="2204640"/>
            <a:ext cx="81975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etworks as key actors to scale up Social Performance Management for Microfinanc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P strategy –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uccess linked to identification of drivers and careful planning (HR, costs, needs of member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etworks overwhelmed with tools and initiativ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P Agenda driven by tool provi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cision Tree” – public good to support network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09600" y="214200"/>
            <a:ext cx="438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ACEA-A493-4C4B-A701-1C88EAAC7AF6}" type="slidenum">
              <a:rPr b="0" lang="en-US" sz="18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511344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292929"/>
                </a:solidFill>
                <a:latin typeface="Arial"/>
              </a:rPr>
              <a:t>Dec</a:t>
            </a:r>
            <a:r>
              <a:rPr b="1" lang="fr-FR" sz="3000" spc="-1" strike="noStrike">
                <a:solidFill>
                  <a:srgbClr val="292929"/>
                </a:solidFill>
                <a:latin typeface="Arial"/>
              </a:rPr>
              <a:t>i</a:t>
            </a:r>
            <a:r>
              <a:rPr b="1" lang="pl-PL" sz="3000" spc="-1" strike="noStrike">
                <a:solidFill>
                  <a:srgbClr val="292929"/>
                </a:solidFill>
                <a:latin typeface="Arial"/>
              </a:rPr>
              <a:t>sion Tree Structure</a:t>
            </a:r>
            <a:endParaRPr b="1" lang="en-US" sz="3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2000" y="1197000"/>
            <a:ext cx="8629560" cy="5067360"/>
          </a:xfrm>
          <a:prstGeom prst="rect">
            <a:avLst/>
          </a:prstGeom>
          <a:ln w="0">
            <a:noFill/>
          </a:ln>
        </p:spPr>
      </p:pic>
      <p:sp>
        <p:nvSpPr>
          <p:cNvPr id="69" name="Symbol zastępczy numeru slajdu 3"/>
          <p:cNvSpPr/>
          <p:nvPr/>
        </p:nvSpPr>
        <p:spPr>
          <a:xfrm>
            <a:off x="309600" y="214200"/>
            <a:ext cx="438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14DD-E340-4A23-B5A2-0DF1A62F4D19}" type="slidenum">
              <a:rPr b="0" lang="pl-PL" sz="18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0" name="Picture 3" descr="C:\Users\admin\Documents\SEEP\SEEP conf\november 2010\sesja\treeGardenA0000.jpg"/>
          <p:cNvPicPr/>
          <p:nvPr/>
        </p:nvPicPr>
        <p:blipFill>
          <a:blip r:embed="rId2"/>
          <a:stretch/>
        </p:blipFill>
        <p:spPr>
          <a:xfrm>
            <a:off x="2244600" y="1125360"/>
            <a:ext cx="5850000" cy="510732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6"/>
          <p:cNvSpPr/>
          <p:nvPr/>
        </p:nvSpPr>
        <p:spPr>
          <a:xfrm>
            <a:off x="2852280" y="595008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ole tekstowe 7"/>
          <p:cNvSpPr/>
          <p:nvPr/>
        </p:nvSpPr>
        <p:spPr>
          <a:xfrm>
            <a:off x="4249800" y="616572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ole tekstowe 8"/>
          <p:cNvSpPr/>
          <p:nvPr/>
        </p:nvSpPr>
        <p:spPr>
          <a:xfrm>
            <a:off x="6046560" y="595008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Strzałka w prawo 9"/>
          <p:cNvSpPr/>
          <p:nvPr/>
        </p:nvSpPr>
        <p:spPr>
          <a:xfrm>
            <a:off x="184320" y="5445000"/>
            <a:ext cx="2460600" cy="122400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cc9900"/>
          </a:solidFill>
          <a:ln w="324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Drivers for SP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Strzałka w prawo 10"/>
          <p:cNvSpPr/>
          <p:nvPr/>
        </p:nvSpPr>
        <p:spPr>
          <a:xfrm>
            <a:off x="200160" y="1628640"/>
            <a:ext cx="1979640" cy="1224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cc9900"/>
          </a:solidFill>
          <a:ln w="324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ole tekstowe 11"/>
          <p:cNvSpPr/>
          <p:nvPr/>
        </p:nvSpPr>
        <p:spPr>
          <a:xfrm>
            <a:off x="6167520" y="3933720"/>
            <a:ext cx="232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ransparency branc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ole tekstowe 12"/>
          <p:cNvSpPr/>
          <p:nvPr/>
        </p:nvSpPr>
        <p:spPr>
          <a:xfrm>
            <a:off x="6964200" y="1413000"/>
            <a:ext cx="186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apacity building branc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ole tekstowe 13"/>
          <p:cNvSpPr/>
          <p:nvPr/>
        </p:nvSpPr>
        <p:spPr>
          <a:xfrm>
            <a:off x="2909880" y="2349360"/>
            <a:ext cx="186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dvocacy branc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rostokąt 9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ffffff"/>
          </a:solidFill>
          <a:ln w="324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511344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92929"/>
                </a:solidFill>
                <a:latin typeface="Arial"/>
              </a:rPr>
              <a:t>AEMFI, Ethiopia: Capacity Building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81" name="Symbol zastępczy zawartości 5" descr=""/>
          <p:cNvPicPr/>
          <p:nvPr/>
        </p:nvPicPr>
        <p:blipFill>
          <a:blip r:embed="rId1"/>
          <a:stretch/>
        </p:blipFill>
        <p:spPr>
          <a:xfrm>
            <a:off x="225360" y="1212840"/>
            <a:ext cx="8637480" cy="5078520"/>
          </a:xfrm>
          <a:prstGeom prst="rect">
            <a:avLst/>
          </a:prstGeom>
          <a:ln w="0">
            <a:noFill/>
          </a:ln>
        </p:spPr>
      </p:pic>
      <p:sp>
        <p:nvSpPr>
          <p:cNvPr id="82" name="Symbol zastępczy numeru slajdu 3"/>
          <p:cNvSpPr/>
          <p:nvPr/>
        </p:nvSpPr>
        <p:spPr>
          <a:xfrm>
            <a:off x="309600" y="214200"/>
            <a:ext cx="438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999B-065D-4E00-9FBE-01596E64A893}" type="slidenum">
              <a:rPr b="0" lang="pl-PL" sz="18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Strzałka w dół 6"/>
          <p:cNvSpPr/>
          <p:nvPr/>
        </p:nvSpPr>
        <p:spPr>
          <a:xfrm>
            <a:off x="5635800" y="1773360"/>
            <a:ext cx="598320" cy="934920"/>
          </a:xfrm>
          <a:prstGeom prst="downArrow">
            <a:avLst>
              <a:gd name="adj1" fmla="val 50000"/>
              <a:gd name="adj2" fmla="val 49930"/>
            </a:avLst>
          </a:prstGeom>
          <a:solidFill>
            <a:srgbClr val="cc9900"/>
          </a:solidFill>
          <a:ln w="324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ole tekstowe 7"/>
          <p:cNvSpPr/>
          <p:nvPr/>
        </p:nvSpPr>
        <p:spPr>
          <a:xfrm>
            <a:off x="4014720" y="111600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tit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interest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ole tekstowe 8"/>
          <p:cNvSpPr/>
          <p:nvPr/>
        </p:nvSpPr>
        <p:spPr>
          <a:xfrm>
            <a:off x="727560" y="527220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river for SP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ole tekstowe 9"/>
          <p:cNvSpPr/>
          <p:nvPr/>
        </p:nvSpPr>
        <p:spPr>
          <a:xfrm>
            <a:off x="3187440" y="527220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embers’ weakn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ole tekstowe 10"/>
          <p:cNvSpPr/>
          <p:nvPr/>
        </p:nvSpPr>
        <p:spPr>
          <a:xfrm>
            <a:off x="6775200" y="52722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4968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92929"/>
                </a:solidFill>
                <a:latin typeface="Arial"/>
              </a:rPr>
              <a:t>AEMFI, Ethiopia: transparency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89" name="Symbol zastępczy numeru slajdu 3"/>
          <p:cNvSpPr/>
          <p:nvPr/>
        </p:nvSpPr>
        <p:spPr>
          <a:xfrm>
            <a:off x="309600" y="214200"/>
            <a:ext cx="438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46D5-CC1F-4A4F-9CE0-0A78CD7BF6F9}" type="slidenum">
              <a:rPr b="0" lang="pl-PL" sz="18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rostokąt 5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ffffff"/>
          </a:solidFill>
          <a:ln w="324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1" name="Symbol zastępczy zawartości 4" descr=""/>
          <p:cNvPicPr/>
          <p:nvPr/>
        </p:nvPicPr>
        <p:blipFill>
          <a:blip r:embed="rId1"/>
          <a:stretch/>
        </p:blipFill>
        <p:spPr>
          <a:xfrm>
            <a:off x="212760" y="1212840"/>
            <a:ext cx="8669160" cy="5651640"/>
          </a:xfrm>
          <a:prstGeom prst="rect">
            <a:avLst/>
          </a:prstGeom>
          <a:ln w="0">
            <a:noFill/>
          </a:ln>
        </p:spPr>
      </p:pic>
      <p:sp>
        <p:nvSpPr>
          <p:cNvPr id="92" name="pole tekstowe 6"/>
          <p:cNvSpPr/>
          <p:nvPr/>
        </p:nvSpPr>
        <p:spPr>
          <a:xfrm>
            <a:off x="250920" y="1700280"/>
            <a:ext cx="11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river: threat for SP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ole tekstowe 7"/>
          <p:cNvSpPr/>
          <p:nvPr/>
        </p:nvSpPr>
        <p:spPr>
          <a:xfrm>
            <a:off x="2050920" y="1844640"/>
            <a:ext cx="15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hat to demonstrate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ole tekstowe 8"/>
          <p:cNvSpPr/>
          <p:nvPr/>
        </p:nvSpPr>
        <p:spPr>
          <a:xfrm>
            <a:off x="3906720" y="190800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ole tekstowe 9"/>
          <p:cNvSpPr/>
          <p:nvPr/>
        </p:nvSpPr>
        <p:spPr>
          <a:xfrm>
            <a:off x="5635800" y="1700280"/>
            <a:ext cx="12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dicators availabl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ole tekstowe 10"/>
          <p:cNvSpPr/>
          <p:nvPr/>
        </p:nvSpPr>
        <p:spPr>
          <a:xfrm>
            <a:off x="7429680" y="1700280"/>
            <a:ext cx="12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issing indicato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rostokąt 9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ffffff"/>
          </a:solidFill>
          <a:ln w="324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511344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29"/>
                </a:solidFill>
                <a:latin typeface="Arial"/>
              </a:rPr>
              <a:t>RFR Ecuador</a:t>
            </a:r>
            <a:r>
              <a:rPr b="1" lang="pl-PL" sz="28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1" lang="fr-FR" sz="2800" spc="-1" strike="noStrike">
                <a:solidFill>
                  <a:srgbClr val="292929"/>
                </a:solidFill>
                <a:latin typeface="Arial"/>
              </a:rPr>
              <a:t>Advocacy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99" name="Symbol zastępczy zawartości 5" descr=""/>
          <p:cNvPicPr/>
          <p:nvPr/>
        </p:nvPicPr>
        <p:blipFill>
          <a:blip r:embed="rId1"/>
          <a:stretch/>
        </p:blipFill>
        <p:spPr>
          <a:xfrm>
            <a:off x="225360" y="1212840"/>
            <a:ext cx="8637480" cy="5078520"/>
          </a:xfrm>
          <a:prstGeom prst="rect">
            <a:avLst/>
          </a:prstGeom>
          <a:ln w="0">
            <a:noFill/>
          </a:ln>
        </p:spPr>
      </p:pic>
      <p:sp>
        <p:nvSpPr>
          <p:cNvPr id="100" name="Symbol zastępczy numeru slajdu 3"/>
          <p:cNvSpPr/>
          <p:nvPr/>
        </p:nvSpPr>
        <p:spPr>
          <a:xfrm>
            <a:off x="309600" y="214200"/>
            <a:ext cx="438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0142-BFFA-4124-998F-EE94D7735AF6}" type="slidenum">
              <a:rPr b="0" lang="pl-PL" sz="18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Strzałka w dół 6"/>
          <p:cNvSpPr/>
          <p:nvPr/>
        </p:nvSpPr>
        <p:spPr>
          <a:xfrm>
            <a:off x="5635800" y="1773360"/>
            <a:ext cx="598320" cy="934920"/>
          </a:xfrm>
          <a:prstGeom prst="downArrow">
            <a:avLst>
              <a:gd name="adj1" fmla="val 50000"/>
              <a:gd name="adj2" fmla="val 49930"/>
            </a:avLst>
          </a:prstGeom>
          <a:solidFill>
            <a:srgbClr val="cc9900"/>
          </a:solidFill>
          <a:ln w="324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pole tekstowe 7"/>
          <p:cNvSpPr/>
          <p:nvPr/>
        </p:nvSpPr>
        <p:spPr>
          <a:xfrm>
            <a:off x="4057560" y="111600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interest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ole tekstowe 8"/>
          <p:cNvSpPr/>
          <p:nvPr/>
        </p:nvSpPr>
        <p:spPr>
          <a:xfrm>
            <a:off x="727560" y="527220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river for SP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pole tekstowe 9"/>
          <p:cNvSpPr/>
          <p:nvPr/>
        </p:nvSpPr>
        <p:spPr>
          <a:xfrm>
            <a:off x="3183840" y="52722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embers’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pole tekstowe 10"/>
          <p:cNvSpPr/>
          <p:nvPr/>
        </p:nvSpPr>
        <p:spPr>
          <a:xfrm>
            <a:off x="6775200" y="52722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9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ffffff"/>
          </a:solidFill>
          <a:ln w="324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511344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29"/>
                </a:solidFill>
                <a:latin typeface="Arial"/>
              </a:rPr>
              <a:t>MCPI, Philippines: Capacity-building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108" name="Symbol zastępczy zawartości 5" descr=""/>
          <p:cNvPicPr/>
          <p:nvPr/>
        </p:nvPicPr>
        <p:blipFill>
          <a:blip r:embed="rId1"/>
          <a:stretch/>
        </p:blipFill>
        <p:spPr>
          <a:xfrm>
            <a:off x="219240" y="1212840"/>
            <a:ext cx="8650080" cy="5078520"/>
          </a:xfrm>
          <a:prstGeom prst="rect">
            <a:avLst/>
          </a:prstGeom>
          <a:ln w="0">
            <a:noFill/>
          </a:ln>
        </p:spPr>
      </p:pic>
      <p:sp>
        <p:nvSpPr>
          <p:cNvPr id="109" name="Symbol zastępczy numeru slajdu 3"/>
          <p:cNvSpPr/>
          <p:nvPr/>
        </p:nvSpPr>
        <p:spPr>
          <a:xfrm>
            <a:off x="309600" y="214200"/>
            <a:ext cx="438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88D1-2C62-4667-A11E-5D456BA5DD9B}" type="slidenum">
              <a:rPr b="0" lang="pl-PL" sz="18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Strzałka w dół 6"/>
          <p:cNvSpPr/>
          <p:nvPr/>
        </p:nvSpPr>
        <p:spPr>
          <a:xfrm>
            <a:off x="5635800" y="1773360"/>
            <a:ext cx="598320" cy="934920"/>
          </a:xfrm>
          <a:prstGeom prst="downArrow">
            <a:avLst>
              <a:gd name="adj1" fmla="val 50000"/>
              <a:gd name="adj2" fmla="val 49930"/>
            </a:avLst>
          </a:prstGeom>
          <a:solidFill>
            <a:srgbClr val="cc9900"/>
          </a:solidFill>
          <a:ln w="324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ole tekstowe 7"/>
          <p:cNvSpPr/>
          <p:nvPr/>
        </p:nvSpPr>
        <p:spPr>
          <a:xfrm>
            <a:off x="4005720" y="111600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GO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ole tekstowe 8"/>
          <p:cNvSpPr/>
          <p:nvPr/>
        </p:nvSpPr>
        <p:spPr>
          <a:xfrm>
            <a:off x="727560" y="527220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river for SP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pole tekstowe 9"/>
          <p:cNvSpPr/>
          <p:nvPr/>
        </p:nvSpPr>
        <p:spPr>
          <a:xfrm>
            <a:off x="3187440" y="527220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embers’ weakn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pole tekstowe 10"/>
          <p:cNvSpPr/>
          <p:nvPr/>
        </p:nvSpPr>
        <p:spPr>
          <a:xfrm>
            <a:off x="6775200" y="52722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333360"/>
            <a:ext cx="755964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Project status</a:t>
            </a: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560" y="2133720"/>
            <a:ext cx="862956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ilot tests delivered: MCPI Philippines, AEMFI  Ethiopia, RFR Ecuad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ilot tests planned: East and/or West Africa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nal distribution: Social Performance Task Force 201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Symbol zastępczy numeru slajdu 3"/>
          <p:cNvSpPr/>
          <p:nvPr/>
        </p:nvSpPr>
        <p:spPr>
          <a:xfrm>
            <a:off x="309600" y="214200"/>
            <a:ext cx="438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EFB5-64A0-440D-A749-5B67D862FBB0}" type="slidenum">
              <a:rPr b="0" lang="pl-PL" sz="18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Cécile Lapenu</cp:lastModifiedBy>
  <dcterms:modified xsi:type="dcterms:W3CDTF">2010-11-25T09:11:59Z</dcterms:modified>
  <cp:revision>13</cp:revision>
  <dc:subject/>
  <dc:title>Slide 1</dc:title>
</cp:coreProperties>
</file>