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DB2F-BA01-4B22-A0E3-089EEF2BF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BB2F-2941-4E67-B18C-BF4767C4A7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E579-B3EE-4435-AA26-2F42806816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0144-C0FC-4F64-8AE0-0459AD84D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D677-DFB6-45B2-B4BA-DB3BAAD8C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EFF9-3B47-4522-BC28-1C27BB49B5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3437-0097-44AB-9DA0-703B778A54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76A1-0A3D-436A-A4E1-065D0AB689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4A2B-5F7D-4D60-83F7-92A5985A6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EB3A-F04C-481F-BF69-A5671FB8D1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0B59-BAFD-4FEB-A1E5-9536274F0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6599-CEA3-4EEA-80C2-EE490B6CF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C255-B82B-4D4B-9BAE-5CA3B15015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F318-F291-48DF-9DF3-473EBA3E3B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C1CF-0492-4DC9-9C90-6E75934D8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1CA7-D94E-44C4-B0D6-01A10B1E3D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43E5-5CE3-4642-84D3-B03FAA27C1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511-280D-4CE7-B831-CE91CAA5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60C-2DAB-4777-8C9E-7DE40119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E19-905D-4872-9E06-C12906C5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938-1558-47F3-99FA-77B9BA21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1CF-8839-4794-AEFD-D0E0359E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9F6-F4F7-40AA-A2BE-4C58809B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90E-194B-4B86-B399-E5FF9E05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F75-7C94-46EF-96E2-8E7CDB81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6348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C3D-A780-4D26-87FB-D2F06BDD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641-CA68-4E97-B814-93FFFDFC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6EF-24CD-4951-9617-02777859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C13-7D7D-4DB0-AF4E-6D9AA66A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ulb.ac.be/contacts.html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F52A-CE14-4A54-A4B2-4FD84BF4BC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7956720" y="6270480"/>
            <a:ext cx="1150920" cy="471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foot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36360" y="-27000"/>
            <a:ext cx="6251400" cy="765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SBS-EM-cmyk"/>
          <p:cNvPicPr/>
          <p:nvPr/>
        </p:nvPicPr>
        <p:blipFill>
          <a:blip r:embed="rId5"/>
          <a:stretch/>
        </p:blipFill>
        <p:spPr>
          <a:xfrm>
            <a:off x="71280" y="6340320"/>
            <a:ext cx="1621080" cy="4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sponsible, “fair” interest rate in microfinanc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2010 European Microfinance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35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f. Marek Hu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ay Brussels School-EM (UL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e for European Research in Microfinance (CER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vem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Why is there a debate? What is a credit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55736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0"/>
          <p:cNvGrpSpPr/>
          <p:nvPr/>
        </p:nvGrpSpPr>
        <p:grpSpPr>
          <a:xfrm>
            <a:off x="214200" y="1285920"/>
            <a:ext cx="8429760" cy="2297160"/>
            <a:chOff x="214200" y="1285920"/>
            <a:chExt cx="8429760" cy="2297160"/>
          </a:xfrm>
        </p:grpSpPr>
        <p:sp>
          <p:nvSpPr>
            <p:cNvPr id="89" name="Rounded Rectangle 14"/>
            <p:cNvSpPr/>
            <p:nvPr/>
          </p:nvSpPr>
          <p:spPr>
            <a:xfrm>
              <a:off x="214200" y="1285920"/>
              <a:ext cx="8429760" cy="2297160"/>
            </a:xfrm>
            <a:prstGeom prst="roundRect">
              <a:avLst>
                <a:gd name="adj" fmla="val 10000"/>
              </a:avLst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ounded Rectangle 4"/>
            <p:cNvSpPr/>
            <p:nvPr/>
          </p:nvSpPr>
          <p:spPr>
            <a:xfrm>
              <a:off x="2120760" y="1285920"/>
              <a:ext cx="6523200" cy="22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1137"/>
                </a:spcAft>
                <a:buClr>
                  <a:srgbClr val="002060"/>
                </a:buClr>
                <a:buFont typeface="Arial"/>
                <a:buChar char="-"/>
                <a:tabLst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0" lang="en-GB" sz="26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GB" sz="2600" spc="-1" strike="noStrike">
                  <a:solidFill>
                    <a:srgbClr val="002060"/>
                  </a:solidFill>
                  <a:latin typeface="Arial"/>
                </a:rPr>
                <a:t>Agreement of both, no constrai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137"/>
                </a:spcAft>
                <a:buClr>
                  <a:srgbClr val="002060"/>
                </a:buClr>
                <a:buFont typeface="Arial"/>
                <a:buChar char="-"/>
                <a:tabLst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0" lang="en-GB" sz="26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GB" sz="2600" spc="-1" strike="noStrike">
                  <a:solidFill>
                    <a:srgbClr val="002060"/>
                  </a:solidFill>
                  <a:latin typeface="Arial"/>
                </a:rPr>
                <a:t>Win-wi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137"/>
                </a:spcAft>
                <a:buClr>
                  <a:srgbClr val="002060"/>
                </a:buClr>
                <a:buFont typeface="Arial"/>
                <a:buChar char="-"/>
                <a:tabLst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0" lang="en-GB" sz="26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GB" sz="2600" spc="-1" strike="noStrike">
                  <a:solidFill>
                    <a:srgbClr val="002060"/>
                  </a:solidFill>
                  <a:latin typeface="Arial"/>
                </a:rPr>
                <a:t>Market-base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137"/>
                </a:spcAft>
                <a:buClr>
                  <a:srgbClr val="002060"/>
                </a:buClr>
                <a:buFont typeface="Arial"/>
                <a:buChar char="-"/>
                <a:tabLst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0" lang="nl-BE" sz="26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nl-BE" sz="2600" spc="-1" strike="noStrike">
                  <a:solidFill>
                    <a:srgbClr val="002060"/>
                  </a:solidFill>
                  <a:latin typeface="Arial"/>
                </a:rPr>
                <a:t>No reference to bargaining power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1"/>
          <p:cNvGrpSpPr/>
          <p:nvPr/>
        </p:nvGrpSpPr>
        <p:grpSpPr>
          <a:xfrm>
            <a:off x="214200" y="3643200"/>
            <a:ext cx="8429760" cy="2297160"/>
            <a:chOff x="214200" y="3643200"/>
            <a:chExt cx="8429760" cy="2297160"/>
          </a:xfrm>
        </p:grpSpPr>
        <p:sp>
          <p:nvSpPr>
            <p:cNvPr id="92" name="Rounded Rectangle 12"/>
            <p:cNvSpPr/>
            <p:nvPr/>
          </p:nvSpPr>
          <p:spPr>
            <a:xfrm>
              <a:off x="214200" y="3643200"/>
              <a:ext cx="8429760" cy="2297160"/>
            </a:xfrm>
            <a:prstGeom prst="roundRect">
              <a:avLst>
                <a:gd name="adj" fmla="val 10000"/>
              </a:avLst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ounded Rectangle 6"/>
            <p:cNvSpPr/>
            <p:nvPr/>
          </p:nvSpPr>
          <p:spPr>
            <a:xfrm>
              <a:off x="2120760" y="3643200"/>
              <a:ext cx="6523200" cy="22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nl-BE" sz="2600" spc="-1" strike="noStrike">
                  <a:solidFill>
                    <a:srgbClr val="002060"/>
                  </a:solidFill>
                  <a:latin typeface="Arial"/>
                </a:rPr>
                <a:t>- Socio-economic circumstanc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nl-BE" sz="2600" spc="-1" strike="noStrike">
                  <a:solidFill>
                    <a:srgbClr val="002060"/>
                  </a:solidFill>
                  <a:latin typeface="Arial"/>
                </a:rPr>
                <a:t>- Poverty of cli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nl-BE" sz="2600" spc="-1" strike="noStrike">
                  <a:solidFill>
                    <a:srgbClr val="002060"/>
                  </a:solidFill>
                  <a:latin typeface="Arial"/>
                </a:rPr>
                <a:t>- Moral responsibility to interven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nl-BE" sz="2600" spc="-1" strike="noStrike">
                  <a:solidFill>
                    <a:srgbClr val="002060"/>
                  </a:solidFill>
                  <a:latin typeface="Arial"/>
                </a:rPr>
                <a:t>- Priority lending or (goal)right to credi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8"/>
          <p:cNvSpPr/>
          <p:nvPr/>
        </p:nvSpPr>
        <p:spPr>
          <a:xfrm>
            <a:off x="428760" y="36432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2060"/>
                </a:solidFill>
                <a:latin typeface="Arial"/>
              </a:rPr>
              <a:t>M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28760" y="15001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2060"/>
                </a:solidFill>
                <a:latin typeface="Arial"/>
              </a:rPr>
              <a:t>Barg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571680" y="2071800"/>
            <a:ext cx="1428480" cy="107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pancakes"/>
          <p:cNvPicPr/>
          <p:nvPr/>
        </p:nvPicPr>
        <p:blipFill>
          <a:blip r:embed="rId3"/>
          <a:stretch/>
        </p:blipFill>
        <p:spPr>
          <a:xfrm>
            <a:off x="642960" y="4100400"/>
            <a:ext cx="121428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What is a credit? Im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ontent Placeholder 3" descr=""/>
          <p:cNvPicPr/>
          <p:nvPr/>
        </p:nvPicPr>
        <p:blipFill>
          <a:blip r:embed="rId1"/>
          <a:stretch/>
        </p:blipFill>
        <p:spPr>
          <a:xfrm>
            <a:off x="55440" y="1547640"/>
            <a:ext cx="5504040" cy="4554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1280" y="3929040"/>
            <a:ext cx="16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2060"/>
                </a:solidFill>
                <a:latin typeface="Arial"/>
              </a:rPr>
              <a:t>M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0" y="157176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2060"/>
                </a:solidFill>
                <a:latin typeface="Arial"/>
              </a:rPr>
              <a:t>Barg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9"/>
          <p:cNvGrpSpPr/>
          <p:nvPr/>
        </p:nvGrpSpPr>
        <p:grpSpPr>
          <a:xfrm>
            <a:off x="5429160" y="1943280"/>
            <a:ext cx="3714840" cy="1485720"/>
            <a:chOff x="5429160" y="1943280"/>
            <a:chExt cx="3714840" cy="1485720"/>
          </a:xfrm>
        </p:grpSpPr>
        <p:sp>
          <p:nvSpPr>
            <p:cNvPr id="103" name="Chevron 13"/>
            <p:cNvSpPr/>
            <p:nvPr/>
          </p:nvSpPr>
          <p:spPr>
            <a:xfrm>
              <a:off x="5429160" y="1943280"/>
              <a:ext cx="3714840" cy="1485720"/>
            </a:xfrm>
            <a:custGeom>
              <a:avLst/>
              <a:gdLst>
                <a:gd name="textAreaLeft" fmla="*/ 0 w 3714840"/>
                <a:gd name="textAreaRight" fmla="*/ 3715200 w 371484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0" y="0"/>
                  </a:lnTo>
                  <a:lnTo>
                    <a:pt x="21600" y="10800"/>
                  </a:lnTo>
                  <a:lnTo>
                    <a:pt x="17280" y="21600"/>
                  </a:lnTo>
                  <a:lnTo>
                    <a:pt x="0" y="21600"/>
                  </a:lnTo>
                  <a:lnTo>
                    <a:pt x="4320" y="10800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Chevron 4"/>
            <p:cNvSpPr/>
            <p:nvPr/>
          </p:nvSpPr>
          <p:spPr>
            <a:xfrm>
              <a:off x="6171840" y="1943280"/>
              <a:ext cx="222912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nl-BE" sz="2400" spc="-1" strike="noStrike">
                  <a:solidFill>
                    <a:srgbClr val="002060"/>
                  </a:solidFill>
                  <a:latin typeface="Arial"/>
                </a:rPr>
                <a:t>* Transpar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nl-BE" sz="2400" spc="-1" strike="noStrike">
                  <a:solidFill>
                    <a:srgbClr val="002060"/>
                  </a:solidFill>
                  <a:latin typeface="Arial"/>
                </a:rPr>
                <a:t>* Comp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0"/>
          <p:cNvGrpSpPr/>
          <p:nvPr/>
        </p:nvGrpSpPr>
        <p:grpSpPr>
          <a:xfrm>
            <a:off x="5429160" y="4229280"/>
            <a:ext cx="3714840" cy="1485720"/>
            <a:chOff x="5429160" y="4229280"/>
            <a:chExt cx="3714840" cy="1485720"/>
          </a:xfrm>
        </p:grpSpPr>
        <p:sp>
          <p:nvSpPr>
            <p:cNvPr id="106" name="Chevron 11"/>
            <p:cNvSpPr/>
            <p:nvPr/>
          </p:nvSpPr>
          <p:spPr>
            <a:xfrm>
              <a:off x="5429160" y="4229280"/>
              <a:ext cx="3714840" cy="1485720"/>
            </a:xfrm>
            <a:custGeom>
              <a:avLst/>
              <a:gdLst>
                <a:gd name="textAreaLeft" fmla="*/ 0 w 3714840"/>
                <a:gd name="textAreaRight" fmla="*/ 3715200 w 371484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0" y="0"/>
                  </a:lnTo>
                  <a:lnTo>
                    <a:pt x="21600" y="10800"/>
                  </a:lnTo>
                  <a:lnTo>
                    <a:pt x="17280" y="21600"/>
                  </a:lnTo>
                  <a:lnTo>
                    <a:pt x="0" y="21600"/>
                  </a:lnTo>
                  <a:lnTo>
                    <a:pt x="4320" y="10800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Chevron 6"/>
            <p:cNvSpPr/>
            <p:nvPr/>
          </p:nvSpPr>
          <p:spPr>
            <a:xfrm>
              <a:off x="5929200" y="4229280"/>
              <a:ext cx="222912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nl-BE" sz="2400" spc="-1" strike="noStrike">
                  <a:solidFill>
                    <a:srgbClr val="002060"/>
                  </a:solidFill>
                  <a:latin typeface="Arial"/>
                </a:rPr>
                <a:t>* Injust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nl-BE" sz="2400" spc="-1" strike="noStrike">
                  <a:solidFill>
                    <a:srgbClr val="002060"/>
                  </a:solidFill>
                  <a:latin typeface="Arial"/>
                </a:rPr>
                <a:t>* Fairn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rief (recent) “historical”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erms and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33399"/>
                </a:solidFill>
                <a:latin typeface="Arial"/>
              </a:rPr>
              <a:t>Responsible pricing: What does fairness en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Fair, responsible: What is the ques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_s1028"/>
          <p:cNvSpPr/>
          <p:nvPr/>
        </p:nvSpPr>
        <p:spPr>
          <a:xfrm>
            <a:off x="3724200" y="2325600"/>
            <a:ext cx="1697040" cy="1697040"/>
          </a:xfrm>
          <a:prstGeom prst="ellipse">
            <a:avLst/>
          </a:prstGeom>
          <a:solidFill>
            <a:srgbClr val="333399">
              <a:alpha val="50000"/>
            </a:srgbClr>
          </a:solidFill>
          <a:ln w="4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_s1030"/>
          <p:cNvSpPr/>
          <p:nvPr/>
        </p:nvSpPr>
        <p:spPr>
          <a:xfrm>
            <a:off x="4282920" y="3294000"/>
            <a:ext cx="1697040" cy="1697040"/>
          </a:xfrm>
          <a:prstGeom prst="ellipse">
            <a:avLst/>
          </a:prstGeom>
          <a:solidFill>
            <a:srgbClr val="009999">
              <a:alpha val="50000"/>
            </a:srgbClr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_s1032"/>
          <p:cNvSpPr/>
          <p:nvPr/>
        </p:nvSpPr>
        <p:spPr>
          <a:xfrm>
            <a:off x="3165480" y="3294000"/>
            <a:ext cx="1697040" cy="169704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3635280" y="177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2d8a"/>
                </a:solidFill>
                <a:latin typeface="Arial"/>
              </a:rPr>
              <a:t>Systemic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154160" y="5181480"/>
            <a:ext cx="27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2d8a"/>
                </a:solidFill>
                <a:latin typeface="Arial"/>
              </a:rPr>
              <a:t>Corporat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6603120" y="42210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2d2d8a"/>
                </a:solidFill>
                <a:latin typeface="Arial"/>
              </a:rPr>
              <a:t>Individu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5429160" y="2349360"/>
            <a:ext cx="2286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Arial"/>
              </a:rPr>
              <a:t>Morality of fin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1116360" y="57736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Arial"/>
              </a:rPr>
              <a:t>Morality of corporate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3714840" y="628668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Concepts from Velasquez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785880" y="1500120"/>
            <a:ext cx="2500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060"/>
                </a:solidFill>
                <a:latin typeface="Arial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060"/>
                </a:solidFill>
                <a:latin typeface="Arial"/>
              </a:rPr>
              <a:t>Costs </a:t>
            </a:r>
            <a:r>
              <a:rPr b="0" lang="nl-BE" sz="1800" spc="-1" strike="noStrike">
                <a:solidFill>
                  <a:srgbClr val="002060"/>
                </a:solidFill>
                <a:latin typeface="Arial"/>
              </a:rPr>
              <a:t>(e.g. smaller cake to div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nl-BE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002060"/>
                </a:solidFill>
                <a:latin typeface="Arial"/>
              </a:rPr>
              <a:t>Which benchma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3"/>
          <p:cNvCxnSpPr/>
          <p:nvPr/>
        </p:nvCxnSpPr>
        <p:spPr>
          <a:xfrm flipH="1" flipV="1">
            <a:off x="3142800" y="1991520"/>
            <a:ext cx="349920" cy="11880"/>
          </a:xfrm>
          <a:prstGeom prst="straightConnector1">
            <a:avLst/>
          </a:prstGeom>
          <a:ln w="2844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22" name="TextBox 14"/>
          <p:cNvSpPr/>
          <p:nvPr/>
        </p:nvSpPr>
        <p:spPr>
          <a:xfrm>
            <a:off x="0" y="3429000"/>
            <a:ext cx="3000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060"/>
                </a:solidFill>
                <a:latin typeface="Arial"/>
              </a:rPr>
              <a:t>Trade-off between SPM (ALS) and FSS </a:t>
            </a:r>
            <a:r>
              <a:rPr b="0" lang="nl-BE" sz="1800" spc="-1" strike="noStrike">
                <a:solidFill>
                  <a:srgbClr val="002060"/>
                </a:solidFill>
                <a:latin typeface="Arial"/>
              </a:rPr>
              <a:t>(e.g.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Bédécarrats et al., 200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2060"/>
                </a:solidFill>
                <a:latin typeface="Arial"/>
              </a:rPr>
              <a:t>Lensink et al., </a:t>
            </a:r>
            <a:r>
              <a:rPr b="0" i="1" lang="nl-BE" sz="1800" spc="-1" strike="noStrike">
                <a:solidFill>
                  <a:srgbClr val="002060"/>
                </a:solidFill>
                <a:latin typeface="Arial"/>
              </a:rPr>
              <a:t>forthcoming</a:t>
            </a:r>
            <a:r>
              <a:rPr b="0" lang="nl-BE" sz="18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17"/>
          <p:cNvCxnSpPr/>
          <p:nvPr/>
        </p:nvCxnSpPr>
        <p:spPr>
          <a:xfrm flipH="1" flipV="1">
            <a:off x="2650680" y="5002920"/>
            <a:ext cx="349920" cy="212040"/>
          </a:xfrm>
          <a:prstGeom prst="straightConnector1">
            <a:avLst/>
          </a:prstGeom>
          <a:ln w="2844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24" name="Rectangle 23"/>
          <p:cNvSpPr/>
          <p:nvPr/>
        </p:nvSpPr>
        <p:spPr>
          <a:xfrm>
            <a:off x="5596200" y="4797360"/>
            <a:ext cx="2475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Arial"/>
              </a:rPr>
              <a:t>Manager put pres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Arial"/>
              </a:rPr>
              <a:t>on loan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348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Three conceptions of fair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208080" y="2633760"/>
            <a:ext cx="8942400" cy="4095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6429240" y="857160"/>
            <a:ext cx="27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institution to operate as a going concern, but at the same time is as low cost to the customer as possib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286080" y="114768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ents themselves obviously judge that the loans are good for them (…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548880" y="220176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Rosenberg,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57160" y="129060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Cost of fund + 10 to 15%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32400" y="22017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(Yunus,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689160" y="22017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Rhyne,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Fair interest rate or fair price/ de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Diagram 3" descr=""/>
          <p:cNvPicPr/>
          <p:nvPr/>
        </p:nvPicPr>
        <p:blipFill>
          <a:blip r:embed="rId1"/>
          <a:stretch/>
        </p:blipFill>
        <p:spPr>
          <a:xfrm>
            <a:off x="-6480" y="1378080"/>
            <a:ext cx="9017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55736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terest rate is a complex issue (e.g. fairness compared to?) but also an importan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Putting the whole sector at ris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r trade definition? “Stable price, above market price + sufficient to finance other projec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Clients need cheap service (all included, not only yield/ IR) but also flexibility &amp;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More problems and discussions to come (with various outsid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CERMi and E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CER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Research centre devoted to microfinance management (eg. governance, ethics, innovation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Created three years ago in Brussels and 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9 PhD students in micro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Network of 30+ research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MP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(European Microfinance Program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4 European Universities + 5 partner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tart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+- 40 students selected among 150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20+ na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-1000080" y="835200"/>
            <a:ext cx="10382040" cy="8094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8572680" y="0"/>
            <a:ext cx="3643200" cy="728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-71280" y="785880"/>
            <a:ext cx="878652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Recent new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rief (recent) “historical”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erms and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Responsible pricing: What does fairness en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New conce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Jubilee 2000, canceling Third World debt, imagine if these social activists focus on the fact that many of our very good microfinance institutions are charging 100% and mak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gher than banks “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Littlefield (past CEO, CGAP) at 2006 Microcredit Summit in Hali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55736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95400" y="0"/>
            <a:ext cx="12191760" cy="7620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8572680" y="0"/>
            <a:ext cx="3643200" cy="728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3286080" y="3143160"/>
            <a:ext cx="2428920" cy="357120"/>
          </a:xfrm>
          <a:prstGeom prst="ellipse">
            <a:avLst/>
          </a:prstGeom>
          <a:noFill/>
          <a:ln w="7632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0"/>
            <a:ext cx="857268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fter Compartamos Clash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(IR: 86% + V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14720" y="5143680"/>
            <a:ext cx="5929200" cy="1618560"/>
          </a:xfrm>
          <a:prstGeom prst="rect">
            <a:avLst/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GAP Portfolio (Dec, 2008) “Critics worry that microfinance institutions (MFIs) may be charging exploitative rates because of the wea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rgaining pow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ir poor clients, who can't get loans elsewher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Why n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-6480" y="1268280"/>
            <a:ext cx="8699760" cy="48085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7286760" y="478620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2060"/>
                </a:solidFill>
                <a:latin typeface="Arial"/>
              </a:rPr>
              <a:t>Criticism % financial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2786040" y="3071880"/>
            <a:ext cx="1143000" cy="113832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85716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2060"/>
                </a:solidFill>
                <a:latin typeface="Arial"/>
              </a:rPr>
              <a:t>Overindebt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5715000" y="2000160"/>
            <a:ext cx="214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2060"/>
                </a:solidFill>
                <a:latin typeface="Arial"/>
              </a:rPr>
              <a:t>Impact </a:t>
            </a:r>
            <a:r>
              <a:rPr b="0" lang="nl-BE" sz="1600" spc="-1" strike="noStrike">
                <a:solidFill>
                  <a:srgbClr val="002060"/>
                </a:solidFill>
                <a:latin typeface="Arial"/>
              </a:rPr>
              <a:t>(Banerjee et al.,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F:\Duflo.jpeg"/>
          <p:cNvPicPr/>
          <p:nvPr/>
        </p:nvPicPr>
        <p:blipFill>
          <a:blip r:embed="rId3"/>
          <a:stretch/>
        </p:blipFill>
        <p:spPr>
          <a:xfrm>
            <a:off x="4143240" y="1989000"/>
            <a:ext cx="857520" cy="8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-285840" y="1143000"/>
            <a:ext cx="785880" cy="5929200"/>
          </a:xfrm>
          <a:prstGeom prst="rect">
            <a:avLst/>
          </a:prstGeom>
          <a:solidFill>
            <a:srgbClr val="daede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-285840" y="5929200"/>
            <a:ext cx="9715680" cy="11430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8643960" y="1071720"/>
            <a:ext cx="785880" cy="5929200"/>
          </a:xfrm>
          <a:prstGeom prst="rect">
            <a:avLst/>
          </a:prstGeom>
          <a:solidFill>
            <a:srgbClr val="daede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-285840" y="-214200"/>
            <a:ext cx="971568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0" lang="nl-BE" sz="2800" spc="-1" strike="noStrike">
                <a:solidFill>
                  <a:srgbClr val="002060"/>
                </a:solidFill>
                <a:latin typeface="Arial"/>
              </a:rPr>
              <a:t>Microcredit interest rates”? Wide ran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34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rief (recent) “historical”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060"/>
                </a:solidFill>
                <a:latin typeface="Arial"/>
              </a:rPr>
              <a:t>Terms and concep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Responsible pricing: What does fairness en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8:32:30Z</dcterms:created>
  <dc:creator>Marek Hudon</dc:creator>
  <dc:description/>
  <dc:language>en-US</dc:language>
  <cp:lastModifiedBy> </cp:lastModifiedBy>
  <dcterms:modified xsi:type="dcterms:W3CDTF">2010-12-09T10:31:48Z</dcterms:modified>
  <cp:revision>508</cp:revision>
  <dc:subject/>
  <dc:title>Diapositive 1</dc:title>
</cp:coreProperties>
</file>