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5.png" ContentType="image/png"/>
  <Override PartName="/ppt/media/image8.jpeg" ContentType="image/jpe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38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5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3503-EDC3-4B41-94C6-559CF9FAB1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E2BC-6DE6-4B43-AA45-73B384E223C9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51F5-77BB-4E3F-8106-20297F91E971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6346-A3E6-499B-B1DA-67DF5E257376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081C-AA3F-4F6B-B656-BB007BB41182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7E56-056D-4494-AF03-05A2B2C387F4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EC9B-EFA1-46CE-8F5C-1C5F420D7108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BA6F-A4D4-47F6-A41D-F20F1E6D955A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6372360" cy="1990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5"/>
          <p:cNvSpPr/>
          <p:nvPr/>
        </p:nvSpPr>
        <p:spPr>
          <a:xfrm>
            <a:off x="1332000" y="5589720"/>
            <a:ext cx="7345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5353"/>
                </a:solidFill>
                <a:latin typeface="Arial"/>
              </a:rPr>
              <a:t>Benoit Destouc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535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525353"/>
                </a:solidFill>
                <a:latin typeface="Arial"/>
              </a:rPr>
              <a:t>Financial Analy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79280" y="5373720"/>
            <a:ext cx="2700360" cy="849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7"/>
          <p:cNvSpPr/>
          <p:nvPr/>
        </p:nvSpPr>
        <p:spPr>
          <a:xfrm>
            <a:off x="826920" y="1957320"/>
            <a:ext cx="734544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Increasing access to finance using mobile banking services 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What are the factors MFIs should consider before engaging in m-banking solutions?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55640" y="3979440"/>
            <a:ext cx="7561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935461"/>
                </a:solidFill>
                <a:latin typeface="Arial"/>
              </a:rPr>
              <a:t>Case Study on M-Paisa in Afghanista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55280" y="115920"/>
            <a:ext cx="6301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Lessons Learned –  </a:t>
            </a:r>
            <a:br>
              <a:rPr sz="2800"/>
            </a:b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Know Your Partner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4920" y="2060640"/>
            <a:ext cx="2984400" cy="397656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2973240" cy="397656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6083280" y="2060640"/>
            <a:ext cx="2952720" cy="397656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84360" y="11592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Lessons Learned – </a:t>
            </a:r>
            <a:br>
              <a:rPr sz="2800"/>
            </a:b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Manage the Agent Network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640" y="1915920"/>
            <a:ext cx="76615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292929"/>
                </a:solidFill>
                <a:latin typeface="Arial"/>
              </a:rPr>
              <a:t>From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rcRect l="50576" t="2803" r="10788" b="18185"/>
          <a:stretch/>
        </p:blipFill>
        <p:spPr>
          <a:xfrm>
            <a:off x="4619520" y="2638440"/>
            <a:ext cx="2256120" cy="1582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rcRect l="50831" t="5367" r="10142" b="6793"/>
          <a:stretch/>
        </p:blipFill>
        <p:spPr>
          <a:xfrm>
            <a:off x="0" y="2638440"/>
            <a:ext cx="2257560" cy="1582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rcRect l="50283" t="4421" r="10187" b="8124"/>
          <a:stretch/>
        </p:blipFill>
        <p:spPr>
          <a:xfrm>
            <a:off x="2340000" y="2638440"/>
            <a:ext cx="2211480" cy="1582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4"/>
          <a:srcRect l="50484" t="2760" r="10020" b="0"/>
          <a:stretch/>
        </p:blipFill>
        <p:spPr>
          <a:xfrm>
            <a:off x="6961320" y="2637000"/>
            <a:ext cx="2219040" cy="1562040"/>
          </a:xfrm>
          <a:prstGeom prst="rect">
            <a:avLst/>
          </a:prstGeom>
          <a:ln w="0">
            <a:noFill/>
          </a:ln>
        </p:spPr>
      </p:pic>
      <p:sp>
        <p:nvSpPr>
          <p:cNvPr id="151" name="Content Placeholder 2"/>
          <p:cNvSpPr/>
          <p:nvPr/>
        </p:nvSpPr>
        <p:spPr>
          <a:xfrm>
            <a:off x="1908000" y="4508640"/>
            <a:ext cx="5400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292929"/>
                </a:solidFill>
                <a:latin typeface="Arial"/>
              </a:rPr>
              <a:t>…</a:t>
            </a:r>
            <a:r>
              <a:rPr b="0" lang="fr-CH" sz="2800" spc="-1" strike="noStrike">
                <a:solidFill>
                  <a:srgbClr val="292929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5"/>
          <a:stretch/>
        </p:blipFill>
        <p:spPr>
          <a:xfrm>
            <a:off x="6300720" y="4508640"/>
            <a:ext cx="2519280" cy="1873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6"/>
          <a:stretch/>
        </p:blipFill>
        <p:spPr>
          <a:xfrm>
            <a:off x="3452760" y="4508640"/>
            <a:ext cx="27748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-36360" y="4583160"/>
            <a:ext cx="9215280" cy="23112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1908000" y="2133720"/>
            <a:ext cx="6767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935461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292929"/>
                </a:solidFill>
                <a:latin typeface="Arial"/>
              </a:rPr>
              <a:t>For further information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 u="sng">
                <a:solidFill>
                  <a:srgbClr val="355cc9"/>
                </a:solidFill>
                <a:uFillTx/>
                <a:latin typeface="Arial"/>
              </a:rPr>
              <a:t>benoit.destouches@akdn.or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 u="sng">
                <a:solidFill>
                  <a:srgbClr val="355cc9"/>
                </a:solidFill>
                <a:uFillTx/>
                <a:latin typeface="Arial"/>
              </a:rPr>
              <a:t>www.akdn.org/ak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3640" y="1988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29292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To reduce poverty, diminish the vulnerability of poor populations and alleviate economic and social exclusion. It aims to help people become self-reliant and eventually gain the skills needed to graduate into the mainstream financial market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292929"/>
                </a:solidFill>
                <a:latin typeface="Arial"/>
              </a:rPr>
              <a:t>Key Indicato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</a:rPr>
              <a:t>1st banking license (2003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</a:rPr>
              <a:t>33 branches / 850 staff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</a:rPr>
              <a:t>40,500 borrowers / USD 52M portfoli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</a:rPr>
              <a:t>46,000 depositors / USD 90M depos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rcRect l="4769" t="9107" r="0" b="7388"/>
          <a:stretch/>
        </p:blipFill>
        <p:spPr>
          <a:xfrm>
            <a:off x="6012000" y="5661000"/>
            <a:ext cx="3452760" cy="79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6948360" y="4149720"/>
            <a:ext cx="1546200" cy="1452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The First MicroFinanceBank</a:t>
            </a:r>
            <a:br>
              <a:rPr sz="2800"/>
            </a:b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Afghanistan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300720" y="3860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292929"/>
                </a:solidFill>
                <a:latin typeface="Arial"/>
              </a:rPr>
              <a:t>Shareholding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84360" y="11592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Why Mobile Banking?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9" name="Diagram 3" descr=""/>
          <p:cNvPicPr/>
          <p:nvPr/>
        </p:nvPicPr>
        <p:blipFill>
          <a:blip r:embed="rId1"/>
          <a:stretch/>
        </p:blipFill>
        <p:spPr>
          <a:xfrm>
            <a:off x="1554120" y="2084400"/>
            <a:ext cx="5962680" cy="412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3564000" y="3573360"/>
            <a:ext cx="187164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84360" y="11592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Model: MNO-Based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2205000"/>
            <a:ext cx="6121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Roshan is Afghanistan’s leading telecom operator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292929"/>
                </a:solidFill>
                <a:latin typeface="Arial"/>
              </a:rPr>
              <a:t>M-Paisa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 developed in partnership with Vodafon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Piloted in 2007, launched in 2008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292929"/>
                </a:solidFill>
                <a:latin typeface="Arial"/>
              </a:rPr>
              <a:t>Hawala on Your Mobile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6227640" y="2200320"/>
            <a:ext cx="2665440" cy="360504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84360" y="11592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Pilot Phase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3640" y="1773360"/>
            <a:ext cx="76611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292929"/>
                </a:solidFill>
                <a:latin typeface="Arial"/>
              </a:rPr>
              <a:t>Pilot Agreement signed in February 2007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292929"/>
                </a:solidFill>
                <a:latin typeface="Arial"/>
              </a:rPr>
              <a:t>Limited scope: Kabul and Maza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292929"/>
                </a:solidFill>
                <a:latin typeface="Arial"/>
              </a:rPr>
              <a:t>Test of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639720" indent="-31644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292929"/>
                </a:solidFill>
                <a:latin typeface="Arial"/>
              </a:rPr>
              <a:t>Registr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639720" indent="-31644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292929"/>
                </a:solidFill>
                <a:latin typeface="Arial"/>
              </a:rPr>
              <a:t>Loan disbursement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639720" indent="-31644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292929"/>
                </a:solidFill>
                <a:latin typeface="Arial"/>
              </a:rPr>
              <a:t>Loan repaym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292929"/>
                </a:solidFill>
                <a:latin typeface="Arial"/>
              </a:rPr>
              <a:t>…</a:t>
            </a:r>
            <a:r>
              <a:rPr b="0" lang="fr-CH" sz="2800" spc="-1" strike="noStrike">
                <a:solidFill>
                  <a:srgbClr val="292929"/>
                </a:solidFill>
                <a:latin typeface="Arial"/>
              </a:rPr>
              <a:t>but also of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639720" indent="-31644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292929"/>
                </a:solidFill>
                <a:latin typeface="Arial"/>
              </a:rPr>
              <a:t>IT syste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639720" indent="-31644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292929"/>
                </a:solidFill>
                <a:latin typeface="Arial"/>
              </a:rPr>
              <a:t>Processes and procedur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639720" indent="-31644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292929"/>
                </a:solidFill>
                <a:latin typeface="Arial"/>
              </a:rPr>
              <a:t>Ag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6" name="Picture 4" descr="C:\data\AKAM\FMFB-A\MPaisa\FMFB Agent Poster for M-Paisa 2 revised.jpg"/>
          <p:cNvPicPr/>
          <p:nvPr/>
        </p:nvPicPr>
        <p:blipFill>
          <a:blip r:embed="rId1"/>
          <a:stretch/>
        </p:blipFill>
        <p:spPr>
          <a:xfrm>
            <a:off x="5076720" y="2997360"/>
            <a:ext cx="3841920" cy="271764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5"/>
          <p:cNvGrpSpPr/>
          <p:nvPr/>
        </p:nvGrpSpPr>
        <p:grpSpPr>
          <a:xfrm>
            <a:off x="1258920" y="2133720"/>
            <a:ext cx="6481800" cy="3960720"/>
            <a:chOff x="1258920" y="2133720"/>
            <a:chExt cx="6481800" cy="3960720"/>
          </a:xfrm>
        </p:grpSpPr>
        <p:sp>
          <p:nvSpPr>
            <p:cNvPr id="68" name="Line 26"/>
            <p:cNvSpPr/>
            <p:nvPr/>
          </p:nvSpPr>
          <p:spPr>
            <a:xfrm>
              <a:off x="2113920" y="4709880"/>
              <a:ext cx="0" cy="378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9" name="Line 34"/>
            <p:cNvSpPr/>
            <p:nvPr/>
          </p:nvSpPr>
          <p:spPr>
            <a:xfrm>
              <a:off x="6105240" y="3472200"/>
              <a:ext cx="0" cy="7610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70" name="Line 4"/>
            <p:cNvSpPr/>
            <p:nvPr/>
          </p:nvSpPr>
          <p:spPr>
            <a:xfrm>
              <a:off x="6534360" y="2658240"/>
              <a:ext cx="0" cy="2034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71" name="AutoShape 5"/>
            <p:cNvGrpSpPr/>
            <p:nvPr/>
          </p:nvGrpSpPr>
          <p:grpSpPr>
            <a:xfrm>
              <a:off x="1306800" y="2827440"/>
              <a:ext cx="1940760" cy="729360"/>
              <a:chOff x="1306800" y="2827440"/>
              <a:chExt cx="1940760" cy="729360"/>
            </a:xfrm>
          </p:grpSpPr>
          <p:pic>
            <p:nvPicPr>
              <p:cNvPr id="72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06800" y="2827440"/>
                <a:ext cx="1940760" cy="72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1397520" y="2893320"/>
                <a:ext cx="1767960" cy="55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Holding 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Account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74" name="AutoShape 6"/>
            <p:cNvGrpSpPr/>
            <p:nvPr/>
          </p:nvGrpSpPr>
          <p:grpSpPr>
            <a:xfrm>
              <a:off x="5668200" y="2827440"/>
              <a:ext cx="2012760" cy="729360"/>
              <a:chOff x="5668200" y="2827440"/>
              <a:chExt cx="2012760" cy="729360"/>
            </a:xfrm>
          </p:grpSpPr>
          <p:pic>
            <p:nvPicPr>
              <p:cNvPr id="75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8200" y="2827440"/>
                <a:ext cx="2012760" cy="72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5790240" y="2893320"/>
                <a:ext cx="1767960" cy="55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Mobile Micro Finance 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Account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77" name="AutoShape 7"/>
            <p:cNvGrpSpPr/>
            <p:nvPr/>
          </p:nvGrpSpPr>
          <p:grpSpPr>
            <a:xfrm>
              <a:off x="1288800" y="5365080"/>
              <a:ext cx="1940760" cy="729360"/>
              <a:chOff x="1288800" y="5365080"/>
              <a:chExt cx="1940760" cy="729360"/>
            </a:xfrm>
          </p:grpSpPr>
          <p:pic>
            <p:nvPicPr>
              <p:cNvPr id="78" name="AutoShap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288800" y="5365080"/>
                <a:ext cx="1940760" cy="72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1379520" y="5432400"/>
                <a:ext cx="1767960" cy="55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FMFB Client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80" name="AutoShape 8"/>
            <p:cNvGrpSpPr/>
            <p:nvPr/>
          </p:nvGrpSpPr>
          <p:grpSpPr>
            <a:xfrm>
              <a:off x="3517200" y="2827440"/>
              <a:ext cx="1940760" cy="729360"/>
              <a:chOff x="3517200" y="2827440"/>
              <a:chExt cx="1940760" cy="729360"/>
            </a:xfrm>
          </p:grpSpPr>
          <p:pic>
            <p:nvPicPr>
              <p:cNvPr id="81" name="AutoShap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3517200" y="2827440"/>
                <a:ext cx="1940760" cy="72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3607560" y="2893320"/>
                <a:ext cx="1767960" cy="55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Commission 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Account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83" name="AutoShape 9"/>
            <p:cNvGrpSpPr/>
            <p:nvPr/>
          </p:nvGrpSpPr>
          <p:grpSpPr>
            <a:xfrm>
              <a:off x="3517200" y="5365080"/>
              <a:ext cx="1940760" cy="729360"/>
              <a:chOff x="3517200" y="5365080"/>
              <a:chExt cx="1940760" cy="729360"/>
            </a:xfrm>
          </p:grpSpPr>
          <p:pic>
            <p:nvPicPr>
              <p:cNvPr id="84" name="AutoShap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3517200" y="5365080"/>
                <a:ext cx="1940760" cy="72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607560" y="5432400"/>
                <a:ext cx="1767960" cy="55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Registration Process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86" name="Line 10"/>
            <p:cNvSpPr/>
            <p:nvPr/>
          </p:nvSpPr>
          <p:spPr>
            <a:xfrm flipV="1">
              <a:off x="4774680" y="3471840"/>
              <a:ext cx="0" cy="1929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7" name="Line 12"/>
            <p:cNvSpPr/>
            <p:nvPr/>
          </p:nvSpPr>
          <p:spPr>
            <a:xfrm>
              <a:off x="2349000" y="2659680"/>
              <a:ext cx="0" cy="2034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8" name="Line 13"/>
            <p:cNvSpPr/>
            <p:nvPr/>
          </p:nvSpPr>
          <p:spPr>
            <a:xfrm>
              <a:off x="2349000" y="2659680"/>
              <a:ext cx="41850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89" name="Rectangle 14"/>
            <p:cNvGrpSpPr/>
            <p:nvPr/>
          </p:nvGrpSpPr>
          <p:grpSpPr>
            <a:xfrm>
              <a:off x="3517200" y="2133720"/>
              <a:ext cx="1910880" cy="545400"/>
              <a:chOff x="3517200" y="2133720"/>
              <a:chExt cx="1910880" cy="545400"/>
            </a:xfrm>
          </p:grpSpPr>
          <p:pic>
            <p:nvPicPr>
              <p:cNvPr id="90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3517200" y="2133720"/>
                <a:ext cx="1910880" cy="54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3576960" y="2169000"/>
                <a:ext cx="1796040" cy="43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ternal Transfer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92" name="Line 15"/>
            <p:cNvSpPr/>
            <p:nvPr/>
          </p:nvSpPr>
          <p:spPr>
            <a:xfrm flipH="1" flipV="1">
              <a:off x="3178080" y="5700960"/>
              <a:ext cx="411120" cy="54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3" name="Line 16"/>
            <p:cNvSpPr/>
            <p:nvPr/>
          </p:nvSpPr>
          <p:spPr>
            <a:xfrm flipV="1">
              <a:off x="2845800" y="3470040"/>
              <a:ext cx="0" cy="8125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4" name="Line 17"/>
            <p:cNvSpPr/>
            <p:nvPr/>
          </p:nvSpPr>
          <p:spPr>
            <a:xfrm>
              <a:off x="1781280" y="4709880"/>
              <a:ext cx="0" cy="6814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95" name="Rectangle 18"/>
            <p:cNvGrpSpPr/>
            <p:nvPr/>
          </p:nvGrpSpPr>
          <p:grpSpPr>
            <a:xfrm>
              <a:off x="1258920" y="4114080"/>
              <a:ext cx="1090080" cy="669960"/>
              <a:chOff x="1258920" y="4114080"/>
              <a:chExt cx="1090080" cy="669960"/>
            </a:xfrm>
          </p:grpSpPr>
          <p:pic>
            <p:nvPicPr>
              <p:cNvPr id="96" name="Rectangle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258920" y="4114080"/>
                <a:ext cx="1090080" cy="66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1315800" y="4151880"/>
                <a:ext cx="981720" cy="55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oan 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isburse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98" name="Rectangle 19"/>
            <p:cNvGrpSpPr/>
            <p:nvPr/>
          </p:nvGrpSpPr>
          <p:grpSpPr>
            <a:xfrm>
              <a:off x="2343240" y="4114080"/>
              <a:ext cx="1090080" cy="669960"/>
              <a:chOff x="2343240" y="4114080"/>
              <a:chExt cx="1090080" cy="669960"/>
            </a:xfrm>
          </p:grpSpPr>
          <p:pic>
            <p:nvPicPr>
              <p:cNvPr id="99" name="Rectangle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2343240" y="4114080"/>
                <a:ext cx="1090080" cy="66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2400120" y="4151880"/>
                <a:ext cx="981720" cy="55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oan 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Repay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01" name="Line 20"/>
            <p:cNvSpPr/>
            <p:nvPr/>
          </p:nvSpPr>
          <p:spPr>
            <a:xfrm>
              <a:off x="1781280" y="3470400"/>
              <a:ext cx="0" cy="6814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2" name="Line 21"/>
            <p:cNvSpPr/>
            <p:nvPr/>
          </p:nvSpPr>
          <p:spPr>
            <a:xfrm>
              <a:off x="2845800" y="4709880"/>
              <a:ext cx="0" cy="6814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3" name="Line 22"/>
            <p:cNvSpPr/>
            <p:nvPr/>
          </p:nvSpPr>
          <p:spPr>
            <a:xfrm flipV="1">
              <a:off x="4176000" y="3470760"/>
              <a:ext cx="0" cy="1610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4" name="Line 23"/>
            <p:cNvSpPr/>
            <p:nvPr/>
          </p:nvSpPr>
          <p:spPr>
            <a:xfrm flipH="1">
              <a:off x="3377520" y="4461840"/>
              <a:ext cx="798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 flipH="1">
              <a:off x="2113560" y="5081400"/>
              <a:ext cx="2044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 flipV="1">
              <a:off x="7169400" y="3471840"/>
              <a:ext cx="0" cy="8125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7" name="Line 31"/>
            <p:cNvSpPr/>
            <p:nvPr/>
          </p:nvSpPr>
          <p:spPr>
            <a:xfrm>
              <a:off x="6105240" y="4647600"/>
              <a:ext cx="0" cy="7315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08" name="Rectangle 32"/>
            <p:cNvGrpSpPr/>
            <p:nvPr/>
          </p:nvGrpSpPr>
          <p:grpSpPr>
            <a:xfrm>
              <a:off x="5578200" y="4114080"/>
              <a:ext cx="1096200" cy="669960"/>
              <a:chOff x="5578200" y="4114080"/>
              <a:chExt cx="1096200" cy="669960"/>
            </a:xfrm>
          </p:grpSpPr>
          <p:pic>
            <p:nvPicPr>
              <p:cNvPr id="109" name="Rectangl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5578200" y="4114080"/>
                <a:ext cx="1096200" cy="66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5639400" y="4151880"/>
                <a:ext cx="982080" cy="55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ell 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-Paisa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111" name="Rectangle 33"/>
            <p:cNvGrpSpPr/>
            <p:nvPr/>
          </p:nvGrpSpPr>
          <p:grpSpPr>
            <a:xfrm>
              <a:off x="6644520" y="4114080"/>
              <a:ext cx="1096200" cy="669960"/>
              <a:chOff x="6644520" y="4114080"/>
              <a:chExt cx="1096200" cy="669960"/>
            </a:xfrm>
          </p:grpSpPr>
          <p:pic>
            <p:nvPicPr>
              <p:cNvPr id="112" name="Rectangle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44520" y="4114080"/>
                <a:ext cx="1096200" cy="66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703560" y="4151880"/>
                <a:ext cx="982080" cy="55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uy 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-Paisa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14" name="Line 35"/>
            <p:cNvSpPr/>
            <p:nvPr/>
          </p:nvSpPr>
          <p:spPr>
            <a:xfrm>
              <a:off x="7169400" y="4709880"/>
              <a:ext cx="0" cy="7326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15" name="AutoShape 29"/>
            <p:cNvGrpSpPr/>
            <p:nvPr/>
          </p:nvGrpSpPr>
          <p:grpSpPr>
            <a:xfrm>
              <a:off x="5673960" y="5365080"/>
              <a:ext cx="2024640" cy="729360"/>
              <a:chOff x="5673960" y="5365080"/>
              <a:chExt cx="2024640" cy="729360"/>
            </a:xfrm>
          </p:grpSpPr>
          <p:pic>
            <p:nvPicPr>
              <p:cNvPr id="116" name="AutoShape 2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673960" y="5365080"/>
                <a:ext cx="2024640" cy="72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5802840" y="5430960"/>
                <a:ext cx="1767960" cy="55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Roshan Bank Account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Title 1"/>
          <p:cNvSpPr/>
          <p:nvPr/>
        </p:nvSpPr>
        <p:spPr>
          <a:xfrm>
            <a:off x="1403280" y="115920"/>
            <a:ext cx="630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M-Paisa Accounts Structu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Pilot Review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120" name="Object 6" descr=""/>
          <p:cNvPicPr/>
          <p:nvPr/>
        </p:nvPicPr>
        <p:blipFill>
          <a:blip r:embed="rId1"/>
          <a:stretch/>
        </p:blipFill>
        <p:spPr>
          <a:xfrm>
            <a:off x="0" y="2421000"/>
            <a:ext cx="3076560" cy="4032360"/>
          </a:xfrm>
          <a:prstGeom prst="rect">
            <a:avLst/>
          </a:prstGeom>
          <a:ln w="0">
            <a:noFill/>
          </a:ln>
        </p:spPr>
      </p:pic>
      <p:grpSp>
        <p:nvGrpSpPr>
          <p:cNvPr id="121" name="Rectangle 4"/>
          <p:cNvGrpSpPr/>
          <p:nvPr/>
        </p:nvGrpSpPr>
        <p:grpSpPr>
          <a:xfrm>
            <a:off x="622440" y="2023920"/>
            <a:ext cx="2504880" cy="828720"/>
            <a:chOff x="622440" y="2023920"/>
            <a:chExt cx="2504880" cy="828720"/>
          </a:xfrm>
        </p:grpSpPr>
        <p:pic>
          <p:nvPicPr>
            <p:cNvPr id="122" name="Rectangle 4" descr=""/>
            <p:cNvPicPr/>
            <p:nvPr/>
          </p:nvPicPr>
          <p:blipFill>
            <a:blip r:embed="rId2"/>
            <a:stretch/>
          </p:blipFill>
          <p:spPr>
            <a:xfrm>
              <a:off x="622440" y="2023920"/>
              <a:ext cx="25048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84360" y="2060640"/>
              <a:ext cx="2340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1836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s M-Paisa a useful service in general?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pic>
        <p:nvPicPr>
          <p:cNvPr id="124" name="Object 7" descr=""/>
          <p:cNvPicPr/>
          <p:nvPr/>
        </p:nvPicPr>
        <p:blipFill>
          <a:blip r:embed="rId3"/>
          <a:stretch/>
        </p:blipFill>
        <p:spPr>
          <a:xfrm>
            <a:off x="2987640" y="2565360"/>
            <a:ext cx="3214800" cy="4103640"/>
          </a:xfrm>
          <a:prstGeom prst="rect">
            <a:avLst/>
          </a:prstGeom>
          <a:ln w="0">
            <a:noFill/>
          </a:ln>
        </p:spPr>
      </p:pic>
      <p:grpSp>
        <p:nvGrpSpPr>
          <p:cNvPr id="125" name="Rectangle 8"/>
          <p:cNvGrpSpPr/>
          <p:nvPr/>
        </p:nvGrpSpPr>
        <p:grpSpPr>
          <a:xfrm>
            <a:off x="3529080" y="2023920"/>
            <a:ext cx="2743200" cy="828720"/>
            <a:chOff x="3529080" y="2023920"/>
            <a:chExt cx="2743200" cy="828720"/>
          </a:xfrm>
        </p:grpSpPr>
        <p:pic>
          <p:nvPicPr>
            <p:cNvPr id="126" name="Rectangle 8" descr=""/>
            <p:cNvPicPr/>
            <p:nvPr/>
          </p:nvPicPr>
          <p:blipFill>
            <a:blip r:embed="rId4"/>
            <a:stretch/>
          </p:blipFill>
          <p:spPr>
            <a:xfrm>
              <a:off x="3529080" y="2023920"/>
              <a:ext cx="27432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708360" y="2060640"/>
              <a:ext cx="2340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1836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s M-Paisa an easy to use service?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pic>
        <p:nvPicPr>
          <p:cNvPr id="128" name="Object 8" descr=""/>
          <p:cNvPicPr/>
          <p:nvPr/>
        </p:nvPicPr>
        <p:blipFill>
          <a:blip r:embed="rId5"/>
          <a:stretch/>
        </p:blipFill>
        <p:spPr>
          <a:xfrm>
            <a:off x="5846760" y="2616120"/>
            <a:ext cx="2639880" cy="4041720"/>
          </a:xfrm>
          <a:prstGeom prst="rect">
            <a:avLst/>
          </a:prstGeom>
          <a:ln w="0">
            <a:noFill/>
          </a:ln>
        </p:spPr>
      </p:pic>
      <p:grpSp>
        <p:nvGrpSpPr>
          <p:cNvPr id="129" name="Rectangle 6"/>
          <p:cNvGrpSpPr/>
          <p:nvPr/>
        </p:nvGrpSpPr>
        <p:grpSpPr>
          <a:xfrm>
            <a:off x="6808680" y="2023920"/>
            <a:ext cx="2511360" cy="828720"/>
            <a:chOff x="6808680" y="2023920"/>
            <a:chExt cx="2511360" cy="828720"/>
          </a:xfrm>
        </p:grpSpPr>
        <p:pic>
          <p:nvPicPr>
            <p:cNvPr id="130" name="Rectangle 6" descr=""/>
            <p:cNvPicPr/>
            <p:nvPr/>
          </p:nvPicPr>
          <p:blipFill>
            <a:blip r:embed="rId6"/>
            <a:stretch/>
          </p:blipFill>
          <p:spPr>
            <a:xfrm>
              <a:off x="6808680" y="2023920"/>
              <a:ext cx="25113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875640" y="2060640"/>
              <a:ext cx="2160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1836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ill you continue to use M-Paisa?     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55280" y="115920"/>
            <a:ext cx="6301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Results so far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920" y="2060640"/>
            <a:ext cx="5905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-3985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292929"/>
                </a:solidFill>
                <a:latin typeface="Arial"/>
              </a:rPr>
              <a:t>Mixed resul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292929"/>
                </a:solidFill>
                <a:latin typeface="Arial"/>
              </a:rPr>
              <a:t>Additional survey of agent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76% trust saving through an electronic syste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51280" indent="-35856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illingness to accept new technologie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69% would not feel comfortable saving with their shopkeeper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151280" indent="-35856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ack of trust with players outside formal financial institutions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4" name="Chart 3" descr=""/>
          <p:cNvPicPr/>
          <p:nvPr/>
        </p:nvPicPr>
        <p:blipFill>
          <a:blip r:embed="rId1"/>
          <a:stretch/>
        </p:blipFill>
        <p:spPr>
          <a:xfrm>
            <a:off x="6151680" y="2200320"/>
            <a:ext cx="27478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6875640" y="2133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292929"/>
                </a:solidFill>
                <a:latin typeface="Arial"/>
              </a:rPr>
              <a:t>Progress Repor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55280" y="115920"/>
            <a:ext cx="6301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Lessons Learned –  </a:t>
            </a:r>
            <a:br>
              <a:rPr sz="2800"/>
            </a:b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Understand the Market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5003640" y="4221000"/>
            <a:ext cx="2913120" cy="216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N:\OLIVIER\Photos Voyages Olivier\Afghanistan - Photos\Kabul\IMGP3676.JPG"/>
          <p:cNvPicPr/>
          <p:nvPr/>
        </p:nvPicPr>
        <p:blipFill>
          <a:blip r:embed="rId2"/>
          <a:stretch/>
        </p:blipFill>
        <p:spPr>
          <a:xfrm>
            <a:off x="2340000" y="191772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39640" y="1915920"/>
            <a:ext cx="2448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292929"/>
                </a:solidFill>
                <a:latin typeface="Arial"/>
              </a:rPr>
              <a:t>From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3203640" y="4365720"/>
            <a:ext cx="5400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292929"/>
                </a:solidFill>
                <a:latin typeface="Arial"/>
              </a:rPr>
              <a:t>…</a:t>
            </a:r>
            <a:r>
              <a:rPr b="0" lang="fr-CH" sz="2800" spc="-1" strike="noStrike">
                <a:solidFill>
                  <a:srgbClr val="292929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benoit.destouches</cp:lastModifiedBy>
  <dcterms:modified xsi:type="dcterms:W3CDTF">2010-11-23T13:46:16Z</dcterms:modified>
  <cp:revision>82</cp:revision>
  <dc:subject/>
  <dc:title>Slide 1</dc:title>
</cp:coreProperties>
</file>