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B788-5180-4961-909E-F3958BBB3D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G MFI*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9EAD-CB25-4DB2-8DCB-A35A6109930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759200" y="8688240"/>
            <a:ext cx="1717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397836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DDBF-E9B5-4F91-BDA5-C9FD046148BF}" type="datetime">
              <a:rPr b="0" lang="en-US" sz="12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6360" y="4419360"/>
            <a:ext cx="5149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ntique Olive Roman"/>
              <a:ea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759200" y="8688240"/>
            <a:ext cx="1717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Date Placeholder 4"/>
          <p:cNvSpPr/>
          <p:nvPr/>
        </p:nvSpPr>
        <p:spPr>
          <a:xfrm>
            <a:off x="546120" y="8688240"/>
            <a:ext cx="1717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AC4B5-1838-4D2B-9F1A-B2E8DFD47FC5}" type="datetime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C99-C308-4FCC-9E5F-A3493F906AD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759200" y="8688240"/>
            <a:ext cx="1717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F84316-8578-4BD9-A116-411ACA985871}" type="slidenum">
              <a:rPr b="0" lang="ar-SA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Date Placeholder 4"/>
          <p:cNvSpPr/>
          <p:nvPr/>
        </p:nvSpPr>
        <p:spPr>
          <a:xfrm>
            <a:off x="546120" y="8688240"/>
            <a:ext cx="1717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EACE79-9A69-45D5-861F-03BC0FDFAB11}" type="datetime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gmfi@ethionet.e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How to measure microfinance impact on poverty alleviation: what does available evidence tell us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43040" y="3885840"/>
            <a:ext cx="68580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me Lessons Emerging from Buusaa Gonofaa’s System of Tracking Improvements in Clients’ Livelihoo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y Teshome Dayesso, General Mana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bgmfi@ethionet.e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3280" y="1627200"/>
            <a:ext cx="6300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What contributed towards assets score growth?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85960" y="2214720"/>
          <a:ext cx="7543800" cy="3857400"/>
        </p:xfrm>
        <a:graphic>
          <a:graphicData uri="http://schemas.openxmlformats.org/drawingml/2006/table">
            <a:tbl>
              <a:tblPr/>
              <a:tblGrid>
                <a:gridCol w="3152520"/>
                <a:gridCol w="2567160"/>
                <a:gridCol w="1824120"/>
              </a:tblGrid>
              <a:tr h="37440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et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earson Correlatio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ig. (2-tailed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x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683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00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w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638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00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hoat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153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00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ed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107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00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ape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093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00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V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439 (**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00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et score growt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2" marL="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80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** Correlation is significant at the 0.01 level (2-tailed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Some Emerging Lessons and conclusion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6880"/>
            <a:ext cx="850104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2520" indent="-362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t is very important to know what matters most for our target groups – identification of indicators from the bottom up, thus relevant ‘evidence’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2520" indent="-362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system provided us with good insight about what is happening ‘out there’ – more informed decision to better serve the very poor and poor; ‘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evidenc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to refine our services and refocus on improvement areas that matter most for the target gro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2520" indent="-362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t would not tell us what loan size or mix of financial services are most likely to keep the poor healthy or enable them send their children to school; but it may help us in understanding how the poor might progress overtime towards those ideals of dignified living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2520" indent="-362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ur intention is to improve livelihoods; the target groups have diverse priorities and hence there is no single goal that can be measured with a single indicators. But the system complements our judgments and decisions and helps us to be mindful of our promises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3280" y="14698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Buusaa Gonofaa MFI - Introduction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827360"/>
            <a:ext cx="83185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344520">
              <a:spcBef>
                <a:spcPts val="5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Started by a local NGO, HUNDEE, later transformed into NBFI in 1999, regulated by the central bank of Ethiopia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5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Provides micro credit and savings services through joint liability groups of 15-20 members;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5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Short term general-purpose loans (8 – 12 months) for income generating activities, microenterprises, farm inputs, productive assets (ox, cow), housing improvements, consumption smoothening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5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Community managed saving and credit facilities in hard-to-reach remote rural areas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44520" indent="-344520">
              <a:spcBef>
                <a:spcPts val="5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Current outreach &gt;50,000 active clients; total assets of &gt;US $6 million; outstanding portfolio of US$5 millio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8640" y="1428480"/>
            <a:ext cx="5848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5461"/>
                </a:solidFill>
                <a:latin typeface="Arial"/>
              </a:rPr>
              <a:t>Buusaa Gonofaa MFI: Our Intentions 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000" y="1957320"/>
            <a:ext cx="8704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Mission:- To provide </a:t>
            </a:r>
            <a:r>
              <a:rPr b="1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flexible</a:t>
            </a:r>
            <a:r>
              <a:rPr b="0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 &amp; </a:t>
            </a:r>
            <a:r>
              <a:rPr b="1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efficient</a:t>
            </a: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microfinance service on a </a:t>
            </a:r>
            <a:r>
              <a:rPr b="1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sustainable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 basis to </a:t>
            </a:r>
            <a:r>
              <a:rPr b="1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improve</a:t>
            </a:r>
            <a:r>
              <a:rPr b="1" i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the livelihood of the resource </a:t>
            </a:r>
            <a:r>
              <a:rPr b="1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poor,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 particularly women, landless youth &amp; smallholder farm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572080" y="5786280"/>
            <a:ext cx="3382920" cy="398880"/>
          </a:xfrm>
          <a:prstGeom prst="rect">
            <a:avLst/>
          </a:prstGeom>
          <a:solidFill>
            <a:srgbClr val="99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Progress overti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579680" y="4929120"/>
            <a:ext cx="2992320" cy="7038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to target group – the po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714680" y="5886360"/>
            <a:ext cx="292860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liveliho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600200" y="3672000"/>
            <a:ext cx="289548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&amp; effici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5678640" y="4386240"/>
            <a:ext cx="3236760" cy="398880"/>
          </a:xfrm>
          <a:prstGeom prst="rect">
            <a:avLst/>
          </a:prstGeom>
          <a:solidFill>
            <a:srgbClr val="99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Financial perform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Right Arrow 15"/>
          <p:cNvSpPr/>
          <p:nvPr/>
        </p:nvSpPr>
        <p:spPr>
          <a:xfrm>
            <a:off x="4786200" y="3871800"/>
            <a:ext cx="7621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ff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590840" y="4329000"/>
            <a:ext cx="290988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able/profit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5562720" y="3672000"/>
            <a:ext cx="3429000" cy="398880"/>
          </a:xfrm>
          <a:prstGeom prst="rect">
            <a:avLst/>
          </a:prstGeom>
          <a:solidFill>
            <a:srgbClr val="99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lient satisfa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5643720" y="5100480"/>
            <a:ext cx="3357360" cy="398880"/>
          </a:xfrm>
          <a:prstGeom prst="rect">
            <a:avLst/>
          </a:prstGeom>
          <a:solidFill>
            <a:srgbClr val="99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lient profile, poverty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152280" y="3672000"/>
          <a:ext cx="1143000" cy="24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>
                    <a:alphaModFix amt="51000"/>
                  </a:blip>
                  <a:stretch/>
                </p:blipFill>
                <p:spPr>
                  <a:xfrm>
                    <a:off x="152280" y="3672000"/>
                    <a:ext cx="11430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4" descr="buusaa logo 2-copy"/>
          <p:cNvPicPr/>
          <p:nvPr/>
        </p:nvPicPr>
        <p:blipFill>
          <a:blip r:embed="rId3"/>
          <a:srcRect l="12518" t="0" r="0" b="0"/>
          <a:stretch/>
        </p:blipFill>
        <p:spPr>
          <a:xfrm>
            <a:off x="8512200" y="28440"/>
            <a:ext cx="66024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Why BG Wanted Client Assessment Scorecard (or ‘Social Ledger’)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9680" y="2214360"/>
            <a:ext cx="828684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1520" indent="-37152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ouble-bottom line: standardized measurement of financial sustainability; but tracking social goals relied on simple success stories, and intuitive decision making; but this was not enough and we wanted data ‘evidence’ to describe i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1520" indent="-3715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ith financial maturity, we wanted a more systematic way to understanding what is happening out there,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7640" indent="-3646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Whom do we reach? How </a:t>
            </a:r>
            <a:r>
              <a:rPr b="1" i="1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poor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are the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7640" indent="-3646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s there a </a:t>
            </a:r>
            <a:r>
              <a:rPr b="1" i="1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chang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292929"/>
                </a:solidFill>
                <a:latin typeface="Arial"/>
              </a:rPr>
              <a:t>(+ve, -v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) in our clients’ livelihood?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7640" indent="-3646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Where do we </a:t>
            </a:r>
            <a:r>
              <a:rPr b="1" i="1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succeed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in changing client’s livelihood? Where do we </a:t>
            </a:r>
            <a:r>
              <a:rPr b="1" i="1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fail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? Wh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37640" indent="-3646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292929"/>
                </a:solidFill>
                <a:uFillTx/>
                <a:latin typeface="Arial"/>
              </a:rPr>
              <a:t>Who benefit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from BG most? Does our loan assist either survivalists or entrepreneurial poor? Or both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3280" y="1457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Poverty as ‘</a:t>
            </a:r>
            <a:r>
              <a:rPr b="1" i="1" lang="en-US" sz="2000" spc="-1" strike="noStrike">
                <a:solidFill>
                  <a:srgbClr val="935461"/>
                </a:solidFill>
                <a:latin typeface="Arial"/>
              </a:rPr>
              <a:t>lack</a:t>
            </a: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’ and how the poor measure their progress (or improvements) in overcoming i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9680" y="2142720"/>
            <a:ext cx="40719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47760" indent="-347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Arial"/>
              </a:rPr>
              <a:t>What the poor ‘</a:t>
            </a:r>
            <a:r>
              <a:rPr b="1" i="1" lang="en-GB" sz="2000" spc="-1" strike="noStrike" u="sng">
                <a:solidFill>
                  <a:srgbClr val="935461"/>
                </a:solidFill>
                <a:uFillTx/>
                <a:latin typeface="Arial"/>
              </a:rPr>
              <a:t>lack</a:t>
            </a:r>
            <a:r>
              <a:rPr b="1" lang="en-GB" sz="2000" spc="-1" strike="noStrike" u="sng">
                <a:solidFill>
                  <a:srgbClr val="c00000"/>
                </a:solidFill>
                <a:uFillTx/>
                <a:latin typeface="Arial"/>
              </a:rPr>
              <a:t>’ in comparison to the not-so-po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ood secur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loth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Shel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Housing ownershi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ccess to electricity, wa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apital/saving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786200" y="2143080"/>
            <a:ext cx="407196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Arial"/>
              </a:rPr>
              <a:t>What the poor consider as </a:t>
            </a:r>
            <a:r>
              <a:rPr b="1" i="1" lang="en-GB" sz="2000" spc="-1" strike="noStrike" u="sng">
                <a:solidFill>
                  <a:srgbClr val="c00000"/>
                </a:solidFill>
                <a:uFillTx/>
                <a:latin typeface="Arial"/>
              </a:rPr>
              <a:t>progress</a:t>
            </a:r>
            <a:r>
              <a:rPr b="1" lang="en-GB" sz="2000" spc="-1" strike="noStrike" u="sng">
                <a:solidFill>
                  <a:srgbClr val="c00000"/>
                </a:solidFill>
                <a:uFillTx/>
                <a:latin typeface="Arial"/>
              </a:rPr>
              <a:t> or improve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25% - Expanding the business (ox/cow fattening, more inputs for farming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6% - Improvements to the house or house constr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4% - Buying ox, cow, she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3% Acquire basic household furniture, utensil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13% Buying “luxuries” (radio-cassette, TV, jewellery, etc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"/>
          <p:cNvSpPr/>
          <p:nvPr/>
        </p:nvSpPr>
        <p:spPr>
          <a:xfrm>
            <a:off x="4724280" y="164304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BBD-5123-4A4C-AE7D-BC7B0DC109BC}" type="slidenum">
              <a:rPr b="0" lang="en-GB" sz="1200" spc="-1" strike="noStrike">
                <a:solidFill>
                  <a:srgbClr val="29292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1571760"/>
          <a:ext cx="8763120" cy="4824360"/>
        </p:xfrm>
        <a:graphic>
          <a:graphicData uri="http://schemas.openxmlformats.org/drawingml/2006/table">
            <a:tbl>
              <a:tblPr/>
              <a:tblGrid>
                <a:gridCol w="3743280"/>
                <a:gridCol w="765360"/>
                <a:gridCol w="799920"/>
                <a:gridCol w="846360"/>
                <a:gridCol w="842760"/>
                <a:gridCol w="846360"/>
                <a:gridCol w="91908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asurable Indicator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ear/Round of Scoring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5760">
                      <a:solidFill>
                        <a:srgbClr val="212121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Date of scoring as </a:t>
                      </a: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Month/Year:</a:t>
                      </a:r>
                      <a:endParaRPr b="0" lang="en-US" sz="15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1/y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2/y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3/y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4/y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5/y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Roofing material:-  T=thatch;   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I=iron; P=plastic, O=othe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Number of rooms/hut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Housing/improvemen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Oxe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Cow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Sheep/goats (shoats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Bed type – Metal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Bed type - Wood/Mosvol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Tape recorde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  # TV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al Score of HH Assets: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960"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% Change in Asset score   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12121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5760">
                      <a:solidFill>
                        <a:srgbClr val="2121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4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12%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5760">
                      <a:solidFill>
                        <a:srgbClr val="212121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2"/>
          <p:cNvSpPr/>
          <p:nvPr/>
        </p:nvSpPr>
        <p:spPr>
          <a:xfrm>
            <a:off x="2357280" y="714240"/>
            <a:ext cx="400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’s Poverty Indicators &amp; Score Weigh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1880" y="1499760"/>
            <a:ext cx="58579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35461"/>
                </a:solidFill>
                <a:latin typeface="Arial"/>
              </a:rPr>
              <a:t>Poverty category &amp; cut-off points</a:t>
            </a:r>
            <a:endParaRPr b="1" lang="en-US" sz="2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3880" y="4500360"/>
            <a:ext cx="79534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person with total score of 5 is poorer than a person with score of 15, and vice vers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llection of data (scoring) from clients by LO as part of routine loan application on every cycle – baseline at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Intak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wealth </a:t>
            </a:r>
            <a:r>
              <a:rPr b="1" i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Scoring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n each loan cyc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14240" y="2143080"/>
          <a:ext cx="7829640" cy="2357640"/>
        </p:xfrm>
        <a:graphic>
          <a:graphicData uri="http://schemas.openxmlformats.org/drawingml/2006/table">
            <a:tbl>
              <a:tblPr/>
              <a:tblGrid>
                <a:gridCol w="2756160"/>
                <a:gridCol w="2155680"/>
                <a:gridCol w="2917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Poverty category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92929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core rang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Approximate Income rang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e08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Very 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 – 1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1/day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 – 6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1 – $2/day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t so 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&gt;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≥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2/day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4DD6-B507-4EAD-AD56-7EBA37FD0158}" type="slidenum">
              <a:rPr b="0" lang="en-US" sz="1200" spc="-1" strike="noStrike">
                <a:solidFill>
                  <a:srgbClr val="29292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57480" y="1500120"/>
            <a:ext cx="56577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Improvements in the poverty status of clients between the 1</a:t>
            </a:r>
            <a:r>
              <a:rPr b="1" lang="en-US" sz="2000" spc="-1" strike="noStrike" baseline="30000">
                <a:solidFill>
                  <a:srgbClr val="935461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and 3</a:t>
            </a:r>
            <a:r>
              <a:rPr b="1" lang="en-US" sz="2000" spc="-1" strike="noStrike" baseline="30000">
                <a:solidFill>
                  <a:srgbClr val="935461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Scoring (N=2,113)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81" name="Chart 2" descr=""/>
          <p:cNvPicPr/>
          <p:nvPr/>
        </p:nvPicPr>
        <p:blipFill>
          <a:blip r:embed="rId1"/>
          <a:stretch/>
        </p:blipFill>
        <p:spPr>
          <a:xfrm>
            <a:off x="420840" y="2206800"/>
            <a:ext cx="8229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14800" y="1488960"/>
            <a:ext cx="55720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5461"/>
                </a:solidFill>
                <a:latin typeface="Arial"/>
              </a:rPr>
              <a:t>Mean Score Growth by Components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2D9-BBC8-4591-ACCB-F581F128E764}" type="slidenum">
              <a:rPr b="0" lang="en-US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2960" y="2084400"/>
          <a:ext cx="8145360" cy="4202280"/>
        </p:xfrm>
        <a:graphic>
          <a:graphicData uri="http://schemas.openxmlformats.org/drawingml/2006/table">
            <a:tbl>
              <a:tblPr/>
              <a:tblGrid>
                <a:gridCol w="3633840"/>
                <a:gridCol w="1500120"/>
                <a:gridCol w="1185840"/>
                <a:gridCol w="1825560"/>
              </a:tblGrid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Very 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t so po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et score-1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et score-3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rd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iz score-1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iz score-3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otal wealth-1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otal wealth-3</a:t>
                      </a: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coring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>
                      <a:noFill/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sset score growth (%)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0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14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iz score growth (%)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4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Wealth score growth (%)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1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292929"/>
                      </a:solidFill>
                    </a:lnL>
                    <a:lnR w="9360">
                      <a:solidFill>
                        <a:srgbClr val="292929"/>
                      </a:solidFill>
                    </a:lnR>
                    <a:lnT w="9360">
                      <a:solidFill>
                        <a:srgbClr val="292929"/>
                      </a:solidFill>
                    </a:lnT>
                    <a:lnB w="93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</cp:lastModifiedBy>
  <dcterms:modified xsi:type="dcterms:W3CDTF">2010-12-10T10:10:58Z</dcterms:modified>
  <cp:revision>29</cp:revision>
  <dc:subject/>
  <dc:title>Slide 1</dc:title>
</cp:coreProperties>
</file>