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9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3B12-FA6A-4551-8564-2382FD70D45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BF4E-D6B1-42EE-9702-DDE04795CF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E504-264D-4B9B-BE0F-BAA723509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1171-5D9A-4720-A357-066FB393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82F7-3284-4206-B2BE-CAF3A7231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87D5-F316-4AFC-8DE4-75BA5B615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D86F-7BE6-4025-A98C-6041B18A4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3E1E-7D82-45AE-B11C-E7D7F1F5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69BD-D0B2-4CB7-B59A-97484F39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C991C-D030-442C-8C42-CF2F86A6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B672-29BD-4E20-927B-EB510AAB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4E657-256A-4722-AB82-02C0A401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8EE9-93A1-40BB-91B3-76ACE4FB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1A76-61C7-4E4A-A078-D16C49D8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13160-2830-4F15-830C-C7B756A0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35FE-D4A0-450B-A95C-E12BD10C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4C798-22D1-4C5D-A94F-854DBBC4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6FCA-90E0-48ED-BE6B-73296ABF0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58DB7-CB43-4A44-BA12-1CBCABC95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ACC13-2F5D-40BB-853B-F75314849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D3D7E-0024-4B6D-9AAC-1C3C4E43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58239-160E-4C35-8964-44F69F1C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D831B-E10D-4B2F-AE6D-82FFCC6B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561DE-E151-4659-83BA-A18EB85A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03AC-700D-43D4-AE61-5F1ECAB8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9069D-59FF-4BED-8869-60CEC862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79B3A-FF60-4593-9E31-425968EF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FF2B1-1D11-4353-A3F3-F987F81F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3DC0A-7AE0-414D-A056-94BF6639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62E30-1D3B-4E63-AC8C-9A648779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C577B-DE92-480D-8596-0CFAEA614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BB912-A493-4325-85E6-5881F3B89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1D3A5-04CE-4605-AB01-BD913BD7F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90F57-A986-434B-91E6-1666BE3D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B56F2-A7D8-4382-887D-C0467AB2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EED3-9833-4E03-A998-E18D677A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CCD16-1766-442E-A586-463B910F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286AD-2C10-4915-9EFF-F3F31376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641A9-89D4-4472-94C3-C40AE668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68D5F-FC49-49FD-8098-9EB8022D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AAD03-55C9-427B-BB5F-B95022CF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88A03-B298-45EF-9B34-496966AC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CE9A6-432E-450E-B67C-F8648B93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E4FCD-ABD1-441F-A713-7F5A5D04F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1588D-E569-425D-9813-FBD0F4A22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7B728-07D6-491E-AFEE-58A4187E9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600B-C4DF-4305-BF35-4A6885B7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B03A8-8FA2-4648-9553-BB21BC14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F934B-63D4-49F8-8C58-869E3C43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6AE07-71AF-4720-8436-2373A523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498E4-7F3F-4169-B726-91511449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5CE02-03A0-4089-B499-665367D2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4EFA8-4B45-46F1-94B4-9D7571C7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A89A7-E703-46EA-925E-2F40D585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D9570-4A41-4D90-BF69-9D357C35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6FB80-2D2A-4B3A-B603-6FA567E2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5B76A-F342-402A-93A5-D1345E170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F4FE-2C94-4053-A318-C570511F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52418-8E19-4ABE-9802-5D20BE2D3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39036-733F-4ECE-8F98-2399F230F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9FC9B-832A-4B29-9945-337C7901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18FC9-7719-4E89-A011-CED5F696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A13E1-436A-42F0-A441-74C8E8C9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D49D9-13A8-4D94-ABE1-18F87540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0E72B-A381-4141-A2DB-EE2F3207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EC689-5D57-44E7-BEC8-41AA38AA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84370-3ED3-463A-905F-DA86E204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4F268-F2C0-4803-B0B1-061D751E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F99D-51B6-406B-8A8E-5C97C999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D9BD1-859A-459D-ACEE-489FC0ED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C30F3-46EF-4EDF-8980-D0AF6A2B5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81388-5550-4D63-9175-456C6FDA1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8A546-E971-4DAE-BD43-71106605D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BFF7E-A25B-48A4-B641-14FE0B32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FB2F6-C754-46F7-B4DD-30D002FD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C208C-931C-4644-850D-131C73E9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FF4CB-755D-4D63-869F-DDC860F0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C2E4F-9B8D-4531-ABBE-589688FE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C93E8-A637-4A94-85EE-5FDC5FA1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38DA-AE11-487E-A916-EA98D280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0FCC0-DA76-4288-B6E0-A6C54AC0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242B7-E72D-4B7C-BB5B-FE175E94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890BA-1506-434C-B6DA-0F5BBD61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E4D9A-0359-49CB-A229-093331F68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753E7-CF5A-4748-B002-D832A0D81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1AAD1-26D7-4AEB-824B-76AFBC43D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4EC41-6873-4FF2-93C4-BE0721F6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30FD1-A6FE-4241-9391-D88797CA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96483-AFD0-4FFC-BFAA-8C0A123A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EAA1A-0112-432A-9575-5FFFA16C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9FAC-E02B-45EA-ACEB-A864C35C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BC1FA-DC79-46F2-A67A-18A02174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DD9DF-5582-4ADF-A376-87669358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B1AD3-3619-46D3-9506-D558D1FD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4CD52-94A0-4F82-B978-214A801D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D698F-8859-4C19-8FD1-EB2A3699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02938-6743-4A41-92A0-B4B8A8E15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7108B-258E-4095-A9DD-AB9C93865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9 Nov - 1 Dec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eMFP Meeting Luxembour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B7F6-4CDF-479B-87C4-32928481B5E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3a6f3e"/>
              </a:gs>
              <a:gs pos="50000">
                <a:srgbClr val="80b984"/>
              </a:gs>
              <a:gs pos="100000">
                <a:srgbClr val="3a6f3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b3cbb5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0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11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29 Nov - 1 Dec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ebf0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bf0ec"/>
                </a:solidFill>
                <a:latin typeface="Times New Roman"/>
              </a:rPr>
              <a:t>eMFP Meeting Luxembour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2ADB-3292-43AC-AC82-2765CA4FFF3E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29 Nov - 1 Dec 20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eMFP Meeting Luxembourg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C8AA-95BF-4177-AF8C-AF6F6D421180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29 Nov - 1 Dec 20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eMFP Meeting Luxembourg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7B19-9C87-4A3A-BDBF-DA34E0591086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9 Nov - 1 Dec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eMFP Meeting Luxembour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132F-6103-4BD6-810D-868F6DB39B2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29 Nov - 1 Dec 20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eMFP Meeting Luxembourg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F005-7662-4FB9-BA6B-8A1DF7FEC172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9 Nov - 1 Dec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eMFP Meeting Luxembour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0E8E-D193-44A2-9829-5332F98D1CF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7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8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29 Nov - 1 Dec 20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eMFP Meeting Luxembourg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8F5A-F437-4D04-9F56-35CEAB64D18C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530280"/>
            <a:ext cx="8497800" cy="31575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33160" y="419112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76a55"/>
                </a:solidFill>
                <a:latin typeface="Lucida Sans Unicode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76a55"/>
                </a:solidFill>
                <a:latin typeface="Lucida Sans Unicode"/>
              </a:rPr>
              <a:t>Miriam Cherogony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C341-7604-48C3-8F99-1B8E813A13BC}" type="slidenum">
              <a:rPr b="0" lang="en-GB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bf0ec"/>
                </a:solidFill>
                <a:latin typeface="Lucida Sans Unicode"/>
              </a:rPr>
              <a:t>eMFP Meeting Luxembourg 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Date Placeholder 5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29 Nov - 1 Dec 2010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371600" cy="9320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6" descr="FIDAFRIQUE_l"/>
          <p:cNvPicPr/>
          <p:nvPr/>
        </p:nvPicPr>
        <p:blipFill>
          <a:blip r:embed="rId3"/>
          <a:stretch/>
        </p:blipFill>
        <p:spPr>
          <a:xfrm>
            <a:off x="8001000" y="0"/>
            <a:ext cx="114300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0492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reased access to financial services by farmers through SACCOs and MFIs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36504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reased  productivity by the farmers belonging to Associations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36504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reased growth of loan portfolios that results in higher revenues for sustainability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36504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reased farmer education on savings and loans management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36504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reased farming business management skills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36504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creased loan default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2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9040680" cy="957240"/>
          </a:xfrm>
          <a:prstGeom prst="rect">
            <a:avLst/>
          </a:prstGeom>
          <a:ln w="0">
            <a:noFill/>
          </a:ln>
        </p:spPr>
      </p:pic>
      <p:sp>
        <p:nvSpPr>
          <p:cNvPr id="443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29 Nov - 1 Dec 2010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0581-4D5D-4D78-BE43-940F1EC8370E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Footer Placeholder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eMFP Meeting Luxembourg 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04920" y="1480680"/>
            <a:ext cx="8610480" cy="47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lnSpc>
                <a:spcPct val="8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ck of innovative interventions that attracts financial institutions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365040">
              <a:lnSpc>
                <a:spcPct val="8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reliable prices for products result in great uncertainties for loan repayment and adequate margin for farmer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365040">
              <a:lnSpc>
                <a:spcPct val="8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litical interventions having a negative impact on the marketing of the agriculture produce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365040">
              <a:lnSpc>
                <a:spcPct val="8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ak legal frameworks to curb side-selling of agriculture produce by the farmers participating in the value chai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365040">
              <a:lnSpc>
                <a:spcPct val="8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titude towards loan repayment and lack of saving culture hence loan default is still very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365040">
              <a:lnSpc>
                <a:spcPct val="8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7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48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29 Nov - 1 Dec 2010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DBFE-DA2F-44B3-AD60-75AD052D9C42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Footer Placeholder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eMFP Meeting Luxembourg 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380520" y="1480680"/>
            <a:ext cx="85345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lnSpc>
                <a:spcPct val="8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rruptive practices amongst the officials directly working with the farmers in the value chain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365040">
              <a:lnSpc>
                <a:spcPct val="8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ck of binding contracts within the agriculture value chains; clubs are not legal entities to sign legally enforceable contracts - disband after default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365040">
              <a:lnSpc>
                <a:spcPct val="8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ck of national identities and credit reference bureaus to check credit history of the borrowers result in inadequate client loan appraisals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365040">
              <a:lnSpc>
                <a:spcPct val="8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ck of variety in agricultural activities due to unorganized markets for other agricultural product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365040">
              <a:lnSpc>
                <a:spcPct val="8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2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692920" cy="1158840"/>
          </a:xfrm>
          <a:prstGeom prst="rect">
            <a:avLst/>
          </a:prstGeom>
          <a:ln w="0">
            <a:noFill/>
          </a:ln>
        </p:spPr>
      </p:pic>
      <p:sp>
        <p:nvSpPr>
          <p:cNvPr id="453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29 Nov - 1 Dec 2010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6366-D959-4DDA-A8C1-516C672D1519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Footer Placeholder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eMFP Meeting Luxembourg 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ublic sector has to step in and improve/ formalize market conditions and legal frameworks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36504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gal frame works and mechanisms should also be developed and enforced  to curb side selling or cross boarder selling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36504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novative financial products need to be developed to reduce farmers appetite to side sell their produce (warehouse receipt systems)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36504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7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58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29 Nov - 1 Dec 2010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3BAB-3F26-4FEC-8C66-7023F917C8DE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Footer Placeholder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eMFP Meeting Luxembourg 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portance of working with associations to reduce the risks associated with financing the value chain to increases bargaining power for the farmer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36504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creen and organize small farmers into larger groups for:-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bursement of  inputs and loa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nitoring and evaluation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cilitate or delivery of extension servic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lection and aggregation of product to market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cilitation of repayments to financie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2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  <p:sp>
        <p:nvSpPr>
          <p:cNvPr id="463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29 Nov - 1 Dec 2010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DD38-2CFC-4DEA-A870-EA00BC7C09A8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Footer Placeholder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eMFP Meeting Luxembourg 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457200" y="148104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Design sustainable value chain finance interventions- using identified opportunities and constraints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36504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trengthen institutional capacities of actors- governance &amp; management, HR competence,  information flow, ability to forge partnerships and alliances with different cultures and expectations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36504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Identify sources of risk reduction and required incentives to mitigate risks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36504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Identify ways to improve access to longer- term agricultural finance through risk sharing basi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36504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Date Placeholder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29 Nov - 1 Dec 2010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Footer Placeholder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eMFP Meeting Luxembourg 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9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BB3F-CE9F-4A99-9168-63DFA8493FE8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0" name="Title 5" descr=""/>
          <p:cNvPicPr/>
          <p:nvPr/>
        </p:nvPicPr>
        <p:blipFill>
          <a:blip r:embed="rId1"/>
          <a:stretch/>
        </p:blipFill>
        <p:spPr>
          <a:xfrm>
            <a:off x="171360" y="268200"/>
            <a:ext cx="8521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04920" y="148104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nks should be developing tailored products e.g. term finance facilities for agribusiness clients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methodology for improving relationship between financial institutions and farmers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eate a viable platform for farmers continued education to improve on their adoption of new technology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verage use of technologies such as mobile phones development and biometrics to identify borrowers 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Date Placeholder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29 Nov - 1 Dec 2010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3" name="Footer Placeholder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eMFP Meeting Luxembourg 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97B7-C4E3-4F42-A755-48853F704F1A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5" name="Title 5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457200" y="2209680"/>
            <a:ext cx="822960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ural Finance Knowledge Management Partnership (KMP) / IFADAFRICA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AD Kenya Country Office, UN Lane, Off UN Avenue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.O Box 67578 – 00200 Nairobi, Keny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l: + 254 (20) 762 1028 Cell: + 254 722 111 237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ail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.cherogony@ifad.or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cherogony@ifadafrica.or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kype: miriam.cherogon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Date Placeholder 5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29 Nov - 1 Dec 2010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eMFP Meeting Luxembourg 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D223-4BED-4938-9739-69DBB7F30C9B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0" name="Title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6462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6" descr="FIDAFRIQUE_l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9874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137160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Problem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36504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ationale for Value Chain Financing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36504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griculture Tripartite Arrangement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36504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ample: Tobacco Value Chain in Malawi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36504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nefits of VCF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36504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allenges of VCF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36504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ggested Improvement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36504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386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1711-0252-4A0F-9052-201F2B9F137A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eMFP Meeting Luxembourg 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Date Placeholder 5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29 Nov - 1 Dec 2010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304560" y="1480680"/>
            <a:ext cx="838188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rgency to create wealth for poor rural communities and promote economic growth by sustainably linking large numbers MSEs into profitable  markets – reduce hunger &amp; poverty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ny developments partners view access to rural finance as essential tool for combating poverty and injustice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refore, there is search for innovative ways to expand inclusive rural financing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wever, relationships between poverty and finance are complex and challenging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29 Nov - 1 Dec 2010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FB8D-C5F0-4190-880D-1D21721D431D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Footer Placeholder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eMFP Meeting Luxembourg 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lnSpc>
                <a:spcPct val="9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 innovative way of delivering more and better financial services to rural producers and agribusinesses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365040">
              <a:lnSpc>
                <a:spcPct val="9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nancial institutions VCF- i) reduces the costs and risks, ii) diversifies lending risks, iii) another source of operational income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365040">
              <a:lnSpc>
                <a:spcPct val="9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alue chain actors - VCF opens access to larger loan sizes and new types of financial services e.g. savings and investment loans;   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365040">
              <a:lnSpc>
                <a:spcPct val="9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mallholder farmers become creditworthy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hanced incom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→actively engaged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ural develop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verty alleviation.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36504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Date Placeholder 5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29 Nov - 1 Dec 2010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eMFP Meeting Luxembourg 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B6E6-A36B-42E7-9DE3-1D0A1F48DF81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04920" y="1481040"/>
            <a:ext cx="8534160" cy="45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lnSpc>
                <a:spcPct val="9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 agricultural value chain encompasses the full range of activities and services required to bring a product or service from its conception to its end use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365040">
              <a:lnSpc>
                <a:spcPct val="9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CF involves the financial needs of a sequence of productive value added activities from farm producers to final consumers, hence, the term, “From Farm to Fork”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365040">
              <a:lnSpc>
                <a:spcPct val="9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n order to optimize VCF it requires the existence of tripartite institutional arrangements (Refer to Figure 1)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Date Placeholder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29 Nov - 1 Dec 2010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Footer Placeholder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eMFP Meeting Luxembourg 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2E8D-4762-42AE-9D0F-98AC3BB342E0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5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8822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Rectangle 2" descr=""/>
          <p:cNvPicPr/>
          <p:nvPr/>
        </p:nvPicPr>
        <p:blipFill>
          <a:blip r:embed="rId1"/>
          <a:stretch/>
        </p:blipFill>
        <p:spPr>
          <a:xfrm>
            <a:off x="-6480" y="-103320"/>
            <a:ext cx="9156960" cy="87156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228240" y="14479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2514600" y="990720"/>
            <a:ext cx="3962520" cy="368280"/>
          </a:xfrm>
          <a:prstGeom prst="rect">
            <a:avLst/>
          </a:prstGeom>
          <a:solidFill>
            <a:srgbClr val="eaeb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IGURE 1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407" name="Straight Arrow Connector 4"/>
          <p:cNvCxnSpPr/>
          <p:nvPr/>
        </p:nvCxnSpPr>
        <p:spPr>
          <a:xfrm>
            <a:off x="4723200" y="2133720"/>
            <a:ext cx="2715480" cy="30722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08" name="Straight Arrow Connector 5"/>
          <p:cNvCxnSpPr/>
          <p:nvPr/>
        </p:nvCxnSpPr>
        <p:spPr>
          <a:xfrm flipH="1" flipV="1">
            <a:off x="5028480" y="1980720"/>
            <a:ext cx="2786760" cy="31442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09" name="Rectangle 21"/>
          <p:cNvSpPr/>
          <p:nvPr/>
        </p:nvSpPr>
        <p:spPr>
          <a:xfrm>
            <a:off x="3581280" y="1371600"/>
            <a:ext cx="15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Financial Lender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410" name="Straight Arrow Connector 7"/>
          <p:cNvCxnSpPr/>
          <p:nvPr/>
        </p:nvCxnSpPr>
        <p:spPr>
          <a:xfrm flipV="1">
            <a:off x="990720" y="2056680"/>
            <a:ext cx="2929680" cy="30726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11" name="Straight Arrow Connector 8"/>
          <p:cNvCxnSpPr/>
          <p:nvPr/>
        </p:nvCxnSpPr>
        <p:spPr>
          <a:xfrm flipH="1">
            <a:off x="685440" y="1905120"/>
            <a:ext cx="2929680" cy="29296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12" name="Straight Arrow Connector 9"/>
          <p:cNvCxnSpPr/>
          <p:nvPr/>
        </p:nvCxnSpPr>
        <p:spPr>
          <a:xfrm flipH="1" flipV="1">
            <a:off x="1218960" y="5637960"/>
            <a:ext cx="600120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13" name="Straight Arrow Connector 10"/>
          <p:cNvCxnSpPr/>
          <p:nvPr/>
        </p:nvCxnSpPr>
        <p:spPr>
          <a:xfrm>
            <a:off x="1213920" y="5715000"/>
            <a:ext cx="600156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14" name="Rectangle 38"/>
          <p:cNvSpPr/>
          <p:nvPr/>
        </p:nvSpPr>
        <p:spPr>
          <a:xfrm>
            <a:off x="7238880" y="518148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echnical Service Providers (TSP 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Isosceles Triangle 12"/>
          <p:cNvSpPr/>
          <p:nvPr/>
        </p:nvSpPr>
        <p:spPr>
          <a:xfrm>
            <a:off x="1752480" y="2057400"/>
            <a:ext cx="5877000" cy="3276720"/>
          </a:xfrm>
          <a:prstGeom prst="triangle">
            <a:avLst>
              <a:gd name="adj" fmla="val 50981"/>
            </a:avLst>
          </a:prstGeom>
          <a:solidFill>
            <a:srgbClr val="d0e0d0"/>
          </a:solidFill>
          <a:ln w="9360">
            <a:solidFill>
              <a:srgbClr val="cec597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Rectangle 13"/>
          <p:cNvSpPr/>
          <p:nvPr/>
        </p:nvSpPr>
        <p:spPr>
          <a:xfrm>
            <a:off x="1828800" y="3244680"/>
            <a:ext cx="380880" cy="368280"/>
          </a:xfrm>
          <a:prstGeom prst="rect">
            <a:avLst/>
          </a:prstGeom>
          <a:solidFill>
            <a:srgbClr val="ffc000"/>
          </a:solidFill>
          <a:ln w="55080">
            <a:solidFill>
              <a:srgbClr val="aa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Sans Unicod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Rectangle 14"/>
          <p:cNvSpPr/>
          <p:nvPr/>
        </p:nvSpPr>
        <p:spPr>
          <a:xfrm>
            <a:off x="2362320" y="3244680"/>
            <a:ext cx="380880" cy="368280"/>
          </a:xfrm>
          <a:prstGeom prst="rect">
            <a:avLst/>
          </a:prstGeom>
          <a:solidFill>
            <a:srgbClr val="ffc000"/>
          </a:solidFill>
          <a:ln w="55080">
            <a:solidFill>
              <a:srgbClr val="aa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Sans Unicod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Rectangle 15"/>
          <p:cNvSpPr/>
          <p:nvPr/>
        </p:nvSpPr>
        <p:spPr>
          <a:xfrm>
            <a:off x="5715000" y="3214800"/>
            <a:ext cx="380880" cy="368280"/>
          </a:xfrm>
          <a:prstGeom prst="rect">
            <a:avLst/>
          </a:prstGeom>
          <a:solidFill>
            <a:srgbClr val="ffc000"/>
          </a:solidFill>
          <a:ln w="55080">
            <a:solidFill>
              <a:srgbClr val="aa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Sans Unicode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Rectangle 16"/>
          <p:cNvSpPr/>
          <p:nvPr/>
        </p:nvSpPr>
        <p:spPr>
          <a:xfrm>
            <a:off x="6324480" y="3244680"/>
            <a:ext cx="457200" cy="368280"/>
          </a:xfrm>
          <a:prstGeom prst="rect">
            <a:avLst/>
          </a:prstGeom>
          <a:solidFill>
            <a:srgbClr val="ffc000"/>
          </a:solidFill>
          <a:ln w="55080">
            <a:solidFill>
              <a:srgbClr val="aa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Sans Unicode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Rectangle 17"/>
          <p:cNvSpPr/>
          <p:nvPr/>
        </p:nvSpPr>
        <p:spPr>
          <a:xfrm>
            <a:off x="4495680" y="5143680"/>
            <a:ext cx="381240" cy="368280"/>
          </a:xfrm>
          <a:prstGeom prst="rect">
            <a:avLst/>
          </a:prstGeom>
          <a:solidFill>
            <a:srgbClr val="ffc000"/>
          </a:solidFill>
          <a:ln w="55080">
            <a:solidFill>
              <a:srgbClr val="aa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Sans Unicod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Rectangle 18"/>
          <p:cNvSpPr/>
          <p:nvPr/>
        </p:nvSpPr>
        <p:spPr>
          <a:xfrm>
            <a:off x="3886200" y="5429160"/>
            <a:ext cx="380880" cy="368280"/>
          </a:xfrm>
          <a:prstGeom prst="rect">
            <a:avLst/>
          </a:prstGeom>
          <a:solidFill>
            <a:srgbClr val="ffc000"/>
          </a:solidFill>
          <a:ln w="55080">
            <a:solidFill>
              <a:srgbClr val="aa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Sans Unicode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Rectangle 19"/>
          <p:cNvSpPr/>
          <p:nvPr/>
        </p:nvSpPr>
        <p:spPr>
          <a:xfrm>
            <a:off x="0" y="464832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 Unicode"/>
              </a:rPr>
              <a:t>Out growers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 Unicode"/>
              </a:rPr>
              <a:t>small scale Farmer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Date Placeholder 20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29 Nov - 1 Dec 2010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Slide Number Placeholder 2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AC69-4740-4945-8579-815D80B2F7CE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Footer Placeholder 2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eMFP Meeting Luxembourg 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228600" y="12952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1 = Lender/FO provides financial services to farmer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2 = Out growers/Farmers make deposits and repayment of loans;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3 = TMP/TO provides technical and marketing services to farmers;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4 = Out growers / Farmers sell produce to TSP and through the TSP to end buyers;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5 = FO provides loans to TSP for its own operations and /or  loans through TSP to farmer groups;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6 = TSP repays own loans and /or loans of farmers collected at source when paying for produce purchased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Date Placeholder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29 Nov - 1 Dec 2010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Footer Placeholder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eMFP Meeting Luxembourg 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8166-4A22-4528-ACC2-19D42ECCC81A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Title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5410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228600" y="12949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lawi Union of Savings and Credit Coops (MUSCCO) finances the farmers through the rural based SACCOs that work closely with the farmers associations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stly in rural areas, Savings and Credit Coops (SACCOs) are the only organized financial institutions that farmers can access financial services for agribusinesses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ACCOs lack long term capital to meet the demand, the apex MUSCCO, provides the funding but relies on the strength of the apex association NASFAM to organize farmer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957240"/>
          </a:xfrm>
          <a:prstGeom prst="rect">
            <a:avLst/>
          </a:prstGeom>
          <a:ln w="0">
            <a:noFill/>
          </a:ln>
        </p:spPr>
      </p:pic>
      <p:sp>
        <p:nvSpPr>
          <p:cNvPr id="433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29 Nov - 1 Dec 2010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529B-5C42-470A-8BD9-07674007C98A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Footer Placeholder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eMFP Meeting Luxembourg 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457200" y="1295280"/>
            <a:ext cx="8229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 algn="just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king with National Small holder Farmers Association of Malawi (NASFAM) allows MUSCCO to concentrate on the provision of financial services to their membership base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365040" algn="just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armers get technical assistance on business development skills and link to financial institutions to access financial services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365040" algn="just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ction Floors (tobacco market) helps MUSCCO in collecting loan repayments through stop order system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7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957240"/>
          </a:xfrm>
          <a:prstGeom prst="rect">
            <a:avLst/>
          </a:prstGeom>
          <a:ln w="0">
            <a:noFill/>
          </a:ln>
        </p:spPr>
      </p:pic>
      <p:sp>
        <p:nvSpPr>
          <p:cNvPr id="438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29 Nov - 1 Dec 2010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3D07-B866-40C4-8320-C40F8AB888E0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Footer Placeholder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eMFP Meeting Luxembourg 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16:04:24Z</dcterms:created>
  <dc:creator> </dc:creator>
  <dc:description/>
  <dc:language>en-US</dc:language>
  <cp:lastModifiedBy> </cp:lastModifiedBy>
  <dcterms:modified xsi:type="dcterms:W3CDTF">2010-12-09T18:18:21Z</dcterms:modified>
  <cp:revision>247</cp:revision>
  <dc:subject/>
  <dc:title>"Promoting Increased Stakeholder Ownership of Donor-financed Development Projects" </dc:title>
</cp:coreProperties>
</file>