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FF07BE-364D-4198-BA61-64EF96F2C3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DF9797-0469-4B63-ABC5-6092D61EA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8ACA-760B-4A69-B04E-40B4DBAA4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From supply-driven “how we lend”  to client driven “how can we structure finance and services to address clients’ needs and risk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117F06-E2F7-4A57-94A8-BEB203744A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4a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-9360"/>
            <a:ext cx="9144000" cy="838080"/>
          </a:xfrm>
          <a:prstGeom prst="rect">
            <a:avLst/>
          </a:prstGeom>
          <a:solidFill>
            <a:srgbClr val="4a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lue chains and microfinanc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what is the link?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Calvin Miller – FAO, Moderator</a:t>
            </a:r>
            <a:br>
              <a:rPr sz="2800"/>
            </a:b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Hugo Couderé – Alterfin</a:t>
            </a:r>
            <a:br>
              <a:rPr sz="2800"/>
            </a:b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Michael de Groot – Rabobank Foundation</a:t>
            </a:r>
            <a:br>
              <a:rPr sz="2800"/>
            </a:b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Tom Rausch – Pride Africa/DrumNet</a:t>
            </a:r>
            <a:br>
              <a:rPr sz="2800"/>
            </a:b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Miriam Cherogony – IFAD Kenya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68580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a Value Chai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ull range of activities required to bring a product or service from conception through the various stages of production and delivery to final consumer.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lue chain includes all actors including producers, processors, suppliers, wholesalers and retailers and consum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lue chain is defined by its particular consumer seg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457200" y="601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ng Value Chain Fi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38040"/>
            <a:ext cx="8077320" cy="20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Value chain financ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– financial products and services flowing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and/or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hroug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a VC to address the needs of those involved in that chain, be it a need for finance, a need to secure sales, procure products, reduce risk and/or improve efficiency within the chai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611280" y="4952880"/>
            <a:ext cx="752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 and structure financial products to fit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 costs and risks of 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57200" y="3429000"/>
            <a:ext cx="8077320" cy="11912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00000"/>
                </a:solidFill>
                <a:latin typeface="Calibri"/>
                <a:ea typeface="Arial"/>
              </a:rPr>
              <a:t>VCF Approach </a:t>
            </a:r>
            <a:r>
              <a:rPr b="0" lang="en-GB" sz="2400" spc="-1" strike="noStrike">
                <a:solidFill>
                  <a:srgbClr val="c00000"/>
                </a:solidFill>
                <a:latin typeface="Calibri"/>
                <a:ea typeface="Arial"/>
              </a:rPr>
              <a:t>– to </a:t>
            </a:r>
            <a:r>
              <a:rPr b="0" lang="en-GB" sz="24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understand</a:t>
            </a:r>
            <a:r>
              <a:rPr b="0" lang="en-GB" sz="2400" spc="-1" strike="noStrike">
                <a:solidFill>
                  <a:srgbClr val="c00000"/>
                </a:solidFill>
                <a:latin typeface="Calibri"/>
                <a:ea typeface="Arial"/>
              </a:rPr>
              <a:t> the value chain and its participant needs and </a:t>
            </a:r>
            <a:r>
              <a:rPr b="0" lang="en-GB" sz="24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structure finance and services</a:t>
            </a:r>
            <a:r>
              <a:rPr b="0" lang="en-GB" sz="2400" spc="-1" strike="noStrike">
                <a:solidFill>
                  <a:srgbClr val="c00000"/>
                </a:solidFill>
                <a:latin typeface="Calibri"/>
                <a:ea typeface="Arial"/>
              </a:rPr>
              <a:t> to best address th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alue Chain Business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637000"/>
            <a:ext cx="71262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r-driv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yer-driv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ilitator-driv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rat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611280" y="1197000"/>
            <a:ext cx="75945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value chains and value chain financing,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usiness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fers to the drivers, processes and resources for the ch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 types of business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5201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alue Chain Finance Tools/Produ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395280" y="1143000"/>
            <a:ext cx="4968720" cy="914400"/>
          </a:xfrm>
          <a:prstGeom prst="roundRect">
            <a:avLst>
              <a:gd name="adj" fmla="val 16667"/>
            </a:avLst>
          </a:prstGeom>
          <a:solidFill>
            <a:srgbClr val="4d7495">
              <a:alpha val="18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Product Fin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684360" y="2209680"/>
            <a:ext cx="5182920" cy="914400"/>
          </a:xfrm>
          <a:prstGeom prst="roundRect">
            <a:avLst>
              <a:gd name="adj" fmla="val 16667"/>
            </a:avLst>
          </a:prstGeom>
          <a:solidFill>
            <a:srgbClr val="4d7495">
              <a:alpha val="18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Receivable Fin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1042920" y="327672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4d7495">
              <a:alpha val="18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Physical Asset Collate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1403280" y="4419720"/>
            <a:ext cx="5329440" cy="914400"/>
          </a:xfrm>
          <a:prstGeom prst="roundRect">
            <a:avLst>
              <a:gd name="adj" fmla="val 16667"/>
            </a:avLst>
          </a:prstGeom>
          <a:solidFill>
            <a:srgbClr val="4d7495">
              <a:alpha val="18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Risk Mitigation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1835280" y="5562720"/>
            <a:ext cx="5184720" cy="914400"/>
          </a:xfrm>
          <a:prstGeom prst="roundRect">
            <a:avLst>
              <a:gd name="adj" fmla="val 16667"/>
            </a:avLst>
          </a:prstGeom>
          <a:solidFill>
            <a:srgbClr val="4d7495">
              <a:alpha val="18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. Financial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76320" y="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C Lessons and Links for Microf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76320" y="1143000"/>
            <a:ext cx="88390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Understand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value chain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Assess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i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lationships and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tionale and needs for financing by those in the 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Structur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inancial servi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cording to the business model and strengths of VC particip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apting and applying appropriate financial products and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bining products and payments to reduce cost and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ing with complementary support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8:48:58Z</dcterms:created>
  <dc:creator>BSI</dc:creator>
  <dc:description/>
  <dc:language>en-US</dc:language>
  <cp:lastModifiedBy> </cp:lastModifiedBy>
  <dcterms:modified xsi:type="dcterms:W3CDTF">2010-12-09T13:16:01Z</dcterms:modified>
  <cp:revision>135</cp:revision>
  <dc:subject/>
  <dc:title>Slide 1</dc:title>
</cp:coreProperties>
</file>