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Text Box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dt" idx="1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935461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fr-FR" sz="1200" spc="-1" strike="noStrike">
                <a:solidFill>
                  <a:srgbClr val="000000"/>
                </a:solidFill>
                <a:latin typeface="Arial"/>
                <a:ea typeface="Arial Unicode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D171E0A-96D1-470F-A6D8-F95316C2EF35}" type="slidenum">
              <a:rPr b="0" lang="fr-FR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5D370B1-5E32-4664-A0FB-315BF19B715C}" type="slidenum">
              <a:rPr b="0" lang="fr-FR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EB877B1-861E-466D-B2B9-7C117F199FC5}" type="slidenum">
              <a:rPr b="0" lang="fr-FR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86400" cy="402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5A7CA8C-8A8C-4DC3-BEA2-84F6641AB42E}" type="slidenum">
              <a:rPr b="0" lang="fr-FR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86400" cy="402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E874D40-4CA7-4766-BBFC-7C08801EE154}" type="slidenum">
              <a:rPr b="0" lang="fr-FR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86400" cy="402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43280" y="1483920"/>
            <a:ext cx="6299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9280" y="2421000"/>
            <a:ext cx="7659720" cy="16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9280" y="4227120"/>
            <a:ext cx="7659720" cy="16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43280" y="1483920"/>
            <a:ext cx="6299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9280" y="2421000"/>
            <a:ext cx="3737880" cy="16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464360" y="2421000"/>
            <a:ext cx="3737880" cy="16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39280" y="4227120"/>
            <a:ext cx="3737880" cy="16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464360" y="4227120"/>
            <a:ext cx="3737880" cy="16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43280" y="1483920"/>
            <a:ext cx="6299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9280" y="2421000"/>
            <a:ext cx="2466360" cy="16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29480" y="2421000"/>
            <a:ext cx="2466360" cy="16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719320" y="2421000"/>
            <a:ext cx="2466360" cy="16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39280" y="4227120"/>
            <a:ext cx="2466360" cy="16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29480" y="4227120"/>
            <a:ext cx="2466360" cy="16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719320" y="4227120"/>
            <a:ext cx="2466360" cy="16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43280" y="1483920"/>
            <a:ext cx="6299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39280" y="2421000"/>
            <a:ext cx="7659720" cy="345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43280" y="1483920"/>
            <a:ext cx="6299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9280" y="2421000"/>
            <a:ext cx="7659720" cy="34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43280" y="1483920"/>
            <a:ext cx="6299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9280" y="2421000"/>
            <a:ext cx="3737880" cy="34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464360" y="2421000"/>
            <a:ext cx="3737880" cy="34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43280" y="1483920"/>
            <a:ext cx="6299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43280" y="1483920"/>
            <a:ext cx="6299280" cy="433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43280" y="1483920"/>
            <a:ext cx="6299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9280" y="2421000"/>
            <a:ext cx="3737880" cy="16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464360" y="2421000"/>
            <a:ext cx="3737880" cy="34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39280" y="4227120"/>
            <a:ext cx="3737880" cy="16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43280" y="1483920"/>
            <a:ext cx="6299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9280" y="2421000"/>
            <a:ext cx="3737880" cy="34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64360" y="2421000"/>
            <a:ext cx="3737880" cy="16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464360" y="4227120"/>
            <a:ext cx="3737880" cy="16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43280" y="1483920"/>
            <a:ext cx="6299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9280" y="2421000"/>
            <a:ext cx="3737880" cy="16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464360" y="2421000"/>
            <a:ext cx="3737880" cy="16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9280" y="4227120"/>
            <a:ext cx="7659720" cy="16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"/>
          <p:cNvSpPr/>
          <p:nvPr/>
        </p:nvSpPr>
        <p:spPr>
          <a:xfrm>
            <a:off x="0" y="6485040"/>
            <a:ext cx="9144000" cy="380880"/>
          </a:xfrm>
          <a:prstGeom prst="rect">
            <a:avLst/>
          </a:prstGeom>
          <a:solidFill>
            <a:srgbClr val="e856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539280" y="2421000"/>
            <a:ext cx="7659720" cy="34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2"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3"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4"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5"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6"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Rectangle 3"/>
          <p:cNvSpPr/>
          <p:nvPr/>
        </p:nvSpPr>
        <p:spPr>
          <a:xfrm>
            <a:off x="222120" y="6559560"/>
            <a:ext cx="2880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CH" sz="1200" spc="-1" strike="noStrike">
                <a:solidFill>
                  <a:srgbClr val="ffffff"/>
                </a:solidFill>
                <a:latin typeface="Arial"/>
              </a:rPr>
              <a:t>contact@e-mfp.e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Rectangle 4"/>
          <p:cNvSpPr/>
          <p:nvPr/>
        </p:nvSpPr>
        <p:spPr>
          <a:xfrm>
            <a:off x="6084720" y="6597720"/>
            <a:ext cx="2880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CH" sz="1200" spc="-1" strike="noStrike">
                <a:solidFill>
                  <a:srgbClr val="ffffff"/>
                </a:solidFill>
                <a:latin typeface="Arial"/>
              </a:rPr>
              <a:t>www.e-mfp.e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" name="Picture 5" descr=""/>
          <p:cNvPicPr/>
          <p:nvPr/>
        </p:nvPicPr>
        <p:blipFill>
          <a:blip r:embed="rId2"/>
          <a:stretch/>
        </p:blipFill>
        <p:spPr>
          <a:xfrm>
            <a:off x="0" y="0"/>
            <a:ext cx="6372360" cy="19908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2843280" y="1483920"/>
            <a:ext cx="6299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935461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1"/>
          <p:cNvSpPr/>
          <p:nvPr/>
        </p:nvSpPr>
        <p:spPr>
          <a:xfrm>
            <a:off x="539640" y="2421000"/>
            <a:ext cx="7661520" cy="34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6040" indent="-446040">
              <a:spcBef>
                <a:spcPts val="700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Challenges of Innovative Financial Inclus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6040" indent="-44604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Funder´s Perspec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6040" indent="-44604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88840" indent="-438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CH" sz="2400" spc="-1" strike="noStrike">
                <a:solidFill>
                  <a:srgbClr val="292929"/>
                </a:solidFill>
                <a:latin typeface="Arial"/>
                <a:ea typeface="SimSun"/>
              </a:rPr>
              <a:t>Edvardas Bumstein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88840" indent="-438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CH" sz="2400" spc="-1" strike="noStrike">
                <a:solidFill>
                  <a:srgbClr val="292929"/>
                </a:solidFill>
                <a:latin typeface="Arial"/>
                <a:ea typeface="SimSun"/>
              </a:rPr>
              <a:t>EI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340000" y="1579680"/>
            <a:ext cx="306072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2000" spc="-1" strike="noStrike">
                <a:solidFill>
                  <a:srgbClr val="935461"/>
                </a:solidFill>
                <a:latin typeface="Arial"/>
              </a:rPr>
              <a:t>WHY INNOVATE?</a:t>
            </a: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9640" y="2421000"/>
            <a:ext cx="7661520" cy="34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6040" indent="-446040">
              <a:spcBef>
                <a:spcPts val="700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de-DE" sz="2800" spc="-1" strike="noStrike">
                <a:solidFill>
                  <a:srgbClr val="292929"/>
                </a:solidFill>
                <a:latin typeface="Arial"/>
              </a:rPr>
              <a:t>Geographical concentration;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6040" indent="-446040">
              <a:spcBef>
                <a:spcPts val="700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de-DE" sz="2800" spc="-1" strike="noStrike">
                <a:solidFill>
                  <a:srgbClr val="292929"/>
                </a:solidFill>
                <a:latin typeface="Arial"/>
              </a:rPr>
              <a:t>Contrasts in physical outreach of the financial system;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6040" indent="-446040">
              <a:spcBef>
                <a:spcPts val="700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de-DE" sz="2800" spc="-1" strike="noStrike">
                <a:solidFill>
                  <a:srgbClr val="292929"/>
                </a:solidFill>
                <a:latin typeface="Arial"/>
              </a:rPr>
              <a:t>Financial self-sufficiency cannot be taken for granted;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6040" indent="-446040">
              <a:spcBef>
                <a:spcPts val="700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de-DE" sz="2800" spc="-1" strike="noStrike">
                <a:solidFill>
                  <a:srgbClr val="292929"/>
                </a:solidFill>
                <a:latin typeface="Arial"/>
              </a:rPr>
              <a:t>Demand for insurance largely unmet;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6040" indent="-446040">
              <a:spcBef>
                <a:spcPts val="700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de-DE" sz="2800" spc="-1" strike="noStrike">
                <a:solidFill>
                  <a:srgbClr val="292929"/>
                </a:solidFill>
                <a:latin typeface="Arial"/>
              </a:rPr>
              <a:t>Rural areas are barely served.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40000" y="1579680"/>
            <a:ext cx="306072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2000" spc="-1" strike="noStrike">
                <a:solidFill>
                  <a:srgbClr val="935461"/>
                </a:solidFill>
                <a:latin typeface="Arial"/>
              </a:rPr>
              <a:t>EIB in Microfinance</a:t>
            </a: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9280" y="2421000"/>
            <a:ext cx="8101080" cy="34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6040" indent="-446040">
              <a:spcBef>
                <a:spcPts val="700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de-DE" sz="2800" spc="-1" strike="noStrike">
                <a:solidFill>
                  <a:srgbClr val="292929"/>
                </a:solidFill>
                <a:latin typeface="Arial"/>
              </a:rPr>
              <a:t>Total investments of ca EUR 175m in ACPs;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6040" indent="-446040">
              <a:spcBef>
                <a:spcPts val="700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de-DE" sz="2800" spc="-1" strike="noStrike">
                <a:solidFill>
                  <a:srgbClr val="292929"/>
                </a:solidFill>
                <a:latin typeface="Arial"/>
              </a:rPr>
              <a:t>Focus on greenfields (Access, Advans);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6040" indent="-446040">
              <a:spcBef>
                <a:spcPts val="700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de-DE" sz="2800" spc="-1" strike="noStrike">
                <a:solidFill>
                  <a:srgbClr val="292929"/>
                </a:solidFill>
                <a:latin typeface="Arial"/>
              </a:rPr>
              <a:t>Capacity building TA EUR 20m in the last 2 years;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6040" indent="-446040">
              <a:spcBef>
                <a:spcPts val="700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de-DE" sz="2800" spc="-1" strike="noStrike">
                <a:solidFill>
                  <a:srgbClr val="292929"/>
                </a:solidFill>
                <a:latin typeface="Arial"/>
              </a:rPr>
              <a:t>Local currency debt funds (REGMIFA; RIF I &amp; II, FEFISOL);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6040" indent="-446040">
              <a:spcBef>
                <a:spcPts val="700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de-DE" sz="2800" spc="-1" strike="noStrike">
                <a:solidFill>
                  <a:srgbClr val="292929"/>
                </a:solidFill>
                <a:latin typeface="Arial"/>
              </a:rPr>
              <a:t>LeapFrog Microinsurance Fund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39640" y="1619280"/>
            <a:ext cx="450036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2000" spc="-1" strike="noStrike">
                <a:solidFill>
                  <a:srgbClr val="935461"/>
                </a:solidFill>
                <a:latin typeface="Arial"/>
              </a:rPr>
              <a:t>Challenges and Opportunities</a:t>
            </a: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9280" y="2421000"/>
            <a:ext cx="8101080" cy="36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6040" indent="-446040">
              <a:spcBef>
                <a:spcPts val="700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de-DE" sz="2800" spc="-1" strike="noStrike">
                <a:solidFill>
                  <a:srgbClr val="292929"/>
                </a:solidFill>
                <a:latin typeface="Arial"/>
              </a:rPr>
              <a:t>Reputational issues;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6040" indent="-446040">
              <a:spcBef>
                <a:spcPts val="700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de-DE" sz="2800" spc="-1" strike="noStrike">
                <a:solidFill>
                  <a:srgbClr val="292929"/>
                </a:solidFill>
                <a:latin typeface="Arial"/>
              </a:rPr>
              <a:t>Smart regulation;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6040" indent="-446040">
              <a:spcBef>
                <a:spcPts val="700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de-DE" sz="2800" spc="-1" strike="noStrike">
                <a:solidFill>
                  <a:srgbClr val="292929"/>
                </a:solidFill>
                <a:latin typeface="Arial"/>
              </a:rPr>
              <a:t>Social performance standards for MIVs;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6040" indent="-446040">
              <a:spcBef>
                <a:spcPts val="700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de-DE" sz="2800" spc="-1" strike="noStrike">
                <a:solidFill>
                  <a:srgbClr val="292929"/>
                </a:solidFill>
                <a:latin typeface="Arial"/>
              </a:rPr>
              <a:t>Capacity building assistance;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6040" indent="-446040">
              <a:spcBef>
                <a:spcPts val="700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de-DE" sz="2800" spc="-1" strike="noStrike">
                <a:solidFill>
                  <a:srgbClr val="292929"/>
                </a:solidFill>
                <a:latin typeface="Arial"/>
              </a:rPr>
              <a:t>The importance of technology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9T10:39:38Z</dcterms:created>
  <dc:creator>Martin Kinsella</dc:creator>
  <dc:description/>
  <dc:language>en-US</dc:language>
  <cp:lastModifiedBy> </cp:lastModifiedBy>
  <dcterms:modified xsi:type="dcterms:W3CDTF">2010-12-09T10:19:42Z</dcterms:modified>
  <cp:revision>13</cp:revision>
  <dc:subject/>
  <dc:title>Slide 1</dc:title>
</cp:coreProperties>
</file>