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2420640"/>
            <a:ext cx="79200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Incofin Investment Management’s actions towards the promotion of greater transparency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Why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How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oving Forward…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9640" y="2420640"/>
            <a:ext cx="79200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Why do we need to promote greater transparency?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vesting in Microfinance does not make us «necessarily » socially responsible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We need to provide tangible proofs to our claim of being a double/triple bottom line industry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964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How do we currently promote greater transparency?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t the MFI level: Measuring and Promoting social performance (debt and equity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t the MIV level: Working together towards the promotion of collective guideline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t the investors level: Reporting on our social achievement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oving Forward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t the MFI level: Need for enhancement of social reporting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t the MIV level: Need for alignment of message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t the Investors level: Need for awareness raising on the fact that microfinance can only be a patient investment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5516640"/>
            <a:ext cx="784836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000" y="2416320"/>
            <a:ext cx="1439640" cy="1730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4220640"/>
            <a:ext cx="143964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68360" y="2417400"/>
            <a:ext cx="1440000" cy="173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019640" y="329760"/>
            <a:ext cx="1439640" cy="173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851280" y="2417400"/>
            <a:ext cx="1441440" cy="173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435640" y="2417400"/>
            <a:ext cx="144000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019640" y="2417400"/>
            <a:ext cx="1439640" cy="1731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68360" y="4233960"/>
            <a:ext cx="14400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51280" y="4233960"/>
            <a:ext cx="14414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435640" y="4233960"/>
            <a:ext cx="14400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7019640" y="4233960"/>
            <a:ext cx="14396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3058920" y="155736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10T11:22:40Z</dcterms:modified>
  <cp:revision>17</cp:revision>
  <dc:subject/>
  <dc:title>Slide 1</dc:title>
</cp:coreProperties>
</file>