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02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204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02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204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43280" y="1484280"/>
            <a:ext cx="6300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6485040"/>
            <a:ext cx="9144000" cy="380880"/>
          </a:xfrm>
          <a:prstGeom prst="rect">
            <a:avLst/>
          </a:prstGeom>
          <a:solidFill>
            <a:srgbClr val="e856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-42516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44200" indent="-41724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29040" indent="-3830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3" marL="1596960" indent="-36648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4" marL="1966320" indent="-36792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5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6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22120" y="6559560"/>
            <a:ext cx="288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contact@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6084720" y="6597720"/>
            <a:ext cx="28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www.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pic>
        <p:nvPicPr>
          <p:cNvPr id="5" name="Picture 7" descr="Header_entête.jpg"/>
          <p:cNvPicPr/>
          <p:nvPr/>
        </p:nvPicPr>
        <p:blipFill>
          <a:blip r:embed="rId2"/>
          <a:stretch/>
        </p:blipFill>
        <p:spPr>
          <a:xfrm>
            <a:off x="0" y="0"/>
            <a:ext cx="4427640" cy="148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35461"/>
                </a:solidFill>
                <a:latin typeface="Arial"/>
              </a:rPr>
              <a:t>Consumer Protection Regulation for Low Access Environments</a:t>
            </a:r>
            <a:endParaRPr b="1" lang="en-US" sz="32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55640" y="3860280"/>
            <a:ext cx="446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Smart Campaig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Isabelle Barrè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ounded Rectangle 13"/>
          <p:cNvSpPr/>
          <p:nvPr/>
        </p:nvSpPr>
        <p:spPr>
          <a:xfrm>
            <a:off x="0" y="1038240"/>
            <a:ext cx="9144000" cy="4662360"/>
          </a:xfrm>
          <a:custGeom>
            <a:avLst/>
            <a:gdLst>
              <a:gd name="textAreaLeft" fmla="*/ 227520 w 9144000"/>
              <a:gd name="textAreaRight" fmla="*/ 8916480 w 9144000"/>
              <a:gd name="textAreaTop" fmla="*/ 227520 h 4662360"/>
              <a:gd name="textAreaBottom" fmla="*/ 4434840 h 4662360"/>
            </a:gdLst>
            <a:ahLst/>
            <a:rect l="textAreaLeft" t="textAreaTop" r="textAreaRight" b="textAreaBottom"/>
            <a:pathLst>
              <a:path w="9144000" h="4662489">
                <a:moveTo>
                  <a:pt x="777081" y="0"/>
                </a:moveTo>
                <a:lnTo>
                  <a:pt x="777080" y="0"/>
                </a:lnTo>
                <a:cubicBezTo>
                  <a:pt x="777080" y="0"/>
                  <a:pt x="777080" y="0"/>
                  <a:pt x="777080" y="0"/>
                </a:cubicBezTo>
                <a:cubicBezTo>
                  <a:pt x="347910" y="0"/>
                  <a:pt x="-1" y="347911"/>
                  <a:pt x="-1" y="777081"/>
                </a:cubicBezTo>
                <a:lnTo>
                  <a:pt x="0" y="3885408"/>
                </a:lnTo>
                <a:cubicBezTo>
                  <a:pt x="0" y="3885408"/>
                  <a:pt x="0" y="3885408"/>
                  <a:pt x="0" y="3885408"/>
                </a:cubicBezTo>
                <a:cubicBezTo>
                  <a:pt x="0" y="4314578"/>
                  <a:pt x="347911" y="4662490"/>
                  <a:pt x="777081" y="4662490"/>
                </a:cubicBezTo>
                <a:lnTo>
                  <a:pt x="8366919" y="4662489"/>
                </a:lnTo>
                <a:cubicBezTo>
                  <a:pt x="8796088" y="4662488"/>
                  <a:pt x="9144000" y="4314577"/>
                  <a:pt x="9144000" y="3885408"/>
                </a:cubicBezTo>
                <a:lnTo>
                  <a:pt x="9144000" y="777081"/>
                </a:lnTo>
                <a:cubicBezTo>
                  <a:pt x="9144000" y="347911"/>
                  <a:pt x="8796088" y="0"/>
                  <a:pt x="8366919" y="0"/>
                </a:cubicBezTo>
                <a:close/>
              </a:path>
            </a:pathLst>
          </a:custGeom>
          <a:solidFill>
            <a:srgbClr val="000000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Rounded Rectangle 14"/>
          <p:cNvSpPr/>
          <p:nvPr/>
        </p:nvSpPr>
        <p:spPr>
          <a:xfrm>
            <a:off x="1963800" y="5745240"/>
            <a:ext cx="7089840" cy="779400"/>
          </a:xfrm>
          <a:prstGeom prst="pi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Stability of the financial system, access to financial services, job creation, development of micro, small and medium enterprises, etc.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Rounded Rectangle 15"/>
          <p:cNvSpPr/>
          <p:nvPr/>
        </p:nvSpPr>
        <p:spPr>
          <a:xfrm>
            <a:off x="133200" y="5732640"/>
            <a:ext cx="1694160" cy="747360"/>
          </a:xfrm>
          <a:prstGeom prst="pi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Inter disciplinary questions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" name="Rounded Rectangle 16"/>
          <p:cNvSpPr/>
          <p:nvPr/>
        </p:nvSpPr>
        <p:spPr>
          <a:xfrm>
            <a:off x="0" y="1038240"/>
            <a:ext cx="9144000" cy="4662360"/>
          </a:xfrm>
          <a:custGeom>
            <a:avLst/>
            <a:gdLst>
              <a:gd name="textAreaLeft" fmla="*/ 227520 w 9144000"/>
              <a:gd name="textAreaRight" fmla="*/ 8916480 w 9144000"/>
              <a:gd name="textAreaTop" fmla="*/ 227520 h 4662360"/>
              <a:gd name="textAreaBottom" fmla="*/ 4434840 h 4662360"/>
            </a:gdLst>
            <a:ahLst/>
            <a:rect l="textAreaLeft" t="textAreaTop" r="textAreaRight" b="textAreaBottom"/>
            <a:pathLst>
              <a:path w="9144000" h="4662489">
                <a:moveTo>
                  <a:pt x="777081" y="0"/>
                </a:moveTo>
                <a:lnTo>
                  <a:pt x="777080" y="0"/>
                </a:lnTo>
                <a:cubicBezTo>
                  <a:pt x="777080" y="0"/>
                  <a:pt x="777080" y="0"/>
                  <a:pt x="777080" y="0"/>
                </a:cubicBezTo>
                <a:cubicBezTo>
                  <a:pt x="347910" y="0"/>
                  <a:pt x="-1" y="347911"/>
                  <a:pt x="-1" y="777081"/>
                </a:cubicBezTo>
                <a:lnTo>
                  <a:pt x="0" y="3885408"/>
                </a:lnTo>
                <a:cubicBezTo>
                  <a:pt x="0" y="3885408"/>
                  <a:pt x="0" y="3885408"/>
                  <a:pt x="0" y="3885408"/>
                </a:cubicBezTo>
                <a:cubicBezTo>
                  <a:pt x="0" y="4314578"/>
                  <a:pt x="347911" y="4662490"/>
                  <a:pt x="777081" y="4662490"/>
                </a:cubicBezTo>
                <a:lnTo>
                  <a:pt x="8366919" y="4662489"/>
                </a:lnTo>
                <a:cubicBezTo>
                  <a:pt x="8796088" y="4662488"/>
                  <a:pt x="9144000" y="4314577"/>
                  <a:pt x="9144000" y="3885408"/>
                </a:cubicBezTo>
                <a:lnTo>
                  <a:pt x="9144000" y="777081"/>
                </a:lnTo>
                <a:cubicBezTo>
                  <a:pt x="9144000" y="347911"/>
                  <a:pt x="8796088" y="0"/>
                  <a:pt x="8366919" y="0"/>
                </a:cubicBezTo>
                <a:close/>
              </a:path>
            </a:pathLst>
          </a:custGeom>
          <a:solidFill>
            <a:srgbClr val="ffffff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1873080" y="1338120"/>
            <a:ext cx="7075800" cy="1476360"/>
          </a:xfrm>
          <a:prstGeom prst="rect">
            <a:avLst/>
          </a:prstGeom>
          <a:solidFill>
            <a:srgbClr val="ffffff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32323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3232"/>
                </a:solidFill>
                <a:latin typeface="Calibri"/>
              </a:rPr>
              <a:t>Client protection regulation and supervisio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2323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3232"/>
                </a:solidFill>
                <a:latin typeface="Calibri"/>
              </a:rPr>
              <a:t>Norms and codes of conduct for the industr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2323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3232"/>
                </a:solidFill>
                <a:latin typeface="Calibri"/>
              </a:rPr>
              <a:t>Financial education for client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" name="Rounded Rectangle 18"/>
          <p:cNvSpPr/>
          <p:nvPr/>
        </p:nvSpPr>
        <p:spPr>
          <a:xfrm>
            <a:off x="1963800" y="3121200"/>
            <a:ext cx="2189160" cy="1784160"/>
          </a:xfrm>
          <a:prstGeom prst="pie">
            <a:avLst/>
          </a:prstGeom>
          <a:solidFill>
            <a:srgbClr val="ffffff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23232"/>
                </a:solidFill>
                <a:latin typeface="Calibri"/>
              </a:rPr>
              <a:t>Regulators (Central Banks, Governments, Client protection agencies) clients)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" name="Rounded Rectangle 19"/>
          <p:cNvSpPr/>
          <p:nvPr/>
        </p:nvSpPr>
        <p:spPr>
          <a:xfrm>
            <a:off x="4302000" y="3124080"/>
            <a:ext cx="2338560" cy="1825920"/>
          </a:xfrm>
          <a:prstGeom prst="pie">
            <a:avLst/>
          </a:prstGeom>
          <a:solidFill>
            <a:srgbClr val="ffffff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23232"/>
                </a:solidFill>
                <a:latin typeface="Calibri"/>
              </a:rPr>
              <a:t>Codes of conduct, voluntary involvement of financial service providers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" name="Rounded Rectangle 20"/>
          <p:cNvSpPr/>
          <p:nvPr/>
        </p:nvSpPr>
        <p:spPr>
          <a:xfrm>
            <a:off x="6805440" y="3151080"/>
            <a:ext cx="2189160" cy="1798920"/>
          </a:xfrm>
          <a:prstGeom prst="pie">
            <a:avLst/>
          </a:prstGeom>
          <a:solidFill>
            <a:srgbClr val="ffffff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23232"/>
                </a:solidFill>
                <a:latin typeface="Calibri"/>
              </a:rPr>
              <a:t>Clients (individuals or entreprises) and client protection agencies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" name="Rounded Rectangle 21"/>
          <p:cNvSpPr/>
          <p:nvPr/>
        </p:nvSpPr>
        <p:spPr>
          <a:xfrm>
            <a:off x="120600" y="1352520"/>
            <a:ext cx="1603440" cy="1500120"/>
          </a:xfrm>
          <a:prstGeom prst="pie">
            <a:avLst/>
          </a:prstGeom>
          <a:solidFill>
            <a:srgbClr val="ffffff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23232"/>
                </a:solidFill>
                <a:latin typeface="Verdana"/>
              </a:rPr>
              <a:t>3 pillars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Rounded Rectangle 22"/>
          <p:cNvSpPr/>
          <p:nvPr/>
        </p:nvSpPr>
        <p:spPr>
          <a:xfrm>
            <a:off x="120600" y="3124080"/>
            <a:ext cx="1677960" cy="2246400"/>
          </a:xfrm>
          <a:prstGeom prst="pie">
            <a:avLst/>
          </a:prstGeom>
          <a:solidFill>
            <a:srgbClr val="ffffff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23232"/>
                </a:solidFill>
                <a:latin typeface="Verdana"/>
              </a:rPr>
              <a:t>Actors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Rounded Rectangle 23"/>
          <p:cNvSpPr/>
          <p:nvPr/>
        </p:nvSpPr>
        <p:spPr>
          <a:xfrm>
            <a:off x="1994040" y="5114880"/>
            <a:ext cx="6894360" cy="300240"/>
          </a:xfrm>
          <a:prstGeom prst="pie">
            <a:avLst/>
          </a:prstGeom>
          <a:solidFill>
            <a:srgbClr val="ffffff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3232"/>
                </a:solidFill>
                <a:latin typeface="Verdana"/>
              </a:rPr>
              <a:t>Technical and financial partner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5" name="Picture 2" descr="http://www.furniturehomedesign.com/wp-content/uploads/2009/02/prism-repurposed-walnut-stool.jpg"/>
          <p:cNvPicPr/>
          <p:nvPr/>
        </p:nvPicPr>
        <p:blipFill>
          <a:blip r:embed="rId1"/>
          <a:stretch/>
        </p:blipFill>
        <p:spPr>
          <a:xfrm>
            <a:off x="411120" y="1830240"/>
            <a:ext cx="946080" cy="8812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8560" y="188640"/>
            <a:ext cx="320508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ent Protection: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 pillars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58560" y="189000"/>
            <a:ext cx="32418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Client Protection Principles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39640" y="162828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477360" indent="-390600">
              <a:spcAft>
                <a:spcPts val="2401"/>
              </a:spcAft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  <a:ea typeface="Helvetica Neue"/>
              </a:rPr>
              <a:t>Appropriate product design and delivery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77360" indent="-390600">
              <a:spcAft>
                <a:spcPts val="2401"/>
              </a:spcAft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  <a:ea typeface="Helvetica Neue"/>
              </a:rPr>
              <a:t>Prevention of over-indebtednes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77360" indent="-390600">
              <a:spcAft>
                <a:spcPts val="2401"/>
              </a:spcAft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  <a:ea typeface="Helvetica Neue"/>
              </a:rPr>
              <a:t>Transparenc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77360" indent="-390600">
              <a:spcAft>
                <a:spcPts val="2401"/>
              </a:spcAft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  <a:ea typeface="Helvetica Neue"/>
              </a:rPr>
              <a:t>Responsible pricin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77360" indent="-390600">
              <a:spcAft>
                <a:spcPts val="2401"/>
              </a:spcAft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  <a:ea typeface="Helvetica Neue"/>
              </a:rPr>
              <a:t>Fair and respectful treatment of client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77360" indent="-390600">
              <a:spcAft>
                <a:spcPts val="2401"/>
              </a:spcAft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  <a:ea typeface="Helvetica Neue"/>
              </a:rPr>
              <a:t>Privacy of clients data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77360" indent="-390600">
              <a:spcAft>
                <a:spcPts val="2401"/>
              </a:spcAft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  <a:ea typeface="Helvetica Neue"/>
              </a:rPr>
              <a:t>Mechanisms for complaint resolut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77360" indent="-39060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8560" y="189000"/>
            <a:ext cx="32418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Client Protection Standards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24000" y="1628640"/>
          <a:ext cx="8424720" cy="4486320"/>
        </p:xfrm>
        <a:graphic>
          <a:graphicData uri="http://schemas.openxmlformats.org/drawingml/2006/table">
            <a:tbl>
              <a:tblPr/>
              <a:tblGrid>
                <a:gridCol w="1757160"/>
                <a:gridCol w="6667560"/>
              </a:tblGrid>
              <a:tr h="1122480"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ppropriate Product Design and Delivery Channels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 FI designs products that are appropriate to client needs and do no harm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 FI seeks client feedback for product design and delivery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FI does not have aggressive sales techniques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3840"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evention of Over-indebtedness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FI conducts appropriate client repayment capacity analysis before disbursing a loan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 FI incentivizes quality loans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ff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The FI uses credit bureau and competitor data, as feasible in local context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FI Management and Board is aware of and concerned about the risk of over-indebtedness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FI's internal audit department monitors that policies to prevent over-indebtedness are applie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 FI avoids dangerous commercial practices (i.e., combining loan products to meet the same need, or restricting the loan use; sets prudent limits to allow for the renewal of a loan in case of early repayment; sets guidelines for appropriate rescheduling policies)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58560" y="189000"/>
            <a:ext cx="32418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Client Protection Standards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95280" y="1844640"/>
          <a:ext cx="8424720" cy="2803680"/>
        </p:xfrm>
        <a:graphic>
          <a:graphicData uri="http://schemas.openxmlformats.org/drawingml/2006/table">
            <a:tbl>
              <a:tblPr/>
              <a:tblGrid>
                <a:gridCol w="1757520"/>
                <a:gridCol w="6667200"/>
              </a:tblGrid>
              <a:tr h="1963800"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arency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ff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The FI fully discloses cost and non-cost information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FI communicates proactively with clients in a way that clients can easily understand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FI uses a variety of disclosure mechanisms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 FI leaves adequate time for client review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and discloses at multiple times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 FI 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vides accurate and timely account informatio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sponsible Pricing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 FI offers market-based, non-discriminatory pricing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FI’s efficiency is in line with its peers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FI does not use excessive penalty fee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189000"/>
            <a:ext cx="32418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Client Protection Standards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95280" y="1557360"/>
          <a:ext cx="8424720" cy="3363840"/>
        </p:xfrm>
        <a:graphic>
          <a:graphicData uri="http://schemas.openxmlformats.org/drawingml/2006/table">
            <a:tbl>
              <a:tblPr/>
              <a:tblGrid>
                <a:gridCol w="1757520"/>
                <a:gridCol w="6667200"/>
              </a:tblGrid>
              <a:tr h="3363840"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ir and Respectful Treatment of Clients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FI culture raises awareness and concern about fair and responsible treatment of clients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ff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he FI has defined in specific detail what it considers to be appropriate debt collection practices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FI's HE policies (recruitment, training) are aligned around fair and responsible treatment of clients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FI implements policies to promote ethics and prevent fraud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 selection and treatment of clients, the FI does not discriminate inappropriately against certain categories of clients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-house and 3rd party collections staff are expected to follow the same practices as the FI staff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 FI informs clients of their rights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8560" y="189000"/>
            <a:ext cx="32418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Client Protection Standards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95280" y="1844640"/>
          <a:ext cx="8424720" cy="1963800"/>
        </p:xfrm>
        <a:graphic>
          <a:graphicData uri="http://schemas.openxmlformats.org/drawingml/2006/table">
            <a:tbl>
              <a:tblPr/>
              <a:tblGrid>
                <a:gridCol w="1757520"/>
                <a:gridCol w="6667200"/>
              </a:tblGrid>
              <a:tr h="841320"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ivacy of Client Data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FI has a privacy policy and appropriate technology systems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ff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The FI informs clients about when and how their data is shared and gets their consent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2480"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chanisms for Complaints Resolution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FI's clients are aware of how to submit complaints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FI's staff is trained to handle complaints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FI's complaints resolution system is active and effective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FI uses client feedback to improv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practices and products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0:39:38Z</dcterms:created>
  <dc:creator>Martin Kinsella</dc:creator>
  <dc:description/>
  <dc:language>en-US</dc:language>
  <cp:lastModifiedBy>ibarres</cp:lastModifiedBy>
  <dcterms:modified xsi:type="dcterms:W3CDTF">2012-11-20T15:45:56Z</dcterms:modified>
  <cp:revision>23</cp:revision>
  <dc:subject/>
  <dc:title>Slide 1</dc:title>
</cp:coreProperties>
</file>