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Flexibility and Discipli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in Microfina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ovember 3, 201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arolina Laure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ERMi (UMONS and ULB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-Author: Michael Hamp (IFAD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000" y="1700280"/>
            <a:ext cx="7661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The Pap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earch ques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oor needs a mix of flexibility and discipline for better money management (Collins et al., 2009)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earch gap: which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ciplining mechanisms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uld be associated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inancial product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?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Literature review (donors reports, MFIs websites, articles, news, mostly on the interne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9 innovative financial products combining flexibility with disciplining de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000" y="1700280"/>
            <a:ext cx="7661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The 9 products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1" name="Immagine 3" descr=""/>
          <p:cNvPicPr/>
          <p:nvPr/>
        </p:nvPicPr>
        <p:blipFill>
          <a:blip r:embed="rId1"/>
          <a:stretch/>
        </p:blipFill>
        <p:spPr>
          <a:xfrm>
            <a:off x="0" y="2484360"/>
            <a:ext cx="914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2205000"/>
            <a:ext cx="766116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Disciplining mechanis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formation-intensive mechanism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Intensify direct screening and monitoring of clients (Confianza, SafeSave, BAAC, IASC, Susu+BB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e san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Play on the sanction, e.g. collateral, interest rate, fees for early withdrawal or prepayment (Confianza, Safesafe, BAAC, IASC, VSSU), reward (BRI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oft commit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upport planning, reminders (Mamakiba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000" y="2205000"/>
            <a:ext cx="766116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Costs for the MF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Direct screening and monitor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ash flow m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isk of staff frau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Arrea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000" y="1989000"/>
            <a:ext cx="766116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lexibility and discipline can match…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he focus should be on creating innovative disciplining mechanism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hat works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h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“sanction”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is a key variable…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uture research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lients preferences for various mix of flex and discipli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ize of the penalty and risk-ration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Operative costs for MFIs. How much? Who pays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1989000"/>
            <a:ext cx="77342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Disciplining mechanisms encourage that payments are duly made on time (e.g., savings deposits, loan repayment, insurance premiu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E.g. </a:t>
            </a:r>
            <a:r>
              <a:rPr b="0" lang="fr-BE" sz="1800" spc="-1" strike="noStrike">
                <a:solidFill>
                  <a:srgbClr val="ff0000"/>
                </a:solidFill>
                <a:latin typeface="Arial"/>
              </a:rPr>
              <a:t>Frequent and regular payment schedu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Screening safer clients (Jain and Mansuri, 2003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onstant monitoring (Armendariz and Morduch, 201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Reducing the temptation (Fisher and Ghatak, 201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Increasing attention (Basu, 2008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Disciplining mechanisms in microfinance should be poor-inclusive and cost-effec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1200" y="2201760"/>
            <a:ext cx="8021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Flexible products serves for consumption smoothing and coping with shock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Easy-to-access loan from family in case of emergencies (Collins et al., 2009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Informal sector provide partial insurance for the lower collateral requirement (Boucher and Guirkinger, 2007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Contingent repayment helps during natural disaster (Shoji, 201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Flexible loan payments help consumption smoothing (Czura et al., forthcoming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Flexible banking account are used for coping with shocks (Prina, forthcoming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5"/>
          <p:cNvSpPr/>
          <p:nvPr/>
        </p:nvSpPr>
        <p:spPr>
          <a:xfrm>
            <a:off x="1692360" y="1916280"/>
            <a:ext cx="5688000" cy="45972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Loan with equal and frequent pay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7" name="Immagine 2" descr=""/>
          <p:cNvPicPr/>
          <p:nvPr/>
        </p:nvPicPr>
        <p:blipFill>
          <a:blip r:embed="rId1"/>
          <a:stretch/>
        </p:blipFill>
        <p:spPr>
          <a:xfrm>
            <a:off x="2135160" y="3036960"/>
            <a:ext cx="45975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5"/>
          <p:cNvSpPr/>
          <p:nvPr/>
        </p:nvSpPr>
        <p:spPr>
          <a:xfrm>
            <a:off x="1692360" y="1916280"/>
            <a:ext cx="5688000" cy="45972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Loan with grace perio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9" name="Immagine 3" descr=""/>
          <p:cNvPicPr/>
          <p:nvPr/>
        </p:nvPicPr>
        <p:blipFill>
          <a:blip r:embed="rId1"/>
          <a:stretch/>
        </p:blipFill>
        <p:spPr>
          <a:xfrm>
            <a:off x="2273400" y="3181320"/>
            <a:ext cx="45972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5"/>
          <p:cNvSpPr/>
          <p:nvPr/>
        </p:nvSpPr>
        <p:spPr>
          <a:xfrm>
            <a:off x="1187280" y="1916280"/>
            <a:ext cx="6913800" cy="45972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Loan with varying disbursements and pay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1" name="Immagine 8" descr=""/>
          <p:cNvPicPr/>
          <p:nvPr/>
        </p:nvPicPr>
        <p:blipFill>
          <a:blip r:embed="rId1"/>
          <a:stretch/>
        </p:blipFill>
        <p:spPr>
          <a:xfrm>
            <a:off x="2273400" y="3141720"/>
            <a:ext cx="4597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4" descr=""/>
          <p:cNvPicPr/>
          <p:nvPr/>
        </p:nvPicPr>
        <p:blipFill>
          <a:blip r:embed="rId1"/>
          <a:stretch/>
        </p:blipFill>
        <p:spPr>
          <a:xfrm>
            <a:off x="2273400" y="3141720"/>
            <a:ext cx="4597200" cy="2768400"/>
          </a:xfrm>
          <a:prstGeom prst="rect">
            <a:avLst/>
          </a:prstGeom>
          <a:ln w="0">
            <a:noFill/>
          </a:ln>
        </p:spPr>
      </p:pic>
      <p:sp>
        <p:nvSpPr>
          <p:cNvPr id="53" name="Explosion 1 23"/>
          <p:cNvSpPr/>
          <p:nvPr/>
        </p:nvSpPr>
        <p:spPr>
          <a:xfrm>
            <a:off x="6084720" y="2205000"/>
            <a:ext cx="2808360" cy="2232000"/>
          </a:xfrm>
          <a:prstGeom prst="irregularSeal1">
            <a:avLst/>
          </a:prstGeom>
          <a:solidFill>
            <a:srgbClr val="cc9900">
              <a:alpha val="12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ZoneTexte 21"/>
          <p:cNvSpPr/>
          <p:nvPr/>
        </p:nvSpPr>
        <p:spPr>
          <a:xfrm>
            <a:off x="6588000" y="28861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A shock occur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in time 6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1187280" y="1916280"/>
            <a:ext cx="6913800" cy="459720"/>
          </a:xfrm>
          <a:prstGeom prst="rect">
            <a:avLst/>
          </a:prstGeom>
          <a:solidFill>
            <a:srgbClr val="ff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Repayments are rescheduled after the sho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Immagine 2" descr=""/>
          <p:cNvPicPr/>
          <p:nvPr/>
        </p:nvPicPr>
        <p:blipFill>
          <a:blip r:embed="rId1"/>
          <a:stretch/>
        </p:blipFill>
        <p:spPr>
          <a:xfrm>
            <a:off x="2273400" y="3141720"/>
            <a:ext cx="4597200" cy="2768400"/>
          </a:xfrm>
          <a:prstGeom prst="rect">
            <a:avLst/>
          </a:prstGeom>
          <a:ln w="0">
            <a:noFill/>
          </a:ln>
        </p:spPr>
      </p:pic>
      <p:sp>
        <p:nvSpPr>
          <p:cNvPr id="57" name="Explosion 1 23"/>
          <p:cNvSpPr/>
          <p:nvPr/>
        </p:nvSpPr>
        <p:spPr>
          <a:xfrm>
            <a:off x="6084720" y="2205000"/>
            <a:ext cx="2808360" cy="2232000"/>
          </a:xfrm>
          <a:prstGeom prst="irregularSeal1">
            <a:avLst/>
          </a:prstGeom>
          <a:solidFill>
            <a:srgbClr val="cc9900">
              <a:alpha val="12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ZoneTexte 21"/>
          <p:cNvSpPr/>
          <p:nvPr/>
        </p:nvSpPr>
        <p:spPr>
          <a:xfrm>
            <a:off x="6588000" y="28861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A shock occur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in time 6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1-21T18:09:45Z</dcterms:modified>
  <cp:revision>134</cp:revision>
  <dc:subject/>
  <dc:title>Slide 1</dc:title>
</cp:coreProperties>
</file>