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"/>
              </a:rPr>
              <a:t>Client Needs: What do we know (and how do we Reach the Poorest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Arial"/>
              </a:rPr>
              <a:t>Chris Pain, </a:t>
            </a:r>
            <a:br>
              <a:rPr sz="2000"/>
            </a:br>
            <a:r>
              <a:rPr b="0" lang="fr-FR" sz="2000" spc="-1" strike="noStrike">
                <a:solidFill>
                  <a:srgbClr val="00b050"/>
                </a:solidFill>
                <a:latin typeface="Arial"/>
              </a:rPr>
              <a:t>Social and Economic Development Unit, Concern Worldwi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769080" y="44280"/>
            <a:ext cx="16826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b050"/>
                </a:solidFill>
                <a:latin typeface="Arial"/>
              </a:rPr>
              <a:t>Where does the complementarity between Concern and Agora Emerg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8360" y="2276640"/>
          <a:ext cx="8351640" cy="3889080"/>
        </p:xfrm>
        <a:graphic>
          <a:graphicData uri="http://schemas.openxmlformats.org/drawingml/2006/table">
            <a:tbl>
              <a:tblPr/>
              <a:tblGrid>
                <a:gridCol w="1295280"/>
                <a:gridCol w="2352600"/>
                <a:gridCol w="2351160"/>
                <a:gridCol w="2352600"/>
              </a:tblGrid>
              <a:tr h="2314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V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ari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4792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ased on wealth ranking, equality, vulnerabili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epth of outreac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rogramme participants and MFI clients pools overlap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381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s/ Deman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ocus on the basic needs and capacity to generate income to access basic service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ocus on the need to better manage finances: demand for a range of appropriate financial service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mooth consumption and increase incom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8084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ing Powe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rogramme participants may be unable to pay for the goods and service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lients are able to pay for appropriate financial service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rovide resources that help sustain and develop purchasing powe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39068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li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ddressing practical needs (basics of life) and strategic interests (power, control, legal rights….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tarting operations where financial inclusion is the lowest; providing equitable access to  appropriate products to different client group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ocial performance Management – not just access to credit but </a:t>
                      </a: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lients </a:t>
                      </a: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have the potential to transform power relations and empower the poo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b050"/>
                </a:solidFill>
                <a:latin typeface="Arial"/>
              </a:rPr>
              <a:t>Where does the complementarity between Concern and Agora Emerg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2276640"/>
          <a:ext cx="8351640" cy="2808000"/>
        </p:xfrm>
        <a:graphic>
          <a:graphicData uri="http://schemas.openxmlformats.org/drawingml/2006/table">
            <a:tbl>
              <a:tblPr/>
              <a:tblGrid>
                <a:gridCol w="1295280"/>
                <a:gridCol w="2352600"/>
                <a:gridCol w="2351160"/>
                <a:gridCol w="2352600"/>
              </a:tblGrid>
              <a:tr h="25560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V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ari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6644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ocus on human, social, physical, natural and financial asset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ocus on financial asset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FIs are one group of partners that Concern works wit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2765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0% returns on programme participants’ assets stay with programme participant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inancial costs are charged to programme participants for the use of service; both client and MFI sustainability are considere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oth focus on graduating and maintaining the poor to above extreme poverty / food poverty li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0940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and vulnerabili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RR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lient protecti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 txBox="1"/>
          <p:nvPr/>
        </p:nvSpPr>
        <p:spPr>
          <a:xfrm>
            <a:off x="539280" y="5516640"/>
            <a:ext cx="820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e have very common areas of interest, but often use different langu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468360" y="1536480"/>
            <a:ext cx="7350120" cy="4841280"/>
            <a:chOff x="468360" y="1536480"/>
            <a:chExt cx="7350120" cy="4841280"/>
          </a:xfrm>
        </p:grpSpPr>
        <p:sp>
          <p:nvSpPr>
            <p:cNvPr id="45" name="Circular Arrow 13"/>
            <p:cNvSpPr/>
            <p:nvPr/>
          </p:nvSpPr>
          <p:spPr>
            <a:xfrm rot="16200000">
              <a:off x="2085840" y="512640"/>
              <a:ext cx="4400640" cy="7064640"/>
            </a:xfrm>
            <a:custGeom>
              <a:avLst/>
              <a:gdLst/>
              <a:ahLst/>
              <a:rect l="l" t="t" r="r" b="b"/>
              <a:pathLst>
                <a:path w="4400550" h="7064375">
                  <a:moveTo>
                    <a:pt x="273932" y="3305572"/>
                  </a:moveTo>
                  <a:cubicBezTo>
                    <a:pt x="334335" y="1839526"/>
                    <a:pt x="967284" y="622618"/>
                    <a:pt x="1819960" y="333180"/>
                  </a:cubicBezTo>
                  <a:cubicBezTo>
                    <a:pt x="2853048" y="-17500"/>
                    <a:pt x="3861769" y="1096038"/>
                    <a:pt x="4086752" y="2835517"/>
                  </a:cubicBezTo>
                  <a:lnTo>
                    <a:pt x="4352137" y="2787319"/>
                  </a:lnTo>
                  <a:lnTo>
                    <a:pt x="3946762" y="3215005"/>
                  </a:lnTo>
                  <a:lnTo>
                    <a:pt x="3477445" y="2946174"/>
                  </a:lnTo>
                  <a:lnTo>
                    <a:pt x="3742891" y="2897966"/>
                  </a:lnTo>
                  <a:cubicBezTo>
                    <a:pt x="3548983" y="1296503"/>
                    <a:pt x="2675757" y="306184"/>
                    <a:pt x="1812512" y="708739"/>
                  </a:cubicBezTo>
                  <a:cubicBezTo>
                    <a:pt x="1147270" y="1018960"/>
                    <a:pt x="666660" y="2084719"/>
                    <a:pt x="622940" y="3346629"/>
                  </a:cubicBezTo>
                  <a:lnTo>
                    <a:pt x="273932" y="3305572"/>
                  </a:lnTo>
                  <a:close/>
                </a:path>
              </a:pathLst>
            </a:cu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6" name="Circular Arrow 11"/>
            <p:cNvSpPr/>
            <p:nvPr/>
          </p:nvSpPr>
          <p:spPr>
            <a:xfrm rot="5620200">
              <a:off x="1933920" y="424800"/>
              <a:ext cx="4399200" cy="7064640"/>
            </a:xfrm>
            <a:custGeom>
              <a:avLst/>
              <a:gdLst/>
              <a:ahLst/>
              <a:rect l="l" t="t" r="r" b="b"/>
              <a:pathLst>
                <a:path w="4398962" h="7064375">
                  <a:moveTo>
                    <a:pt x="273830" y="3305653"/>
                  </a:moveTo>
                  <a:cubicBezTo>
                    <a:pt x="334185" y="1839620"/>
                    <a:pt x="966840" y="622678"/>
                    <a:pt x="1819161" y="333133"/>
                  </a:cubicBezTo>
                  <a:cubicBezTo>
                    <a:pt x="2851976" y="-17728"/>
                    <a:pt x="3860468" y="1095999"/>
                    <a:pt x="4085312" y="2835755"/>
                  </a:cubicBezTo>
                  <a:lnTo>
                    <a:pt x="4350599" y="2787575"/>
                  </a:lnTo>
                  <a:lnTo>
                    <a:pt x="3945345" y="3215118"/>
                  </a:lnTo>
                  <a:lnTo>
                    <a:pt x="3476223" y="2946372"/>
                  </a:lnTo>
                  <a:lnTo>
                    <a:pt x="3741572" y="2898182"/>
                  </a:lnTo>
                  <a:cubicBezTo>
                    <a:pt x="3547789" y="1296342"/>
                    <a:pt x="2674728" y="305789"/>
                    <a:pt x="1811699" y="708596"/>
                  </a:cubicBezTo>
                  <a:cubicBezTo>
                    <a:pt x="1146758" y="1018948"/>
                    <a:pt x="666396" y="2084768"/>
                    <a:pt x="622713" y="3346696"/>
                  </a:cubicBezTo>
                  <a:lnTo>
                    <a:pt x="273830" y="3305653"/>
                  </a:lnTo>
                  <a:close/>
                </a:path>
              </a:pathLst>
            </a:cu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Left-Right Arrow 12"/>
            <p:cNvSpPr/>
            <p:nvPr/>
          </p:nvSpPr>
          <p:spPr>
            <a:xfrm>
              <a:off x="1942920" y="3729240"/>
              <a:ext cx="828720" cy="347400"/>
            </a:xfrm>
            <a:prstGeom prst="leftRightArrow">
              <a:avLst>
                <a:gd name="adj1" fmla="val 50000"/>
                <a:gd name="adj2" fmla="val 50040"/>
              </a:avLst>
            </a:pr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Left-Right Arrow 15"/>
            <p:cNvSpPr/>
            <p:nvPr/>
          </p:nvSpPr>
          <p:spPr>
            <a:xfrm>
              <a:off x="5292720" y="3716280"/>
              <a:ext cx="828720" cy="349200"/>
            </a:xfrm>
            <a:prstGeom prst="leftRightArrow">
              <a:avLst>
                <a:gd name="adj1" fmla="val 50000"/>
                <a:gd name="adj2" fmla="val 50013"/>
              </a:avLst>
            </a:pr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9" name="Group 16"/>
          <p:cNvGrpSpPr/>
          <p:nvPr/>
        </p:nvGrpSpPr>
        <p:grpSpPr>
          <a:xfrm>
            <a:off x="2916360" y="2781360"/>
            <a:ext cx="2303280" cy="2232000"/>
            <a:chOff x="2916360" y="2781360"/>
            <a:chExt cx="2303280" cy="2232000"/>
          </a:xfrm>
        </p:grpSpPr>
        <p:sp>
          <p:nvSpPr>
            <p:cNvPr id="50" name="Oval 5"/>
            <p:cNvSpPr/>
            <p:nvPr/>
          </p:nvSpPr>
          <p:spPr>
            <a:xfrm>
              <a:off x="2916360" y="2781360"/>
              <a:ext cx="2303280" cy="2232000"/>
            </a:xfrm>
            <a:prstGeom prst="ellipse">
              <a:avLst/>
            </a:prstGeom>
            <a:solidFill>
              <a:srgbClr val="d9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TextBox 6"/>
            <p:cNvSpPr/>
            <p:nvPr/>
          </p:nvSpPr>
          <p:spPr>
            <a:xfrm>
              <a:off x="3420000" y="299016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Low Assets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TextBox 8"/>
            <p:cNvSpPr/>
            <p:nvPr/>
          </p:nvSpPr>
          <p:spPr>
            <a:xfrm>
              <a:off x="3348000" y="4372200"/>
              <a:ext cx="158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Lack of Return on Assets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How Concern Understands Extreme Poverty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3564000" y="3429000"/>
            <a:ext cx="1008000" cy="1204920"/>
            <a:chOff x="3564000" y="3429000"/>
            <a:chExt cx="1008000" cy="1204920"/>
          </a:xfrm>
        </p:grpSpPr>
        <p:grpSp>
          <p:nvGrpSpPr>
            <p:cNvPr id="55" name="Oval 3"/>
            <p:cNvGrpSpPr/>
            <p:nvPr/>
          </p:nvGrpSpPr>
          <p:grpSpPr>
            <a:xfrm>
              <a:off x="3564000" y="3429000"/>
              <a:ext cx="1008000" cy="936720"/>
              <a:chOff x="3564000" y="3429000"/>
              <a:chExt cx="1008000" cy="936720"/>
            </a:xfrm>
          </p:grpSpPr>
          <p:pic>
            <p:nvPicPr>
              <p:cNvPr id="56" name="Ova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429000"/>
                <a:ext cx="100800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3905640" y="3761280"/>
                <a:ext cx="4348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58" name="TextBox 4"/>
            <p:cNvSpPr/>
            <p:nvPr/>
          </p:nvSpPr>
          <p:spPr>
            <a:xfrm>
              <a:off x="3859560" y="3778560"/>
              <a:ext cx="5274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Arial"/>
                </a:rPr>
                <a:t>Extremely Poor People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59" name="Picture 2" descr=""/>
          <p:cNvPicPr/>
          <p:nvPr/>
        </p:nvPicPr>
        <p:blipFill>
          <a:blip r:embed="rId2"/>
          <a:srcRect l="2306" t="39486" r="77718" b="28249"/>
          <a:stretch/>
        </p:blipFill>
        <p:spPr>
          <a:xfrm>
            <a:off x="684360" y="3284640"/>
            <a:ext cx="1168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7"/>
          <p:cNvGrpSpPr/>
          <p:nvPr/>
        </p:nvGrpSpPr>
        <p:grpSpPr>
          <a:xfrm>
            <a:off x="6227640" y="2997360"/>
            <a:ext cx="1873440" cy="1655640"/>
            <a:chOff x="6227640" y="2997360"/>
            <a:chExt cx="1873440" cy="1655640"/>
          </a:xfrm>
        </p:grpSpPr>
        <p:sp>
          <p:nvSpPr>
            <p:cNvPr id="61" name="Explosion 2 7"/>
            <p:cNvSpPr/>
            <p:nvPr/>
          </p:nvSpPr>
          <p:spPr>
            <a:xfrm>
              <a:off x="6227640" y="2997360"/>
              <a:ext cx="1873440" cy="165564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2" name="TextBox 10"/>
            <p:cNvSpPr/>
            <p:nvPr/>
          </p:nvSpPr>
          <p:spPr>
            <a:xfrm rot="19480200">
              <a:off x="6474960" y="3539520"/>
              <a:ext cx="1297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Risk and Vulnerability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How have we utilised this – to distinguish between countri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2276640"/>
          <a:ext cx="8136000" cy="3889080"/>
        </p:xfrm>
        <a:graphic>
          <a:graphicData uri="http://schemas.openxmlformats.org/drawingml/2006/table">
            <a:tbl>
              <a:tblPr/>
              <a:tblGrid>
                <a:gridCol w="1295640"/>
                <a:gridCol w="3419280"/>
                <a:gridCol w="3421080"/>
              </a:tblGrid>
              <a:tr h="320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ies in which we wor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ies in which we do not wor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47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tom </a:t>
                      </a:r>
                      <a:br>
                        <a:rPr sz="1400"/>
                      </a:b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fghanistan, Somalia, Sudan, Chad, DR Congo, Niger, Haiti,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entral African Republic, Angola, Eritre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46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tom </a:t>
                      </a:r>
                      <a:br>
                        <a:rPr sz="1400"/>
                      </a:b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– 20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ierra Leone, DPRK, Ethiopia, Zimbabw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uinea, Guinea Bissau, Yemen, Mali, Myanmar, Niger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45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tom </a:t>
                      </a:r>
                      <a:br>
                        <a:rPr sz="1400"/>
                      </a:b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– 3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urundi, Rwanda, Liberia, Bangladesh, Mozambiqu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ote d’Ivoire, Djibouti, Lesotho, Mauritania, Camero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6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tom </a:t>
                      </a:r>
                      <a:br>
                        <a:rPr sz="1400"/>
                      </a:b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– 4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Zambia, Uganda, Pakistan, Malawi; Keny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epal, Burkina Faso, Papua New Guinea, Madagascar, Senega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6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</a:t>
                      </a:r>
                      <a:br>
                        <a:rPr sz="1400"/>
                      </a:b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tom 4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ndia, Cambodia, Tanza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imor Leste, Gambia, Comoros, Togo, Benin, Ghan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How have we utilised this – to distinguish between countri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20903" r="0" b="0"/>
          <a:stretch/>
        </p:blipFill>
        <p:spPr>
          <a:xfrm>
            <a:off x="611280" y="2276640"/>
            <a:ext cx="712944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What does this mean at programme Level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280" y="2133360"/>
            <a:ext cx="4103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aching this target group will cost more and require a different type of program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=&gt;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 shift away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om sector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ased program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ulti Sectoral Series of Interventions, pulling in a number of elements of our wor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o make this work requires a multitude of skills – many of which we do not have – we need to work in partnershi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Straight Connector 4"/>
          <p:cNvSpPr/>
          <p:nvPr/>
        </p:nvSpPr>
        <p:spPr>
          <a:xfrm>
            <a:off x="5219640" y="4365720"/>
            <a:ext cx="344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70" name="Group 11"/>
          <p:cNvGrpSpPr/>
          <p:nvPr/>
        </p:nvGrpSpPr>
        <p:grpSpPr>
          <a:xfrm>
            <a:off x="4643280" y="2013120"/>
            <a:ext cx="4500720" cy="4273560"/>
            <a:chOff x="4643280" y="2013120"/>
            <a:chExt cx="4500720" cy="4273560"/>
          </a:xfrm>
        </p:grpSpPr>
        <p:pic>
          <p:nvPicPr>
            <p:cNvPr id="71" name="Chart 3" descr=""/>
            <p:cNvPicPr/>
            <p:nvPr/>
          </p:nvPicPr>
          <p:blipFill>
            <a:blip r:embed="rId1"/>
            <a:stretch/>
          </p:blipFill>
          <p:spPr>
            <a:xfrm>
              <a:off x="4643280" y="2420640"/>
              <a:ext cx="4178160" cy="32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4"/>
            <p:cNvSpPr/>
            <p:nvPr/>
          </p:nvSpPr>
          <p:spPr>
            <a:xfrm>
              <a:off x="4791960" y="5888160"/>
              <a:ext cx="4352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292929"/>
                  </a:solidFill>
                  <a:latin typeface="Arial"/>
                </a:rPr>
                <a:t>Source: </a:t>
              </a:r>
              <a:r>
                <a:rPr b="0" lang="en-IE" sz="1000" spc="-1" strike="noStrike">
                  <a:solidFill>
                    <a:srgbClr val="292929"/>
                  </a:solidFill>
                  <a:latin typeface="Arial"/>
                </a:rPr>
                <a:t>http://data.worldbank.org/indicator/SI.DST.02ND.20/countries?page=3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3" name="Title 1"/>
            <p:cNvSpPr/>
            <p:nvPr/>
          </p:nvSpPr>
          <p:spPr>
            <a:xfrm>
              <a:off x="4791960" y="2013120"/>
              <a:ext cx="42447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b050"/>
                  </a:solidFill>
                  <a:latin typeface="Arial"/>
                </a:rPr>
                <a:t>Income Distribution – Sierra Leone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74" name="Up-Down Arrow 8"/>
          <p:cNvSpPr/>
          <p:nvPr/>
        </p:nvSpPr>
        <p:spPr>
          <a:xfrm>
            <a:off x="5364000" y="4365720"/>
            <a:ext cx="144720" cy="431640"/>
          </a:xfrm>
          <a:prstGeom prst="upDownArrow">
            <a:avLst>
              <a:gd name="adj1" fmla="val 50000"/>
              <a:gd name="adj2" fmla="val 49710"/>
            </a:avLst>
          </a:prstGeom>
          <a:solidFill>
            <a:srgbClr val="85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Up-Down Arrow 12"/>
          <p:cNvSpPr/>
          <p:nvPr/>
        </p:nvSpPr>
        <p:spPr>
          <a:xfrm>
            <a:off x="6796080" y="4373640"/>
            <a:ext cx="115920" cy="135000"/>
          </a:xfrm>
          <a:prstGeom prst="upDownArrow">
            <a:avLst>
              <a:gd name="adj1" fmla="val 50000"/>
              <a:gd name="adj2" fmla="val 49834"/>
            </a:avLst>
          </a:prstGeom>
          <a:solidFill>
            <a:srgbClr val="85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2420640"/>
            <a:ext cx="7661520" cy="3459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rcRect l="3047" t="4058" r="3693" b="4346"/>
          <a:stretch/>
        </p:blipFill>
        <p:spPr>
          <a:xfrm>
            <a:off x="395280" y="1484280"/>
            <a:ext cx="820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7"/>
          <p:cNvSpPr/>
          <p:nvPr/>
        </p:nvSpPr>
        <p:spPr>
          <a:xfrm>
            <a:off x="3059280" y="52401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evel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TextBox 38"/>
          <p:cNvSpPr/>
          <p:nvPr/>
        </p:nvSpPr>
        <p:spPr>
          <a:xfrm>
            <a:off x="4354560" y="5240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evel Th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TextBox 39"/>
          <p:cNvSpPr/>
          <p:nvPr/>
        </p:nvSpPr>
        <p:spPr>
          <a:xfrm>
            <a:off x="5867280" y="52401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evel Fou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TextBox 40"/>
          <p:cNvSpPr/>
          <p:nvPr/>
        </p:nvSpPr>
        <p:spPr>
          <a:xfrm>
            <a:off x="7620120" y="52401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evel F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Right Arrow 42"/>
          <p:cNvSpPr/>
          <p:nvPr/>
        </p:nvSpPr>
        <p:spPr>
          <a:xfrm>
            <a:off x="2209680" y="5445000"/>
            <a:ext cx="1067040" cy="460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ccccc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Right Arrow 43"/>
          <p:cNvSpPr/>
          <p:nvPr/>
        </p:nvSpPr>
        <p:spPr>
          <a:xfrm>
            <a:off x="3733920" y="5445000"/>
            <a:ext cx="1066680" cy="4604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ccccc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Right Arrow 44"/>
          <p:cNvSpPr/>
          <p:nvPr/>
        </p:nvSpPr>
        <p:spPr>
          <a:xfrm>
            <a:off x="5334120" y="5445000"/>
            <a:ext cx="1066680" cy="4604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ccccc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Right Arrow 45"/>
          <p:cNvSpPr/>
          <p:nvPr/>
        </p:nvSpPr>
        <p:spPr>
          <a:xfrm>
            <a:off x="6858000" y="5445000"/>
            <a:ext cx="1066680" cy="4604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cccccc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TextBox 51"/>
          <p:cNvSpPr/>
          <p:nvPr/>
        </p:nvSpPr>
        <p:spPr>
          <a:xfrm>
            <a:off x="2286000" y="5551560"/>
            <a:ext cx="88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Calibri"/>
                <a:ea typeface="Calibri"/>
              </a:rPr>
              <a:t>12 month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TextBox 52"/>
          <p:cNvSpPr/>
          <p:nvPr/>
        </p:nvSpPr>
        <p:spPr>
          <a:xfrm>
            <a:off x="3809880" y="5551560"/>
            <a:ext cx="88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Calibri"/>
                <a:ea typeface="Calibri"/>
              </a:rPr>
              <a:t>6 month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TextBox 53"/>
          <p:cNvSpPr/>
          <p:nvPr/>
        </p:nvSpPr>
        <p:spPr>
          <a:xfrm>
            <a:off x="5410080" y="5551560"/>
            <a:ext cx="88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Calibri"/>
                <a:ea typeface="Calibri"/>
              </a:rPr>
              <a:t>6 month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TextBox 54"/>
          <p:cNvSpPr/>
          <p:nvPr/>
        </p:nvSpPr>
        <p:spPr>
          <a:xfrm>
            <a:off x="6875640" y="5551560"/>
            <a:ext cx="88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Calibri"/>
                <a:ea typeface="Calibri"/>
              </a:rPr>
              <a:t>6 month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Right Arrow 41"/>
          <p:cNvSpPr/>
          <p:nvPr/>
        </p:nvSpPr>
        <p:spPr>
          <a:xfrm>
            <a:off x="2209680" y="5950080"/>
            <a:ext cx="1067040" cy="458640"/>
          </a:xfrm>
          <a:prstGeom prst="rightArrow">
            <a:avLst>
              <a:gd name="adj1" fmla="val 50000"/>
              <a:gd name="adj2" fmla="val 50182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Right Arrow 46"/>
          <p:cNvSpPr/>
          <p:nvPr/>
        </p:nvSpPr>
        <p:spPr>
          <a:xfrm>
            <a:off x="3733920" y="5950080"/>
            <a:ext cx="1066680" cy="458640"/>
          </a:xfrm>
          <a:prstGeom prst="rightArrow">
            <a:avLst>
              <a:gd name="adj1" fmla="val 50000"/>
              <a:gd name="adj2" fmla="val 50165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Right Arrow 47"/>
          <p:cNvSpPr/>
          <p:nvPr/>
        </p:nvSpPr>
        <p:spPr>
          <a:xfrm>
            <a:off x="5334120" y="5950080"/>
            <a:ext cx="1066680" cy="458640"/>
          </a:xfrm>
          <a:prstGeom prst="rightArrow">
            <a:avLst>
              <a:gd name="adj1" fmla="val 50000"/>
              <a:gd name="adj2" fmla="val 50165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Right Arrow 48"/>
          <p:cNvSpPr/>
          <p:nvPr/>
        </p:nvSpPr>
        <p:spPr>
          <a:xfrm>
            <a:off x="6858000" y="5950080"/>
            <a:ext cx="1066680" cy="458640"/>
          </a:xfrm>
          <a:prstGeom prst="rightArrow">
            <a:avLst>
              <a:gd name="adj1" fmla="val 50000"/>
              <a:gd name="adj2" fmla="val 50165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Box 49"/>
          <p:cNvSpPr/>
          <p:nvPr/>
        </p:nvSpPr>
        <p:spPr>
          <a:xfrm>
            <a:off x="2268360" y="6040440"/>
            <a:ext cx="88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36 month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TextBox 50"/>
          <p:cNvSpPr/>
          <p:nvPr/>
        </p:nvSpPr>
        <p:spPr>
          <a:xfrm>
            <a:off x="3780000" y="6014880"/>
            <a:ext cx="88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6 month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Box 55"/>
          <p:cNvSpPr/>
          <p:nvPr/>
        </p:nvSpPr>
        <p:spPr>
          <a:xfrm>
            <a:off x="5410080" y="6014880"/>
            <a:ext cx="88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6 month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6875640" y="6040440"/>
            <a:ext cx="88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6 month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446040" y="55767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deal timefram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Box 57"/>
          <p:cNvSpPr/>
          <p:nvPr/>
        </p:nvSpPr>
        <p:spPr>
          <a:xfrm>
            <a:off x="382680" y="60102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otential timefram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TextBox 58"/>
          <p:cNvSpPr/>
          <p:nvPr/>
        </p:nvSpPr>
        <p:spPr>
          <a:xfrm>
            <a:off x="1746360" y="1590840"/>
            <a:ext cx="419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HH at this level have moved beyond vulnerability to poverty and have “sustainable livelihoods”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2" name="Group 77"/>
          <p:cNvGrpSpPr/>
          <p:nvPr/>
        </p:nvGrpSpPr>
        <p:grpSpPr>
          <a:xfrm>
            <a:off x="2028960" y="4575240"/>
            <a:ext cx="2916000" cy="552960"/>
            <a:chOff x="2028960" y="4575240"/>
            <a:chExt cx="2916000" cy="552960"/>
          </a:xfrm>
        </p:grpSpPr>
        <p:sp>
          <p:nvSpPr>
            <p:cNvPr id="103" name="TextBox 76"/>
            <p:cNvSpPr/>
            <p:nvPr/>
          </p:nvSpPr>
          <p:spPr>
            <a:xfrm>
              <a:off x="2522520" y="4608000"/>
              <a:ext cx="242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ll included in the programme are at this level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4" name="Hexagon 8"/>
            <p:cNvSpPr/>
            <p:nvPr/>
          </p:nvSpPr>
          <p:spPr>
            <a:xfrm>
              <a:off x="2028960" y="4575240"/>
              <a:ext cx="291960" cy="22284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5" name="Group 78"/>
          <p:cNvGrpSpPr/>
          <p:nvPr/>
        </p:nvGrpSpPr>
        <p:grpSpPr>
          <a:xfrm>
            <a:off x="77760" y="3403440"/>
            <a:ext cx="8380440" cy="1114200"/>
            <a:chOff x="77760" y="3403440"/>
            <a:chExt cx="8380440" cy="1114200"/>
          </a:xfrm>
        </p:grpSpPr>
        <p:sp>
          <p:nvSpPr>
            <p:cNvPr id="106" name="TextBox 32"/>
            <p:cNvSpPr/>
            <p:nvPr/>
          </p:nvSpPr>
          <p:spPr>
            <a:xfrm>
              <a:off x="77760" y="3708720"/>
              <a:ext cx="114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Poverty Line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7" name="Straight Connector 14"/>
            <p:cNvSpPr/>
            <p:nvPr/>
          </p:nvSpPr>
          <p:spPr>
            <a:xfrm flipV="1">
              <a:off x="2321640" y="3625920"/>
              <a:ext cx="1015920" cy="891720"/>
            </a:xfrm>
            <a:prstGeom prst="line">
              <a:avLst/>
            </a:prstGeom>
            <a:ln w="76320">
              <a:solidFill>
                <a:srgbClr val="d5d5b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8" name="Hexagon 12"/>
            <p:cNvSpPr/>
            <p:nvPr/>
          </p:nvSpPr>
          <p:spPr>
            <a:xfrm>
              <a:off x="3337560" y="3403440"/>
              <a:ext cx="291960" cy="22284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9" name="Straight Connector 25"/>
            <p:cNvSpPr/>
            <p:nvPr/>
          </p:nvSpPr>
          <p:spPr>
            <a:xfrm>
              <a:off x="1371960" y="4016520"/>
              <a:ext cx="7086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10" name="Group 68"/>
          <p:cNvGrpSpPr/>
          <p:nvPr/>
        </p:nvGrpSpPr>
        <p:grpSpPr>
          <a:xfrm>
            <a:off x="38160" y="1562040"/>
            <a:ext cx="8566200" cy="4098960"/>
            <a:chOff x="38160" y="1562040"/>
            <a:chExt cx="8566200" cy="4098960"/>
          </a:xfrm>
        </p:grpSpPr>
        <p:sp>
          <p:nvSpPr>
            <p:cNvPr id="111" name="TextBox 31"/>
            <p:cNvSpPr/>
            <p:nvPr/>
          </p:nvSpPr>
          <p:spPr>
            <a:xfrm>
              <a:off x="38160" y="4289400"/>
              <a:ext cx="1371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Survival Line (Food Poverty Line = All resources spent on consuming 2,100 kcal per day)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Straight Connector 6"/>
            <p:cNvSpPr/>
            <p:nvPr/>
          </p:nvSpPr>
          <p:spPr>
            <a:xfrm>
              <a:off x="1371600" y="5185800"/>
              <a:ext cx="7232760" cy="0"/>
            </a:xfrm>
            <a:prstGeom prst="line">
              <a:avLst/>
            </a:prstGeom>
            <a:ln w="381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3" name="Straight Connector 4"/>
            <p:cNvSpPr/>
            <p:nvPr/>
          </p:nvSpPr>
          <p:spPr>
            <a:xfrm>
              <a:off x="1371600" y="1562040"/>
              <a:ext cx="0" cy="3625920"/>
            </a:xfrm>
            <a:prstGeom prst="line">
              <a:avLst/>
            </a:prstGeom>
            <a:ln w="381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4" name="Straight Connector 29"/>
            <p:cNvSpPr/>
            <p:nvPr/>
          </p:nvSpPr>
          <p:spPr>
            <a:xfrm>
              <a:off x="1371600" y="4518720"/>
              <a:ext cx="7086600" cy="0"/>
            </a:xfrm>
            <a:prstGeom prst="line">
              <a:avLst/>
            </a:prstGeom>
            <a:ln w="38160">
              <a:solidFill>
                <a:srgbClr val="cc98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15" name="Group 79"/>
          <p:cNvGrpSpPr/>
          <p:nvPr/>
        </p:nvGrpSpPr>
        <p:grpSpPr>
          <a:xfrm>
            <a:off x="38160" y="2567160"/>
            <a:ext cx="8420040" cy="1020960"/>
            <a:chOff x="38160" y="2567160"/>
            <a:chExt cx="8420040" cy="1020960"/>
          </a:xfrm>
        </p:grpSpPr>
        <p:sp>
          <p:nvSpPr>
            <p:cNvPr id="116" name="TextBox 33"/>
            <p:cNvSpPr/>
            <p:nvPr/>
          </p:nvSpPr>
          <p:spPr>
            <a:xfrm>
              <a:off x="38160" y="30679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Livelihood Line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7" name="Hexagon 11"/>
            <p:cNvSpPr/>
            <p:nvPr/>
          </p:nvSpPr>
          <p:spPr>
            <a:xfrm>
              <a:off x="4552920" y="2567160"/>
              <a:ext cx="291960" cy="22284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8" name="Straight Connector 16"/>
            <p:cNvSpPr/>
            <p:nvPr/>
          </p:nvSpPr>
          <p:spPr>
            <a:xfrm flipV="1">
              <a:off x="3629880" y="2790000"/>
              <a:ext cx="810000" cy="613440"/>
            </a:xfrm>
            <a:prstGeom prst="line">
              <a:avLst/>
            </a:prstGeom>
            <a:ln w="76320">
              <a:solidFill>
                <a:srgbClr val="d5d5b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9" name="Straight Connector 30"/>
            <p:cNvSpPr/>
            <p:nvPr/>
          </p:nvSpPr>
          <p:spPr>
            <a:xfrm>
              <a:off x="1371600" y="3236400"/>
              <a:ext cx="7086600" cy="0"/>
            </a:xfrm>
            <a:prstGeom prst="line">
              <a:avLst/>
            </a:prstGeom>
            <a:ln w="381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20" name="Group 80"/>
          <p:cNvGrpSpPr/>
          <p:nvPr/>
        </p:nvGrpSpPr>
        <p:grpSpPr>
          <a:xfrm>
            <a:off x="38160" y="1562040"/>
            <a:ext cx="8420040" cy="1157400"/>
            <a:chOff x="38160" y="1562040"/>
            <a:chExt cx="8420040" cy="1157400"/>
          </a:xfrm>
        </p:grpSpPr>
        <p:sp>
          <p:nvSpPr>
            <p:cNvPr id="121" name="TextBox 34"/>
            <p:cNvSpPr/>
            <p:nvPr/>
          </p:nvSpPr>
          <p:spPr>
            <a:xfrm>
              <a:off x="38160" y="1986120"/>
              <a:ext cx="1295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sset Generation Line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2" name="Straight Connector 21"/>
            <p:cNvSpPr/>
            <p:nvPr/>
          </p:nvSpPr>
          <p:spPr>
            <a:xfrm flipV="1">
              <a:off x="6558840" y="1729440"/>
              <a:ext cx="1242000" cy="280080"/>
            </a:xfrm>
            <a:prstGeom prst="line">
              <a:avLst/>
            </a:prstGeom>
            <a:ln w="76320">
              <a:solidFill>
                <a:srgbClr val="d5d5b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3" name="Hexagon 9"/>
            <p:cNvSpPr/>
            <p:nvPr/>
          </p:nvSpPr>
          <p:spPr>
            <a:xfrm>
              <a:off x="7814160" y="1562040"/>
              <a:ext cx="291960" cy="223200"/>
            </a:xfrm>
            <a:prstGeom prst="hexagon">
              <a:avLst>
                <a:gd name="adj" fmla="val 24962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4" name="Hexagon 10"/>
            <p:cNvSpPr/>
            <p:nvPr/>
          </p:nvSpPr>
          <p:spPr>
            <a:xfrm>
              <a:off x="6266520" y="1952640"/>
              <a:ext cx="291960" cy="223200"/>
            </a:xfrm>
            <a:prstGeom prst="hexagon">
              <a:avLst>
                <a:gd name="adj" fmla="val 24962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95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5" name="Straight Connector 20"/>
            <p:cNvSpPr/>
            <p:nvPr/>
          </p:nvSpPr>
          <p:spPr>
            <a:xfrm flipV="1">
              <a:off x="4845240" y="2122560"/>
              <a:ext cx="1421280" cy="444240"/>
            </a:xfrm>
            <a:prstGeom prst="line">
              <a:avLst/>
            </a:prstGeom>
            <a:ln w="76320">
              <a:solidFill>
                <a:srgbClr val="d5d5b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6" name="Straight Connector 35"/>
            <p:cNvSpPr/>
            <p:nvPr/>
          </p:nvSpPr>
          <p:spPr>
            <a:xfrm>
              <a:off x="1371600" y="2511000"/>
              <a:ext cx="7086600" cy="0"/>
            </a:xfrm>
            <a:prstGeom prst="line">
              <a:avLst/>
            </a:prstGeom>
            <a:ln w="381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27" name="TextBox 36"/>
          <p:cNvSpPr/>
          <p:nvPr/>
        </p:nvSpPr>
        <p:spPr>
          <a:xfrm>
            <a:off x="1692360" y="5240160"/>
            <a:ext cx="87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evel 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28" name="Curved Connector 3"/>
          <p:cNvCxnSpPr>
            <a:stCxn id="117" idx="2"/>
            <a:endCxn id="108" idx="2"/>
          </p:cNvCxnSpPr>
          <p:nvPr/>
        </p:nvCxnSpPr>
        <p:spPr>
          <a:xfrm rot="5400000">
            <a:off x="3745080" y="2599560"/>
            <a:ext cx="837360" cy="1216800"/>
          </a:xfrm>
          <a:prstGeom prst="curvedConnector5">
            <a:avLst>
              <a:gd name="adj1" fmla="val 107268"/>
              <a:gd name="adj2" fmla="val 49985"/>
              <a:gd name="adj3" fmla="val 107268"/>
            </a:avLst>
          </a:prstGeom>
          <a:ln w="38160">
            <a:solidFill>
              <a:srgbClr val="cc9800"/>
            </a:solidFill>
            <a:prstDash val="sysDash"/>
            <a:miter/>
            <a:tailEnd len="med" type="arrow" w="med"/>
          </a:ln>
        </p:spPr>
      </p:cxnSp>
      <p:cxnSp>
        <p:nvCxnSpPr>
          <p:cNvPr id="129" name="Curved Connector 13"/>
          <p:cNvCxnSpPr>
            <a:endCxn id="117" idx="1"/>
          </p:cNvCxnSpPr>
          <p:nvPr/>
        </p:nvCxnSpPr>
        <p:spPr>
          <a:xfrm flipH="1" rot="10800000">
            <a:off x="3390840" y="2677320"/>
            <a:ext cx="1162440" cy="670680"/>
          </a:xfrm>
          <a:prstGeom prst="curvedConnector5">
            <a:avLst>
              <a:gd name="adj1" fmla="val -42193"/>
              <a:gd name="adj2" fmla="val 50000"/>
              <a:gd name="adj3" fmla="val -42193"/>
            </a:avLst>
          </a:prstGeom>
          <a:ln w="38160">
            <a:solidFill>
              <a:srgbClr val="cc9800"/>
            </a:solidFill>
            <a:prstDash val="sysDash"/>
            <a:miter/>
            <a:tailEnd len="med" type="arrow" w="med"/>
          </a:ln>
        </p:spPr>
      </p:cxnSp>
      <p:sp>
        <p:nvSpPr>
          <p:cNvPr id="130" name="TextBox 59"/>
          <p:cNvSpPr/>
          <p:nvPr/>
        </p:nvSpPr>
        <p:spPr>
          <a:xfrm>
            <a:off x="4829040" y="2852640"/>
            <a:ext cx="344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lways the possibility HHs will fall back a level due to shocks – programme will be flexible  enough to allow them to rejoi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Developing a Relationship with a Microfinance Investor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280" y="2420640"/>
            <a:ext cx="820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akes time to build the relationship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Foundation depends on shared values, vision and working principl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Operational - Cambodia (AMK) and Zambia (AMZ)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Feasibility Studies – Malawi and Mozambiqu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 needs of the poorest is the starting point in the design of an appropriate produc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Seasonality of clients agricultural livelihood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Transparent Communications on the price of loa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Reducing transaction cos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Focus on both Social and Financial return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AMK – submits social performance reports to MIZ marke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AMZ – internal reports on limited number of social indicato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Reacting to the needs of the Poorest – Differences in Monthly Cash Flows and Expenses (Zambia)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420640"/>
            <a:ext cx="7661520" cy="345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0" y="2492280"/>
            <a:ext cx="4824360" cy="2664000"/>
          </a:xfrm>
          <a:prstGeom prst="rect">
            <a:avLst/>
          </a:prstGeom>
          <a:ln w="0">
            <a:noFill/>
          </a:ln>
        </p:spPr>
      </p:pic>
      <p:pic>
        <p:nvPicPr>
          <p:cNvPr id="136" name="Chart 4" descr=""/>
          <p:cNvPicPr/>
          <p:nvPr/>
        </p:nvPicPr>
        <p:blipFill>
          <a:blip r:embed="rId3"/>
          <a:stretch/>
        </p:blipFill>
        <p:spPr>
          <a:xfrm>
            <a:off x="4664160" y="2511360"/>
            <a:ext cx="446724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Chris Pain</cp:lastModifiedBy>
  <dcterms:modified xsi:type="dcterms:W3CDTF">2011-10-27T08:53:42Z</dcterms:modified>
  <cp:revision>42</cp:revision>
  <dc:subject/>
  <dc:title>Slide 1</dc:title>
</cp:coreProperties>
</file>