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A5A1-23ED-4993-A844-938BE37849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8159-8245-4A30-BB32-CD4B1EE95126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B6BC-1964-4902-B386-71308C23B417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EE84-EFD8-491A-A026-073DAE651576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6442-A424-4671-BDFA-F460FA97DFA4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B557-82F4-492F-95A9-7C9DBC7796E4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7C50-84C9-442F-A5AA-BF3EC6AB9EAA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8A44-0817-4ED2-BAF0-5EA2F65DB69A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7EEC-1B75-4E30-9E72-516481CC9783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A82C-E8D5-4D41-B6D8-528588818C71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2FF5-02B1-4BB2-9E9B-0045D179878A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CE13-E970-413F-B3F7-C07BD11CEBE6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581B-D3B4-4ADA-8876-B0AE61EC72E2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65BA-435A-4B46-AE82-0B0AD7544EB6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D25A-6A79-45F8-948C-1A6937034804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AFD4-D9DC-4962-9EB5-4EC8E2B194CE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49BA-5272-422B-ABB3-E7C15480C0BA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62A7-FD37-4709-BBD8-4CC60943DAB2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6AF7-7077-4D19-BD87-79D3DDA67D40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03C-E3C5-46E5-876B-6F42B468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A2F-C4C7-4846-9B44-7ABAB778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82D-FA3B-414D-BECE-E40FF942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774-E883-4D24-9321-D3EFA078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4AB-F26B-4966-8A46-D176A567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F4B-A605-4129-9153-3A35A7DF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93F-A192-4D58-A556-475C02B8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BA4-564E-411E-AB4C-F81CB9B1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900-3F62-47B3-AC09-AF4C71C9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FDC-097E-4E0F-8A86-EAF588B5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CDD-E795-451C-9153-E9A6F30D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34B-096E-467A-8113-6A080163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3492360" cy="11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BEBF-FEA2-4086-B734-D0CA3261A385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88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3276720" cy="109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le 1"/>
          <p:cNvSpPr/>
          <p:nvPr/>
        </p:nvSpPr>
        <p:spPr>
          <a:xfrm>
            <a:off x="1116000" y="1413000"/>
            <a:ext cx="698652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alibri"/>
              </a:rPr>
              <a:t>Impact of Ultra-Poor Graduation Pilots: Early Results from Randomized Evalua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Subtitle 2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Bram Thuysbaer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Yale University and IP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November 15, 201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447920" y="566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Calibri"/>
              </a:rPr>
              <a:t>With A.Banerjee, E. Duflo, D. Karlan, J. Morduch, and oth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Calibri"/>
              </a:rPr>
              <a:t>Preliminary and Incomple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Graphique 3" descr=""/>
          <p:cNvPicPr/>
          <p:nvPr/>
        </p:nvPicPr>
        <p:blipFill>
          <a:blip r:embed="rId1"/>
          <a:stretch/>
        </p:blipFill>
        <p:spPr>
          <a:xfrm>
            <a:off x="4521240" y="1649520"/>
            <a:ext cx="4529160" cy="2406600"/>
          </a:xfrm>
          <a:prstGeom prst="rect">
            <a:avLst/>
          </a:prstGeom>
          <a:ln w="0">
            <a:noFill/>
          </a:ln>
        </p:spPr>
      </p:pic>
      <p:pic>
        <p:nvPicPr>
          <p:cNvPr id="184" name="Graphique 4" descr=""/>
          <p:cNvPicPr/>
          <p:nvPr/>
        </p:nvPicPr>
        <p:blipFill>
          <a:blip r:embed="rId2"/>
          <a:stretch/>
        </p:blipFill>
        <p:spPr>
          <a:xfrm>
            <a:off x="4305240" y="3882960"/>
            <a:ext cx="4745160" cy="2667240"/>
          </a:xfrm>
          <a:prstGeom prst="rect">
            <a:avLst/>
          </a:prstGeom>
          <a:ln w="0">
            <a:noFill/>
          </a:ln>
        </p:spPr>
      </p:pic>
      <p:sp>
        <p:nvSpPr>
          <p:cNvPr id="185" name="Content Placeholder 2"/>
          <p:cNvSpPr/>
          <p:nvPr/>
        </p:nvSpPr>
        <p:spPr>
          <a:xfrm>
            <a:off x="324000" y="1916280"/>
            <a:ext cx="396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Results from 2</a:t>
            </a:r>
            <a:r>
              <a:rPr b="0" lang="en-US" sz="2200" spc="-1" strike="noStrike" baseline="30000">
                <a:solidFill>
                  <a:srgbClr val="292929"/>
                </a:solidFill>
                <a:latin typeface="Calibri"/>
              </a:rPr>
              <a:t>nd</a:t>
            </a: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 follow-up survey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Consumption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7% increase in food consump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20% increase in non-food consump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Improved food securit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14 percentage points increase in share of households that report having enough food every da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95640" y="980640"/>
            <a:ext cx="51847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29"/>
                </a:solidFill>
                <a:latin typeface="Calibri"/>
              </a:rPr>
              <a:t>India – West Bengal (Bandhan)</a:t>
            </a:r>
            <a:br>
              <a:rPr sz="2600"/>
            </a:br>
            <a:r>
              <a:rPr b="1" lang="en-US" sz="2000" spc="-1" strike="noStrike">
                <a:solidFill>
                  <a:srgbClr val="292929"/>
                </a:solidFill>
                <a:latin typeface="Calibri"/>
              </a:rPr>
              <a:t>Researchers:  Banerjee, Duflo et al.</a:t>
            </a:r>
            <a:br>
              <a:rPr sz="2000"/>
            </a:b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Graphique 3" descr=""/>
          <p:cNvPicPr/>
          <p:nvPr/>
        </p:nvPicPr>
        <p:blipFill>
          <a:blip r:embed="rId1"/>
          <a:stretch/>
        </p:blipFill>
        <p:spPr>
          <a:xfrm>
            <a:off x="4376880" y="1433520"/>
            <a:ext cx="4817880" cy="2689200"/>
          </a:xfrm>
          <a:prstGeom prst="rect">
            <a:avLst/>
          </a:prstGeom>
          <a:ln w="0">
            <a:noFill/>
          </a:ln>
        </p:spPr>
      </p:pic>
      <p:pic>
        <p:nvPicPr>
          <p:cNvPr id="188" name="Graphique 4" descr=""/>
          <p:cNvPicPr/>
          <p:nvPr/>
        </p:nvPicPr>
        <p:blipFill>
          <a:blip r:embed="rId2"/>
          <a:stretch/>
        </p:blipFill>
        <p:spPr>
          <a:xfrm>
            <a:off x="4376880" y="3809880"/>
            <a:ext cx="4817880" cy="2694240"/>
          </a:xfrm>
          <a:prstGeom prst="rect">
            <a:avLst/>
          </a:prstGeom>
          <a:ln w="0">
            <a:noFill/>
          </a:ln>
        </p:spPr>
      </p:pic>
      <p:sp>
        <p:nvSpPr>
          <p:cNvPr id="189" name="Content Placeholder 2"/>
          <p:cNvSpPr/>
          <p:nvPr/>
        </p:nvSpPr>
        <p:spPr>
          <a:xfrm>
            <a:off x="324000" y="1773360"/>
            <a:ext cx="3960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Livestock holding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Large effect on animal holdings (years after asset transfer!)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Income generation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Increased income from livestock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Increase in profits from micro-enterpris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Household durable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Significant increase in HH durables index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8000" y="1071720"/>
            <a:ext cx="6048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29"/>
                </a:solidFill>
                <a:latin typeface="Calibri"/>
              </a:rPr>
              <a:t>India – West Bengal (Bandhan)</a:t>
            </a:r>
            <a:endParaRPr b="1" lang="en-US" sz="26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Graphique 3" descr=""/>
          <p:cNvPicPr/>
          <p:nvPr/>
        </p:nvPicPr>
        <p:blipFill>
          <a:blip r:embed="rId1"/>
          <a:stretch/>
        </p:blipFill>
        <p:spPr>
          <a:xfrm>
            <a:off x="4376880" y="1433520"/>
            <a:ext cx="4817880" cy="2689200"/>
          </a:xfrm>
          <a:prstGeom prst="rect">
            <a:avLst/>
          </a:prstGeom>
          <a:ln w="0">
            <a:noFill/>
          </a:ln>
        </p:spPr>
      </p:pic>
      <p:pic>
        <p:nvPicPr>
          <p:cNvPr id="192" name="Graphique 4" descr=""/>
          <p:cNvPicPr/>
          <p:nvPr/>
        </p:nvPicPr>
        <p:blipFill>
          <a:blip r:embed="rId2"/>
          <a:stretch/>
        </p:blipFill>
        <p:spPr>
          <a:xfrm>
            <a:off x="4376880" y="3809880"/>
            <a:ext cx="4817880" cy="2884680"/>
          </a:xfrm>
          <a:prstGeom prst="rect">
            <a:avLst/>
          </a:prstGeom>
          <a:ln w="0">
            <a:noFill/>
          </a:ln>
        </p:spPr>
      </p:pic>
      <p:sp>
        <p:nvSpPr>
          <p:cNvPr id="193" name="Content Placeholder 2"/>
          <p:cNvSpPr/>
          <p:nvPr/>
        </p:nvSpPr>
        <p:spPr>
          <a:xfrm>
            <a:off x="324000" y="1773360"/>
            <a:ext cx="3960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Savings and borrow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Suggestive evidence of increase in savings deposited in last 30 days (not statistically significant)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52.9% increase in total borrow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Healt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Increase in health knowledg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Large gains in mental health at 1</a:t>
            </a:r>
            <a:r>
              <a:rPr b="0" lang="en-US" sz="1900" spc="-1" strike="noStrike" baseline="30000">
                <a:solidFill>
                  <a:srgbClr val="292929"/>
                </a:solidFill>
                <a:latin typeface="Calibri"/>
                <a:ea typeface="Arial"/>
              </a:rPr>
              <a:t>st</a:t>
            </a: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 follow-up but no longer at 2</a:t>
            </a:r>
            <a:r>
              <a:rPr b="0" lang="en-US" sz="1900" spc="-1" strike="noStrike" baseline="30000">
                <a:solidFill>
                  <a:srgbClr val="292929"/>
                </a:solidFill>
                <a:latin typeface="Calibri"/>
                <a:ea typeface="Arial"/>
              </a:rPr>
              <a:t>nd</a:t>
            </a: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 follow-up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1908000" y="1071720"/>
            <a:ext cx="604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29"/>
                </a:solidFill>
                <a:latin typeface="Calibri"/>
              </a:rPr>
              <a:t>India – West Bengal (Bandhan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Content Placeholder 2"/>
          <p:cNvSpPr/>
          <p:nvPr/>
        </p:nvSpPr>
        <p:spPr>
          <a:xfrm>
            <a:off x="324000" y="1773360"/>
            <a:ext cx="396072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Results from 2</a:t>
            </a:r>
            <a:r>
              <a:rPr b="0" lang="en-US" sz="2000" spc="-1" strike="noStrike" baseline="30000">
                <a:solidFill>
                  <a:srgbClr val="292929"/>
                </a:solidFill>
                <a:latin typeface="Calibri"/>
              </a:rPr>
              <a:t>nd</a:t>
            </a: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 follow-up survey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Consump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No effects on consumption or food security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Income gener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Increased income from livestock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But self-employment displaces wage labor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No net effect on incom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Livestoc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Effect on livestock holdings but decreasing over tim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Savings and borrow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Calibri"/>
                <a:ea typeface="Arial"/>
              </a:rPr>
              <a:t>No effect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Graphique 9" descr=""/>
          <p:cNvPicPr/>
          <p:nvPr/>
        </p:nvPicPr>
        <p:blipFill>
          <a:blip r:embed="rId1"/>
          <a:stretch/>
        </p:blipFill>
        <p:spPr>
          <a:xfrm>
            <a:off x="4645080" y="4071960"/>
            <a:ext cx="4071960" cy="24321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511344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29"/>
                </a:solidFill>
                <a:latin typeface="Calibri"/>
              </a:rPr>
              <a:t>India –  Andra Pradesh(SKS)</a:t>
            </a:r>
            <a:br>
              <a:rPr sz="2600"/>
            </a:br>
            <a:r>
              <a:rPr b="1" lang="en-US" sz="2000" spc="-1" strike="noStrike">
                <a:solidFill>
                  <a:srgbClr val="292929"/>
                </a:solidFill>
                <a:latin typeface="Calibri"/>
              </a:rPr>
              <a:t>Researchers: Morduch, Ravi and Bauche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198" name="Graphique 8" descr=""/>
          <p:cNvPicPr/>
          <p:nvPr/>
        </p:nvPicPr>
        <p:blipFill>
          <a:blip r:embed="rId2"/>
          <a:stretch/>
        </p:blipFill>
        <p:spPr>
          <a:xfrm>
            <a:off x="4857840" y="1627200"/>
            <a:ext cx="36766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tle 1"/>
          <p:cNvSpPr/>
          <p:nvPr/>
        </p:nvSpPr>
        <p:spPr>
          <a:xfrm>
            <a:off x="2700360" y="692280"/>
            <a:ext cx="4103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29"/>
                </a:solidFill>
                <a:latin typeface="Calibri"/>
              </a:rPr>
              <a:t>Pakistan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alibri"/>
              </a:rPr>
              <a:t>Researchers: Karlan and Parien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0" name="Graphique 3" descr=""/>
          <p:cNvPicPr/>
          <p:nvPr/>
        </p:nvPicPr>
        <p:blipFill>
          <a:blip r:embed="rId1"/>
          <a:stretch/>
        </p:blipFill>
        <p:spPr>
          <a:xfrm>
            <a:off x="4376880" y="1433520"/>
            <a:ext cx="4817880" cy="2550960"/>
          </a:xfrm>
          <a:prstGeom prst="rect">
            <a:avLst/>
          </a:prstGeom>
          <a:ln w="0">
            <a:noFill/>
          </a:ln>
        </p:spPr>
      </p:pic>
      <p:pic>
        <p:nvPicPr>
          <p:cNvPr id="201" name="Graphique 4" descr=""/>
          <p:cNvPicPr/>
          <p:nvPr/>
        </p:nvPicPr>
        <p:blipFill>
          <a:blip r:embed="rId2"/>
          <a:stretch/>
        </p:blipFill>
        <p:spPr>
          <a:xfrm>
            <a:off x="4376880" y="3809880"/>
            <a:ext cx="4817880" cy="2694240"/>
          </a:xfrm>
          <a:prstGeom prst="rect">
            <a:avLst/>
          </a:prstGeom>
          <a:ln w="0">
            <a:noFill/>
          </a:ln>
        </p:spPr>
      </p:pic>
      <p:sp>
        <p:nvSpPr>
          <p:cNvPr id="202" name="Content Placeholder 2"/>
          <p:cNvSpPr/>
          <p:nvPr/>
        </p:nvSpPr>
        <p:spPr>
          <a:xfrm>
            <a:off x="324000" y="1484280"/>
            <a:ext cx="3960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Results from 1</a:t>
            </a:r>
            <a:r>
              <a:rPr b="0" lang="en-US" sz="2200" spc="-1" strike="noStrike" baseline="30000">
                <a:solidFill>
                  <a:srgbClr val="292929"/>
                </a:solidFill>
                <a:latin typeface="Calibri"/>
              </a:rPr>
              <a:t>st</a:t>
            </a: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 follow-up survey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Consumption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10% increase in monthly consump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3622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food consump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3622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emergency expens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Improved food securit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Increase in share of households that eat twice a day (3 % point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Decrease in share of households that experience food shortag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le 1"/>
          <p:cNvSpPr/>
          <p:nvPr/>
        </p:nvSpPr>
        <p:spPr>
          <a:xfrm>
            <a:off x="3564000" y="981000"/>
            <a:ext cx="165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29"/>
                </a:solidFill>
                <a:latin typeface="Calibri"/>
              </a:rPr>
              <a:t>Pakistan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4" name="Graphique 3" descr=""/>
          <p:cNvPicPr/>
          <p:nvPr/>
        </p:nvPicPr>
        <p:blipFill>
          <a:blip r:embed="rId1"/>
          <a:stretch/>
        </p:blipFill>
        <p:spPr>
          <a:xfrm>
            <a:off x="4376880" y="1433520"/>
            <a:ext cx="4817880" cy="2550960"/>
          </a:xfrm>
          <a:prstGeom prst="rect">
            <a:avLst/>
          </a:prstGeom>
          <a:ln w="0">
            <a:noFill/>
          </a:ln>
        </p:spPr>
      </p:pic>
      <p:pic>
        <p:nvPicPr>
          <p:cNvPr id="205" name="Graphique 4" descr=""/>
          <p:cNvPicPr/>
          <p:nvPr/>
        </p:nvPicPr>
        <p:blipFill>
          <a:blip r:embed="rId2"/>
          <a:stretch/>
        </p:blipFill>
        <p:spPr>
          <a:xfrm>
            <a:off x="4376880" y="3809880"/>
            <a:ext cx="4817880" cy="2694240"/>
          </a:xfrm>
          <a:prstGeom prst="rect">
            <a:avLst/>
          </a:prstGeom>
          <a:ln w="0">
            <a:noFill/>
          </a:ln>
        </p:spPr>
      </p:pic>
      <p:sp>
        <p:nvSpPr>
          <p:cNvPr id="206" name="Content Placeholder 2"/>
          <p:cNvSpPr/>
          <p:nvPr/>
        </p:nvSpPr>
        <p:spPr>
          <a:xfrm>
            <a:off x="324000" y="1773360"/>
            <a:ext cx="3960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Income generation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Important increase in agricultural outpu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Increase in micro-enterprise profi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No clear effects on livestock incom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Asset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Increase in livestock holding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Increase  in physical asse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1"/>
          <p:cNvSpPr/>
          <p:nvPr/>
        </p:nvSpPr>
        <p:spPr>
          <a:xfrm>
            <a:off x="2411280" y="620640"/>
            <a:ext cx="453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29"/>
                </a:solidFill>
                <a:latin typeface="Calibri"/>
              </a:rPr>
              <a:t>Hondura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alibri"/>
              </a:rPr>
              <a:t>Researchers: Karlan and Thuysbaer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Content Placeholder 2"/>
          <p:cNvSpPr/>
          <p:nvPr/>
        </p:nvSpPr>
        <p:spPr>
          <a:xfrm>
            <a:off x="179280" y="1700280"/>
            <a:ext cx="42483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Consumption and non -food expenditur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  <a:ea typeface="Arial"/>
              </a:rPr>
              <a:t>No effect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Improvement in food security and in self-assessed economic situ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  <a:ea typeface="Arial"/>
              </a:rPr>
              <a:t>Adults 5 percentage points less likely to have reduced meal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  <a:ea typeface="Arial"/>
              </a:rPr>
              <a:t>Improved perception of own economic situation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9" name="Chart 2" descr=""/>
          <p:cNvPicPr/>
          <p:nvPr/>
        </p:nvPicPr>
        <p:blipFill>
          <a:blip r:embed="rId1"/>
          <a:stretch/>
        </p:blipFill>
        <p:spPr>
          <a:xfrm>
            <a:off x="4552920" y="1335240"/>
            <a:ext cx="4591080" cy="2646360"/>
          </a:xfrm>
          <a:prstGeom prst="rect">
            <a:avLst/>
          </a:prstGeom>
          <a:ln w="0">
            <a:noFill/>
          </a:ln>
        </p:spPr>
      </p:pic>
      <p:pic>
        <p:nvPicPr>
          <p:cNvPr id="210" name="Graphique 4" descr=""/>
          <p:cNvPicPr/>
          <p:nvPr/>
        </p:nvPicPr>
        <p:blipFill>
          <a:blip r:embed="rId2"/>
          <a:stretch/>
        </p:blipFill>
        <p:spPr>
          <a:xfrm>
            <a:off x="4305240" y="3882960"/>
            <a:ext cx="4745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tle 1"/>
          <p:cNvSpPr/>
          <p:nvPr/>
        </p:nvSpPr>
        <p:spPr>
          <a:xfrm>
            <a:off x="3564000" y="765000"/>
            <a:ext cx="165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29"/>
                </a:solidFill>
                <a:latin typeface="Calibri"/>
              </a:rPr>
              <a:t>Hondura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Content Placeholder 2"/>
          <p:cNvSpPr/>
          <p:nvPr/>
        </p:nvSpPr>
        <p:spPr>
          <a:xfrm>
            <a:off x="179280" y="1125360"/>
            <a:ext cx="46087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Income gener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No effects on overall agricultural output nor business profi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Increase in vegetable produc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Increased income from livestoc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Livestoc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25% increase in total value of livestock own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Saving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Increased saving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Mental healt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  <a:ea typeface="Arial"/>
              </a:rPr>
              <a:t>Improvement in happiness index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5040" indent="-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rcRect l="0" t="0" r="47505" b="0"/>
          <a:stretch/>
        </p:blipFill>
        <p:spPr>
          <a:xfrm>
            <a:off x="5148360" y="1413000"/>
            <a:ext cx="32004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43280" y="836280"/>
            <a:ext cx="374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10920" y="1484280"/>
            <a:ext cx="76611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rst results very promis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nlarged asset bas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ore self-employmen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mproved food securit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creased food and non-food consump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mproved happines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ut variation across si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re some areas less suitable for graduation model than others?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hoice of livelihoods?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ritical questions for evalu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ong te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st-effectivenes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No definitive answers ye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ore data and analysis coming soon!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4000" y="981000"/>
            <a:ext cx="23032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292929"/>
                </a:solidFill>
                <a:latin typeface="Calibri"/>
              </a:rPr>
              <a:t>Thank You!</a:t>
            </a:r>
            <a:endParaRPr b="1" lang="en-US" sz="33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4266720"/>
            <a:ext cx="8226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Calibri"/>
              </a:rPr>
              <a:t>www.poverty-action.or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Calibri"/>
              </a:rPr>
              <a:t>bthuysbaert@poverty-action.or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Calibri"/>
              </a:rPr>
              <a:t>www.cgap.or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84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1197000"/>
            <a:ext cx="6931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ilots in 10 Site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rcRect l="10327" t="39560" r="5323" b="0"/>
          <a:stretch/>
        </p:blipFill>
        <p:spPr>
          <a:xfrm>
            <a:off x="762120" y="2057400"/>
            <a:ext cx="7772400" cy="3171960"/>
          </a:xfrm>
          <a:prstGeom prst="rect">
            <a:avLst/>
          </a:prstGeom>
          <a:ln w="0">
            <a:noFill/>
          </a:ln>
        </p:spPr>
      </p:pic>
      <p:sp>
        <p:nvSpPr>
          <p:cNvPr id="137" name="Oval 5"/>
          <p:cNvSpPr/>
          <p:nvPr/>
        </p:nvSpPr>
        <p:spPr>
          <a:xfrm>
            <a:off x="6477120" y="2362320"/>
            <a:ext cx="152280" cy="152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5229000"/>
            <a:ext cx="9144000" cy="11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Calibri"/>
              </a:rPr>
              <a:t>Pilot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292929"/>
                </a:solidFill>
                <a:latin typeface="Calibri"/>
              </a:rPr>
              <a:t>sponsored by CGAP and Ford Foundation: Ghana, Haiti, Honduras, India(3), Ethiopia, Pakistan, Peru, Yemen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Randomized evaluations </a:t>
            </a:r>
            <a:r>
              <a:rPr b="0" lang="en-US" sz="2600" spc="-1" strike="noStrike">
                <a:solidFill>
                  <a:srgbClr val="292929"/>
                </a:solidFill>
                <a:latin typeface="Calibri"/>
              </a:rPr>
              <a:t>at 8 sites (   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2133720" y="2590920"/>
            <a:ext cx="152280" cy="152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5-Point Star 14"/>
          <p:cNvSpPr/>
          <p:nvPr/>
        </p:nvSpPr>
        <p:spPr>
          <a:xfrm>
            <a:off x="2057400" y="35812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aeae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5-Point Star 19"/>
          <p:cNvSpPr/>
          <p:nvPr/>
        </p:nvSpPr>
        <p:spPr>
          <a:xfrm>
            <a:off x="5219640" y="602136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aeae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5-Point Star 20"/>
          <p:cNvSpPr/>
          <p:nvPr/>
        </p:nvSpPr>
        <p:spPr>
          <a:xfrm>
            <a:off x="6248520" y="2590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aeae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5-Point Star 21"/>
          <p:cNvSpPr/>
          <p:nvPr/>
        </p:nvSpPr>
        <p:spPr>
          <a:xfrm>
            <a:off x="6477120" y="24382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aeae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5-Point Star 22"/>
          <p:cNvSpPr/>
          <p:nvPr/>
        </p:nvSpPr>
        <p:spPr>
          <a:xfrm>
            <a:off x="5943600" y="22860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aeae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5-Point Star 23"/>
          <p:cNvSpPr/>
          <p:nvPr/>
        </p:nvSpPr>
        <p:spPr>
          <a:xfrm>
            <a:off x="5334120" y="2590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aeae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5-Point Star 24"/>
          <p:cNvSpPr/>
          <p:nvPr/>
        </p:nvSpPr>
        <p:spPr>
          <a:xfrm>
            <a:off x="5029200" y="28195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aeae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5-Point Star 25"/>
          <p:cNvSpPr/>
          <p:nvPr/>
        </p:nvSpPr>
        <p:spPr>
          <a:xfrm>
            <a:off x="3962520" y="28195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aeae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5-Point Star 26"/>
          <p:cNvSpPr/>
          <p:nvPr/>
        </p:nvSpPr>
        <p:spPr>
          <a:xfrm>
            <a:off x="1600200" y="26668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aeae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920" y="1052280"/>
            <a:ext cx="67341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29"/>
                </a:solidFill>
                <a:latin typeface="Calibri"/>
              </a:rPr>
              <a:t>Who are the Ultra Poor? A few facts</a:t>
            </a:r>
            <a:endParaRPr b="1" lang="en-US" sz="26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2360" y="1599840"/>
            <a:ext cx="4111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Most had at least 2 meals previous da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India: 62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Pakistan: 75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Yemen: 87.5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Ethiopia: 83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Calibri"/>
              </a:rPr>
              <a:t>But most also faced food shortages in at least some months in the past yea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Large share of expenses spent on food and fuel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Pakistan: 54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India: 72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Peru: 70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Yemen: 69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1" name="Chart 5" descr=""/>
          <p:cNvPicPr/>
          <p:nvPr/>
        </p:nvPicPr>
        <p:blipFill>
          <a:blip r:embed="rId1"/>
          <a:stretch/>
        </p:blipFill>
        <p:spPr>
          <a:xfrm>
            <a:off x="4784760" y="2346480"/>
            <a:ext cx="5114880" cy="41511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4952880" y="464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Calibri"/>
              </a:rPr>
              <a:t>Pakista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5076720" y="1916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Calibri"/>
              </a:rPr>
              <a:t>Yem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Graphique 12" descr=""/>
          <p:cNvPicPr/>
          <p:nvPr/>
        </p:nvPicPr>
        <p:blipFill>
          <a:blip r:embed="rId2"/>
          <a:stretch/>
        </p:blipFill>
        <p:spPr>
          <a:xfrm>
            <a:off x="5600880" y="2009880"/>
            <a:ext cx="2766960" cy="24382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>
            <a:off x="5219640" y="1557360"/>
            <a:ext cx="35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Calibri"/>
              </a:rPr>
              <a:t>In past 12 months, did HH members get enough food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84360" y="1196640"/>
            <a:ext cx="446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29"/>
                </a:solidFill>
                <a:latin typeface="Calibri"/>
              </a:rPr>
              <a:t>Who are the Ultra Poor?</a:t>
            </a:r>
            <a:endParaRPr b="1" lang="en-US" sz="26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1773360"/>
            <a:ext cx="464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Vulnerable to shock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India: 29% of selected HH experience 1 or more health shock in past y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Pakistan: Medical expenses 12% of HH budge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</a:rPr>
              <a:t>Remote area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More than 1 hour to nearest health c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Peru: 24-30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Honduras: 28-58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8" name="Picture 2" descr="C:\Documents and Settings\asolomon\My Documents\My Dropbox\Arielle\Additional UPGP\Photos\Honduras\PS3. Kids weight 2.JPG"/>
          <p:cNvPicPr/>
          <p:nvPr/>
        </p:nvPicPr>
        <p:blipFill>
          <a:blip r:embed="rId1"/>
          <a:stretch/>
        </p:blipFill>
        <p:spPr>
          <a:xfrm>
            <a:off x="5257800" y="25146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0000" y="980640"/>
            <a:ext cx="532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29"/>
                </a:solidFill>
                <a:latin typeface="Calibri"/>
              </a:rPr>
              <a:t>Fundamental research question</a:t>
            </a:r>
            <a:r>
              <a:rPr b="1" lang="en-US" sz="2600" spc="-1" strike="noStrike">
                <a:solidFill>
                  <a:srgbClr val="292929"/>
                </a:solidFill>
                <a:latin typeface="Calibri"/>
              </a:rPr>
              <a:t>	</a:t>
            </a:r>
            <a:endParaRPr b="1" lang="en-US" sz="26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588680"/>
            <a:ext cx="51307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What is the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impact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of the Graduation model on the ultra poor?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mpact evaluation measures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How have the lives of households change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pared to how they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would have changed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in the absence of the program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Note this is different from “How have their lives changed?”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The control group gives us the counterfactual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andom treatment assignment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ensures we compare similar types of household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rcRect l="0" t="0" r="26704" b="9375"/>
          <a:stretch/>
        </p:blipFill>
        <p:spPr>
          <a:xfrm>
            <a:off x="5796000" y="1628640"/>
            <a:ext cx="289548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34920" y="1125360"/>
            <a:ext cx="2305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Calibri"/>
              </a:rPr>
              <a:t>Data collection</a:t>
            </a:r>
            <a:endParaRPr b="1" lang="en-US" sz="26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3" name="Down Arrow Callout 17"/>
          <p:cNvSpPr/>
          <p:nvPr/>
        </p:nvSpPr>
        <p:spPr>
          <a:xfrm>
            <a:off x="611280" y="1700280"/>
            <a:ext cx="1981080" cy="1168200"/>
          </a:xfrm>
          <a:prstGeom prst="downArrowCallout">
            <a:avLst>
              <a:gd name="adj1" fmla="val 25000"/>
              <a:gd name="adj2" fmla="val 25005"/>
              <a:gd name="adj3" fmla="val 25000"/>
              <a:gd name="adj4" fmla="val 6497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aseli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Down Arrow Callout 18"/>
          <p:cNvSpPr/>
          <p:nvPr/>
        </p:nvSpPr>
        <p:spPr>
          <a:xfrm>
            <a:off x="611280" y="2997360"/>
            <a:ext cx="1981080" cy="1168200"/>
          </a:xfrm>
          <a:prstGeom prst="downArrowCallout">
            <a:avLst>
              <a:gd name="adj1" fmla="val 25000"/>
              <a:gd name="adj2" fmla="val 25005"/>
              <a:gd name="adj3" fmla="val 25000"/>
              <a:gd name="adj4" fmla="val 6497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nsumption survey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611280" y="5589720"/>
            <a:ext cx="1981080" cy="76176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follow-up surve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Down Arrow Callout 20"/>
          <p:cNvSpPr/>
          <p:nvPr/>
        </p:nvSpPr>
        <p:spPr>
          <a:xfrm>
            <a:off x="611280" y="4292640"/>
            <a:ext cx="1981080" cy="1168200"/>
          </a:xfrm>
          <a:prstGeom prst="downArrowCallout">
            <a:avLst>
              <a:gd name="adj1" fmla="val 25000"/>
              <a:gd name="adj2" fmla="val 25005"/>
              <a:gd name="adj3" fmla="val 25000"/>
              <a:gd name="adj4" fmla="val 6497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st follow-up surve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42920" y="1773000"/>
            <a:ext cx="5946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Calibri"/>
              </a:rPr>
              <a:t>Collect data on eligible househol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Calibri"/>
              </a:rPr>
              <a:t>Many sites have quarterly surveys to monitor chang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Calibri"/>
              </a:rPr>
              <a:t>Survey of same baseline households after 2 years (end of program suppor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Calibri"/>
              </a:rPr>
              <a:t>1 year after 1</a:t>
            </a:r>
            <a:r>
              <a:rPr b="0" lang="en-GB" sz="2400" spc="-1" strike="noStrike" baseline="30000">
                <a:solidFill>
                  <a:srgbClr val="292929"/>
                </a:solidFill>
                <a:latin typeface="Calibri"/>
              </a:rPr>
              <a:t>st</a:t>
            </a:r>
            <a:r>
              <a:rPr b="0" lang="en-GB" sz="2400" spc="-1" strike="noStrike">
                <a:solidFill>
                  <a:srgbClr val="292929"/>
                </a:solidFill>
                <a:latin typeface="Calibri"/>
              </a:rPr>
              <a:t> follow-up survey to track more long-term impac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Straight Connector 23"/>
          <p:cNvSpPr/>
          <p:nvPr/>
        </p:nvSpPr>
        <p:spPr>
          <a:xfrm>
            <a:off x="611280" y="2924280"/>
            <a:ext cx="8001000" cy="0"/>
          </a:xfrm>
          <a:prstGeom prst="line">
            <a:avLst/>
          </a:prstGeom>
          <a:ln w="25560">
            <a:solidFill>
              <a:srgbClr val="cc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Straight Connector 23"/>
          <p:cNvSpPr/>
          <p:nvPr/>
        </p:nvSpPr>
        <p:spPr>
          <a:xfrm>
            <a:off x="611280" y="4221000"/>
            <a:ext cx="8001000" cy="0"/>
          </a:xfrm>
          <a:prstGeom prst="line">
            <a:avLst/>
          </a:prstGeom>
          <a:ln w="25560">
            <a:solidFill>
              <a:srgbClr val="cc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611280" y="5516640"/>
            <a:ext cx="8001000" cy="0"/>
          </a:xfrm>
          <a:prstGeom prst="line">
            <a:avLst/>
          </a:prstGeom>
          <a:ln w="25560">
            <a:solidFill>
              <a:srgbClr val="cc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4920" y="1628280"/>
            <a:ext cx="432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Sample siz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Many 100’s of households in a few tens of village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Survey modu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Health indicato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Educ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Consump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Income and activiti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Asse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Credi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Risk preferenc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Ongoing qualitative research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2" name="Picture 2" descr="https://lh4.googleusercontent.com/-YYx_rsHTN0E/S7N8RCzg_rI/AAAAAAAAC58/qasmVTkM50k/s640/IMG_0131.JPG"/>
          <p:cNvPicPr/>
          <p:nvPr/>
        </p:nvPicPr>
        <p:blipFill>
          <a:blip r:embed="rId1"/>
          <a:srcRect l="30001" t="0" r="0" b="0"/>
          <a:stretch/>
        </p:blipFill>
        <p:spPr>
          <a:xfrm>
            <a:off x="4572000" y="1676520"/>
            <a:ext cx="4267080" cy="4572000"/>
          </a:xfrm>
          <a:prstGeom prst="rect">
            <a:avLst/>
          </a:prstGeom>
          <a:ln w="0">
            <a:noFill/>
          </a:ln>
        </p:spPr>
      </p:pic>
      <p:sp>
        <p:nvSpPr>
          <p:cNvPr id="173" name="Title 1"/>
          <p:cNvSpPr/>
          <p:nvPr/>
        </p:nvSpPr>
        <p:spPr>
          <a:xfrm>
            <a:off x="3203640" y="981000"/>
            <a:ext cx="23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Calibri"/>
              </a:rPr>
              <a:t>Data collection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4000" y="836280"/>
            <a:ext cx="2232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29"/>
                </a:solidFill>
                <a:latin typeface="Calibri"/>
              </a:rPr>
              <a:t>Asset transfers</a:t>
            </a:r>
            <a:endParaRPr b="1" lang="en-US" sz="26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175" name="Graphique 1" descr=""/>
          <p:cNvPicPr/>
          <p:nvPr/>
        </p:nvPicPr>
        <p:blipFill>
          <a:blip r:embed="rId1"/>
          <a:stretch/>
        </p:blipFill>
        <p:spPr>
          <a:xfrm>
            <a:off x="5437080" y="1414440"/>
            <a:ext cx="3578400" cy="3382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1042920" y="1341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Calibri"/>
              </a:rPr>
              <a:t>Hondur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5796000" y="1125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Calibri"/>
              </a:rPr>
              <a:t>Pakista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8" name="Chart 6" descr=""/>
          <p:cNvPicPr/>
          <p:nvPr/>
        </p:nvPicPr>
        <p:blipFill>
          <a:blip r:embed="rId2"/>
          <a:stretch/>
        </p:blipFill>
        <p:spPr>
          <a:xfrm>
            <a:off x="2914560" y="4151160"/>
            <a:ext cx="4340160" cy="24084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7"/>
          <p:cNvSpPr/>
          <p:nvPr/>
        </p:nvSpPr>
        <p:spPr>
          <a:xfrm>
            <a:off x="1835280" y="515772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Calibri"/>
              </a:rPr>
              <a:t>Ethiopi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0" name="Graphique 9" descr=""/>
          <p:cNvPicPr/>
          <p:nvPr/>
        </p:nvPicPr>
        <p:blipFill>
          <a:blip r:embed="rId3"/>
          <a:stretch/>
        </p:blipFill>
        <p:spPr>
          <a:xfrm>
            <a:off x="344520" y="1649520"/>
            <a:ext cx="36306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Content Placeholder 4" descr="stata and cow.JPG"/>
          <p:cNvPicPr/>
          <p:nvPr/>
        </p:nvPicPr>
        <p:blipFill>
          <a:blip r:embed="rId1"/>
          <a:stretch/>
        </p:blipFill>
        <p:spPr>
          <a:xfrm>
            <a:off x="0" y="0"/>
            <a:ext cx="9474120" cy="71056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6300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Preliminary Results</a:t>
            </a:r>
            <a:endParaRPr b="1" lang="en-US" sz="54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Juana Ramirez e-MFP</cp:lastModifiedBy>
  <dcterms:modified xsi:type="dcterms:W3CDTF">2012-11-23T11:32:47Z</dcterms:modified>
  <cp:revision>167</cp:revision>
  <dc:subject/>
  <dc:title>Slide 1</dc:title>
</cp:coreProperties>
</file>