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wmf" ContentType="image/x-wmf"/>
  <Override PartName="/ppt/media/image3.wmf" ContentType="image/x-wmf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01F2-6040-4314-BCDE-858A2F4B8B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54BB-E89D-4FEE-A164-F086641919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E3BD-A5FA-4C74-A59D-20705F19ED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24F-9FFA-4F0D-A7B0-4B5CA0BE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27E-81A7-46F3-A6A9-4AA990C6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6F46-2D86-4366-9FB6-C95EF7C1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1F33-7A8E-4DD2-96CD-427BCD0A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61440" y="60480"/>
            <a:ext cx="69850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5CDA-9004-43E3-AD90-DA946992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AD11-697E-458A-8E47-5DE32800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8FB-307A-41A2-A59E-31026D44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21D-F733-4DE5-95CB-E13C43D7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1440" y="60480"/>
            <a:ext cx="69850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E91A-A89F-4ED5-B742-1FFF8743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1FE-FC3C-47DE-8106-D24B1B86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ECC-63D7-4D74-AF55-F0F4A013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BD3C-5437-4EB8-9120-B46A2563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6669000"/>
            <a:ext cx="752472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2" descr=""/>
          <p:cNvPicPr/>
          <p:nvPr/>
        </p:nvPicPr>
        <p:blipFill>
          <a:blip r:embed="rId2"/>
          <a:stretch/>
        </p:blipFill>
        <p:spPr>
          <a:xfrm>
            <a:off x="7524720" y="6657840"/>
            <a:ext cx="1619280" cy="2160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8"/>
          <p:cNvSpPr/>
          <p:nvPr/>
        </p:nvSpPr>
        <p:spPr>
          <a:xfrm>
            <a:off x="0" y="-4680"/>
            <a:ext cx="7524720" cy="10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993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920" y="6640200"/>
            <a:ext cx="1441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5 avril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547280" y="6640200"/>
            <a:ext cx="5256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Convention Mastère Marketing Alimentation San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877080" y="6640200"/>
            <a:ext cx="5745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B3A9-2C8C-4440-852A-88328CE42538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3"/>
          <a:stretch/>
        </p:blipFill>
        <p:spPr>
          <a:xfrm>
            <a:off x="7524720" y="-1440"/>
            <a:ext cx="161928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0"/>
            <a:ext cx="5867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5861160" y="0"/>
            <a:ext cx="32828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3"/>
          <a:stretch/>
        </p:blipFill>
        <p:spPr>
          <a:xfrm>
            <a:off x="3746520" y="492120"/>
            <a:ext cx="1879560" cy="99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993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476360" y="6563880"/>
            <a:ext cx="4175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Convention Mastère Marketing Alimentation San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5"/>
          </p:nvPr>
        </p:nvSpPr>
        <p:spPr>
          <a:xfrm>
            <a:off x="34920" y="6563880"/>
            <a:ext cx="14428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5 avril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205000"/>
            <a:ext cx="5477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icrocredit and religions : with a focus on Hindu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1640" y="3860280"/>
            <a:ext cx="548964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Arial"/>
              </a:rPr>
              <a:t>Dr. Arvind ASH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000"/>
                </a:solidFill>
                <a:latin typeface="Arial"/>
              </a:rPr>
              <a:t>Microfinance Ch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Arial"/>
              </a:rPr>
              <a:t>Burgundy School of Busin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000"/>
                </a:solidFill>
                <a:latin typeface="Arial"/>
              </a:rPr>
              <a:t>CEREN, CER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476360" y="6564240"/>
            <a:ext cx="417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c000"/>
                </a:solidFill>
                <a:latin typeface="Arial"/>
              </a:rPr>
              <a:t>European Microfinance Week, Luxembu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4920" y="6564240"/>
            <a:ext cx="1442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c000"/>
                </a:solidFill>
                <a:latin typeface="Arial"/>
              </a:rPr>
              <a:t>3 -4 nov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1"/>
          <p:cNvSpPr/>
          <p:nvPr/>
        </p:nvSpPr>
        <p:spPr>
          <a:xfrm>
            <a:off x="324000" y="5780160"/>
            <a:ext cx="53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y thanks to Banque Populaire de Bourgogne Franche Com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llipse 18"/>
          <p:cNvSpPr/>
          <p:nvPr/>
        </p:nvSpPr>
        <p:spPr>
          <a:xfrm>
            <a:off x="611280" y="1341360"/>
            <a:ext cx="8353440" cy="5256360"/>
          </a:xfrm>
          <a:prstGeom prst="ellipse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igure 1: The development perspective places the microentrepreneur at the cent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Ellipse 3"/>
          <p:cNvSpPr/>
          <p:nvPr/>
        </p:nvSpPr>
        <p:spPr>
          <a:xfrm>
            <a:off x="3564000" y="3357720"/>
            <a:ext cx="2520720" cy="136656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i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ntrepren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971640" y="3573360"/>
            <a:ext cx="1584360" cy="935280"/>
          </a:xfrm>
          <a:prstGeom prst="rect">
            <a:avLst/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KDRDP furnishes raw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588000" y="3573360"/>
            <a:ext cx="1584360" cy="935280"/>
          </a:xfrm>
          <a:prstGeom prst="rect">
            <a:avLst/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KDRDP does th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978360" y="1557360"/>
            <a:ext cx="1692360" cy="1079640"/>
          </a:xfrm>
          <a:prstGeom prst="rect">
            <a:avLst/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KDRDP furnishes micro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924360" y="5445000"/>
            <a:ext cx="1800000" cy="1152720"/>
          </a:xfrm>
          <a:prstGeom prst="rect">
            <a:avLst/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KDRDP  furnishes technical ad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Connecteur droit avec flèche 11"/>
          <p:cNvCxnSpPr>
            <a:stCxn id="138" idx="3"/>
            <a:endCxn id="137" idx="2"/>
          </p:cNvCxnSpPr>
          <p:nvPr/>
        </p:nvCxnSpPr>
        <p:spPr>
          <a:xfrm>
            <a:off x="2556000" y="4041360"/>
            <a:ext cx="10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Connecteur droit avec flèche 13"/>
          <p:cNvCxnSpPr>
            <a:stCxn id="137" idx="6"/>
            <a:endCxn id="139" idx="1"/>
          </p:cNvCxnSpPr>
          <p:nvPr/>
        </p:nvCxnSpPr>
        <p:spPr>
          <a:xfrm>
            <a:off x="6084720" y="404136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Connecteur droit avec flèche 15"/>
          <p:cNvCxnSpPr>
            <a:stCxn id="140" idx="2"/>
            <a:endCxn id="137" idx="0"/>
          </p:cNvCxnSpPr>
          <p:nvPr/>
        </p:nvCxnSpPr>
        <p:spPr>
          <a:xfrm>
            <a:off x="4824000" y="2637000"/>
            <a:ext cx="1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Connecteur droit avec flèche 17"/>
          <p:cNvCxnSpPr>
            <a:stCxn id="141" idx="0"/>
            <a:endCxn id="137" idx="4"/>
          </p:cNvCxnSpPr>
          <p:nvPr/>
        </p:nvCxnSpPr>
        <p:spPr>
          <a:xfrm flipV="1">
            <a:off x="4824000" y="4723920"/>
            <a:ext cx="1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" name="ZoneTexte 19"/>
          <p:cNvSpPr/>
          <p:nvPr/>
        </p:nvSpPr>
        <p:spPr>
          <a:xfrm>
            <a:off x="6227640" y="2276640"/>
            <a:ext cx="17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temple creates the trust in SKDR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1"/>
          <p:cNvSpPr/>
          <p:nvPr/>
        </p:nvSpPr>
        <p:spPr>
          <a:xfrm>
            <a:off x="0" y="616572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h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ffffff"/>
                </a:solidFill>
                <a:latin typeface="Arial"/>
              </a:rPr>
              <a:t>Figure 2: SKDRDP uses outside process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411280" y="1989000"/>
            <a:ext cx="4608720" cy="1656000"/>
          </a:xfrm>
          <a:prstGeom prst="rect">
            <a:avLst/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KDR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llipse 4"/>
          <p:cNvSpPr/>
          <p:nvPr/>
        </p:nvSpPr>
        <p:spPr>
          <a:xfrm>
            <a:off x="4140360" y="5013360"/>
            <a:ext cx="1223640" cy="105264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icroentrepren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llipse 5"/>
          <p:cNvSpPr/>
          <p:nvPr/>
        </p:nvSpPr>
        <p:spPr>
          <a:xfrm>
            <a:off x="2556000" y="5013360"/>
            <a:ext cx="1224000" cy="105264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icroentrepren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llipse 6"/>
          <p:cNvSpPr/>
          <p:nvPr/>
        </p:nvSpPr>
        <p:spPr>
          <a:xfrm>
            <a:off x="5724360" y="5013360"/>
            <a:ext cx="1224000" cy="105264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icroentrepren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Connecteur droit avec flèche 8"/>
          <p:cNvCxnSpPr>
            <a:stCxn id="149" idx="2"/>
            <a:endCxn id="151" idx="7"/>
          </p:cNvCxnSpPr>
          <p:nvPr/>
        </p:nvCxnSpPr>
        <p:spPr>
          <a:xfrm flipH="1">
            <a:off x="3600000" y="3644640"/>
            <a:ext cx="1116720" cy="152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4" name="Connecteur droit avec flèche 9"/>
          <p:cNvCxnSpPr>
            <a:stCxn id="149" idx="2"/>
            <a:endCxn id="152" idx="0"/>
          </p:cNvCxnSpPr>
          <p:nvPr/>
        </p:nvCxnSpPr>
        <p:spPr>
          <a:xfrm>
            <a:off x="4716360" y="3644640"/>
            <a:ext cx="162000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5" name="Connecteur droit avec flèche 10"/>
          <p:cNvCxnSpPr>
            <a:stCxn id="149" idx="2"/>
            <a:endCxn id="150" idx="0"/>
          </p:cNvCxnSpPr>
          <p:nvPr/>
        </p:nvCxnSpPr>
        <p:spPr>
          <a:xfrm>
            <a:off x="4716000" y="3644640"/>
            <a:ext cx="3564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6" name="Connecteur droit avec flèche 19"/>
          <p:cNvCxnSpPr>
            <a:stCxn id="157" idx="3"/>
            <a:endCxn id="149" idx="1"/>
          </p:cNvCxnSpPr>
          <p:nvPr/>
        </p:nvCxnSpPr>
        <p:spPr>
          <a:xfrm flipV="1">
            <a:off x="1476000" y="2815920"/>
            <a:ext cx="93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7" name="ZoneTexte 21"/>
          <p:cNvSpPr/>
          <p:nvPr/>
        </p:nvSpPr>
        <p:spPr>
          <a:xfrm>
            <a:off x="250920" y="249408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w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Connecteur droit avec flèche 23"/>
          <p:cNvCxnSpPr>
            <a:stCxn id="149" idx="3"/>
            <a:endCxn id="159" idx="1"/>
          </p:cNvCxnSpPr>
          <p:nvPr/>
        </p:nvCxnSpPr>
        <p:spPr>
          <a:xfrm>
            <a:off x="7019640" y="2815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9" name="ZoneTexte 24"/>
          <p:cNvSpPr/>
          <p:nvPr/>
        </p:nvSpPr>
        <p:spPr>
          <a:xfrm>
            <a:off x="7667640" y="24940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nished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27"/>
          <p:cNvSpPr/>
          <p:nvPr/>
        </p:nvSpPr>
        <p:spPr>
          <a:xfrm>
            <a:off x="2268360" y="4076640"/>
            <a:ext cx="17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tside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14"/>
          <p:cNvSpPr/>
          <p:nvPr/>
        </p:nvSpPr>
        <p:spPr>
          <a:xfrm>
            <a:off x="0" y="616572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h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rper, Rao and Sahu (2008), « Development, Divinity and Dharma: The role of religion in development and microfinance institutions», Practical Action Publishing,  Rugby,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bbert, T.J. (2008). Exploring the Role of Spiritual Capital in Poverty Traps and Microfinance. Faith and Economics(51), 57-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ibel, H.D. (2008):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lamic Microfinance in Indonesia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llenge of Institutional Diversity,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gulation, and Supervision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umal of Social Issues in Southeast Asia Vol. 23, No. 1, pp. 86 -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ibel &amp; Nurcahya (2009)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Resilience of Savings-based Microfinance Institutions in the Face of Adversity:  The Case of the Lembaga Perkreditan Desa in 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hta &amp; De Selva (2010) Religious Practice and Microcredit: Literature Review and Research Dire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tuel-Mendes, Ashta &amp; Pic (2011): Microcrédit et religions : regards croisés, présentation à Strasbou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hta (2011): Hinduism and Micro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harma, A. (2011)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of Finance in Hinduism, Agefi, Luxembu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5"/>
          <p:cNvSpPr/>
          <p:nvPr/>
        </p:nvSpPr>
        <p:spPr>
          <a:xfrm>
            <a:off x="6877080" y="6640560"/>
            <a:ext cx="574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FE04-FDAF-47D4-B0D2-FFCD076DB146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eligion and Microfi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Espace réservé du contenu 12" descr=""/>
          <p:cNvPicPr/>
          <p:nvPr/>
        </p:nvPicPr>
        <p:blipFill>
          <a:blip r:embed="rId1"/>
          <a:stretch/>
        </p:blipFill>
        <p:spPr>
          <a:xfrm>
            <a:off x="420840" y="1474920"/>
            <a:ext cx="7980120" cy="1360440"/>
          </a:xfrm>
          <a:prstGeom prst="rect">
            <a:avLst/>
          </a:prstGeom>
          <a:ln w="0">
            <a:noFill/>
          </a:ln>
        </p:spPr>
      </p:pic>
      <p:sp>
        <p:nvSpPr>
          <p:cNvPr id="102" name="Espace réservé du numéro de diapositive 5"/>
          <p:cNvSpPr/>
          <p:nvPr/>
        </p:nvSpPr>
        <p:spPr>
          <a:xfrm>
            <a:off x="6877080" y="6640560"/>
            <a:ext cx="574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4C47-DAAE-4F23-BD2A-8BE2A58A9F08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lèche droite 8"/>
          <p:cNvSpPr/>
          <p:nvPr/>
        </p:nvSpPr>
        <p:spPr>
          <a:xfrm>
            <a:off x="755640" y="3573360"/>
            <a:ext cx="3422520" cy="19432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lèche droite 9"/>
          <p:cNvSpPr/>
          <p:nvPr/>
        </p:nvSpPr>
        <p:spPr>
          <a:xfrm rot="10800000">
            <a:off x="4787640" y="3600360"/>
            <a:ext cx="3422520" cy="19447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10"/>
          <p:cNvSpPr/>
          <p:nvPr/>
        </p:nvSpPr>
        <p:spPr>
          <a:xfrm>
            <a:off x="6049800" y="43876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cro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ffffff"/>
                </a:solidFill>
                <a:latin typeface="Arial"/>
              </a:rPr>
              <a:t>Yet not much research done on these</a:t>
            </a:r>
            <a:br>
              <a:rPr sz="2900"/>
            </a:br>
            <a:r>
              <a:rPr b="0" lang="fr-FR" sz="2900" spc="-1" strike="noStrike">
                <a:solidFill>
                  <a:srgbClr val="ffffff"/>
                </a:solidFill>
                <a:latin typeface="Arial"/>
              </a:rPr>
              <a:t>Abstracts in EBSCO on Dec 21, 2009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" y="1233360"/>
          <a:ext cx="8472600" cy="5029200"/>
        </p:xfrm>
        <a:graphic>
          <a:graphicData uri="http://schemas.openxmlformats.org/drawingml/2006/table">
            <a:tbl>
              <a:tblPr/>
              <a:tblGrid>
                <a:gridCol w="1693800"/>
                <a:gridCol w="1695600"/>
                <a:gridCol w="1693800"/>
                <a:gridCol w="1695600"/>
                <a:gridCol w="1693800"/>
              </a:tblGrid>
              <a:tr h="15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ault ter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Religion or religious)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Religion or religious) AND (entrepreneur OR entrepreneurial Or entrepreneurship)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Religion or religious) AND  (finance Or Financial)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 OR religi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370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preneur OR entrepreneurial OR entrepreneurship OR business OR enterpr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14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e or finan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90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finance OR microcre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entrepreneur OR microenterpr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08" name="ZoneTexte 4"/>
          <p:cNvSpPr/>
          <p:nvPr/>
        </p:nvSpPr>
        <p:spPr>
          <a:xfrm>
            <a:off x="5572080" y="607212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Note: last two columns are subsets of preceding colum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5"/>
          <p:cNvSpPr/>
          <p:nvPr/>
        </p:nvSpPr>
        <p:spPr>
          <a:xfrm>
            <a:off x="3857760" y="6000840"/>
            <a:ext cx="1643040" cy="520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3 are common, so 17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2"/>
          <p:cNvSpPr/>
          <p:nvPr/>
        </p:nvSpPr>
        <p:spPr>
          <a:xfrm>
            <a:off x="179280" y="6308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hta &amp; De Selva,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Our possible research Questions</a:t>
            </a:r>
            <a:br>
              <a:rPr sz="32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shta &amp; De Selva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Espace réservé du contenu 1" descr=""/>
          <p:cNvPicPr/>
          <p:nvPr/>
        </p:nvPicPr>
        <p:blipFill>
          <a:blip r:embed="rId1"/>
          <a:stretch/>
        </p:blipFill>
        <p:spPr>
          <a:xfrm>
            <a:off x="365040" y="1268280"/>
            <a:ext cx="8272440" cy="52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he spiritual and the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039920" cy="63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ery broad question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Espace réservé du contenu 1" descr=""/>
          <p:cNvPicPr/>
          <p:nvPr/>
        </p:nvPicPr>
        <p:blipFill>
          <a:blip r:embed="rId1"/>
          <a:stretch/>
        </p:blipFill>
        <p:spPr>
          <a:xfrm>
            <a:off x="165240" y="2163600"/>
            <a:ext cx="4273560" cy="4230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508720" y="1267920"/>
            <a:ext cx="3178080" cy="63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ybbert (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4572000" y="2565360"/>
            <a:ext cx="4619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0480"/>
            <a:ext cx="76122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ackgound information on some religions</a:t>
            </a:r>
            <a:br>
              <a:rPr sz="2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ttuel-Mendes, Ashta &amp; Pic, 2011, Ashta 201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1197000"/>
          <a:ext cx="8856720" cy="5419800"/>
        </p:xfrm>
        <a:graphic>
          <a:graphicData uri="http://schemas.openxmlformats.org/drawingml/2006/table">
            <a:tbl>
              <a:tblPr/>
              <a:tblGrid>
                <a:gridCol w="1771920"/>
                <a:gridCol w="2259000"/>
                <a:gridCol w="1282680"/>
                <a:gridCol w="1771560"/>
                <a:gridCol w="17715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nud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da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ia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 BC or bef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 B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20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the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the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the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alis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fied mon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the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the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the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ip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das, Upanishads, Shast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a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ateuch of the Bible (Tora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le and Gosp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, examples: Sanatam Dharam, Arya Samaj but also offstreams such as Budhism, Jainism, Sikh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thodo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 Catholic, Protestants (man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i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mailies (Aga Kh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9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20" name="Espace réservé du numéro de diapositive 5"/>
          <p:cNvSpPr/>
          <p:nvPr/>
        </p:nvSpPr>
        <p:spPr>
          <a:xfrm>
            <a:off x="6877080" y="6640560"/>
            <a:ext cx="574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7A65-E210-4059-ABC2-902ADF98FA0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3" descr=""/>
          <p:cNvPicPr/>
          <p:nvPr/>
        </p:nvPicPr>
        <p:blipFill>
          <a:blip r:embed="rId1"/>
          <a:stretch/>
        </p:blipFill>
        <p:spPr>
          <a:xfrm>
            <a:off x="2195640" y="5605560"/>
            <a:ext cx="863640" cy="906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8" descr=""/>
          <p:cNvPicPr/>
          <p:nvPr/>
        </p:nvPicPr>
        <p:blipFill>
          <a:blip r:embed="rId2"/>
          <a:stretch/>
        </p:blipFill>
        <p:spPr>
          <a:xfrm>
            <a:off x="4184640" y="5519880"/>
            <a:ext cx="965160" cy="1077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9" descr=""/>
          <p:cNvPicPr/>
          <p:nvPr/>
        </p:nvPicPr>
        <p:blipFill>
          <a:blip r:embed="rId3"/>
          <a:stretch/>
        </p:blipFill>
        <p:spPr>
          <a:xfrm>
            <a:off x="5811840" y="5632560"/>
            <a:ext cx="1136520" cy="8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0" descr=""/>
          <p:cNvPicPr/>
          <p:nvPr/>
        </p:nvPicPr>
        <p:blipFill>
          <a:blip r:embed="rId4"/>
          <a:stretch/>
        </p:blipFill>
        <p:spPr>
          <a:xfrm>
            <a:off x="7612200" y="5591160"/>
            <a:ext cx="9205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How is money viewed in these rel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1182600"/>
          <a:ext cx="8640720" cy="5496120"/>
        </p:xfrm>
        <a:graphic>
          <a:graphicData uri="http://schemas.openxmlformats.org/drawingml/2006/table">
            <a:tbl>
              <a:tblPr/>
              <a:tblGrid>
                <a:gridCol w="2737080"/>
                <a:gridCol w="1726920"/>
                <a:gridCol w="2016360"/>
                <a:gridCol w="2160360"/>
              </a:tblGrid>
              <a:tr h="523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nud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da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ia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492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ty, Money, Pleasure and Salvation are the four principles virtues / ai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gent interpretations on the texts of Gen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 Catholics don't talk about mon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rade and Allah mentioned by the proph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1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 role given to Lakshmi, the Goddess of fortu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 consider it as a reward for hard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inct field of islamic fi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Goddess is fickle and the Gods and the Rakshasas fight over 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Questions the possibility of making money with mon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 by itself is unprodu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27" name="Espace réservé du numéro de diapositive 5"/>
          <p:cNvSpPr/>
          <p:nvPr/>
        </p:nvSpPr>
        <p:spPr>
          <a:xfrm>
            <a:off x="6877080" y="6640560"/>
            <a:ext cx="574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64DE-AA71-4FCC-B225-38F3D3BA6485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8" descr=""/>
          <p:cNvPicPr/>
          <p:nvPr/>
        </p:nvPicPr>
        <p:blipFill>
          <a:blip r:embed="rId1"/>
          <a:stretch/>
        </p:blipFill>
        <p:spPr>
          <a:xfrm>
            <a:off x="752400" y="4091040"/>
            <a:ext cx="14432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nterest rates and reli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1280" y="1197000"/>
          <a:ext cx="8964720" cy="5369040"/>
        </p:xfrm>
        <a:graphic>
          <a:graphicData uri="http://schemas.openxmlformats.org/drawingml/2006/table">
            <a:tbl>
              <a:tblPr/>
              <a:tblGrid>
                <a:gridCol w="2916360"/>
                <a:gridCol w="1800360"/>
                <a:gridCol w="2006640"/>
                <a:gridCol w="22413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nduism/ 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da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ia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081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smriti: up to 60% per annum according to cas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hashastra: up to 240% per year for sea voyages (high risk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hibition of Tarbes (practical interes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ly between Jews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hibition in Antiquity and Middle Ages: "Money does not use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a is one of three major prohibi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4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ous obligation: with real estate, three generations have to pay with intere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pudat (with no inheritance) sons still need to pay with interest but next two generations without interest (Sharma 201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charge interest for non-Jew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mas Aquinas (thirteenth century): relaxation of the b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rohibition of money lent for remuneration or 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le of sharing profits and los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5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ole of Karma: Cannot leave a loan unpaid in this life… because may be indebted in future 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ibel 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Nurcahya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: Legitimacy of lending at intere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many countries, both islamic finance and normal fin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27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nce in October 2010 to 100% capping the interest rate in Andhra Prades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011: RBI caps at 26% if MFI wants to benefit from priority sector statu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ilings in some developed countries and not in othe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ilings of 27% in B'Desh and W. Afr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1" name="Espace réservé du numéro de diapositive 5"/>
          <p:cNvSpPr/>
          <p:nvPr/>
        </p:nvSpPr>
        <p:spPr>
          <a:xfrm>
            <a:off x="6877080" y="6640560"/>
            <a:ext cx="574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8462-52C3-44E0-95C8-9F4C3F5724E0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1440" y="604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FIs and reli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1280" y="1123920"/>
          <a:ext cx="8964720" cy="5686560"/>
        </p:xfrm>
        <a:graphic>
          <a:graphicData uri="http://schemas.openxmlformats.org/drawingml/2006/table">
            <a:tbl>
              <a:tblPr/>
              <a:tblGrid>
                <a:gridCol w="3276720"/>
                <a:gridCol w="1206360"/>
                <a:gridCol w="1530360"/>
                <a:gridCol w="295128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nduism/ 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da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ia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224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ower of customary governance in financial institutions of t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ary village and the Balinese culture of honoring one’s obligations have played a role. (Seibel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Nurcahya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ustomary system is comprised of customary villages (desa adat, desa pakraman) and constituent customary communities (banj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Jewish Social F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holic Committee against Hunger and for Development (CCF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 in Indonesia (Seibel, 20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373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DRD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 development program started from a Hindu Temple run by a Jain pries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arper et al , 20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exclusively reserved to the Jewish commu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kocredit coopertive (protestant) but loans to 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 banks, including Islamic rural banks, have not done well in Indonesia. Unsupervised cooperatives, including Islamic, are dangerous to sav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ibel 20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9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t rates of 12.5% to 13.5% (compared to 24% to 30% by for-profit top ten MFI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t Rate 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t rate varies with the 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darabah (invest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rabahah (purchase and s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itable Loans : Q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d al-has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 of a microfinance based mainly on Islamic Murabahaj (purchase and res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34" name="Espace réservé du numéro de diapositive 5"/>
          <p:cNvSpPr/>
          <p:nvPr/>
        </p:nvSpPr>
        <p:spPr>
          <a:xfrm>
            <a:off x="6877080" y="6640560"/>
            <a:ext cx="574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0174-9F30-4413-8AB1-75AC8D0AD492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4:57:50Z</dcterms:created>
  <dc:creator>Ghost</dc:creator>
  <dc:description/>
  <dc:language>en-US</dc:language>
  <cp:lastModifiedBy> Niamh</cp:lastModifiedBy>
  <dcterms:modified xsi:type="dcterms:W3CDTF">2011-11-18T10:51:40Z</dcterms:modified>
  <cp:revision>80</cp:revision>
  <dc:subject/>
  <dc:title>Diapositive 1</dc:title>
</cp:coreProperties>
</file>