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BA59-E00E-439D-B707-DC71B9E13E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0788-66B4-4C17-B046-5C3C45D911C3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F9B6-0B34-4F27-8BDB-A966C4F0FBDF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B330-5711-460F-9EB3-767F118C00D0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F25A-F56A-404A-B36C-44D46F310ECE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27BA-090E-4011-8262-0179B65B2573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329B-8E62-4B77-B81E-25FE0316E2D4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4B27-7827-436A-9701-24FA47C98E01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33CF-064F-472E-8EA3-5306E4C91128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33B4-93E3-4F87-AF90-20AC59D392E1}" type="slidenum">
              <a:rPr b="0" lang="de-DE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8800" y="77616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120" y="4718160"/>
            <a:ext cx="4986360" cy="44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Calibri"/>
              </a:rPr>
              <a:t>6 specialised auditing federations: Edeka, FPV, PSD Banken, REWE, Sparda-Banken, Verkeh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190C-C0F2-4789-BF55-3458FAA3AAED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F151-857F-4EBE-96CF-DA1E49CAD960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FB08-2F7C-4964-9866-5A468A2FA20F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5582-480D-4369-B690-7EA516327E40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1CD7-D172-4A67-A633-D591E509A972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BE66-D620-47DE-AB8D-4535FE6BA2E8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804F-7F7A-445E-810A-7A32FA9AF77E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D74A-BE94-4C9F-AD4B-749103C6B109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B802-D136-4889-9410-872934AF5A36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427640" cy="148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5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427640" cy="1482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hyperlink" Target="http://www.adgonline.de/adg_online/index.phtml?PHPSESSID=f31ef1741a34f9e0a7028ea8c1349699" TargetMode="External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35461"/>
                </a:solidFill>
                <a:latin typeface="Arial"/>
              </a:rPr>
              <a:t>The Role of Networks: </a:t>
            </a:r>
            <a:br>
              <a:rPr sz="3200"/>
            </a:br>
            <a:r>
              <a:rPr b="1" lang="en-GB" sz="3200" spc="-1" strike="noStrike">
                <a:solidFill>
                  <a:srgbClr val="935461"/>
                </a:solidFill>
                <a:latin typeface="Arial"/>
              </a:rPr>
              <a:t>The Experience of DGRV in Germany and in Developing Countries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Paul Armbruster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DGRV – Deutscher Genossenschafts- und Raiffeisen Verband e.V.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Head of International Relations </a:t>
            </a: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9640" y="1699920"/>
            <a:ext cx="766152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Weaknesses (cont.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Many coops are not part of networks </a:t>
            </a:r>
            <a:r>
              <a:rPr b="0" lang="fr-FR" sz="24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stand alo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Lack of professional staff and leadership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Lack of internal/external control and adequate supervision by finance sector author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Lack of adapted servic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nly short-term deposi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oblem of maturity transform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Liquidity "trap"  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o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nvestment opportunities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within the syste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o long term cred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o access to long term refinan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Titel 1"/>
          <p:cNvSpPr/>
          <p:nvPr/>
        </p:nvSpPr>
        <p:spPr>
          <a:xfrm>
            <a:off x="4572000" y="189000"/>
            <a:ext cx="45403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ooperative Systems III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915920"/>
            <a:ext cx="7661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Main Challenges for Cooperativ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Adaption to international ru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Transform into full-fledged institutions or integration into a network within full-fledged Apex institu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Adequate capitalization (Basle Rules) through shares and other capital instru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Titel 1"/>
          <p:cNvSpPr/>
          <p:nvPr/>
        </p:nvSpPr>
        <p:spPr>
          <a:xfrm>
            <a:off x="4572000" y="189000"/>
            <a:ext cx="45403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hallenges 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39640" y="2060640"/>
            <a:ext cx="76615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eparation</a:t>
            </a: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 of Operational Structures from Governance Structur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Operations member and market oriented, and effici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Governance structure within the coops and the syste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Titel 1"/>
          <p:cNvSpPr/>
          <p:nvPr/>
        </p:nvSpPr>
        <p:spPr>
          <a:xfrm>
            <a:off x="4500720" y="189000"/>
            <a:ext cx="45399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hallenges I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39640" y="1988640"/>
            <a:ext cx="766152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292929"/>
                </a:solidFill>
                <a:latin typeface="Arial"/>
              </a:rPr>
              <a:t>A Multi-tier Cooperative Structur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Maintain the efficiency of the individual cooperativ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Maintain the efficiency of the system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Economies of scale within the system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Being competitiv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Offer all services needed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Support of the local coops in their role as local financial institution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Titel 1"/>
          <p:cNvSpPr/>
          <p:nvPr/>
        </p:nvSpPr>
        <p:spPr>
          <a:xfrm>
            <a:off x="4500720" y="189000"/>
            <a:ext cx="45399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hallenges II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39640" y="1915920"/>
            <a:ext cx="7661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Apex Institut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Liquidity management and intermediation among the local coop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Investment of liquidity and refinance for individual coop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Organisation of payment and remittance syste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Support of marketing activiti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Organisation of internal control syste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articipation in public credit progra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articipation in international progra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Titel 1"/>
          <p:cNvSpPr/>
          <p:nvPr/>
        </p:nvSpPr>
        <p:spPr>
          <a:xfrm>
            <a:off x="4500720" y="189000"/>
            <a:ext cx="45399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hallenges V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39640" y="1988640"/>
            <a:ext cx="766152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Further challeng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Regulation and supervis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Audit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Deposit insur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Institutional protection system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Legisl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Titel 1"/>
          <p:cNvSpPr/>
          <p:nvPr/>
        </p:nvSpPr>
        <p:spPr>
          <a:xfrm>
            <a:off x="4500720" y="189000"/>
            <a:ext cx="45399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hallenges V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84360" y="476280"/>
            <a:ext cx="46436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Key Success Factors </a:t>
            </a:r>
            <a:br>
              <a:rPr sz="2000"/>
            </a:b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of Cooperatives</a:t>
            </a:r>
            <a:br>
              <a:rPr sz="2000"/>
            </a:b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1773360"/>
            <a:ext cx="766152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67200" indent="-367200">
              <a:spcBef>
                <a:spcPts val="499"/>
              </a:spcBef>
              <a:spcAft>
                <a:spcPts val="1001"/>
              </a:spcAft>
              <a:buClr>
                <a:srgbClr val="ff33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434"/>
                </a:solidFill>
                <a:latin typeface="Arial"/>
              </a:rPr>
              <a:t>Legal mandate for promotion of members’ economy through joint business “cooperative as an enterprise”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>
              <a:spcBef>
                <a:spcPts val="499"/>
              </a:spcBef>
              <a:spcAft>
                <a:spcPts val="1001"/>
              </a:spcAft>
              <a:buClr>
                <a:srgbClr val="ff33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434"/>
                </a:solidFill>
                <a:latin typeface="Arial"/>
              </a:rPr>
              <a:t>Adequate legal bas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>
              <a:spcBef>
                <a:spcPts val="499"/>
              </a:spcBef>
              <a:spcAft>
                <a:spcPts val="1001"/>
              </a:spcAft>
              <a:buClr>
                <a:srgbClr val="ff33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434"/>
                </a:solidFill>
                <a:latin typeface="Arial"/>
              </a:rPr>
              <a:t>Structured as a decentralised, multilevel network syste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>
              <a:spcBef>
                <a:spcPts val="499"/>
              </a:spcBef>
              <a:spcAft>
                <a:spcPts val="1001"/>
              </a:spcAft>
              <a:buClr>
                <a:srgbClr val="ff33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434"/>
                </a:solidFill>
                <a:latin typeface="Arial"/>
              </a:rPr>
              <a:t>Compulsory audit (by cooperative federation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>
              <a:spcBef>
                <a:spcPts val="499"/>
              </a:spcBef>
              <a:spcAft>
                <a:spcPts val="1001"/>
              </a:spcAft>
              <a:buClr>
                <a:srgbClr val="ff33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434"/>
                </a:solidFill>
                <a:latin typeface="Arial"/>
              </a:rPr>
              <a:t>Regulation and supervision of coop. financial institutions (level-playing field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>
              <a:spcBef>
                <a:spcPts val="499"/>
              </a:spcBef>
              <a:spcAft>
                <a:spcPts val="1001"/>
              </a:spcAft>
              <a:buClr>
                <a:srgbClr val="ff33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434"/>
                </a:solidFill>
                <a:latin typeface="Arial"/>
              </a:rPr>
              <a:t>Institutional protection scheme of cooperative banks (incl. savings guarantee system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>
              <a:spcBef>
                <a:spcPts val="499"/>
              </a:spcBef>
              <a:spcAft>
                <a:spcPts val="1001"/>
              </a:spcAft>
              <a:buClr>
                <a:srgbClr val="ff33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434"/>
                </a:solidFill>
                <a:latin typeface="Arial"/>
              </a:rPr>
              <a:t>Well-structured Training / Qualification Syste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3720" y="188640"/>
            <a:ext cx="4644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onclusion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External support of individual cooperative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can limit the establishment of cooperative network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can lead to institutional egoism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can lead to lack of solidarity among the cooperative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Possible way out: support to strengthen cooperative systems / multi level approach (macro/meso/mirco level)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500720" y="115920"/>
            <a:ext cx="46432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35461"/>
                </a:solidFill>
                <a:latin typeface="Arial"/>
              </a:rPr>
              <a:t>The Cooperative Sector in German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3" descr="dgrv_logo_transpar"/>
          <p:cNvPicPr/>
          <p:nvPr/>
        </p:nvPicPr>
        <p:blipFill>
          <a:blip r:embed="rId1"/>
          <a:stretch/>
        </p:blipFill>
        <p:spPr>
          <a:xfrm>
            <a:off x="3624120" y="1876320"/>
            <a:ext cx="984240" cy="343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581120" y="1241280"/>
            <a:ext cx="5318280" cy="1368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647720" y="1386000"/>
            <a:ext cx="4054680" cy="503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1785" dir="189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773280" y="4870440"/>
            <a:ext cx="7643520" cy="1438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 flipH="1" flipV="1" rot="10800000">
            <a:off x="983160" y="4945680"/>
            <a:ext cx="225108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1785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43434"/>
                </a:solidFill>
                <a:latin typeface="Arial"/>
              </a:rPr>
              <a:t>2,512  Raiffeisen coops  incl. 811 agricult. production coop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16480" y="4946760"/>
            <a:ext cx="2319120" cy="685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43434"/>
                </a:solidFill>
                <a:latin typeface="Arial"/>
              </a:rPr>
              <a:t>1,121 Cooperative Banks with 13,350 outle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048360" y="4946760"/>
            <a:ext cx="2195640" cy="12189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1785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43434"/>
                </a:solidFill>
                <a:latin typeface="Arial"/>
              </a:rPr>
              <a:t>1,921 buying and marketing groups and other service coops and 214 consumer coop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119160" y="1170000"/>
            <a:ext cx="1360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43434"/>
                </a:solidFill>
                <a:latin typeface="Arial"/>
              </a:rPr>
              <a:t>National leve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984240" y="3117960"/>
            <a:ext cx="717552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119160" y="2604960"/>
            <a:ext cx="1828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43434"/>
                </a:solidFill>
                <a:latin typeface="Arial"/>
              </a:rPr>
              <a:t>Regional leve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19160" y="4433760"/>
            <a:ext cx="17571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43434"/>
                </a:solidFill>
                <a:latin typeface="Arial"/>
              </a:rPr>
              <a:t>Local leve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1049400" y="3833640"/>
            <a:ext cx="1776240" cy="5461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1785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43434"/>
                </a:solidFill>
                <a:latin typeface="Arial"/>
              </a:rPr>
              <a:t>17 Raiffeise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43434"/>
                </a:solidFill>
                <a:latin typeface="Arial"/>
              </a:rPr>
              <a:t>central coop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4675320" y="3833640"/>
            <a:ext cx="1757160" cy="533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1785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43434"/>
                </a:solidFill>
                <a:latin typeface="Arial"/>
              </a:rPr>
              <a:t>2 central industry commodity coop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6541920" y="3270240"/>
            <a:ext cx="1335240" cy="10969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43434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43434"/>
                </a:solidFill>
                <a:latin typeface="Arial"/>
              </a:rPr>
              <a:t>specialised regional institution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4675320" y="3282840"/>
            <a:ext cx="1728720" cy="479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81185" dir="18521970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43434"/>
                </a:solidFill>
                <a:latin typeface="Arial"/>
              </a:rPr>
              <a:t>6 specialised audit federation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1116000" y="3270240"/>
            <a:ext cx="3460680" cy="4795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33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43434"/>
                </a:solidFill>
                <a:latin typeface="Arial"/>
              </a:rPr>
              <a:t>6 regional audit federation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Rectangle 19"/>
          <p:cNvSpPr/>
          <p:nvPr/>
        </p:nvSpPr>
        <p:spPr>
          <a:xfrm flipH="1" flipV="1" rot="10800000">
            <a:off x="982800" y="5708520"/>
            <a:ext cx="4852800" cy="457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ff66"/>
              </a:gs>
            </a:gsLst>
            <a:lin ang="0"/>
          </a:gradFill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43434"/>
                </a:solidFill>
                <a:latin typeface="Arial"/>
              </a:rPr>
              <a:t>151 mixed cooperatives</a:t>
            </a:r>
            <a:br>
              <a:rPr sz="1400"/>
            </a:br>
            <a:r>
              <a:rPr b="1" lang="en-GB" sz="1400" spc="-1" strike="noStrike">
                <a:solidFill>
                  <a:srgbClr val="343434"/>
                </a:solidFill>
                <a:latin typeface="Arial"/>
              </a:rPr>
              <a:t>(bank / agric. commerce, service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4" name="Picture 20" descr="raiff_Giebel grün"/>
          <p:cNvPicPr/>
          <p:nvPr/>
        </p:nvPicPr>
        <p:blipFill>
          <a:blip r:embed="rId2"/>
          <a:stretch/>
        </p:blipFill>
        <p:spPr>
          <a:xfrm>
            <a:off x="836640" y="5373720"/>
            <a:ext cx="350640" cy="36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21"/>
          <p:cNvGraphicFramePr/>
          <p:nvPr/>
        </p:nvGraphicFramePr>
        <p:xfrm>
          <a:off x="3419640" y="5370480"/>
          <a:ext cx="422280" cy="3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5370480"/>
                    <a:ext cx="42228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22"/>
          <p:cNvGraphicFramePr/>
          <p:nvPr/>
        </p:nvGraphicFramePr>
        <p:xfrm>
          <a:off x="5064120" y="4718160"/>
          <a:ext cx="844560" cy="2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4120" y="4718160"/>
                    <a:ext cx="8445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23"/>
          <p:cNvGraphicFramePr/>
          <p:nvPr/>
        </p:nvGraphicFramePr>
        <p:xfrm>
          <a:off x="3446640" y="4718160"/>
          <a:ext cx="312480" cy="32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46640" y="4718160"/>
                    <a:ext cx="31248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Picture 24" descr="dgrv_logo_transpar"/>
          <p:cNvPicPr/>
          <p:nvPr/>
        </p:nvPicPr>
        <p:blipFill>
          <a:blip r:embed="rId9"/>
          <a:stretch/>
        </p:blipFill>
        <p:spPr>
          <a:xfrm>
            <a:off x="3094200" y="1341360"/>
            <a:ext cx="1261800" cy="513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5"/>
          <p:cNvSpPr/>
          <p:nvPr/>
        </p:nvSpPr>
        <p:spPr>
          <a:xfrm>
            <a:off x="7761240" y="6184800"/>
            <a:ext cx="131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43434"/>
                </a:solidFill>
                <a:latin typeface="Arial Unicode MS"/>
              </a:rPr>
              <a:t>per 31</a:t>
            </a:r>
            <a:r>
              <a:rPr b="1" lang="de-DE" sz="1000" spc="-1" strike="noStrike" baseline="30000">
                <a:solidFill>
                  <a:srgbClr val="343434"/>
                </a:solidFill>
                <a:latin typeface="Arial Unicode MS"/>
              </a:rPr>
              <a:t>st</a:t>
            </a:r>
            <a:r>
              <a:rPr b="1" lang="de-DE" sz="1000" spc="-1" strike="noStrike">
                <a:solidFill>
                  <a:srgbClr val="343434"/>
                </a:solidFill>
                <a:latin typeface="Arial Unicode MS"/>
              </a:rPr>
              <a:t> Dec. 2011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5767560" y="1386000"/>
            <a:ext cx="1063440" cy="107928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1785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43434"/>
                </a:solidFill>
                <a:latin typeface="Arial"/>
              </a:rPr>
              <a:t>24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43434"/>
                </a:solidFill>
                <a:latin typeface="Arial"/>
              </a:rPr>
              <a:t>specialised institution e.g. DZ Bank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2978280" y="3833640"/>
            <a:ext cx="1601640" cy="549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43434"/>
                </a:solidFill>
                <a:latin typeface="Arial"/>
              </a:rPr>
              <a:t>1 regional Coop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343434"/>
                </a:solidFill>
                <a:latin typeface="Arial"/>
              </a:rPr>
              <a:t>Central Bank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5" name="Picture 28" descr=""/>
          <p:cNvPicPr/>
          <p:nvPr/>
        </p:nvPicPr>
        <p:blipFill>
          <a:blip r:embed="rId10"/>
          <a:stretch/>
        </p:blipFill>
        <p:spPr>
          <a:xfrm>
            <a:off x="7297560" y="981000"/>
            <a:ext cx="1846440" cy="1565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7" descr="logo-zgv-rgb zugeschnitten"/>
          <p:cNvPicPr/>
          <p:nvPr/>
        </p:nvPicPr>
        <p:blipFill>
          <a:blip r:embed="rId11"/>
          <a:stretch/>
        </p:blipFill>
        <p:spPr>
          <a:xfrm>
            <a:off x="1679400" y="2011320"/>
            <a:ext cx="827280" cy="352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6" descr="DRV-Logo RGB2"/>
          <p:cNvPicPr/>
          <p:nvPr/>
        </p:nvPicPr>
        <p:blipFill>
          <a:blip r:embed="rId12"/>
          <a:stretch/>
        </p:blipFill>
        <p:spPr>
          <a:xfrm>
            <a:off x="3732120" y="2077920"/>
            <a:ext cx="870120" cy="3715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0"/>
          <p:cNvSpPr/>
          <p:nvPr/>
        </p:nvSpPr>
        <p:spPr>
          <a:xfrm>
            <a:off x="2697120" y="2014560"/>
            <a:ext cx="868320" cy="365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40186" dir="1096358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3736800" y="2014560"/>
            <a:ext cx="835200" cy="406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40186" dir="1096358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43434"/>
                </a:solidFill>
                <a:latin typeface="Arial"/>
              </a:rPr>
              <a:t>                          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0" name="Picture 33" descr="0"/>
          <p:cNvPicPr/>
          <p:nvPr/>
        </p:nvPicPr>
        <p:blipFill>
          <a:blip r:embed="rId13"/>
          <a:stretch/>
        </p:blipFill>
        <p:spPr>
          <a:xfrm>
            <a:off x="2716200" y="2050920"/>
            <a:ext cx="828720" cy="2732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4"/>
          <p:cNvSpPr/>
          <p:nvPr/>
        </p:nvSpPr>
        <p:spPr>
          <a:xfrm>
            <a:off x="4729320" y="2017800"/>
            <a:ext cx="92844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2" name="Picture 35" descr="0"/>
          <p:cNvPicPr/>
          <p:nvPr/>
        </p:nvPicPr>
        <p:blipFill>
          <a:blip r:embed="rId14"/>
          <a:stretch/>
        </p:blipFill>
        <p:spPr>
          <a:xfrm>
            <a:off x="4937040" y="2050920"/>
            <a:ext cx="509760" cy="37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8" descr="ADG Onlin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99400" y="2465280"/>
            <a:ext cx="591840" cy="5018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9"/>
          <p:cNvSpPr/>
          <p:nvPr/>
        </p:nvSpPr>
        <p:spPr>
          <a:xfrm>
            <a:off x="1643040" y="2014560"/>
            <a:ext cx="893880" cy="3650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40186" dir="1096358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4994280" y="1446120"/>
            <a:ext cx="337644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43434"/>
                </a:solidFill>
                <a:latin typeface="Arial"/>
              </a:rPr>
              <a:t>Regional cooperative 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43434"/>
                </a:solidFill>
                <a:latin typeface="Arial"/>
              </a:rPr>
              <a:t>central bank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633240" y="1446120"/>
            <a:ext cx="3376800" cy="6098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43434"/>
                </a:solidFill>
                <a:latin typeface="Arial"/>
              </a:rPr>
              <a:t>National cooperative 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43434"/>
                </a:solidFill>
                <a:latin typeface="Arial"/>
              </a:rPr>
              <a:t>central bank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421160" y="260280"/>
            <a:ext cx="47023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35461"/>
                </a:solidFill>
                <a:latin typeface="Arial"/>
              </a:rPr>
              <a:t>The Cooperative Financial Networ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4010040" y="1751040"/>
            <a:ext cx="984240" cy="0"/>
          </a:xfrm>
          <a:prstGeom prst="line">
            <a:avLst/>
          </a:prstGeom>
          <a:ln cap="sq"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2884320" y="1751040"/>
            <a:ext cx="1059120" cy="288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92280" y="3884760"/>
            <a:ext cx="7735680" cy="5331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ccec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43434"/>
                </a:solidFill>
                <a:latin typeface="Arial"/>
              </a:rPr>
              <a:t>1,121  l o c a l   c o o p e r a t i v e   b a n k s,    13,350  o u t l e t 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43434"/>
                </a:solidFill>
                <a:latin typeface="Arial"/>
              </a:rPr>
              <a:t>( Volksbanks and Raiffeisenbanks, Sparda-Banken, Post-Spar- und Darlehensvereine 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402160" y="4722840"/>
            <a:ext cx="1408320" cy="60948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cffcc"/>
              </a:gs>
              <a:gs pos="100000">
                <a:srgbClr val="6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43434"/>
                </a:solidFill>
                <a:latin typeface="Arial"/>
              </a:rPr>
              <a:t>Audit federation of th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43434"/>
                </a:solidFill>
                <a:latin typeface="Arial"/>
              </a:rPr>
              <a:t>Sparda-Banke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692280" y="4722840"/>
            <a:ext cx="4572000" cy="60948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cffcc"/>
              </a:gs>
              <a:gs pos="100000">
                <a:srgbClr val="6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43434"/>
                </a:solidFill>
                <a:latin typeface="Arial"/>
              </a:rPr>
              <a:t>5 regional auditing federation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43434"/>
                </a:solidFill>
                <a:latin typeface="Arial"/>
              </a:rPr>
              <a:t>(Bavaria, Hesse/Rhineland-Palatinate/Saarland/Saxony/Thuringia,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43434"/>
                </a:solidFill>
                <a:latin typeface="Arial"/>
              </a:rPr>
              <a:t>North Germany, Rhineland/Westphalia, Weser-Ems, Baden Württemberg)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950160" y="4722840"/>
            <a:ext cx="1477800" cy="60948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cffcc"/>
              </a:gs>
              <a:gs pos="100000">
                <a:srgbClr val="6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43434"/>
                </a:solidFill>
                <a:latin typeface="Arial"/>
              </a:rPr>
              <a:t>Audit federation of the Post-Spar-Darlehensverei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92280" y="5637240"/>
            <a:ext cx="7735680" cy="3222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66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43434"/>
                </a:solidFill>
                <a:latin typeface="Arial"/>
              </a:rPr>
              <a:t>National Association </a:t>
            </a:r>
            <a:r>
              <a:rPr b="1" lang="en-GB" sz="1500" spc="-1" strike="noStrike">
                <a:solidFill>
                  <a:srgbClr val="343434"/>
                </a:solidFill>
                <a:latin typeface="Arial"/>
                <a:ea typeface="Times New Roman"/>
              </a:rPr>
              <a:t>of Volksbanks and Raiffeisenbank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1758960" y="2055960"/>
            <a:ext cx="0" cy="1828800"/>
          </a:xfrm>
          <a:prstGeom prst="line">
            <a:avLst/>
          </a:prstGeom>
          <a:ln cap="sq"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6753240" y="2055960"/>
            <a:ext cx="0" cy="1828800"/>
          </a:xfrm>
          <a:prstGeom prst="line">
            <a:avLst/>
          </a:prstGeom>
          <a:ln cap="sq"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2730600" y="4417920"/>
            <a:ext cx="0" cy="304920"/>
          </a:xfrm>
          <a:prstGeom prst="line">
            <a:avLst/>
          </a:prstGeom>
          <a:ln cap="sq"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7653240" y="4417920"/>
            <a:ext cx="0" cy="304920"/>
          </a:xfrm>
          <a:prstGeom prst="line">
            <a:avLst/>
          </a:prstGeom>
          <a:ln cap="sq"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6035760" y="4417920"/>
            <a:ext cx="0" cy="304920"/>
          </a:xfrm>
          <a:prstGeom prst="line">
            <a:avLst/>
          </a:prstGeom>
          <a:ln cap="sq"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2730600" y="5484960"/>
            <a:ext cx="4922640" cy="0"/>
          </a:xfrm>
          <a:prstGeom prst="line">
            <a:avLst/>
          </a:prstGeom>
          <a:ln cap="sq"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4559400" y="5484960"/>
            <a:ext cx="0" cy="152280"/>
          </a:xfrm>
          <a:prstGeom prst="line">
            <a:avLst/>
          </a:prstGeom>
          <a:ln cap="sq"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2730600" y="5332320"/>
            <a:ext cx="0" cy="152640"/>
          </a:xfrm>
          <a:prstGeom prst="line">
            <a:avLst/>
          </a:prstGeom>
          <a:ln cap="sq"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6035760" y="5332320"/>
            <a:ext cx="0" cy="152640"/>
          </a:xfrm>
          <a:prstGeom prst="line">
            <a:avLst/>
          </a:prstGeom>
          <a:ln cap="sq"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7653240" y="5332320"/>
            <a:ext cx="0" cy="152640"/>
          </a:xfrm>
          <a:prstGeom prst="line">
            <a:avLst/>
          </a:prstGeom>
          <a:ln cap="sq"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5" name="Object 23"/>
          <p:cNvGraphicFramePr/>
          <p:nvPr/>
        </p:nvGraphicFramePr>
        <p:xfrm>
          <a:off x="7942320" y="3808440"/>
          <a:ext cx="560160" cy="41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42320" y="3808440"/>
                    <a:ext cx="5601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24"/>
          <p:cNvGraphicFramePr/>
          <p:nvPr/>
        </p:nvGraphicFramePr>
        <p:xfrm>
          <a:off x="638280" y="3838680"/>
          <a:ext cx="844560" cy="25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8280" y="3838680"/>
                    <a:ext cx="8445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25"/>
          <p:cNvGraphicFramePr/>
          <p:nvPr/>
        </p:nvGraphicFramePr>
        <p:xfrm>
          <a:off x="635040" y="4157640"/>
          <a:ext cx="311040" cy="32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0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5040" y="4157640"/>
                    <a:ext cx="3110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Picture 26" descr="0"/>
          <p:cNvPicPr/>
          <p:nvPr/>
        </p:nvPicPr>
        <p:blipFill>
          <a:blip r:embed="rId8"/>
          <a:stretch/>
        </p:blipFill>
        <p:spPr>
          <a:xfrm>
            <a:off x="7694640" y="5560920"/>
            <a:ext cx="914400" cy="26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Object 27"/>
          <p:cNvGraphicFramePr/>
          <p:nvPr/>
        </p:nvGraphicFramePr>
        <p:xfrm>
          <a:off x="7245360" y="1751040"/>
          <a:ext cx="1093680" cy="24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Object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45360" y="1751040"/>
                    <a:ext cx="109368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28"/>
          <p:cNvSpPr/>
          <p:nvPr/>
        </p:nvSpPr>
        <p:spPr>
          <a:xfrm>
            <a:off x="1444680" y="2997360"/>
            <a:ext cx="631800" cy="304560"/>
          </a:xfrm>
          <a:prstGeom prst="rect">
            <a:avLst/>
          </a:prstGeom>
          <a:solidFill>
            <a:srgbClr val="ffc000"/>
          </a:solidFill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43434"/>
                </a:solidFill>
                <a:latin typeface="Arial"/>
              </a:rPr>
              <a:t>917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Rectangle 29"/>
          <p:cNvSpPr/>
          <p:nvPr/>
        </p:nvSpPr>
        <p:spPr>
          <a:xfrm>
            <a:off x="6470640" y="3046320"/>
            <a:ext cx="633600" cy="3049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43434"/>
                </a:solidFill>
                <a:latin typeface="Arial"/>
              </a:rPr>
              <a:t>204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Picture 30" descr=""/>
          <p:cNvPicPr/>
          <p:nvPr/>
        </p:nvPicPr>
        <p:blipFill>
          <a:blip r:embed="rId11"/>
          <a:stretch/>
        </p:blipFill>
        <p:spPr>
          <a:xfrm>
            <a:off x="3441600" y="2087640"/>
            <a:ext cx="2060640" cy="174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4643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Table of conten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Financial cooperative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ooperative Bank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Models of cooperative network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ooperative system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Key success factors of German cooperative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The Cooperative Sector in German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The Cooperative Financial Network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81160" y="1557360"/>
            <a:ext cx="87184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35461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Dr. Paul Armbrus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armbruster@dgrv.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international@dgrv.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www.dgrv.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www.dgrv.or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0"/>
            <a:ext cx="91440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0" y="188640"/>
            <a:ext cx="45403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Introduction I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nancial</a:t>
            </a: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 sector plays a vital role in economic develop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Worldwide,</a:t>
            </a: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 Financial 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Cooperatives</a:t>
            </a: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 are an important part of the financial sect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s full-fledged bank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s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‘non-banks’-institutions / credit un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9640" y="1773360"/>
            <a:ext cx="766152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rganizational approaches of financial syste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entralized syste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cision-making process centralized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 many countries: urban bias, channeling of savings from rural to urban areas, no backflow of credits, development and growth only in urban are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ut: remittances from urban to rural are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centralized system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cision-making process decentralized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cal knowledge about local econom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cal/regional savings/investment-circl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0" y="188640"/>
            <a:ext cx="45403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Introduction II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55280" y="1628640"/>
            <a:ext cx="806436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cooperative is a group of persons following the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inciples of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lf-help, Self-governance, Self-responsibility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cus on members – Member Value vs. Shareholder Val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operative Banks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egal form: cooperative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inancial activities are based on general banking law </a:t>
            </a:r>
            <a:r>
              <a:rPr b="0" lang="en-US" sz="18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fully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licensed banks (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vel playing field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redit and Savings cooperatives and Credit Unions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egal form: cooperative/credit un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pecial legislation and special supervis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lternatives: under banking law or rules derived from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anking law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0" y="188640"/>
            <a:ext cx="45403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Financial Cooperative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39640" y="1773360"/>
            <a:ext cx="766152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Cooperative Banks in Europe – Financial Partners for Local Econom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Sustainable relationship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Proximity with members/cli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Decentralization as an asse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Best financial servi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More stable than commercial bank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They induce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conomic</a:t>
            </a: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 and social effe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Titel 1"/>
          <p:cNvSpPr/>
          <p:nvPr/>
        </p:nvSpPr>
        <p:spPr>
          <a:xfrm>
            <a:off x="4572000" y="189000"/>
            <a:ext cx="45403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ooperative Bank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 rot="10800000">
            <a:off x="9251280" y="1413000"/>
            <a:ext cx="14436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39640" y="1773360"/>
            <a:ext cx="766152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entralized and highly concentrated at  national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entralized and concentrated at regional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ederated and decentralized but integrated by law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centralized but integrated on a voluntary ba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Titel 1"/>
          <p:cNvSpPr/>
          <p:nvPr/>
        </p:nvSpPr>
        <p:spPr>
          <a:xfrm>
            <a:off x="4572000" y="189000"/>
            <a:ext cx="45403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Models of Cooperative Network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9640" y="1773360"/>
            <a:ext cx="766152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Evolution of Cooperative System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rom scratch: starting with individual local cooperativ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op-down: starting with one (central) unit opening new branches and new cooperativ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multaneous a. and b. </a:t>
            </a:r>
            <a:r>
              <a:rPr b="0" lang="en-US" sz="28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networking on different level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Titel 1"/>
          <p:cNvSpPr/>
          <p:nvPr/>
        </p:nvSpPr>
        <p:spPr>
          <a:xfrm>
            <a:off x="4572000" y="189000"/>
            <a:ext cx="45403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ooperative Systems I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9640" y="1773360"/>
            <a:ext cx="766152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Weakness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Traditional financial cooperatives are being marginalized or do not emerg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Other financial institutions open access to financial servi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Many coops/credit unions lack scale and adequate capitaliz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Legislation is too restrictive in many countr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Titel 1"/>
          <p:cNvSpPr/>
          <p:nvPr/>
        </p:nvSpPr>
        <p:spPr>
          <a:xfrm>
            <a:off x="4572000" y="189000"/>
            <a:ext cx="45403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ooperative Systems II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Sarah Scholz</cp:lastModifiedBy>
  <cp:lastPrinted>2012-11-13T13:02:50Z</cp:lastPrinted>
  <dcterms:modified xsi:type="dcterms:W3CDTF">2012-11-14T10:16:27Z</dcterms:modified>
  <cp:revision>67</cp:revision>
  <dc:subject/>
  <dc:title>Slide 1</dc:title>
</cp:coreProperties>
</file>