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9B78-631A-492B-A7EB-7FDA6C00EC4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9E25-A220-4142-A2E8-2F95AE81FB2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6DCB-B92B-4DAD-9728-19254BD0341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43F8-BF0B-43C0-A3C3-01D9CA577F7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3CF1-1B08-4C5A-9BEB-FFD4741FE36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7ADA-16CD-4469-B3FF-EF78794EEA0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2A07-9DA0-48A7-BB58-C409B0D04EE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2D0E-FA0F-483D-9340-99E8971FDCA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F6AB-10A3-4DBB-99B7-68C7F945374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633F-C718-4576-B02A-2BEDF89D5A6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8558-108C-4DA5-BA70-5ECDE859231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seau Européen de la Microfinance: Commission Européenne</a:t>
            </a:r>
            <a:endParaRPr b="0" lang="en-US" sz="1200" spc="-1" strike="noStrike">
              <a:solidFill>
                <a:srgbClr val="000000"/>
              </a:solidFill>
              <a:latin typeface="Calibri"/>
            </a:endParaRPr>
          </a:p>
        </p:txBody>
      </p:sp>
      <p:sp>
        <p:nvSpPr>
          <p:cNvPr id="48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5CC5-F752-4887-A89C-17E70E7E39A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636D-AAD3-41B4-A54B-A8E13EC5659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seau Européen de la Microfinance: Commission Européenne</a:t>
            </a:r>
            <a:endParaRPr b="0" lang="en-US" sz="1200" spc="-1" strike="noStrike">
              <a:solidFill>
                <a:srgbClr val="000000"/>
              </a:solidFill>
              <a:latin typeface="Calibri"/>
            </a:endParaRPr>
          </a:p>
        </p:txBody>
      </p:sp>
      <p:sp>
        <p:nvSpPr>
          <p:cNvPr id="4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3DDD-5255-4EE3-A010-3FE44DCD56E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seau Européen de la Microfinance: Commission Européenne</a:t>
            </a:r>
            <a:endParaRPr b="0" lang="en-US" sz="1200" spc="-1" strike="noStrike">
              <a:solidFill>
                <a:srgbClr val="000000"/>
              </a:solidFill>
              <a:latin typeface="Calibri"/>
            </a:endParaRPr>
          </a:p>
        </p:txBody>
      </p:sp>
      <p:sp>
        <p:nvSpPr>
          <p:cNvPr id="49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A1EC-AC76-481C-9005-F4CA4730349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BEAD-57D1-428E-8F0E-D8070E4B09D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BE38-CBBC-45B1-B825-BAC98893AA1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projet de loi portant réglementation des systèmes financiers décentralisés était d'autant plus nécessaire que beaucoup de ces structures de micro-finances souffrent d'insuffisances comme : la mauvaise gouvernance dans les SFD ; l'insuffisance du professionnalisme du personnel et des dirigeants des SFD ; la défaillance du système d'information de gestion reflétée par la faible fiabilité des états financiers de certains SFD et la non disponibilité, dans les délais requis, de l'information financière ; la faiblesse des mécanismes internes et externes de surveillance et des insuffisances dans le suivi des recommandations formulées à l'issue des contrôl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aménagements: l'extension de la nouvelle réglementation à l'ensemble des systèmes financiers décentralisés ; l'instauration d'un régime unique d'autorisation d'exercice; l'implication de la Banque Centrale et de la Commission Bancaire, dans la surveillance des Institutions ; le renforcement du dispositif prudentiel et des sanctions applicables ainsi que la certification obligatoire des comptes pour les systèmes financiers décentralisés d'une certaine taille financiè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41D3-FDA3-4CC1-A23F-B3551A58727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0481-E8F5-473B-A939-D8E6207644C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for AFMIN was conceived in 1996. In June of that year, leaders from several international organizations and leading African microfinance institutions met in Bamako to identify the key steps necessary for building local networks in fifteen African countries. In July 1997, the program was launched in South Africa. Since its launch, the program has helped to create or strengthen country-level networks in thirteen African countries.</a:t>
            </a:r>
            <a:br>
              <a:rPr sz="1200"/>
            </a:br>
            <a:br>
              <a:rPr sz="1200"/>
            </a:br>
            <a:r>
              <a:rPr b="0" lang="en-US" sz="1200" spc="-1" strike="noStrike">
                <a:solidFill>
                  <a:srgbClr val="000000"/>
                </a:solidFill>
                <a:latin typeface="Calibri"/>
              </a:rPr>
              <a:t>The goal of the program was to contribute to poverty reduction in Africa by opening access to finance and business development services to poor entrepreneurs and producers, particularly women. The immediate objectives of the program and related outputs, as stated in WWB’s original project proposal were to :</a:t>
            </a:r>
            <a:br>
              <a:rPr sz="1200"/>
            </a:br>
            <a:r>
              <a:rPr b="0" lang="en-US" sz="1200" spc="-1" strike="noStrike">
                <a:solidFill>
                  <a:srgbClr val="000000"/>
                </a:solidFill>
                <a:latin typeface="Calibri"/>
              </a:rPr>
              <a:t>  - Facilitate the establishment and strengthening of regional and country-level networks of MFIs in Africa. Build the mechanisms, products and services to facilitate lateral learning among microfinance leaders in Africa, and with leaders around the world. </a:t>
            </a:r>
            <a:br>
              <a:rPr sz="1200"/>
            </a:br>
            <a:r>
              <a:rPr b="0" lang="en-US" sz="1200" spc="-1" strike="noStrike">
                <a:solidFill>
                  <a:srgbClr val="000000"/>
                </a:solidFill>
                <a:latin typeface="Calibri"/>
              </a:rPr>
              <a:t>  - Reinforce the institutional capacities, reach, and leadership of women-led MFIs that focus on serving poor women, as a means of reaching more poor women, and as a means to get other leading microfinance organizations in Africa to shift toward a greater participation by women in financial services, and in institutional decision-making. </a:t>
            </a:r>
            <a:br>
              <a:rPr sz="1200"/>
            </a:br>
            <a:r>
              <a:rPr b="0" lang="en-US" sz="1200" spc="-1" strike="noStrike">
                <a:solidFill>
                  <a:srgbClr val="000000"/>
                </a:solidFill>
                <a:latin typeface="Calibri"/>
              </a:rPr>
              <a:t>Therefore, the program centered on :</a:t>
            </a:r>
            <a:br>
              <a:rPr sz="1200"/>
            </a:br>
            <a:r>
              <a:rPr b="0" lang="en-US" sz="1200" spc="-1" strike="noStrike">
                <a:solidFill>
                  <a:srgbClr val="000000"/>
                </a:solidFill>
                <a:latin typeface="Calibri"/>
              </a:rPr>
              <a:t>           - The formation and strengthening of country-level networks of MFIs in 15 African countries,</a:t>
            </a:r>
            <a:br>
              <a:rPr sz="1200"/>
            </a:br>
            <a:r>
              <a:rPr b="0" lang="en-US" sz="1200" spc="-1" strike="noStrike">
                <a:solidFill>
                  <a:srgbClr val="000000"/>
                </a:solidFill>
                <a:latin typeface="Calibri"/>
              </a:rPr>
              <a:t>           - Activities leading to the formation of the Africa regional microfinance network,</a:t>
            </a:r>
            <a:br>
              <a:rPr sz="1200"/>
            </a:br>
            <a:r>
              <a:rPr b="0" lang="en-US" sz="1200" spc="-1" strike="noStrike">
                <a:solidFill>
                  <a:srgbClr val="000000"/>
                </a:solidFill>
                <a:latin typeface="Calibri"/>
              </a:rPr>
              <a:t>           - The distillation and dissemination of best practices in microfinance in the region, and</a:t>
            </a:r>
            <a:br>
              <a:rPr sz="1200"/>
            </a:br>
            <a:r>
              <a:rPr b="0" lang="en-US" sz="1200" spc="-1" strike="noStrike">
                <a:solidFill>
                  <a:srgbClr val="000000"/>
                </a:solidFill>
                <a:latin typeface="Calibri"/>
              </a:rPr>
              <a:t>           - Institutional development support to women-led WWB affiliates in Africa through technical inputs and services from the WWB network. </a:t>
            </a:r>
            <a:br>
              <a:rPr sz="1200"/>
            </a:br>
            <a:r>
              <a:rPr b="0" lang="en-US" sz="1200" spc="-1" strike="noStrike">
                <a:solidFill>
                  <a:srgbClr val="000000"/>
                </a:solidFill>
                <a:latin typeface="Calibri"/>
              </a:rPr>
              <a:t>WWB and UNDP had collaborated closely since 1995 in preparatory activities, notably the preparation of an inventory of MFIs in 17 African countries, conducted by WWB and UNDP country bureaus; and a Best Practice Workshop of Leading African MFIs-many identified through the inventory exercise-held in 1996 in Mali. Most MFI leaders convened at the workshop became key players in the program, taking a leading role in the formation or strengthening of country-level MFI networks and the eventual formation of AFMIN.</a:t>
            </a:r>
            <a:br>
              <a:rPr sz="1200"/>
            </a:br>
            <a:br>
              <a:rPr sz="1200"/>
            </a:br>
            <a:r>
              <a:rPr b="0" lang="en-US" sz="1200" spc="-1" strike="noStrike">
                <a:solidFill>
                  <a:srgbClr val="000000"/>
                </a:solidFill>
                <a:latin typeface="Calibri"/>
              </a:rPr>
              <a:t>These African anchors and network leaders decided that the initial focus of the program should be on building country-level networks in countries where they did not already exist, and to strengthen the networks that already existed. It was agreed that the Africa regional MFI network should be formed only after the establishment of strong, operational country-level networks with a proven record of providing value-added services to their members. As a result, the first two years of the program were dedicated to building and/or strengthening country-level networks. Participating African anchors and MFI leaders agreed on the criteria that a country-level network would need to meet by 2000 to become a member of AFMIN.</a:t>
            </a:r>
            <a:br>
              <a:rPr sz="1200"/>
            </a:br>
            <a:br>
              <a:rPr sz="1200"/>
            </a:br>
            <a:r>
              <a:rPr b="0" lang="en-US" sz="1200" spc="-1" strike="noStrike">
                <a:solidFill>
                  <a:srgbClr val="000000"/>
                </a:solidFill>
                <a:latin typeface="Calibri"/>
              </a:rPr>
              <a:t>The successful strategy adopted in the program was three-pronged :</a:t>
            </a:r>
            <a:br>
              <a:rPr sz="1200"/>
            </a:br>
            <a:r>
              <a:rPr b="0" lang="en-US" sz="1200" spc="-1" strike="noStrike">
                <a:solidFill>
                  <a:srgbClr val="000000"/>
                </a:solidFill>
                <a:latin typeface="Calibri"/>
              </a:rPr>
              <a:t>  - Organizing six-monthly workshops in which anchors and network leaders plan and evaluate their in-country activities and achievements; </a:t>
            </a:r>
            <a:br>
              <a:rPr sz="1200"/>
            </a:br>
            <a:r>
              <a:rPr b="0" lang="en-US" sz="1200" spc="-1" strike="noStrike">
                <a:solidFill>
                  <a:srgbClr val="000000"/>
                </a:solidFill>
                <a:latin typeface="Calibri"/>
              </a:rPr>
              <a:t>- Building best practice know-how on the role of networks, key success factors of MFI networks, criteria for membership and value-adding network products and services that retain existing members and attract new ones;</a:t>
            </a:r>
            <a:br>
              <a:rPr sz="1200"/>
            </a:br>
            <a:r>
              <a:rPr b="0" lang="en-US" sz="1200" spc="-1" strike="noStrike">
                <a:solidFill>
                  <a:srgbClr val="000000"/>
                </a:solidFill>
                <a:latin typeface="Calibri"/>
              </a:rPr>
              <a:t>- Providing seed funding for the start-up activities of country-level networks, e.g., mobilizing members, meetings and sensitization activities. </a:t>
            </a:r>
            <a:br>
              <a:rPr sz="1200"/>
            </a:br>
            <a:r>
              <a:rPr b="0" lang="en-US" sz="1200" spc="-1" strike="noStrike">
                <a:solidFill>
                  <a:srgbClr val="000000"/>
                </a:solidFill>
                <a:latin typeface="Calibri"/>
              </a:rPr>
              <a:t>All regional-level meetings combined a best practice session with a networks session. The best practice session was open to participation by UNDP officers, additional existing and potential funders and other leading MFIs. The networks session involved only network leaders and anchors. They included sessions in which all country-level network representatives outlined and discussed the progress made in the previous six-month period in building country-level networks and presented the action plan for the following six-month period.</a:t>
            </a:r>
            <a:br>
              <a:rPr sz="1200"/>
            </a:br>
            <a:br>
              <a:rPr sz="1200"/>
            </a:br>
            <a:r>
              <a:rPr b="0" lang="en-US" sz="1200" spc="-1" strike="noStrike">
                <a:solidFill>
                  <a:srgbClr val="000000"/>
                </a:solidFill>
                <a:latin typeface="Calibri"/>
              </a:rPr>
              <a:t>Regional meetings were held in the following locations :</a:t>
            </a:r>
            <a:br>
              <a:rPr sz="1200"/>
            </a:br>
            <a:r>
              <a:rPr b="0" lang="en-US" sz="1200" spc="-1" strike="noStrike">
                <a:solidFill>
                  <a:srgbClr val="000000"/>
                </a:solidFill>
                <a:latin typeface="Calibri"/>
              </a:rPr>
              <a:t> Johannesburg, South Africa, July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s Ababa, Ethiopia, March 199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bidjan, Ivory Coast, September 199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robi, Kenya, April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kar, Senegal, October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 Town, South Africa, July 2000-pre-launch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tonou, Benin, December 2000-official launch of AF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culminated in the formal launch of AFMIN, the Africa Microfinance Network, in December 2000. The AFMIN membership consists of 22 country-level networks of MFI from East, West and Southern Africa. The 22 country-level networks collectively number 1 118 MFI members with a combined reach of over 13 million poor clients. </a:t>
            </a:r>
            <a:endParaRPr b="0" lang="en-US" sz="1200" spc="-1" strike="noStrike">
              <a:solidFill>
                <a:srgbClr val="000000"/>
              </a:solidFill>
              <a:latin typeface="Calibri"/>
            </a:endParaRPr>
          </a:p>
        </p:txBody>
      </p:sp>
      <p:sp>
        <p:nvSpPr>
          <p:cNvPr id="4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7D91-BDAA-49FB-BDEC-5D80A028D19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for AFMIN was conceived in 1996. In June of that year, leaders from several international organizations and leading African microfinance institutions met in Bamako to identify the key steps necessary for building local networks in fifteen African countries. In July 1997, the program was launched in South Africa. Since its launch, the program has helped to create or strengthen country-level networks in thirteen African countries.</a:t>
            </a:r>
            <a:br>
              <a:rPr sz="1200"/>
            </a:br>
            <a:br>
              <a:rPr sz="1200"/>
            </a:br>
            <a:r>
              <a:rPr b="0" lang="en-US" sz="1200" spc="-1" strike="noStrike">
                <a:solidFill>
                  <a:srgbClr val="000000"/>
                </a:solidFill>
                <a:latin typeface="Calibri"/>
              </a:rPr>
              <a:t>The goal of the program was to contribute to poverty reduction in Africa by opening access to finance and business development services to poor entrepreneurs and producers, particularly women. The immediate objectives of the program and related outputs, as stated in WWB’s original project proposal were to :</a:t>
            </a:r>
            <a:br>
              <a:rPr sz="1200"/>
            </a:br>
            <a:r>
              <a:rPr b="0" lang="en-US" sz="1200" spc="-1" strike="noStrike">
                <a:solidFill>
                  <a:srgbClr val="000000"/>
                </a:solidFill>
                <a:latin typeface="Calibri"/>
              </a:rPr>
              <a:t>  - Facilitate the establishment and strengthening of regional and country-level networks of MFIs in Africa. Build the mechanisms, products and services to facilitate lateral learning among microfinance leaders in Africa, and with leaders around the world. </a:t>
            </a:r>
            <a:br>
              <a:rPr sz="1200"/>
            </a:br>
            <a:r>
              <a:rPr b="0" lang="en-US" sz="1200" spc="-1" strike="noStrike">
                <a:solidFill>
                  <a:srgbClr val="000000"/>
                </a:solidFill>
                <a:latin typeface="Calibri"/>
              </a:rPr>
              <a:t>  - Reinforce the institutional capacities, reach, and leadership of women-led MFIs that focus on serving poor women, as a means of reaching more poor women, and as a means to get other leading microfinance organizations in Africa to shift toward a greater participation by women in financial services, and in institutional decision-making. </a:t>
            </a:r>
            <a:br>
              <a:rPr sz="1200"/>
            </a:br>
            <a:r>
              <a:rPr b="0" lang="en-US" sz="1200" spc="-1" strike="noStrike">
                <a:solidFill>
                  <a:srgbClr val="000000"/>
                </a:solidFill>
                <a:latin typeface="Calibri"/>
              </a:rPr>
              <a:t>Therefore, the program centered on :</a:t>
            </a:r>
            <a:br>
              <a:rPr sz="1200"/>
            </a:br>
            <a:r>
              <a:rPr b="0" lang="en-US" sz="1200" spc="-1" strike="noStrike">
                <a:solidFill>
                  <a:srgbClr val="000000"/>
                </a:solidFill>
                <a:latin typeface="Calibri"/>
              </a:rPr>
              <a:t>           - The formation and strengthening of country-level networks of MFIs in 15 African countries,</a:t>
            </a:r>
            <a:br>
              <a:rPr sz="1200"/>
            </a:br>
            <a:r>
              <a:rPr b="0" lang="en-US" sz="1200" spc="-1" strike="noStrike">
                <a:solidFill>
                  <a:srgbClr val="000000"/>
                </a:solidFill>
                <a:latin typeface="Calibri"/>
              </a:rPr>
              <a:t>           - Activities leading to the formation of the Africa regional microfinance network,</a:t>
            </a:r>
            <a:br>
              <a:rPr sz="1200"/>
            </a:br>
            <a:r>
              <a:rPr b="0" lang="en-US" sz="1200" spc="-1" strike="noStrike">
                <a:solidFill>
                  <a:srgbClr val="000000"/>
                </a:solidFill>
                <a:latin typeface="Calibri"/>
              </a:rPr>
              <a:t>           - The distillation and dissemination of best practices in microfinance in the region, and</a:t>
            </a:r>
            <a:br>
              <a:rPr sz="1200"/>
            </a:br>
            <a:r>
              <a:rPr b="0" lang="en-US" sz="1200" spc="-1" strike="noStrike">
                <a:solidFill>
                  <a:srgbClr val="000000"/>
                </a:solidFill>
                <a:latin typeface="Calibri"/>
              </a:rPr>
              <a:t>           - Institutional development support to women-led WWB affiliates in Africa through technical inputs and services from the WWB network. </a:t>
            </a:r>
            <a:br>
              <a:rPr sz="1200"/>
            </a:br>
            <a:r>
              <a:rPr b="0" lang="en-US" sz="1200" spc="-1" strike="noStrike">
                <a:solidFill>
                  <a:srgbClr val="000000"/>
                </a:solidFill>
                <a:latin typeface="Calibri"/>
              </a:rPr>
              <a:t>WWB and UNDP had collaborated closely since 1995 in preparatory activities, notably the preparation of an inventory of MFIs in 17 African countries, conducted by WWB and UNDP country bureaus; and a Best Practice Workshop of Leading African MFIs-many identified through the inventory exercise-held in 1996 in Mali. Most MFI leaders convened at the workshop became key players in the program, taking a leading role in the formation or strengthening of country-level MFI networks and the eventual formation of AFMIN.</a:t>
            </a:r>
            <a:br>
              <a:rPr sz="1200"/>
            </a:br>
            <a:br>
              <a:rPr sz="1200"/>
            </a:br>
            <a:r>
              <a:rPr b="0" lang="en-US" sz="1200" spc="-1" strike="noStrike">
                <a:solidFill>
                  <a:srgbClr val="000000"/>
                </a:solidFill>
                <a:latin typeface="Calibri"/>
              </a:rPr>
              <a:t>These African anchors and network leaders decided that the initial focus of the program should be on building country-level networks in countries where they did not already exist, and to strengthen the networks that already existed. It was agreed that the Africa regional MFI network should be formed only after the establishment of strong, operational country-level networks with a proven record of providing value-added services to their members. As a result, the first two years of the program were dedicated to building and/or strengthening country-level networks. Participating African anchors and MFI leaders agreed on the criteria that a country-level network would need to meet by 2000 to become a member of AFMIN.</a:t>
            </a:r>
            <a:br>
              <a:rPr sz="1200"/>
            </a:br>
            <a:br>
              <a:rPr sz="1200"/>
            </a:br>
            <a:r>
              <a:rPr b="0" lang="en-US" sz="1200" spc="-1" strike="noStrike">
                <a:solidFill>
                  <a:srgbClr val="000000"/>
                </a:solidFill>
                <a:latin typeface="Calibri"/>
              </a:rPr>
              <a:t>The successful strategy adopted in the program was three-pronged :</a:t>
            </a:r>
            <a:br>
              <a:rPr sz="1200"/>
            </a:br>
            <a:r>
              <a:rPr b="0" lang="en-US" sz="1200" spc="-1" strike="noStrike">
                <a:solidFill>
                  <a:srgbClr val="000000"/>
                </a:solidFill>
                <a:latin typeface="Calibri"/>
              </a:rPr>
              <a:t>  - Organizing six-monthly workshops in which anchors and network leaders plan and evaluate their in-country activities and achievements; </a:t>
            </a:r>
            <a:br>
              <a:rPr sz="1200"/>
            </a:br>
            <a:r>
              <a:rPr b="0" lang="en-US" sz="1200" spc="-1" strike="noStrike">
                <a:solidFill>
                  <a:srgbClr val="000000"/>
                </a:solidFill>
                <a:latin typeface="Calibri"/>
              </a:rPr>
              <a:t>- Building best practice know-how on the role of networks, key success factors of MFI networks, criteria for membership and value-adding network products and services that retain existing members and attract new ones;</a:t>
            </a:r>
            <a:br>
              <a:rPr sz="1200"/>
            </a:br>
            <a:r>
              <a:rPr b="0" lang="en-US" sz="1200" spc="-1" strike="noStrike">
                <a:solidFill>
                  <a:srgbClr val="000000"/>
                </a:solidFill>
                <a:latin typeface="Calibri"/>
              </a:rPr>
              <a:t>- Providing seed funding for the start-up activities of country-level networks, e.g., mobilizing members, meetings and sensitization activities. </a:t>
            </a:r>
            <a:br>
              <a:rPr sz="1200"/>
            </a:br>
            <a:r>
              <a:rPr b="0" lang="en-US" sz="1200" spc="-1" strike="noStrike">
                <a:solidFill>
                  <a:srgbClr val="000000"/>
                </a:solidFill>
                <a:latin typeface="Calibri"/>
              </a:rPr>
              <a:t>All regional-level meetings combined a best practice session with a networks session. The best practice session was open to participation by UNDP officers, additional existing and potential funders and other leading MFIs. The networks session involved only network leaders and anchors. They included sessions in which all country-level network representatives outlined and discussed the progress made in the previous six-month period in building country-level networks and presented the action plan for the following six-month period.</a:t>
            </a:r>
            <a:br>
              <a:rPr sz="1200"/>
            </a:br>
            <a:br>
              <a:rPr sz="1200"/>
            </a:br>
            <a:r>
              <a:rPr b="0" lang="en-US" sz="1200" spc="-1" strike="noStrike">
                <a:solidFill>
                  <a:srgbClr val="000000"/>
                </a:solidFill>
                <a:latin typeface="Calibri"/>
              </a:rPr>
              <a:t>Regional meetings were held in the following locations :</a:t>
            </a:r>
            <a:br>
              <a:rPr sz="1200"/>
            </a:br>
            <a:r>
              <a:rPr b="0" lang="en-US" sz="1200" spc="-1" strike="noStrike">
                <a:solidFill>
                  <a:srgbClr val="000000"/>
                </a:solidFill>
                <a:latin typeface="Calibri"/>
              </a:rPr>
              <a:t> Johannesburg, South Africa, July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s Ababa, Ethiopia, March 199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bidjan, Ivory Coast, September 199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robi, Kenya, April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kar, Senegal, October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 Town, South Africa, July 2000-pre-launch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tonou, Benin, December 2000-official launch of AF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culminated in the formal launch of AFMIN, the Africa Microfinance Network, in December 2000. The AFMIN membership consists of 22 country-level networks of MFI from East, West and Southern Africa. The 22 country-level networks collectively number 1 118 MFI members with a combined reach of over 13 million poor clients. </a:t>
            </a:r>
            <a:endParaRPr b="0" lang="en-US" sz="1200" spc="-1" strike="noStrike">
              <a:solidFill>
                <a:srgbClr val="000000"/>
              </a:solidFill>
              <a:latin typeface="Calibri"/>
            </a:endParaRPr>
          </a:p>
        </p:txBody>
      </p:sp>
      <p:sp>
        <p:nvSpPr>
          <p:cNvPr id="4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4685-651A-4376-B58C-6F82C33376D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BBFD-7028-41CF-A28B-ECE202845CA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20C0-61E4-4380-A3C8-5C7AB6236AD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87F6-75DE-4D90-9800-FCA25109192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ales instances de AFMIN sont: Les représentants de l’Assemblée Générale de AFMIN, les Membres du Conseil d’Administration de AFMIN et le Secrétariat de AFMIN, </a:t>
            </a:r>
            <a:br>
              <a:rPr sz="1200"/>
            </a:br>
            <a:br>
              <a:rPr sz="1200"/>
            </a:br>
            <a:r>
              <a:rPr b="1" lang="fr-FR" sz="1200" spc="-1" strike="noStrike">
                <a:solidFill>
                  <a:srgbClr val="000000"/>
                </a:solidFill>
                <a:latin typeface="Calibri"/>
              </a:rPr>
              <a:t>L’Assemblée générale</a:t>
            </a:r>
            <a:br>
              <a:rPr sz="1200"/>
            </a:br>
            <a:br>
              <a:rPr sz="1200"/>
            </a:br>
            <a:r>
              <a:rPr b="0" lang="fr-FR" sz="1200" spc="-1" strike="noStrike">
                <a:solidFill>
                  <a:srgbClr val="000000"/>
                </a:solidFill>
                <a:latin typeface="Calibri"/>
              </a:rPr>
              <a:t>    L’Assemblée générale est l’instance suprême de AFMIN. Elle comprend deux représentants de chacun des 22 réseaux nationaux : le Directeur Exécutif et le Président ou un représentant désigné. Tous les membres de l’Assemblée générale sont des dirigeants du secteur de la microfinance dans leurs pays respectifs et ont prouvé leur engagement à contribuer à long terme au succès de AFMIN. </a:t>
            </a:r>
            <a:br>
              <a:rPr sz="1200"/>
            </a:br>
            <a:r>
              <a:rPr b="0" lang="fr-FR" sz="1200" spc="-1" strike="noStrike">
                <a:solidFill>
                  <a:srgbClr val="000000"/>
                </a:solidFill>
                <a:latin typeface="Calibri"/>
              </a:rPr>
              <a:t>L’Assemblée générale se réunit une fois par an et s’occupe de l’élaboration des orientations stratégiques générales et des politiques de AFMIN, ainsi que de l’élection du Conseil d’Administration. L’Assemblée générale analyse aussi et approuve les plans d’affaires, les rapports de AFMIN et les comptes soumis par le Conseil ; elle approuve également les nouveaux membres de AFMIN sur recommandation du Conseil.</a:t>
            </a:r>
            <a:br>
              <a:rPr sz="1200"/>
            </a:br>
            <a:br>
              <a:rPr sz="1200"/>
            </a:br>
            <a:r>
              <a:rPr b="1" lang="fr-FR" sz="1200" spc="-1" strike="noStrike">
                <a:solidFill>
                  <a:srgbClr val="000000"/>
                </a:solidFill>
                <a:latin typeface="Calibri"/>
              </a:rPr>
              <a:t>Le Conseil d’Administration </a:t>
            </a:r>
            <a:br>
              <a:rPr sz="1200"/>
            </a:br>
            <a:br>
              <a:rPr sz="1200"/>
            </a:br>
            <a:r>
              <a:rPr b="0" lang="fr-FR" sz="1200" spc="-1" strike="noStrike">
                <a:solidFill>
                  <a:srgbClr val="000000"/>
                </a:solidFill>
                <a:latin typeface="Calibri"/>
              </a:rPr>
              <a:t>Le Conseil d’Administration de AFMIN est une instance de sept personnes élues parmi les membres de l’Assemblée générale de AFMIN. Les membres du Conseil d’Administration ne représentent pas leurs réseaux respectifs au Conseil. Ce dernier présente les rapports à l’Assemblée générale et assume la responsabilité de réalisation à long terme des objectifs stratégiques de AFMIN.</a:t>
            </a:r>
            <a:br>
              <a:rPr sz="1200"/>
            </a:br>
            <a:br>
              <a:rPr sz="1200"/>
            </a:br>
            <a:r>
              <a:rPr b="1" lang="fr-FR" sz="1200" spc="-1" strike="noStrike">
                <a:solidFill>
                  <a:srgbClr val="000000"/>
                </a:solidFill>
                <a:latin typeface="Calibri"/>
              </a:rPr>
              <a:t>Le Secrétariat Exécutif</a:t>
            </a:r>
            <a:br>
              <a:rPr sz="1200"/>
            </a:br>
            <a:br>
              <a:rPr sz="1200"/>
            </a:br>
            <a:r>
              <a:rPr b="0" lang="fr-FR" sz="1200" spc="-1" strike="noStrike">
                <a:solidFill>
                  <a:srgbClr val="000000"/>
                </a:solidFill>
                <a:latin typeface="Calibri"/>
              </a:rPr>
              <a:t>Le Secrétariat Exécutif, avec le Conseil d’Administration, constitue la structure d’appui de AFMIN. Le secrétariat de AFMIN comprend un Directeur Exécutif, un Directeur des programmes, un comptable et une assistance administrative. Cette structure est prévue pour le personnel permanent du secrétariat. En complément, AFMIN recrute un personnel spécifique pour la mise en oeuvre de chaque programme dont les couts sont financés directement par les projets en cours. L’occupation des postes de cadres supérieurs confirmés au niveau de AFMIN exige une expérience réussie et conséquente d’au moins cinq ans dans le domaine de la microfinance, ainsi des qualifications établies en matière de gestion ou administration des affaires et des compétences en communication. Ces postes sont ouverts aux citoyens africains, maîtrisant de préférence l’anglais et le français.</a:t>
            </a:r>
            <a:br>
              <a:rPr sz="1200"/>
            </a:br>
            <a:endParaRPr b="0" lang="en-US" sz="1200" spc="-1" strike="noStrike">
              <a:solidFill>
                <a:srgbClr val="000000"/>
              </a:solidFill>
              <a:latin typeface="Calibri"/>
            </a:endParaRPr>
          </a:p>
        </p:txBody>
      </p:sp>
      <p:sp>
        <p:nvSpPr>
          <p:cNvPr id="4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B718-CF90-451B-A0E5-7FC7C0AE117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ales instances de AFMIN sont: Les représentants de l’Assemblée Générale de AFMIN, les Membres du Conseil d’Administration de AFMIN et le Secrétariat de AFMIN, </a:t>
            </a:r>
            <a:br>
              <a:rPr sz="1200"/>
            </a:br>
            <a:br>
              <a:rPr sz="1200"/>
            </a:br>
            <a:r>
              <a:rPr b="1" lang="fr-FR" sz="1200" spc="-1" strike="noStrike">
                <a:solidFill>
                  <a:srgbClr val="000000"/>
                </a:solidFill>
                <a:latin typeface="Calibri"/>
              </a:rPr>
              <a:t>L’Assemblée générale</a:t>
            </a:r>
            <a:br>
              <a:rPr sz="1200"/>
            </a:br>
            <a:br>
              <a:rPr sz="1200"/>
            </a:br>
            <a:r>
              <a:rPr b="0" lang="fr-FR" sz="1200" spc="-1" strike="noStrike">
                <a:solidFill>
                  <a:srgbClr val="000000"/>
                </a:solidFill>
                <a:latin typeface="Calibri"/>
              </a:rPr>
              <a:t>    L’Assemblée générale est l’instance suprême de AFMIN. Elle comprend deux représentants de chacun des 22 réseaux nationaux : le Directeur Exécutif et le Président ou un représentant désigné. Tous les membres de l’Assemblée générale sont des dirigeants du secteur de la microfinance dans leurs pays respectifs et ont prouvé leur engagement à contribuer à long terme au succès de AFMIN. </a:t>
            </a:r>
            <a:br>
              <a:rPr sz="1200"/>
            </a:br>
            <a:r>
              <a:rPr b="0" lang="fr-FR" sz="1200" spc="-1" strike="noStrike">
                <a:solidFill>
                  <a:srgbClr val="000000"/>
                </a:solidFill>
                <a:latin typeface="Calibri"/>
              </a:rPr>
              <a:t>L’Assemblée générale se réunit une fois par an et s’occupe de l’élaboration des orientations stratégiques générales et des politiques de AFMIN, ainsi que de l’élection du Conseil d’Administration. L’Assemblée générale analyse aussi et approuve les plans d’affaires, les rapports de AFMIN et les comptes soumis par le Conseil ; elle approuve également les nouveaux membres de AFMIN sur recommandation du Conseil.</a:t>
            </a:r>
            <a:br>
              <a:rPr sz="1200"/>
            </a:br>
            <a:br>
              <a:rPr sz="1200"/>
            </a:br>
            <a:r>
              <a:rPr b="1" lang="fr-FR" sz="1200" spc="-1" strike="noStrike">
                <a:solidFill>
                  <a:srgbClr val="000000"/>
                </a:solidFill>
                <a:latin typeface="Calibri"/>
              </a:rPr>
              <a:t>Le Conseil d’Administration </a:t>
            </a:r>
            <a:br>
              <a:rPr sz="1200"/>
            </a:br>
            <a:br>
              <a:rPr sz="1200"/>
            </a:br>
            <a:r>
              <a:rPr b="0" lang="fr-FR" sz="1200" spc="-1" strike="noStrike">
                <a:solidFill>
                  <a:srgbClr val="000000"/>
                </a:solidFill>
                <a:latin typeface="Calibri"/>
              </a:rPr>
              <a:t>Le Conseil d’Administration de AFMIN est une instance de sept personnes élues parmi les membres de l’Assemblée générale de AFMIN. Les membres du Conseil d’Administration ne représentent pas leurs réseaux respectifs au Conseil. Ce dernier présente les rapports à l’Assemblée générale et assume la responsabilité de réalisation à long terme des objectifs stratégiques de AFMIN.</a:t>
            </a:r>
            <a:br>
              <a:rPr sz="1200"/>
            </a:br>
            <a:br>
              <a:rPr sz="1200"/>
            </a:br>
            <a:r>
              <a:rPr b="1" lang="fr-FR" sz="1200" spc="-1" strike="noStrike">
                <a:solidFill>
                  <a:srgbClr val="000000"/>
                </a:solidFill>
                <a:latin typeface="Calibri"/>
              </a:rPr>
              <a:t>Le Secrétariat Exécutif</a:t>
            </a:r>
            <a:br>
              <a:rPr sz="1200"/>
            </a:br>
            <a:br>
              <a:rPr sz="1200"/>
            </a:br>
            <a:r>
              <a:rPr b="0" lang="fr-FR" sz="1200" spc="-1" strike="noStrike">
                <a:solidFill>
                  <a:srgbClr val="000000"/>
                </a:solidFill>
                <a:latin typeface="Calibri"/>
              </a:rPr>
              <a:t>Le Secrétariat Exécutif, avec le Conseil d’Administration, constitue la structure d’appui de AFMIN. Le secrétariat de AFMIN comprend un Directeur Exécutif, un Directeur des programmes, un comptable et une assistance administrative. Cette structure est prévue pour le personnel permanent du secrétariat. En complément, AFMIN recrute un personnel spécifique pour la mise en oeuvre de chaque programme dont les couts sont financés directement par les projets en cours. L’occupation des postes de cadres supérieurs confirmés au niveau de AFMIN exige une expérience réussie et conséquente d’au moins cinq ans dans le domaine de la microfinance, ainsi des qualifications établies en matière de gestion ou administration des affaires et des compétences en communication. Ces postes sont ouverts aux citoyens africains, maîtrisant de préférence l’anglais et le français.</a:t>
            </a:r>
            <a:br>
              <a:rPr sz="1200"/>
            </a:br>
            <a:endParaRPr b="0" lang="en-US" sz="1200" spc="-1" strike="noStrike">
              <a:solidFill>
                <a:srgbClr val="000000"/>
              </a:solidFill>
              <a:latin typeface="Calibri"/>
            </a:endParaRPr>
          </a:p>
        </p:txBody>
      </p:sp>
      <p:sp>
        <p:nvSpPr>
          <p:cNvPr id="4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9259-FBD4-4888-8271-EA00A5AA366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97B22-2ADB-40DB-AA2C-C246F9539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935E-1C8A-422D-9D9C-52A9F14FF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95950-ADA5-4C5A-B0B9-E4D058A96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5AF47-AEA8-4589-B0A9-7B3714447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212CD-36F3-4FE7-9FBF-FEA42041B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976BA-873D-4920-98EB-B9F7242F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37DD6-742F-4CA8-8208-6235B55FD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8FDC-614C-4881-B128-36494005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4C065-77D3-48C1-9F0B-31E868DB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74428-9A48-4B9F-B557-EA17BD99D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507E-7198-45E6-BF0D-664625E15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F486-65D5-47D3-A933-08DE04B7C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3D60-897E-4616-A55D-B789472A632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142920"/>
            <a:ext cx="9144000" cy="7000920"/>
          </a:xfrm>
          <a:prstGeom prst="rect">
            <a:avLst/>
          </a:prstGeom>
          <a:ln w="0">
            <a:noFill/>
          </a:ln>
        </p:spPr>
      </p:pic>
      <p:sp>
        <p:nvSpPr>
          <p:cNvPr id="49" name="PlaceHolder 1"/>
          <p:cNvSpPr>
            <a:spLocks noGrp="1"/>
          </p:cNvSpPr>
          <p:nvPr>
            <p:ph type="title"/>
          </p:nvPr>
        </p:nvSpPr>
        <p:spPr>
          <a:xfrm>
            <a:off x="685440" y="2130120"/>
            <a:ext cx="7529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résentation du Réseau Africain de Microfinance (AFMIN) </a:t>
            </a:r>
            <a:br>
              <a:rPr sz="2400"/>
            </a:br>
            <a:br>
              <a:rPr sz="2400"/>
            </a:br>
            <a:r>
              <a:rPr b="1" lang="fr-FR" sz="2400" spc="-1" strike="noStrike">
                <a:solidFill>
                  <a:srgbClr val="000000"/>
                </a:solidFill>
                <a:latin typeface="Calibri"/>
              </a:rPr>
              <a:t>OUSMANE THIONGANE, AFMIN Chairman</a:t>
            </a:r>
            <a:endParaRPr b="0" lang="en-US" sz="2400" spc="-1" strike="noStrike">
              <a:solidFill>
                <a:srgbClr val="000000"/>
              </a:solidFill>
              <a:latin typeface="Calibri"/>
            </a:endParaRPr>
          </a:p>
        </p:txBody>
      </p:sp>
      <p:sp>
        <p:nvSpPr>
          <p:cNvPr id="50" name="PlaceHolder 2"/>
          <p:cNvSpPr>
            <a:spLocks noGrp="1"/>
          </p:cNvSpPr>
          <p:nvPr>
            <p:ph type="subTitle"/>
          </p:nvPr>
        </p:nvSpPr>
        <p:spPr>
          <a:xfrm>
            <a:off x="1428840" y="4071960"/>
            <a:ext cx="7415280" cy="15717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emaine Européenne de la Microfinanc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uxembourg</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15 Novembre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8" descr="D:\AFMIN\NewPicture\AFMIN3.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28760" y="142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ETENDUE DU RESEAU</a:t>
            </a:r>
            <a:endParaRPr b="0" lang="en-US" sz="4800" spc="-1" strike="noStrike">
              <a:solidFill>
                <a:srgbClr val="000000"/>
              </a:solidFill>
              <a:latin typeface="Calibri"/>
            </a:endParaRPr>
          </a:p>
        </p:txBody>
      </p:sp>
      <p:sp>
        <p:nvSpPr>
          <p:cNvPr id="87" name="Freeform 3"/>
          <p:cNvSpPr/>
          <p:nvPr/>
        </p:nvSpPr>
        <p:spPr>
          <a:xfrm>
            <a:off x="2806560" y="2189160"/>
            <a:ext cx="951120" cy="933480"/>
          </a:xfrm>
          <a:custGeom>
            <a:avLst/>
            <a:gdLst>
              <a:gd name="textAreaLeft" fmla="*/ 0 w 951120"/>
              <a:gd name="textAreaRight" fmla="*/ 951480 w 951120"/>
              <a:gd name="textAreaTop" fmla="*/ 0 h 933480"/>
              <a:gd name="textAreaBottom" fmla="*/ 933840 h 933480"/>
            </a:gdLst>
            <a:ahLst/>
            <a:rect l="textAreaLeft" t="textAreaTop" r="textAreaRight" b="textAreaBottom"/>
            <a:pathLst>
              <a:path w="20000" h="20000">
                <a:moveTo>
                  <a:pt x="8892" y="0"/>
                </a:moveTo>
                <a:lnTo>
                  <a:pt x="16279" y="5544"/>
                </a:lnTo>
                <a:lnTo>
                  <a:pt x="16279" y="5864"/>
                </a:lnTo>
                <a:lnTo>
                  <a:pt x="16990" y="6299"/>
                </a:lnTo>
                <a:lnTo>
                  <a:pt x="17565" y="6589"/>
                </a:lnTo>
                <a:lnTo>
                  <a:pt x="18112" y="6734"/>
                </a:lnTo>
                <a:lnTo>
                  <a:pt x="18550" y="7054"/>
                </a:lnTo>
                <a:lnTo>
                  <a:pt x="18851" y="7518"/>
                </a:lnTo>
                <a:lnTo>
                  <a:pt x="18550" y="8099"/>
                </a:lnTo>
                <a:lnTo>
                  <a:pt x="18851" y="8244"/>
                </a:lnTo>
                <a:lnTo>
                  <a:pt x="19973" y="8099"/>
                </a:lnTo>
                <a:lnTo>
                  <a:pt x="19973" y="10653"/>
                </a:lnTo>
                <a:lnTo>
                  <a:pt x="19672" y="10943"/>
                </a:lnTo>
                <a:lnTo>
                  <a:pt x="19398" y="12163"/>
                </a:lnTo>
                <a:lnTo>
                  <a:pt x="18960" y="13033"/>
                </a:lnTo>
                <a:lnTo>
                  <a:pt x="18550" y="12917"/>
                </a:lnTo>
                <a:lnTo>
                  <a:pt x="16279" y="13033"/>
                </a:lnTo>
                <a:lnTo>
                  <a:pt x="16005" y="13353"/>
                </a:lnTo>
                <a:lnTo>
                  <a:pt x="14856" y="13643"/>
                </a:lnTo>
                <a:lnTo>
                  <a:pt x="13707" y="13353"/>
                </a:lnTo>
                <a:lnTo>
                  <a:pt x="13434" y="13817"/>
                </a:lnTo>
                <a:lnTo>
                  <a:pt x="12312" y="13817"/>
                </a:lnTo>
                <a:lnTo>
                  <a:pt x="12175" y="14572"/>
                </a:lnTo>
                <a:lnTo>
                  <a:pt x="11190" y="15007"/>
                </a:lnTo>
                <a:lnTo>
                  <a:pt x="11026" y="15298"/>
                </a:lnTo>
                <a:lnTo>
                  <a:pt x="10451" y="15298"/>
                </a:lnTo>
                <a:lnTo>
                  <a:pt x="10752" y="15762"/>
                </a:lnTo>
                <a:lnTo>
                  <a:pt x="10342" y="16052"/>
                </a:lnTo>
                <a:lnTo>
                  <a:pt x="9904" y="15588"/>
                </a:lnTo>
                <a:lnTo>
                  <a:pt x="9330" y="15762"/>
                </a:lnTo>
                <a:lnTo>
                  <a:pt x="9631" y="16517"/>
                </a:lnTo>
                <a:lnTo>
                  <a:pt x="9330" y="16517"/>
                </a:lnTo>
                <a:lnTo>
                  <a:pt x="9330" y="16952"/>
                </a:lnTo>
                <a:lnTo>
                  <a:pt x="8892" y="17562"/>
                </a:lnTo>
                <a:lnTo>
                  <a:pt x="8618" y="17562"/>
                </a:lnTo>
                <a:lnTo>
                  <a:pt x="8044" y="17707"/>
                </a:lnTo>
                <a:lnTo>
                  <a:pt x="8208" y="18491"/>
                </a:lnTo>
                <a:lnTo>
                  <a:pt x="8044" y="18926"/>
                </a:lnTo>
                <a:lnTo>
                  <a:pt x="8044" y="19361"/>
                </a:lnTo>
                <a:lnTo>
                  <a:pt x="7497" y="19681"/>
                </a:lnTo>
                <a:lnTo>
                  <a:pt x="7086" y="19681"/>
                </a:lnTo>
                <a:lnTo>
                  <a:pt x="6922" y="19216"/>
                </a:lnTo>
                <a:lnTo>
                  <a:pt x="6648" y="19216"/>
                </a:lnTo>
                <a:lnTo>
                  <a:pt x="6375" y="19361"/>
                </a:lnTo>
                <a:lnTo>
                  <a:pt x="6211" y="19681"/>
                </a:lnTo>
                <a:lnTo>
                  <a:pt x="6211" y="19971"/>
                </a:lnTo>
                <a:lnTo>
                  <a:pt x="5636" y="19681"/>
                </a:lnTo>
                <a:lnTo>
                  <a:pt x="5527" y="19361"/>
                </a:lnTo>
                <a:lnTo>
                  <a:pt x="5089" y="19971"/>
                </a:lnTo>
                <a:lnTo>
                  <a:pt x="4514" y="19361"/>
                </a:lnTo>
                <a:lnTo>
                  <a:pt x="4514" y="18926"/>
                </a:lnTo>
                <a:lnTo>
                  <a:pt x="4378" y="18781"/>
                </a:lnTo>
                <a:lnTo>
                  <a:pt x="4378" y="18142"/>
                </a:lnTo>
                <a:lnTo>
                  <a:pt x="4077" y="18026"/>
                </a:lnTo>
                <a:lnTo>
                  <a:pt x="3967" y="17707"/>
                </a:lnTo>
                <a:lnTo>
                  <a:pt x="3393" y="16836"/>
                </a:lnTo>
                <a:lnTo>
                  <a:pt x="3256" y="16952"/>
                </a:lnTo>
                <a:lnTo>
                  <a:pt x="2955" y="17242"/>
                </a:lnTo>
                <a:lnTo>
                  <a:pt x="2517" y="17242"/>
                </a:lnTo>
                <a:lnTo>
                  <a:pt x="1833" y="17707"/>
                </a:lnTo>
                <a:lnTo>
                  <a:pt x="1395" y="17242"/>
                </a:lnTo>
                <a:lnTo>
                  <a:pt x="1122" y="17242"/>
                </a:lnTo>
                <a:lnTo>
                  <a:pt x="985" y="16952"/>
                </a:lnTo>
                <a:lnTo>
                  <a:pt x="985" y="16836"/>
                </a:lnTo>
                <a:lnTo>
                  <a:pt x="985" y="16226"/>
                </a:lnTo>
                <a:lnTo>
                  <a:pt x="438" y="15762"/>
                </a:lnTo>
                <a:lnTo>
                  <a:pt x="274" y="15762"/>
                </a:lnTo>
                <a:lnTo>
                  <a:pt x="0" y="15298"/>
                </a:lnTo>
                <a:lnTo>
                  <a:pt x="274" y="14572"/>
                </a:lnTo>
                <a:lnTo>
                  <a:pt x="0" y="14398"/>
                </a:lnTo>
                <a:lnTo>
                  <a:pt x="0" y="13817"/>
                </a:lnTo>
                <a:lnTo>
                  <a:pt x="274" y="13643"/>
                </a:lnTo>
                <a:lnTo>
                  <a:pt x="274" y="13033"/>
                </a:lnTo>
                <a:lnTo>
                  <a:pt x="711" y="12453"/>
                </a:lnTo>
                <a:lnTo>
                  <a:pt x="1395" y="13033"/>
                </a:lnTo>
                <a:lnTo>
                  <a:pt x="1560" y="12627"/>
                </a:lnTo>
                <a:lnTo>
                  <a:pt x="2955" y="12917"/>
                </a:lnTo>
                <a:lnTo>
                  <a:pt x="3256" y="12627"/>
                </a:lnTo>
                <a:lnTo>
                  <a:pt x="3393" y="12917"/>
                </a:lnTo>
                <a:lnTo>
                  <a:pt x="7770" y="12917"/>
                </a:lnTo>
                <a:lnTo>
                  <a:pt x="8208" y="11843"/>
                </a:lnTo>
                <a:lnTo>
                  <a:pt x="7770" y="11379"/>
                </a:lnTo>
                <a:lnTo>
                  <a:pt x="6922" y="0"/>
                </a:lnTo>
                <a:lnTo>
                  <a:pt x="8892"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4"/>
          <p:cNvSpPr/>
          <p:nvPr/>
        </p:nvSpPr>
        <p:spPr>
          <a:xfrm>
            <a:off x="4292640" y="2303640"/>
            <a:ext cx="571320" cy="1002960"/>
          </a:xfrm>
          <a:custGeom>
            <a:avLst/>
            <a:gdLst>
              <a:gd name="textAreaLeft" fmla="*/ 0 w 571320"/>
              <a:gd name="textAreaRight" fmla="*/ 571680 w 571320"/>
              <a:gd name="textAreaTop" fmla="*/ 0 h 1002960"/>
              <a:gd name="textAreaBottom" fmla="*/ 1003320 h 1002960"/>
            </a:gdLst>
            <a:ahLst/>
            <a:rect l="textAreaLeft" t="textAreaTop" r="textAreaRight" b="textAreaBottom"/>
            <a:pathLst>
              <a:path w="20000" h="20000">
                <a:moveTo>
                  <a:pt x="2473" y="548"/>
                </a:moveTo>
                <a:lnTo>
                  <a:pt x="4685" y="0"/>
                </a:lnTo>
                <a:lnTo>
                  <a:pt x="19957" y="4822"/>
                </a:lnTo>
                <a:lnTo>
                  <a:pt x="19957" y="9507"/>
                </a:lnTo>
                <a:lnTo>
                  <a:pt x="18395" y="9644"/>
                </a:lnTo>
                <a:lnTo>
                  <a:pt x="17744" y="9918"/>
                </a:lnTo>
                <a:lnTo>
                  <a:pt x="18178" y="10055"/>
                </a:lnTo>
                <a:lnTo>
                  <a:pt x="17267" y="10767"/>
                </a:lnTo>
                <a:lnTo>
                  <a:pt x="17050" y="11041"/>
                </a:lnTo>
                <a:lnTo>
                  <a:pt x="17267" y="11479"/>
                </a:lnTo>
                <a:lnTo>
                  <a:pt x="16616" y="11918"/>
                </a:lnTo>
                <a:lnTo>
                  <a:pt x="17050" y="12603"/>
                </a:lnTo>
                <a:lnTo>
                  <a:pt x="16356" y="13041"/>
                </a:lnTo>
                <a:lnTo>
                  <a:pt x="16356" y="13616"/>
                </a:lnTo>
                <a:lnTo>
                  <a:pt x="16616" y="13315"/>
                </a:lnTo>
                <a:lnTo>
                  <a:pt x="17050" y="13616"/>
                </a:lnTo>
                <a:lnTo>
                  <a:pt x="17050" y="13753"/>
                </a:lnTo>
                <a:lnTo>
                  <a:pt x="17267" y="14329"/>
                </a:lnTo>
                <a:lnTo>
                  <a:pt x="17267" y="14877"/>
                </a:lnTo>
                <a:lnTo>
                  <a:pt x="18178" y="15178"/>
                </a:lnTo>
                <a:lnTo>
                  <a:pt x="17744" y="15616"/>
                </a:lnTo>
                <a:lnTo>
                  <a:pt x="17050" y="15616"/>
                </a:lnTo>
                <a:lnTo>
                  <a:pt x="15922" y="15890"/>
                </a:lnTo>
                <a:lnTo>
                  <a:pt x="15445" y="16575"/>
                </a:lnTo>
                <a:lnTo>
                  <a:pt x="14794" y="16740"/>
                </a:lnTo>
                <a:lnTo>
                  <a:pt x="14100" y="17288"/>
                </a:lnTo>
                <a:lnTo>
                  <a:pt x="13666" y="17425"/>
                </a:lnTo>
                <a:lnTo>
                  <a:pt x="13015" y="17699"/>
                </a:lnTo>
                <a:lnTo>
                  <a:pt x="11193" y="17863"/>
                </a:lnTo>
                <a:lnTo>
                  <a:pt x="10542" y="18137"/>
                </a:lnTo>
                <a:lnTo>
                  <a:pt x="10759" y="18411"/>
                </a:lnTo>
                <a:lnTo>
                  <a:pt x="10542" y="18849"/>
                </a:lnTo>
                <a:lnTo>
                  <a:pt x="9414" y="18986"/>
                </a:lnTo>
                <a:lnTo>
                  <a:pt x="8980" y="18986"/>
                </a:lnTo>
                <a:lnTo>
                  <a:pt x="8330" y="19260"/>
                </a:lnTo>
                <a:lnTo>
                  <a:pt x="7809" y="18986"/>
                </a:lnTo>
                <a:lnTo>
                  <a:pt x="6941" y="19260"/>
                </a:lnTo>
                <a:lnTo>
                  <a:pt x="6030" y="19534"/>
                </a:lnTo>
                <a:lnTo>
                  <a:pt x="5857" y="19260"/>
                </a:lnTo>
                <a:lnTo>
                  <a:pt x="4685" y="19699"/>
                </a:lnTo>
                <a:lnTo>
                  <a:pt x="3991" y="19973"/>
                </a:lnTo>
                <a:lnTo>
                  <a:pt x="3991" y="19534"/>
                </a:lnTo>
                <a:lnTo>
                  <a:pt x="3557" y="19260"/>
                </a:lnTo>
                <a:lnTo>
                  <a:pt x="3124" y="18411"/>
                </a:lnTo>
                <a:lnTo>
                  <a:pt x="2473" y="18137"/>
                </a:lnTo>
                <a:lnTo>
                  <a:pt x="1128" y="17288"/>
                </a:lnTo>
                <a:lnTo>
                  <a:pt x="1345" y="16740"/>
                </a:lnTo>
                <a:lnTo>
                  <a:pt x="2213" y="16740"/>
                </a:lnTo>
                <a:lnTo>
                  <a:pt x="3991" y="16740"/>
                </a:lnTo>
                <a:lnTo>
                  <a:pt x="3124" y="16301"/>
                </a:lnTo>
                <a:lnTo>
                  <a:pt x="2907" y="15616"/>
                </a:lnTo>
                <a:lnTo>
                  <a:pt x="2907" y="14877"/>
                </a:lnTo>
                <a:lnTo>
                  <a:pt x="2907" y="14329"/>
                </a:lnTo>
                <a:lnTo>
                  <a:pt x="2473" y="13616"/>
                </a:lnTo>
                <a:lnTo>
                  <a:pt x="1779" y="13315"/>
                </a:lnTo>
                <a:lnTo>
                  <a:pt x="1779" y="12877"/>
                </a:lnTo>
                <a:lnTo>
                  <a:pt x="1128" y="12877"/>
                </a:lnTo>
                <a:lnTo>
                  <a:pt x="694" y="12603"/>
                </a:lnTo>
                <a:lnTo>
                  <a:pt x="0" y="11918"/>
                </a:lnTo>
                <a:lnTo>
                  <a:pt x="0" y="11315"/>
                </a:lnTo>
                <a:lnTo>
                  <a:pt x="174" y="10767"/>
                </a:lnTo>
                <a:lnTo>
                  <a:pt x="694" y="10356"/>
                </a:lnTo>
                <a:lnTo>
                  <a:pt x="3557" y="8055"/>
                </a:lnTo>
                <a:lnTo>
                  <a:pt x="3991" y="4082"/>
                </a:lnTo>
                <a:lnTo>
                  <a:pt x="4252" y="3973"/>
                </a:lnTo>
                <a:lnTo>
                  <a:pt x="3557" y="3260"/>
                </a:lnTo>
                <a:lnTo>
                  <a:pt x="3557" y="2849"/>
                </a:lnTo>
                <a:lnTo>
                  <a:pt x="2907" y="2411"/>
                </a:lnTo>
                <a:lnTo>
                  <a:pt x="2907" y="1397"/>
                </a:lnTo>
                <a:lnTo>
                  <a:pt x="2473" y="54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5"/>
          <p:cNvSpPr/>
          <p:nvPr/>
        </p:nvSpPr>
        <p:spPr>
          <a:xfrm>
            <a:off x="3500280" y="3071880"/>
            <a:ext cx="100080" cy="293760"/>
          </a:xfrm>
          <a:custGeom>
            <a:avLst/>
            <a:gdLst>
              <a:gd name="textAreaLeft" fmla="*/ 0 w 100080"/>
              <a:gd name="textAreaRight" fmla="*/ 100440 w 100080"/>
              <a:gd name="textAreaTop" fmla="*/ 0 h 293760"/>
              <a:gd name="textAreaBottom" fmla="*/ 294120 h 293760"/>
            </a:gdLst>
            <a:ahLst/>
            <a:rect l="textAreaLeft" t="textAreaTop" r="textAreaRight" b="textAreaBottom"/>
            <a:pathLst>
              <a:path w="20000" h="20000">
                <a:moveTo>
                  <a:pt x="2532" y="0"/>
                </a:moveTo>
                <a:lnTo>
                  <a:pt x="5316" y="0"/>
                </a:lnTo>
                <a:lnTo>
                  <a:pt x="9367" y="0"/>
                </a:lnTo>
                <a:lnTo>
                  <a:pt x="11899" y="2396"/>
                </a:lnTo>
                <a:lnTo>
                  <a:pt x="15696" y="3779"/>
                </a:lnTo>
                <a:lnTo>
                  <a:pt x="17215" y="5622"/>
                </a:lnTo>
                <a:lnTo>
                  <a:pt x="19747" y="7097"/>
                </a:lnTo>
                <a:lnTo>
                  <a:pt x="19747" y="17143"/>
                </a:lnTo>
                <a:lnTo>
                  <a:pt x="19747" y="17512"/>
                </a:lnTo>
                <a:lnTo>
                  <a:pt x="19747" y="19447"/>
                </a:lnTo>
                <a:lnTo>
                  <a:pt x="17215" y="19447"/>
                </a:lnTo>
                <a:lnTo>
                  <a:pt x="13165" y="19908"/>
                </a:lnTo>
                <a:lnTo>
                  <a:pt x="9367" y="18525"/>
                </a:lnTo>
                <a:lnTo>
                  <a:pt x="6582" y="15668"/>
                </a:lnTo>
                <a:lnTo>
                  <a:pt x="6582" y="13272"/>
                </a:lnTo>
                <a:lnTo>
                  <a:pt x="6582" y="11429"/>
                </a:lnTo>
                <a:lnTo>
                  <a:pt x="9367" y="9954"/>
                </a:lnTo>
                <a:lnTo>
                  <a:pt x="6582" y="8479"/>
                </a:lnTo>
                <a:lnTo>
                  <a:pt x="6582" y="7558"/>
                </a:lnTo>
                <a:lnTo>
                  <a:pt x="6582" y="6175"/>
                </a:lnTo>
                <a:lnTo>
                  <a:pt x="2532" y="5622"/>
                </a:lnTo>
                <a:lnTo>
                  <a:pt x="5316" y="3779"/>
                </a:lnTo>
                <a:lnTo>
                  <a:pt x="5316" y="2396"/>
                </a:lnTo>
                <a:lnTo>
                  <a:pt x="0" y="922"/>
                </a:lnTo>
                <a:lnTo>
                  <a:pt x="2532"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7"/>
          <p:cNvSpPr/>
          <p:nvPr/>
        </p:nvSpPr>
        <p:spPr>
          <a:xfrm>
            <a:off x="3189240" y="2816280"/>
            <a:ext cx="453960" cy="349200"/>
          </a:xfrm>
          <a:custGeom>
            <a:avLst/>
            <a:gdLst>
              <a:gd name="textAreaLeft" fmla="*/ 0 w 453960"/>
              <a:gd name="textAreaRight" fmla="*/ 454320 w 453960"/>
              <a:gd name="textAreaTop" fmla="*/ 0 h 349200"/>
              <a:gd name="textAreaBottom" fmla="*/ 349560 h 349200"/>
            </a:gdLst>
            <a:ahLst/>
            <a:rect l="textAreaLeft" t="textAreaTop" r="textAreaRight" b="textAreaBottom"/>
            <a:pathLst>
              <a:path w="20000" h="20000">
                <a:moveTo>
                  <a:pt x="14269" y="769"/>
                </a:moveTo>
                <a:lnTo>
                  <a:pt x="14269" y="2000"/>
                </a:lnTo>
                <a:lnTo>
                  <a:pt x="14900" y="3154"/>
                </a:lnTo>
                <a:lnTo>
                  <a:pt x="15129" y="4385"/>
                </a:lnTo>
                <a:lnTo>
                  <a:pt x="16332" y="5923"/>
                </a:lnTo>
                <a:lnTo>
                  <a:pt x="17249" y="5923"/>
                </a:lnTo>
                <a:lnTo>
                  <a:pt x="17249" y="6385"/>
                </a:lnTo>
                <a:lnTo>
                  <a:pt x="16332" y="6385"/>
                </a:lnTo>
                <a:lnTo>
                  <a:pt x="16332" y="7154"/>
                </a:lnTo>
                <a:lnTo>
                  <a:pt x="18166" y="8308"/>
                </a:lnTo>
                <a:lnTo>
                  <a:pt x="19026" y="8308"/>
                </a:lnTo>
                <a:lnTo>
                  <a:pt x="19599" y="9154"/>
                </a:lnTo>
                <a:lnTo>
                  <a:pt x="19026" y="9538"/>
                </a:lnTo>
                <a:lnTo>
                  <a:pt x="19943" y="11154"/>
                </a:lnTo>
                <a:lnTo>
                  <a:pt x="19026" y="12692"/>
                </a:lnTo>
                <a:lnTo>
                  <a:pt x="17593" y="13538"/>
                </a:lnTo>
                <a:lnTo>
                  <a:pt x="16676" y="14308"/>
                </a:lnTo>
                <a:lnTo>
                  <a:pt x="15759" y="14769"/>
                </a:lnTo>
                <a:lnTo>
                  <a:pt x="14900" y="14769"/>
                </a:lnTo>
                <a:lnTo>
                  <a:pt x="14269" y="14769"/>
                </a:lnTo>
                <a:lnTo>
                  <a:pt x="13696" y="14308"/>
                </a:lnTo>
                <a:lnTo>
                  <a:pt x="12779" y="14308"/>
                </a:lnTo>
                <a:lnTo>
                  <a:pt x="12550" y="14769"/>
                </a:lnTo>
                <a:lnTo>
                  <a:pt x="6590" y="14308"/>
                </a:lnTo>
                <a:lnTo>
                  <a:pt x="6246" y="15538"/>
                </a:lnTo>
                <a:lnTo>
                  <a:pt x="6590" y="17923"/>
                </a:lnTo>
                <a:lnTo>
                  <a:pt x="6590" y="19923"/>
                </a:lnTo>
                <a:lnTo>
                  <a:pt x="4814" y="17923"/>
                </a:lnTo>
                <a:lnTo>
                  <a:pt x="3324" y="17923"/>
                </a:lnTo>
                <a:lnTo>
                  <a:pt x="2693" y="19462"/>
                </a:lnTo>
                <a:lnTo>
                  <a:pt x="1777" y="19462"/>
                </a:lnTo>
                <a:lnTo>
                  <a:pt x="917" y="17538"/>
                </a:lnTo>
                <a:lnTo>
                  <a:pt x="0" y="16769"/>
                </a:lnTo>
                <a:lnTo>
                  <a:pt x="0" y="15846"/>
                </a:lnTo>
                <a:lnTo>
                  <a:pt x="0" y="14769"/>
                </a:lnTo>
                <a:lnTo>
                  <a:pt x="344" y="13538"/>
                </a:lnTo>
                <a:lnTo>
                  <a:pt x="0" y="11538"/>
                </a:lnTo>
                <a:lnTo>
                  <a:pt x="1203" y="11154"/>
                </a:lnTo>
                <a:lnTo>
                  <a:pt x="1777" y="11154"/>
                </a:lnTo>
                <a:lnTo>
                  <a:pt x="2693" y="9538"/>
                </a:lnTo>
                <a:lnTo>
                  <a:pt x="2693" y="8308"/>
                </a:lnTo>
                <a:lnTo>
                  <a:pt x="3324" y="8308"/>
                </a:lnTo>
                <a:lnTo>
                  <a:pt x="2693" y="6385"/>
                </a:lnTo>
                <a:lnTo>
                  <a:pt x="3897" y="5923"/>
                </a:lnTo>
                <a:lnTo>
                  <a:pt x="4814" y="7154"/>
                </a:lnTo>
                <a:lnTo>
                  <a:pt x="5673" y="6385"/>
                </a:lnTo>
                <a:lnTo>
                  <a:pt x="5043" y="5154"/>
                </a:lnTo>
                <a:lnTo>
                  <a:pt x="6246" y="5154"/>
                </a:lnTo>
                <a:lnTo>
                  <a:pt x="6590" y="4385"/>
                </a:lnTo>
                <a:lnTo>
                  <a:pt x="8653" y="3154"/>
                </a:lnTo>
                <a:lnTo>
                  <a:pt x="8940" y="1231"/>
                </a:lnTo>
                <a:lnTo>
                  <a:pt x="11289" y="1231"/>
                </a:lnTo>
                <a:lnTo>
                  <a:pt x="11862" y="0"/>
                </a:lnTo>
                <a:lnTo>
                  <a:pt x="14269" y="769"/>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8"/>
          <p:cNvSpPr/>
          <p:nvPr/>
        </p:nvSpPr>
        <p:spPr>
          <a:xfrm>
            <a:off x="3506760" y="2286000"/>
            <a:ext cx="922320" cy="735120"/>
          </a:xfrm>
          <a:custGeom>
            <a:avLst/>
            <a:gdLst>
              <a:gd name="textAreaLeft" fmla="*/ 0 w 922320"/>
              <a:gd name="textAreaRight" fmla="*/ 922680 w 922320"/>
              <a:gd name="textAreaTop" fmla="*/ 0 h 735120"/>
              <a:gd name="textAreaBottom" fmla="*/ 735480 h 735120"/>
            </a:gdLst>
            <a:ahLst/>
            <a:rect l="textAreaLeft" t="textAreaTop" r="textAreaRight" b="textAreaBottom"/>
            <a:pathLst>
              <a:path w="847" h="710">
                <a:moveTo>
                  <a:pt x="90" y="649"/>
                </a:moveTo>
                <a:lnTo>
                  <a:pt x="70" y="649"/>
                </a:lnTo>
                <a:lnTo>
                  <a:pt x="40" y="624"/>
                </a:lnTo>
                <a:lnTo>
                  <a:pt x="47" y="604"/>
                </a:lnTo>
                <a:lnTo>
                  <a:pt x="50" y="604"/>
                </a:lnTo>
                <a:lnTo>
                  <a:pt x="7" y="561"/>
                </a:lnTo>
                <a:lnTo>
                  <a:pt x="0" y="512"/>
                </a:lnTo>
                <a:lnTo>
                  <a:pt x="7" y="512"/>
                </a:lnTo>
                <a:lnTo>
                  <a:pt x="57" y="492"/>
                </a:lnTo>
                <a:lnTo>
                  <a:pt x="116" y="492"/>
                </a:lnTo>
                <a:lnTo>
                  <a:pt x="179" y="487"/>
                </a:lnTo>
                <a:lnTo>
                  <a:pt x="207" y="435"/>
                </a:lnTo>
                <a:lnTo>
                  <a:pt x="207" y="393"/>
                </a:lnTo>
                <a:lnTo>
                  <a:pt x="212" y="348"/>
                </a:lnTo>
                <a:lnTo>
                  <a:pt x="212" y="305"/>
                </a:lnTo>
                <a:lnTo>
                  <a:pt x="219" y="263"/>
                </a:lnTo>
                <a:lnTo>
                  <a:pt x="259" y="249"/>
                </a:lnTo>
                <a:lnTo>
                  <a:pt x="302" y="244"/>
                </a:lnTo>
                <a:lnTo>
                  <a:pt x="342" y="198"/>
                </a:lnTo>
                <a:lnTo>
                  <a:pt x="389" y="157"/>
                </a:lnTo>
                <a:lnTo>
                  <a:pt x="445" y="119"/>
                </a:lnTo>
                <a:lnTo>
                  <a:pt x="512" y="80"/>
                </a:lnTo>
                <a:lnTo>
                  <a:pt x="568" y="38"/>
                </a:lnTo>
                <a:lnTo>
                  <a:pt x="629" y="0"/>
                </a:lnTo>
                <a:lnTo>
                  <a:pt x="705" y="20"/>
                </a:lnTo>
                <a:lnTo>
                  <a:pt x="752" y="51"/>
                </a:lnTo>
                <a:lnTo>
                  <a:pt x="788" y="33"/>
                </a:lnTo>
                <a:lnTo>
                  <a:pt x="794" y="74"/>
                </a:lnTo>
                <a:lnTo>
                  <a:pt x="801" y="119"/>
                </a:lnTo>
                <a:lnTo>
                  <a:pt x="847" y="189"/>
                </a:lnTo>
                <a:lnTo>
                  <a:pt x="833" y="211"/>
                </a:lnTo>
                <a:lnTo>
                  <a:pt x="833" y="256"/>
                </a:lnTo>
                <a:lnTo>
                  <a:pt x="833" y="305"/>
                </a:lnTo>
                <a:lnTo>
                  <a:pt x="828" y="348"/>
                </a:lnTo>
                <a:lnTo>
                  <a:pt x="828" y="393"/>
                </a:lnTo>
                <a:lnTo>
                  <a:pt x="801" y="429"/>
                </a:lnTo>
                <a:lnTo>
                  <a:pt x="774" y="467"/>
                </a:lnTo>
                <a:lnTo>
                  <a:pt x="752" y="505"/>
                </a:lnTo>
                <a:lnTo>
                  <a:pt x="731" y="537"/>
                </a:lnTo>
                <a:lnTo>
                  <a:pt x="731" y="586"/>
                </a:lnTo>
                <a:lnTo>
                  <a:pt x="665" y="624"/>
                </a:lnTo>
                <a:lnTo>
                  <a:pt x="615" y="618"/>
                </a:lnTo>
                <a:lnTo>
                  <a:pt x="556" y="611"/>
                </a:lnTo>
                <a:lnTo>
                  <a:pt x="498" y="644"/>
                </a:lnTo>
                <a:lnTo>
                  <a:pt x="452" y="624"/>
                </a:lnTo>
                <a:lnTo>
                  <a:pt x="412" y="611"/>
                </a:lnTo>
                <a:lnTo>
                  <a:pt x="356" y="624"/>
                </a:lnTo>
                <a:lnTo>
                  <a:pt x="323" y="586"/>
                </a:lnTo>
                <a:lnTo>
                  <a:pt x="266" y="586"/>
                </a:lnTo>
                <a:lnTo>
                  <a:pt x="212" y="599"/>
                </a:lnTo>
                <a:lnTo>
                  <a:pt x="200" y="644"/>
                </a:lnTo>
                <a:lnTo>
                  <a:pt x="186" y="685"/>
                </a:lnTo>
                <a:lnTo>
                  <a:pt x="179" y="710"/>
                </a:lnTo>
                <a:lnTo>
                  <a:pt x="136" y="665"/>
                </a:lnTo>
                <a:lnTo>
                  <a:pt x="123" y="685"/>
                </a:lnTo>
                <a:lnTo>
                  <a:pt x="116" y="698"/>
                </a:lnTo>
                <a:lnTo>
                  <a:pt x="116" y="691"/>
                </a:lnTo>
                <a:lnTo>
                  <a:pt x="103" y="665"/>
                </a:lnTo>
                <a:lnTo>
                  <a:pt x="90" y="649"/>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9"/>
          <p:cNvSpPr/>
          <p:nvPr/>
        </p:nvSpPr>
        <p:spPr>
          <a:xfrm>
            <a:off x="7118280" y="36464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20000" h="20000">
                <a:moveTo>
                  <a:pt x="11765" y="7059"/>
                </a:moveTo>
                <a:lnTo>
                  <a:pt x="18824" y="18824"/>
                </a:lnTo>
                <a:lnTo>
                  <a:pt x="11765" y="18824"/>
                </a:lnTo>
                <a:lnTo>
                  <a:pt x="0" y="18824"/>
                </a:lnTo>
                <a:lnTo>
                  <a:pt x="0" y="0"/>
                </a:lnTo>
                <a:lnTo>
                  <a:pt x="11765" y="0"/>
                </a:lnTo>
                <a:lnTo>
                  <a:pt x="11765" y="7059"/>
                </a:lnTo>
                <a:close/>
              </a:path>
            </a:pathLst>
          </a:custGeom>
          <a:solidFill>
            <a:srgbClr val="ffffff"/>
          </a:solidFill>
          <a:ln w="324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93" name="Freeform 10"/>
          <p:cNvSpPr/>
          <p:nvPr/>
        </p:nvSpPr>
        <p:spPr>
          <a:xfrm>
            <a:off x="4295880" y="1469880"/>
            <a:ext cx="17280" cy="24120"/>
          </a:xfrm>
          <a:custGeom>
            <a:avLst/>
            <a:gdLst>
              <a:gd name="textAreaLeft" fmla="*/ 0 w 17280"/>
              <a:gd name="textAreaRight" fmla="*/ 17640 w 17280"/>
              <a:gd name="textAreaTop" fmla="*/ 0 h 24120"/>
              <a:gd name="textAreaBottom" fmla="*/ 24480 h 24120"/>
            </a:gdLst>
            <a:ahLst/>
            <a:rect l="textAreaLeft" t="textAreaTop" r="textAreaRight" b="textAreaBottom"/>
            <a:pathLst>
              <a:path w="20000" h="20000">
                <a:moveTo>
                  <a:pt x="18333" y="18824"/>
                </a:moveTo>
                <a:lnTo>
                  <a:pt x="0" y="0"/>
                </a:lnTo>
                <a:lnTo>
                  <a:pt x="18333" y="7059"/>
                </a:lnTo>
                <a:lnTo>
                  <a:pt x="18333" y="18824"/>
                </a:lnTo>
                <a:close/>
              </a:path>
            </a:pathLst>
          </a:custGeom>
          <a:solidFill>
            <a:srgbClr val="ffffff"/>
          </a:solidFill>
          <a:ln w="324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Calibri"/>
            </a:endParaRPr>
          </a:p>
        </p:txBody>
      </p:sp>
      <p:sp>
        <p:nvSpPr>
          <p:cNvPr id="94" name="Freeform 12"/>
          <p:cNvSpPr/>
          <p:nvPr/>
        </p:nvSpPr>
        <p:spPr>
          <a:xfrm>
            <a:off x="5465880" y="1716120"/>
            <a:ext cx="1236600" cy="1055520"/>
          </a:xfrm>
          <a:custGeom>
            <a:avLst/>
            <a:gdLst>
              <a:gd name="textAreaLeft" fmla="*/ 0 w 1236600"/>
              <a:gd name="textAreaRight" fmla="*/ 1236960 w 1236600"/>
              <a:gd name="textAreaTop" fmla="*/ 0 h 1055520"/>
              <a:gd name="textAreaBottom" fmla="*/ 1055880 h 1055520"/>
            </a:gdLst>
            <a:ahLst/>
            <a:rect l="textAreaLeft" t="textAreaTop" r="textAreaRight" b="textAreaBottom"/>
            <a:pathLst>
              <a:path w="20000" h="20000">
                <a:moveTo>
                  <a:pt x="211" y="3708"/>
                </a:moveTo>
                <a:lnTo>
                  <a:pt x="1412" y="3836"/>
                </a:lnTo>
                <a:lnTo>
                  <a:pt x="2192" y="3043"/>
                </a:lnTo>
                <a:lnTo>
                  <a:pt x="2297" y="3043"/>
                </a:lnTo>
                <a:lnTo>
                  <a:pt x="2719" y="2762"/>
                </a:lnTo>
                <a:lnTo>
                  <a:pt x="2845" y="2353"/>
                </a:lnTo>
                <a:lnTo>
                  <a:pt x="3056" y="2097"/>
                </a:lnTo>
                <a:lnTo>
                  <a:pt x="2192" y="1049"/>
                </a:lnTo>
                <a:lnTo>
                  <a:pt x="2192" y="921"/>
                </a:lnTo>
                <a:lnTo>
                  <a:pt x="3393" y="537"/>
                </a:lnTo>
                <a:lnTo>
                  <a:pt x="4152" y="0"/>
                </a:lnTo>
                <a:lnTo>
                  <a:pt x="5037" y="256"/>
                </a:lnTo>
                <a:lnTo>
                  <a:pt x="6891" y="1586"/>
                </a:lnTo>
                <a:lnTo>
                  <a:pt x="7629" y="1995"/>
                </a:lnTo>
                <a:lnTo>
                  <a:pt x="7756" y="2097"/>
                </a:lnTo>
                <a:lnTo>
                  <a:pt x="8303" y="2353"/>
                </a:lnTo>
                <a:lnTo>
                  <a:pt x="8303" y="3299"/>
                </a:lnTo>
                <a:lnTo>
                  <a:pt x="9399" y="3836"/>
                </a:lnTo>
                <a:lnTo>
                  <a:pt x="11149" y="3836"/>
                </a:lnTo>
                <a:lnTo>
                  <a:pt x="11886" y="4092"/>
                </a:lnTo>
                <a:lnTo>
                  <a:pt x="12013" y="4501"/>
                </a:lnTo>
                <a:lnTo>
                  <a:pt x="12540" y="4501"/>
                </a:lnTo>
                <a:lnTo>
                  <a:pt x="12792" y="5166"/>
                </a:lnTo>
                <a:lnTo>
                  <a:pt x="13109" y="5422"/>
                </a:lnTo>
                <a:lnTo>
                  <a:pt x="13109" y="5806"/>
                </a:lnTo>
                <a:lnTo>
                  <a:pt x="13446" y="5806"/>
                </a:lnTo>
                <a:lnTo>
                  <a:pt x="13446" y="6061"/>
                </a:lnTo>
                <a:lnTo>
                  <a:pt x="13741" y="6471"/>
                </a:lnTo>
                <a:lnTo>
                  <a:pt x="14204" y="6598"/>
                </a:lnTo>
                <a:lnTo>
                  <a:pt x="14310" y="7263"/>
                </a:lnTo>
                <a:lnTo>
                  <a:pt x="14310" y="7545"/>
                </a:lnTo>
                <a:lnTo>
                  <a:pt x="14204" y="7545"/>
                </a:lnTo>
                <a:lnTo>
                  <a:pt x="14310" y="7928"/>
                </a:lnTo>
                <a:lnTo>
                  <a:pt x="14521" y="8312"/>
                </a:lnTo>
                <a:lnTo>
                  <a:pt x="14858" y="8849"/>
                </a:lnTo>
                <a:lnTo>
                  <a:pt x="15174" y="9412"/>
                </a:lnTo>
                <a:lnTo>
                  <a:pt x="15385" y="9412"/>
                </a:lnTo>
                <a:lnTo>
                  <a:pt x="15595" y="9668"/>
                </a:lnTo>
                <a:lnTo>
                  <a:pt x="15722" y="10051"/>
                </a:lnTo>
                <a:lnTo>
                  <a:pt x="16059" y="10563"/>
                </a:lnTo>
                <a:lnTo>
                  <a:pt x="16502" y="11100"/>
                </a:lnTo>
                <a:lnTo>
                  <a:pt x="16586" y="11611"/>
                </a:lnTo>
                <a:lnTo>
                  <a:pt x="19431" y="12174"/>
                </a:lnTo>
                <a:lnTo>
                  <a:pt x="19642" y="12020"/>
                </a:lnTo>
                <a:lnTo>
                  <a:pt x="19979" y="12711"/>
                </a:lnTo>
                <a:lnTo>
                  <a:pt x="19642" y="14936"/>
                </a:lnTo>
                <a:lnTo>
                  <a:pt x="16818" y="16266"/>
                </a:lnTo>
                <a:lnTo>
                  <a:pt x="13741" y="17187"/>
                </a:lnTo>
                <a:lnTo>
                  <a:pt x="12223" y="19719"/>
                </a:lnTo>
                <a:lnTo>
                  <a:pt x="11675" y="19974"/>
                </a:lnTo>
                <a:lnTo>
                  <a:pt x="11675" y="19028"/>
                </a:lnTo>
                <a:lnTo>
                  <a:pt x="9947" y="17980"/>
                </a:lnTo>
                <a:lnTo>
                  <a:pt x="9168" y="18261"/>
                </a:lnTo>
                <a:lnTo>
                  <a:pt x="8830" y="18261"/>
                </a:lnTo>
                <a:lnTo>
                  <a:pt x="8746" y="18261"/>
                </a:lnTo>
                <a:lnTo>
                  <a:pt x="8746" y="19028"/>
                </a:lnTo>
                <a:lnTo>
                  <a:pt x="8198" y="19437"/>
                </a:lnTo>
                <a:lnTo>
                  <a:pt x="7629" y="18261"/>
                </a:lnTo>
                <a:lnTo>
                  <a:pt x="7102" y="17570"/>
                </a:lnTo>
                <a:lnTo>
                  <a:pt x="6238" y="15857"/>
                </a:lnTo>
                <a:lnTo>
                  <a:pt x="5690" y="14808"/>
                </a:lnTo>
                <a:lnTo>
                  <a:pt x="5037" y="14552"/>
                </a:lnTo>
                <a:lnTo>
                  <a:pt x="4489" y="13478"/>
                </a:lnTo>
                <a:lnTo>
                  <a:pt x="4489" y="12711"/>
                </a:lnTo>
                <a:lnTo>
                  <a:pt x="4489" y="12174"/>
                </a:lnTo>
                <a:lnTo>
                  <a:pt x="3604" y="10307"/>
                </a:lnTo>
                <a:lnTo>
                  <a:pt x="2845" y="9923"/>
                </a:lnTo>
                <a:lnTo>
                  <a:pt x="2508" y="9258"/>
                </a:lnTo>
                <a:lnTo>
                  <a:pt x="2719" y="9003"/>
                </a:lnTo>
                <a:lnTo>
                  <a:pt x="1981" y="7928"/>
                </a:lnTo>
                <a:lnTo>
                  <a:pt x="1307" y="6471"/>
                </a:lnTo>
                <a:lnTo>
                  <a:pt x="780" y="5422"/>
                </a:lnTo>
                <a:lnTo>
                  <a:pt x="443" y="5166"/>
                </a:lnTo>
                <a:lnTo>
                  <a:pt x="0" y="5166"/>
                </a:lnTo>
                <a:lnTo>
                  <a:pt x="211" y="4348"/>
                </a:lnTo>
                <a:lnTo>
                  <a:pt x="211" y="370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15"/>
          <p:cNvSpPr/>
          <p:nvPr/>
        </p:nvSpPr>
        <p:spPr>
          <a:xfrm>
            <a:off x="3305160" y="3065400"/>
            <a:ext cx="263520" cy="372960"/>
          </a:xfrm>
          <a:custGeom>
            <a:avLst/>
            <a:gdLst>
              <a:gd name="textAreaLeft" fmla="*/ 0 w 263520"/>
              <a:gd name="textAreaRight" fmla="*/ 263880 w 263520"/>
              <a:gd name="textAreaTop" fmla="*/ 0 h 372960"/>
              <a:gd name="textAreaBottom" fmla="*/ 373320 h 372960"/>
            </a:gdLst>
            <a:ahLst/>
            <a:rect l="textAreaLeft" t="textAreaTop" r="textAreaRight" b="textAreaBottom"/>
            <a:pathLst>
              <a:path w="20000" h="20000">
                <a:moveTo>
                  <a:pt x="2647" y="5236"/>
                </a:moveTo>
                <a:lnTo>
                  <a:pt x="2647" y="3418"/>
                </a:lnTo>
                <a:lnTo>
                  <a:pt x="2059" y="1164"/>
                </a:lnTo>
                <a:lnTo>
                  <a:pt x="2647" y="0"/>
                </a:lnTo>
                <a:lnTo>
                  <a:pt x="12745" y="436"/>
                </a:lnTo>
                <a:lnTo>
                  <a:pt x="13235" y="0"/>
                </a:lnTo>
                <a:lnTo>
                  <a:pt x="14706" y="0"/>
                </a:lnTo>
                <a:lnTo>
                  <a:pt x="15784" y="436"/>
                </a:lnTo>
                <a:lnTo>
                  <a:pt x="14706" y="1164"/>
                </a:lnTo>
                <a:lnTo>
                  <a:pt x="16863" y="2255"/>
                </a:lnTo>
                <a:lnTo>
                  <a:pt x="16863" y="3418"/>
                </a:lnTo>
                <a:lnTo>
                  <a:pt x="15784" y="4873"/>
                </a:lnTo>
                <a:lnTo>
                  <a:pt x="17255" y="5236"/>
                </a:lnTo>
                <a:lnTo>
                  <a:pt x="17255" y="6400"/>
                </a:lnTo>
                <a:lnTo>
                  <a:pt x="17255" y="7127"/>
                </a:lnTo>
                <a:lnTo>
                  <a:pt x="18333" y="8291"/>
                </a:lnTo>
                <a:lnTo>
                  <a:pt x="17255" y="9382"/>
                </a:lnTo>
                <a:lnTo>
                  <a:pt x="17255" y="10836"/>
                </a:lnTo>
                <a:lnTo>
                  <a:pt x="17255" y="12800"/>
                </a:lnTo>
                <a:lnTo>
                  <a:pt x="18333" y="15055"/>
                </a:lnTo>
                <a:lnTo>
                  <a:pt x="19902" y="16145"/>
                </a:lnTo>
                <a:lnTo>
                  <a:pt x="19314" y="16945"/>
                </a:lnTo>
                <a:lnTo>
                  <a:pt x="15784" y="17236"/>
                </a:lnTo>
                <a:lnTo>
                  <a:pt x="13235" y="18036"/>
                </a:lnTo>
                <a:lnTo>
                  <a:pt x="8627" y="19200"/>
                </a:lnTo>
                <a:lnTo>
                  <a:pt x="6078" y="19927"/>
                </a:lnTo>
                <a:lnTo>
                  <a:pt x="2647" y="19927"/>
                </a:lnTo>
                <a:lnTo>
                  <a:pt x="2647" y="18764"/>
                </a:lnTo>
                <a:lnTo>
                  <a:pt x="2059" y="16945"/>
                </a:lnTo>
                <a:lnTo>
                  <a:pt x="0" y="13891"/>
                </a:lnTo>
                <a:lnTo>
                  <a:pt x="2059" y="12000"/>
                </a:lnTo>
                <a:lnTo>
                  <a:pt x="2059" y="10109"/>
                </a:lnTo>
                <a:lnTo>
                  <a:pt x="3627" y="9382"/>
                </a:lnTo>
                <a:lnTo>
                  <a:pt x="3627" y="8291"/>
                </a:lnTo>
                <a:lnTo>
                  <a:pt x="2647" y="5964"/>
                </a:lnTo>
                <a:lnTo>
                  <a:pt x="2647" y="5236"/>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7"/>
          <p:cNvSpPr/>
          <p:nvPr/>
        </p:nvSpPr>
        <p:spPr>
          <a:xfrm>
            <a:off x="2851200" y="3218040"/>
            <a:ext cx="217440" cy="252360"/>
          </a:xfrm>
          <a:custGeom>
            <a:avLst/>
            <a:gdLst>
              <a:gd name="textAreaLeft" fmla="*/ 0 w 217440"/>
              <a:gd name="textAreaRight" fmla="*/ 217800 w 217440"/>
              <a:gd name="textAreaTop" fmla="*/ 0 h 252360"/>
              <a:gd name="textAreaBottom" fmla="*/ 252720 h 252360"/>
            </a:gdLst>
            <a:ahLst/>
            <a:rect l="textAreaLeft" t="textAreaTop" r="textAreaRight" b="textAreaBottom"/>
            <a:pathLst>
              <a:path w="20000" h="20000">
                <a:moveTo>
                  <a:pt x="4910" y="0"/>
                </a:moveTo>
                <a:lnTo>
                  <a:pt x="7425" y="0"/>
                </a:lnTo>
                <a:lnTo>
                  <a:pt x="8623" y="2781"/>
                </a:lnTo>
                <a:lnTo>
                  <a:pt x="8623" y="5455"/>
                </a:lnTo>
                <a:lnTo>
                  <a:pt x="10539" y="5455"/>
                </a:lnTo>
                <a:lnTo>
                  <a:pt x="13054" y="5455"/>
                </a:lnTo>
                <a:lnTo>
                  <a:pt x="13054" y="3850"/>
                </a:lnTo>
                <a:lnTo>
                  <a:pt x="14970" y="4385"/>
                </a:lnTo>
                <a:lnTo>
                  <a:pt x="14970" y="6631"/>
                </a:lnTo>
                <a:lnTo>
                  <a:pt x="14970" y="8342"/>
                </a:lnTo>
                <a:lnTo>
                  <a:pt x="14970" y="8770"/>
                </a:lnTo>
                <a:lnTo>
                  <a:pt x="15449" y="11123"/>
                </a:lnTo>
                <a:lnTo>
                  <a:pt x="17964" y="11123"/>
                </a:lnTo>
                <a:lnTo>
                  <a:pt x="18683" y="11551"/>
                </a:lnTo>
                <a:lnTo>
                  <a:pt x="19880" y="12727"/>
                </a:lnTo>
                <a:lnTo>
                  <a:pt x="18683" y="16043"/>
                </a:lnTo>
                <a:lnTo>
                  <a:pt x="19880" y="19893"/>
                </a:lnTo>
                <a:lnTo>
                  <a:pt x="14970" y="18824"/>
                </a:lnTo>
                <a:lnTo>
                  <a:pt x="5629" y="12727"/>
                </a:lnTo>
                <a:lnTo>
                  <a:pt x="0" y="8342"/>
                </a:lnTo>
                <a:lnTo>
                  <a:pt x="1916" y="5455"/>
                </a:lnTo>
                <a:lnTo>
                  <a:pt x="3713" y="3850"/>
                </a:lnTo>
                <a:lnTo>
                  <a:pt x="3713" y="1711"/>
                </a:lnTo>
                <a:lnTo>
                  <a:pt x="4910" y="1711"/>
                </a:lnTo>
                <a:lnTo>
                  <a:pt x="491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2522520" y="2033640"/>
            <a:ext cx="708120" cy="801720"/>
          </a:xfrm>
          <a:custGeom>
            <a:avLst/>
            <a:gdLst>
              <a:gd name="textAreaLeft" fmla="*/ 0 w 708120"/>
              <a:gd name="textAreaRight" fmla="*/ 708480 w 708120"/>
              <a:gd name="textAreaTop" fmla="*/ 0 h 801720"/>
              <a:gd name="textAreaBottom" fmla="*/ 802080 h 801720"/>
            </a:gdLst>
            <a:ahLst/>
            <a:rect l="textAreaLeft" t="textAreaTop" r="textAreaRight" b="textAreaBottom"/>
            <a:pathLst>
              <a:path w="20000" h="20000">
                <a:moveTo>
                  <a:pt x="13897" y="0"/>
                </a:moveTo>
                <a:lnTo>
                  <a:pt x="19963" y="3885"/>
                </a:lnTo>
                <a:lnTo>
                  <a:pt x="17279" y="3885"/>
                </a:lnTo>
                <a:lnTo>
                  <a:pt x="18456" y="17128"/>
                </a:lnTo>
                <a:lnTo>
                  <a:pt x="19007" y="17669"/>
                </a:lnTo>
                <a:lnTo>
                  <a:pt x="18456" y="18919"/>
                </a:lnTo>
                <a:lnTo>
                  <a:pt x="12537" y="18919"/>
                </a:lnTo>
                <a:lnTo>
                  <a:pt x="12390" y="18581"/>
                </a:lnTo>
                <a:lnTo>
                  <a:pt x="11985" y="18919"/>
                </a:lnTo>
                <a:lnTo>
                  <a:pt x="10074" y="18581"/>
                </a:lnTo>
                <a:lnTo>
                  <a:pt x="9890" y="19054"/>
                </a:lnTo>
                <a:lnTo>
                  <a:pt x="8934" y="18378"/>
                </a:lnTo>
                <a:lnTo>
                  <a:pt x="8346" y="19054"/>
                </a:lnTo>
                <a:lnTo>
                  <a:pt x="8346" y="19764"/>
                </a:lnTo>
                <a:lnTo>
                  <a:pt x="7978" y="19966"/>
                </a:lnTo>
                <a:lnTo>
                  <a:pt x="7022" y="19764"/>
                </a:lnTo>
                <a:lnTo>
                  <a:pt x="6838" y="19426"/>
                </a:lnTo>
                <a:lnTo>
                  <a:pt x="6434" y="18919"/>
                </a:lnTo>
                <a:lnTo>
                  <a:pt x="6066" y="18919"/>
                </a:lnTo>
                <a:lnTo>
                  <a:pt x="5919" y="18041"/>
                </a:lnTo>
                <a:lnTo>
                  <a:pt x="5331" y="18041"/>
                </a:lnTo>
                <a:lnTo>
                  <a:pt x="4559" y="17128"/>
                </a:lnTo>
                <a:lnTo>
                  <a:pt x="3971" y="16993"/>
                </a:lnTo>
                <a:lnTo>
                  <a:pt x="2463" y="17128"/>
                </a:lnTo>
                <a:lnTo>
                  <a:pt x="1324" y="17128"/>
                </a:lnTo>
                <a:lnTo>
                  <a:pt x="515" y="17669"/>
                </a:lnTo>
                <a:lnTo>
                  <a:pt x="956" y="16622"/>
                </a:lnTo>
                <a:lnTo>
                  <a:pt x="1507" y="15203"/>
                </a:lnTo>
                <a:lnTo>
                  <a:pt x="1324" y="13480"/>
                </a:lnTo>
                <a:lnTo>
                  <a:pt x="515" y="12601"/>
                </a:lnTo>
                <a:lnTo>
                  <a:pt x="1324" y="12601"/>
                </a:lnTo>
                <a:lnTo>
                  <a:pt x="1324" y="11723"/>
                </a:lnTo>
                <a:lnTo>
                  <a:pt x="956" y="10709"/>
                </a:lnTo>
                <a:lnTo>
                  <a:pt x="515" y="11047"/>
                </a:lnTo>
                <a:lnTo>
                  <a:pt x="368" y="10169"/>
                </a:lnTo>
                <a:lnTo>
                  <a:pt x="0" y="10169"/>
                </a:lnTo>
                <a:lnTo>
                  <a:pt x="368" y="9628"/>
                </a:lnTo>
                <a:lnTo>
                  <a:pt x="6434" y="9628"/>
                </a:lnTo>
                <a:lnTo>
                  <a:pt x="6434" y="7534"/>
                </a:lnTo>
                <a:lnTo>
                  <a:pt x="6434" y="6993"/>
                </a:lnTo>
                <a:lnTo>
                  <a:pt x="6838" y="6655"/>
                </a:lnTo>
                <a:lnTo>
                  <a:pt x="8346" y="6149"/>
                </a:lnTo>
                <a:lnTo>
                  <a:pt x="8346" y="2432"/>
                </a:lnTo>
                <a:lnTo>
                  <a:pt x="13897" y="2297"/>
                </a:lnTo>
                <a:lnTo>
                  <a:pt x="1389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3"/>
          <p:cNvSpPr/>
          <p:nvPr/>
        </p:nvSpPr>
        <p:spPr>
          <a:xfrm>
            <a:off x="4357800" y="3071880"/>
            <a:ext cx="738000" cy="528480"/>
          </a:xfrm>
          <a:custGeom>
            <a:avLst/>
            <a:gdLst>
              <a:gd name="textAreaLeft" fmla="*/ 0 w 738000"/>
              <a:gd name="textAreaRight" fmla="*/ 738360 w 738000"/>
              <a:gd name="textAreaTop" fmla="*/ 0 h 528480"/>
              <a:gd name="textAreaBottom" fmla="*/ 528840 h 528480"/>
            </a:gdLst>
            <a:ahLst/>
            <a:rect l="textAreaLeft" t="textAreaTop" r="textAreaRight" b="textAreaBottom"/>
            <a:pathLst>
              <a:path w="20000" h="20000">
                <a:moveTo>
                  <a:pt x="1449" y="8175"/>
                </a:moveTo>
                <a:lnTo>
                  <a:pt x="2014" y="7661"/>
                </a:lnTo>
                <a:lnTo>
                  <a:pt x="2968" y="6889"/>
                </a:lnTo>
                <a:lnTo>
                  <a:pt x="3110" y="7404"/>
                </a:lnTo>
                <a:lnTo>
                  <a:pt x="3852" y="6889"/>
                </a:lnTo>
                <a:lnTo>
                  <a:pt x="4558" y="6375"/>
                </a:lnTo>
                <a:lnTo>
                  <a:pt x="4947" y="6889"/>
                </a:lnTo>
                <a:lnTo>
                  <a:pt x="5512" y="6375"/>
                </a:lnTo>
                <a:lnTo>
                  <a:pt x="5866" y="6375"/>
                </a:lnTo>
                <a:lnTo>
                  <a:pt x="6784" y="6067"/>
                </a:lnTo>
                <a:lnTo>
                  <a:pt x="6961" y="5296"/>
                </a:lnTo>
                <a:lnTo>
                  <a:pt x="6784" y="4781"/>
                </a:lnTo>
                <a:lnTo>
                  <a:pt x="7314" y="4216"/>
                </a:lnTo>
                <a:lnTo>
                  <a:pt x="8763" y="3959"/>
                </a:lnTo>
                <a:lnTo>
                  <a:pt x="9329" y="3445"/>
                </a:lnTo>
                <a:lnTo>
                  <a:pt x="9682" y="3136"/>
                </a:lnTo>
                <a:lnTo>
                  <a:pt x="10247" y="2108"/>
                </a:lnTo>
                <a:lnTo>
                  <a:pt x="10777" y="1851"/>
                </a:lnTo>
                <a:lnTo>
                  <a:pt x="11166" y="514"/>
                </a:lnTo>
                <a:lnTo>
                  <a:pt x="12085" y="0"/>
                </a:lnTo>
                <a:lnTo>
                  <a:pt x="12650" y="0"/>
                </a:lnTo>
                <a:lnTo>
                  <a:pt x="13004" y="514"/>
                </a:lnTo>
                <a:lnTo>
                  <a:pt x="13887" y="2108"/>
                </a:lnTo>
                <a:lnTo>
                  <a:pt x="14099" y="3445"/>
                </a:lnTo>
                <a:lnTo>
                  <a:pt x="13534" y="3959"/>
                </a:lnTo>
                <a:lnTo>
                  <a:pt x="13887" y="4216"/>
                </a:lnTo>
                <a:lnTo>
                  <a:pt x="13887" y="4781"/>
                </a:lnTo>
                <a:lnTo>
                  <a:pt x="14099" y="5296"/>
                </a:lnTo>
                <a:lnTo>
                  <a:pt x="15018" y="5296"/>
                </a:lnTo>
                <a:lnTo>
                  <a:pt x="15018" y="6067"/>
                </a:lnTo>
                <a:lnTo>
                  <a:pt x="15901" y="6067"/>
                </a:lnTo>
                <a:lnTo>
                  <a:pt x="16466" y="6889"/>
                </a:lnTo>
                <a:lnTo>
                  <a:pt x="16855" y="8792"/>
                </a:lnTo>
                <a:lnTo>
                  <a:pt x="17739" y="8792"/>
                </a:lnTo>
                <a:lnTo>
                  <a:pt x="17915" y="9563"/>
                </a:lnTo>
                <a:lnTo>
                  <a:pt x="18304" y="9563"/>
                </a:lnTo>
                <a:lnTo>
                  <a:pt x="18481" y="9820"/>
                </a:lnTo>
                <a:lnTo>
                  <a:pt x="18869" y="11105"/>
                </a:lnTo>
                <a:lnTo>
                  <a:pt x="19753" y="11928"/>
                </a:lnTo>
                <a:lnTo>
                  <a:pt x="19965" y="13316"/>
                </a:lnTo>
                <a:lnTo>
                  <a:pt x="19399" y="13316"/>
                </a:lnTo>
                <a:lnTo>
                  <a:pt x="19223" y="13830"/>
                </a:lnTo>
                <a:lnTo>
                  <a:pt x="18481" y="13830"/>
                </a:lnTo>
                <a:lnTo>
                  <a:pt x="18304" y="13316"/>
                </a:lnTo>
                <a:lnTo>
                  <a:pt x="17739" y="13316"/>
                </a:lnTo>
                <a:lnTo>
                  <a:pt x="16996" y="13008"/>
                </a:lnTo>
                <a:lnTo>
                  <a:pt x="16855" y="13316"/>
                </a:lnTo>
                <a:lnTo>
                  <a:pt x="16466" y="13830"/>
                </a:lnTo>
                <a:lnTo>
                  <a:pt x="15901" y="13830"/>
                </a:lnTo>
                <a:lnTo>
                  <a:pt x="15371" y="13830"/>
                </a:lnTo>
                <a:lnTo>
                  <a:pt x="14452" y="14344"/>
                </a:lnTo>
                <a:lnTo>
                  <a:pt x="13887" y="14602"/>
                </a:lnTo>
                <a:lnTo>
                  <a:pt x="13004" y="14602"/>
                </a:lnTo>
                <a:lnTo>
                  <a:pt x="12650" y="14602"/>
                </a:lnTo>
                <a:lnTo>
                  <a:pt x="12085" y="15938"/>
                </a:lnTo>
                <a:lnTo>
                  <a:pt x="11519" y="15424"/>
                </a:lnTo>
                <a:lnTo>
                  <a:pt x="10636" y="15424"/>
                </a:lnTo>
                <a:lnTo>
                  <a:pt x="9682" y="15116"/>
                </a:lnTo>
                <a:lnTo>
                  <a:pt x="8763" y="14602"/>
                </a:lnTo>
                <a:lnTo>
                  <a:pt x="7668" y="13316"/>
                </a:lnTo>
                <a:lnTo>
                  <a:pt x="6784" y="14344"/>
                </a:lnTo>
                <a:lnTo>
                  <a:pt x="6007" y="15116"/>
                </a:lnTo>
                <a:lnTo>
                  <a:pt x="6007" y="15424"/>
                </a:lnTo>
                <a:lnTo>
                  <a:pt x="6007" y="16710"/>
                </a:lnTo>
                <a:lnTo>
                  <a:pt x="5300" y="16710"/>
                </a:lnTo>
                <a:lnTo>
                  <a:pt x="4417" y="16710"/>
                </a:lnTo>
                <a:lnTo>
                  <a:pt x="3110" y="16710"/>
                </a:lnTo>
                <a:lnTo>
                  <a:pt x="2968" y="18560"/>
                </a:lnTo>
                <a:lnTo>
                  <a:pt x="2191" y="19949"/>
                </a:lnTo>
                <a:lnTo>
                  <a:pt x="2014" y="19383"/>
                </a:lnTo>
                <a:lnTo>
                  <a:pt x="2191" y="18046"/>
                </a:lnTo>
                <a:lnTo>
                  <a:pt x="2014" y="18046"/>
                </a:lnTo>
                <a:lnTo>
                  <a:pt x="742" y="16452"/>
                </a:lnTo>
                <a:lnTo>
                  <a:pt x="742" y="15116"/>
                </a:lnTo>
                <a:lnTo>
                  <a:pt x="212" y="14602"/>
                </a:lnTo>
                <a:lnTo>
                  <a:pt x="212" y="13316"/>
                </a:lnTo>
                <a:lnTo>
                  <a:pt x="0" y="13008"/>
                </a:lnTo>
                <a:lnTo>
                  <a:pt x="0" y="11105"/>
                </a:lnTo>
                <a:lnTo>
                  <a:pt x="212" y="10900"/>
                </a:lnTo>
                <a:lnTo>
                  <a:pt x="742" y="8792"/>
                </a:lnTo>
                <a:lnTo>
                  <a:pt x="1449" y="817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5"/>
          <p:cNvSpPr/>
          <p:nvPr/>
        </p:nvSpPr>
        <p:spPr>
          <a:xfrm>
            <a:off x="5446800" y="1650960"/>
            <a:ext cx="74520" cy="262080"/>
          </a:xfrm>
          <a:custGeom>
            <a:avLst/>
            <a:gdLst>
              <a:gd name="textAreaLeft" fmla="*/ 0 w 74520"/>
              <a:gd name="textAreaRight" fmla="*/ 74880 w 74520"/>
              <a:gd name="textAreaTop" fmla="*/ 0 h 262080"/>
              <a:gd name="textAreaBottom" fmla="*/ 262440 h 262080"/>
            </a:gdLst>
            <a:ahLst/>
            <a:rect l="textAreaLeft" t="textAreaTop" r="textAreaRight" b="textAreaBottom"/>
            <a:pathLst>
              <a:path w="20000" h="20000">
                <a:moveTo>
                  <a:pt x="8966" y="622"/>
                </a:moveTo>
                <a:lnTo>
                  <a:pt x="14138" y="622"/>
                </a:lnTo>
                <a:lnTo>
                  <a:pt x="14138" y="0"/>
                </a:lnTo>
                <a:lnTo>
                  <a:pt x="19655" y="0"/>
                </a:lnTo>
                <a:lnTo>
                  <a:pt x="19655" y="622"/>
                </a:lnTo>
                <a:lnTo>
                  <a:pt x="14138" y="3212"/>
                </a:lnTo>
                <a:lnTo>
                  <a:pt x="14138" y="4249"/>
                </a:lnTo>
                <a:lnTo>
                  <a:pt x="12759" y="4249"/>
                </a:lnTo>
                <a:lnTo>
                  <a:pt x="12759" y="5907"/>
                </a:lnTo>
                <a:lnTo>
                  <a:pt x="14138" y="7565"/>
                </a:lnTo>
                <a:lnTo>
                  <a:pt x="14138" y="11295"/>
                </a:lnTo>
                <a:lnTo>
                  <a:pt x="14138" y="14404"/>
                </a:lnTo>
                <a:lnTo>
                  <a:pt x="14138" y="18238"/>
                </a:lnTo>
                <a:lnTo>
                  <a:pt x="8966" y="19896"/>
                </a:lnTo>
                <a:lnTo>
                  <a:pt x="8966" y="16062"/>
                </a:lnTo>
                <a:lnTo>
                  <a:pt x="5517" y="13368"/>
                </a:lnTo>
                <a:lnTo>
                  <a:pt x="0" y="11295"/>
                </a:lnTo>
                <a:lnTo>
                  <a:pt x="3448" y="9119"/>
                </a:lnTo>
                <a:lnTo>
                  <a:pt x="0" y="7565"/>
                </a:lnTo>
                <a:lnTo>
                  <a:pt x="3448" y="7047"/>
                </a:lnTo>
                <a:lnTo>
                  <a:pt x="5517" y="4249"/>
                </a:lnTo>
                <a:lnTo>
                  <a:pt x="8966" y="62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481720" y="1639800"/>
            <a:ext cx="244440" cy="279360"/>
          </a:xfrm>
          <a:custGeom>
            <a:avLst/>
            <a:gdLst>
              <a:gd name="textAreaLeft" fmla="*/ 0 w 244440"/>
              <a:gd name="textAreaRight" fmla="*/ 244800 w 244440"/>
              <a:gd name="textAreaTop" fmla="*/ 0 h 279360"/>
              <a:gd name="textAreaBottom" fmla="*/ 279720 h 279360"/>
            </a:gdLst>
            <a:ahLst/>
            <a:rect l="textAreaLeft" t="textAreaTop" r="textAreaRight" b="textAreaBottom"/>
            <a:pathLst>
              <a:path w="20000" h="20000">
                <a:moveTo>
                  <a:pt x="1702" y="3942"/>
                </a:moveTo>
                <a:lnTo>
                  <a:pt x="4468" y="3942"/>
                </a:lnTo>
                <a:lnTo>
                  <a:pt x="5532" y="4904"/>
                </a:lnTo>
                <a:lnTo>
                  <a:pt x="6064" y="4904"/>
                </a:lnTo>
                <a:lnTo>
                  <a:pt x="8298" y="4904"/>
                </a:lnTo>
                <a:lnTo>
                  <a:pt x="12660" y="2981"/>
                </a:lnTo>
                <a:lnTo>
                  <a:pt x="17021" y="0"/>
                </a:lnTo>
                <a:lnTo>
                  <a:pt x="19894" y="5481"/>
                </a:lnTo>
                <a:lnTo>
                  <a:pt x="15957" y="7500"/>
                </a:lnTo>
                <a:lnTo>
                  <a:pt x="9894" y="8846"/>
                </a:lnTo>
                <a:lnTo>
                  <a:pt x="9894" y="9423"/>
                </a:lnTo>
                <a:lnTo>
                  <a:pt x="14362" y="13365"/>
                </a:lnTo>
                <a:lnTo>
                  <a:pt x="13298" y="14327"/>
                </a:lnTo>
                <a:lnTo>
                  <a:pt x="12660" y="15865"/>
                </a:lnTo>
                <a:lnTo>
                  <a:pt x="10532" y="16923"/>
                </a:lnTo>
                <a:lnTo>
                  <a:pt x="9894" y="16923"/>
                </a:lnTo>
                <a:lnTo>
                  <a:pt x="6064" y="19904"/>
                </a:lnTo>
                <a:lnTo>
                  <a:pt x="0" y="19327"/>
                </a:lnTo>
                <a:lnTo>
                  <a:pt x="1702" y="17885"/>
                </a:lnTo>
                <a:lnTo>
                  <a:pt x="1702" y="14327"/>
                </a:lnTo>
                <a:lnTo>
                  <a:pt x="1702" y="11442"/>
                </a:lnTo>
                <a:lnTo>
                  <a:pt x="1702" y="7885"/>
                </a:lnTo>
                <a:lnTo>
                  <a:pt x="1170" y="6442"/>
                </a:lnTo>
                <a:lnTo>
                  <a:pt x="1170" y="4904"/>
                </a:lnTo>
                <a:lnTo>
                  <a:pt x="1702" y="4904"/>
                </a:lnTo>
                <a:lnTo>
                  <a:pt x="1702" y="394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7"/>
          <p:cNvSpPr/>
          <p:nvPr/>
        </p:nvSpPr>
        <p:spPr>
          <a:xfrm>
            <a:off x="5481720" y="1546200"/>
            <a:ext cx="74520" cy="115920"/>
          </a:xfrm>
          <a:custGeom>
            <a:avLst/>
            <a:gdLst>
              <a:gd name="textAreaLeft" fmla="*/ 0 w 74520"/>
              <a:gd name="textAreaRight" fmla="*/ 74880 w 74520"/>
              <a:gd name="textAreaTop" fmla="*/ 0 h 115920"/>
              <a:gd name="textAreaBottom" fmla="*/ 116280 h 115920"/>
            </a:gdLst>
            <a:ahLst/>
            <a:rect l="textAreaLeft" t="textAreaTop" r="textAreaRight" b="textAreaBottom"/>
            <a:pathLst>
              <a:path w="20000" h="20000">
                <a:moveTo>
                  <a:pt x="9310" y="2381"/>
                </a:moveTo>
                <a:lnTo>
                  <a:pt x="19655" y="0"/>
                </a:lnTo>
                <a:lnTo>
                  <a:pt x="19655" y="3571"/>
                </a:lnTo>
                <a:lnTo>
                  <a:pt x="19655" y="8571"/>
                </a:lnTo>
                <a:lnTo>
                  <a:pt x="14483" y="12381"/>
                </a:lnTo>
                <a:lnTo>
                  <a:pt x="14483" y="13571"/>
                </a:lnTo>
                <a:lnTo>
                  <a:pt x="10690" y="18333"/>
                </a:lnTo>
                <a:lnTo>
                  <a:pt x="5517" y="18333"/>
                </a:lnTo>
                <a:lnTo>
                  <a:pt x="5517" y="19762"/>
                </a:lnTo>
                <a:lnTo>
                  <a:pt x="0" y="19762"/>
                </a:lnTo>
                <a:lnTo>
                  <a:pt x="0" y="15952"/>
                </a:lnTo>
                <a:lnTo>
                  <a:pt x="3793" y="12381"/>
                </a:lnTo>
                <a:lnTo>
                  <a:pt x="5517" y="6190"/>
                </a:lnTo>
                <a:lnTo>
                  <a:pt x="9310" y="238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9"/>
          <p:cNvSpPr/>
          <p:nvPr/>
        </p:nvSpPr>
        <p:spPr>
          <a:xfrm>
            <a:off x="6434280" y="2114640"/>
            <a:ext cx="288720" cy="244440"/>
          </a:xfrm>
          <a:custGeom>
            <a:avLst/>
            <a:gdLst>
              <a:gd name="textAreaLeft" fmla="*/ 0 w 288720"/>
              <a:gd name="textAreaRight" fmla="*/ 289080 w 288720"/>
              <a:gd name="textAreaTop" fmla="*/ 0 h 244440"/>
              <a:gd name="textAreaBottom" fmla="*/ 244800 h 244440"/>
            </a:gdLst>
            <a:ahLst/>
            <a:rect l="textAreaLeft" t="textAreaTop" r="textAreaRight" b="textAreaBottom"/>
            <a:pathLst>
              <a:path w="20000" h="20000">
                <a:moveTo>
                  <a:pt x="0" y="9121"/>
                </a:moveTo>
                <a:lnTo>
                  <a:pt x="536" y="8022"/>
                </a:lnTo>
                <a:lnTo>
                  <a:pt x="536" y="10220"/>
                </a:lnTo>
                <a:lnTo>
                  <a:pt x="1429" y="10769"/>
                </a:lnTo>
                <a:lnTo>
                  <a:pt x="1875" y="11868"/>
                </a:lnTo>
                <a:lnTo>
                  <a:pt x="4196" y="11868"/>
                </a:lnTo>
                <a:lnTo>
                  <a:pt x="5179" y="10769"/>
                </a:lnTo>
                <a:lnTo>
                  <a:pt x="9732" y="10769"/>
                </a:lnTo>
                <a:lnTo>
                  <a:pt x="11607" y="10220"/>
                </a:lnTo>
                <a:lnTo>
                  <a:pt x="13393" y="8022"/>
                </a:lnTo>
                <a:lnTo>
                  <a:pt x="15714" y="4505"/>
                </a:lnTo>
                <a:lnTo>
                  <a:pt x="17589" y="1648"/>
                </a:lnTo>
                <a:lnTo>
                  <a:pt x="18482" y="0"/>
                </a:lnTo>
                <a:lnTo>
                  <a:pt x="19464" y="1099"/>
                </a:lnTo>
                <a:lnTo>
                  <a:pt x="19464" y="2857"/>
                </a:lnTo>
                <a:lnTo>
                  <a:pt x="19464" y="5604"/>
                </a:lnTo>
                <a:lnTo>
                  <a:pt x="18482" y="5604"/>
                </a:lnTo>
                <a:lnTo>
                  <a:pt x="17589" y="6264"/>
                </a:lnTo>
                <a:lnTo>
                  <a:pt x="18482" y="10220"/>
                </a:lnTo>
                <a:lnTo>
                  <a:pt x="19464" y="10220"/>
                </a:lnTo>
                <a:lnTo>
                  <a:pt x="19911" y="11868"/>
                </a:lnTo>
                <a:lnTo>
                  <a:pt x="19464" y="11868"/>
                </a:lnTo>
                <a:lnTo>
                  <a:pt x="17589" y="11868"/>
                </a:lnTo>
                <a:lnTo>
                  <a:pt x="17589" y="13626"/>
                </a:lnTo>
                <a:lnTo>
                  <a:pt x="17143" y="15385"/>
                </a:lnTo>
                <a:lnTo>
                  <a:pt x="17143" y="19231"/>
                </a:lnTo>
                <a:lnTo>
                  <a:pt x="16250" y="19890"/>
                </a:lnTo>
                <a:lnTo>
                  <a:pt x="4196" y="17582"/>
                </a:lnTo>
                <a:lnTo>
                  <a:pt x="3750" y="15385"/>
                </a:lnTo>
                <a:lnTo>
                  <a:pt x="1875" y="12967"/>
                </a:lnTo>
                <a:lnTo>
                  <a:pt x="536" y="10769"/>
                </a:lnTo>
                <a:lnTo>
                  <a:pt x="0" y="912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30"/>
          <p:cNvSpPr/>
          <p:nvPr/>
        </p:nvSpPr>
        <p:spPr>
          <a:xfrm>
            <a:off x="5973840" y="2666880"/>
            <a:ext cx="250920" cy="293760"/>
          </a:xfrm>
          <a:custGeom>
            <a:avLst/>
            <a:gdLst>
              <a:gd name="textAreaLeft" fmla="*/ 0 w 250920"/>
              <a:gd name="textAreaRight" fmla="*/ 251280 w 250920"/>
              <a:gd name="textAreaTop" fmla="*/ 0 h 293760"/>
              <a:gd name="textAreaBottom" fmla="*/ 294120 h 293760"/>
            </a:gdLst>
            <a:ahLst/>
            <a:rect l="textAreaLeft" t="textAreaTop" r="textAreaRight" b="textAreaBottom"/>
            <a:pathLst>
              <a:path w="20000" h="20000">
                <a:moveTo>
                  <a:pt x="3125" y="19908"/>
                </a:moveTo>
                <a:lnTo>
                  <a:pt x="2708" y="17523"/>
                </a:lnTo>
                <a:lnTo>
                  <a:pt x="1563" y="13303"/>
                </a:lnTo>
                <a:lnTo>
                  <a:pt x="0" y="8991"/>
                </a:lnTo>
                <a:lnTo>
                  <a:pt x="0" y="7156"/>
                </a:lnTo>
                <a:lnTo>
                  <a:pt x="0" y="5229"/>
                </a:lnTo>
                <a:lnTo>
                  <a:pt x="2708" y="3761"/>
                </a:lnTo>
                <a:lnTo>
                  <a:pt x="2708" y="1009"/>
                </a:lnTo>
                <a:lnTo>
                  <a:pt x="3125" y="1009"/>
                </a:lnTo>
                <a:lnTo>
                  <a:pt x="4792" y="1009"/>
                </a:lnTo>
                <a:lnTo>
                  <a:pt x="8646" y="0"/>
                </a:lnTo>
                <a:lnTo>
                  <a:pt x="17188" y="3761"/>
                </a:lnTo>
                <a:lnTo>
                  <a:pt x="17188" y="7156"/>
                </a:lnTo>
                <a:lnTo>
                  <a:pt x="19896" y="6239"/>
                </a:lnTo>
                <a:lnTo>
                  <a:pt x="18229" y="10000"/>
                </a:lnTo>
                <a:lnTo>
                  <a:pt x="15625" y="12385"/>
                </a:lnTo>
                <a:lnTo>
                  <a:pt x="15625" y="14679"/>
                </a:lnTo>
                <a:lnTo>
                  <a:pt x="18854" y="13303"/>
                </a:lnTo>
                <a:lnTo>
                  <a:pt x="18854" y="13761"/>
                </a:lnTo>
                <a:lnTo>
                  <a:pt x="16146" y="15229"/>
                </a:lnTo>
                <a:lnTo>
                  <a:pt x="12917" y="16147"/>
                </a:lnTo>
                <a:lnTo>
                  <a:pt x="3125" y="1990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31"/>
          <p:cNvSpPr/>
          <p:nvPr/>
        </p:nvSpPr>
        <p:spPr>
          <a:xfrm>
            <a:off x="6013440" y="2575080"/>
            <a:ext cx="563400" cy="399960"/>
          </a:xfrm>
          <a:custGeom>
            <a:avLst/>
            <a:gdLst>
              <a:gd name="textAreaLeft" fmla="*/ 0 w 563400"/>
              <a:gd name="textAreaRight" fmla="*/ 563760 w 563400"/>
              <a:gd name="textAreaTop" fmla="*/ 0 h 399960"/>
              <a:gd name="textAreaBottom" fmla="*/ 400320 h 399960"/>
            </a:gdLst>
            <a:ahLst/>
            <a:rect l="textAreaLeft" t="textAreaTop" r="textAreaRight" b="textAreaBottom"/>
            <a:pathLst>
              <a:path w="20000" h="20000">
                <a:moveTo>
                  <a:pt x="17587" y="0"/>
                </a:moveTo>
                <a:lnTo>
                  <a:pt x="19954" y="7297"/>
                </a:lnTo>
                <a:lnTo>
                  <a:pt x="18237" y="8378"/>
                </a:lnTo>
                <a:lnTo>
                  <a:pt x="18051" y="10135"/>
                </a:lnTo>
                <a:lnTo>
                  <a:pt x="18051" y="10811"/>
                </a:lnTo>
                <a:lnTo>
                  <a:pt x="12993" y="13581"/>
                </a:lnTo>
                <a:lnTo>
                  <a:pt x="11787" y="14257"/>
                </a:lnTo>
                <a:lnTo>
                  <a:pt x="10812" y="15743"/>
                </a:lnTo>
                <a:lnTo>
                  <a:pt x="9884" y="15743"/>
                </a:lnTo>
                <a:lnTo>
                  <a:pt x="9420" y="15743"/>
                </a:lnTo>
                <a:lnTo>
                  <a:pt x="7425" y="17432"/>
                </a:lnTo>
                <a:lnTo>
                  <a:pt x="4826" y="18108"/>
                </a:lnTo>
                <a:lnTo>
                  <a:pt x="3619" y="18514"/>
                </a:lnTo>
                <a:lnTo>
                  <a:pt x="3619" y="19932"/>
                </a:lnTo>
                <a:lnTo>
                  <a:pt x="2413" y="19932"/>
                </a:lnTo>
                <a:lnTo>
                  <a:pt x="742" y="19932"/>
                </a:lnTo>
                <a:lnTo>
                  <a:pt x="0" y="19189"/>
                </a:lnTo>
                <a:lnTo>
                  <a:pt x="4362" y="16419"/>
                </a:lnTo>
                <a:lnTo>
                  <a:pt x="5800" y="15743"/>
                </a:lnTo>
                <a:lnTo>
                  <a:pt x="6961" y="14662"/>
                </a:lnTo>
                <a:lnTo>
                  <a:pt x="6961" y="14257"/>
                </a:lnTo>
                <a:lnTo>
                  <a:pt x="5522" y="15338"/>
                </a:lnTo>
                <a:lnTo>
                  <a:pt x="5522" y="13581"/>
                </a:lnTo>
                <a:lnTo>
                  <a:pt x="6729" y="11892"/>
                </a:lnTo>
                <a:lnTo>
                  <a:pt x="7425" y="9122"/>
                </a:lnTo>
                <a:lnTo>
                  <a:pt x="10812" y="2432"/>
                </a:lnTo>
                <a:lnTo>
                  <a:pt x="1758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32"/>
          <p:cNvSpPr/>
          <p:nvPr/>
        </p:nvSpPr>
        <p:spPr>
          <a:xfrm>
            <a:off x="3549600" y="2981160"/>
            <a:ext cx="174600" cy="378000"/>
          </a:xfrm>
          <a:custGeom>
            <a:avLst/>
            <a:gdLst>
              <a:gd name="textAreaLeft" fmla="*/ 0 w 174600"/>
              <a:gd name="textAreaRight" fmla="*/ 174960 w 174600"/>
              <a:gd name="textAreaTop" fmla="*/ 0 h 378000"/>
              <a:gd name="textAreaBottom" fmla="*/ 378360 h 378000"/>
            </a:gdLst>
            <a:ahLst/>
            <a:rect l="textAreaLeft" t="textAreaTop" r="textAreaRight" b="textAreaBottom"/>
            <a:pathLst>
              <a:path w="20000" h="20000">
                <a:moveTo>
                  <a:pt x="10815" y="1495"/>
                </a:moveTo>
                <a:lnTo>
                  <a:pt x="12296" y="0"/>
                </a:lnTo>
                <a:lnTo>
                  <a:pt x="13778" y="0"/>
                </a:lnTo>
                <a:lnTo>
                  <a:pt x="16000" y="1495"/>
                </a:lnTo>
                <a:lnTo>
                  <a:pt x="18370" y="2633"/>
                </a:lnTo>
                <a:lnTo>
                  <a:pt x="18370" y="2918"/>
                </a:lnTo>
                <a:lnTo>
                  <a:pt x="19852" y="5552"/>
                </a:lnTo>
                <a:lnTo>
                  <a:pt x="18370" y="6690"/>
                </a:lnTo>
                <a:lnTo>
                  <a:pt x="18370" y="7758"/>
                </a:lnTo>
                <a:lnTo>
                  <a:pt x="17630" y="8470"/>
                </a:lnTo>
                <a:lnTo>
                  <a:pt x="16000" y="10320"/>
                </a:lnTo>
                <a:lnTo>
                  <a:pt x="13778" y="10747"/>
                </a:lnTo>
                <a:lnTo>
                  <a:pt x="13778" y="12527"/>
                </a:lnTo>
                <a:lnTo>
                  <a:pt x="13778" y="16157"/>
                </a:lnTo>
                <a:lnTo>
                  <a:pt x="14519" y="19217"/>
                </a:lnTo>
                <a:lnTo>
                  <a:pt x="10815" y="19217"/>
                </a:lnTo>
                <a:lnTo>
                  <a:pt x="6074" y="19929"/>
                </a:lnTo>
                <a:lnTo>
                  <a:pt x="6074" y="18434"/>
                </a:lnTo>
                <a:lnTo>
                  <a:pt x="6074" y="18078"/>
                </a:lnTo>
                <a:lnTo>
                  <a:pt x="6074" y="10320"/>
                </a:lnTo>
                <a:lnTo>
                  <a:pt x="4593" y="9181"/>
                </a:lnTo>
                <a:lnTo>
                  <a:pt x="3852" y="7758"/>
                </a:lnTo>
                <a:lnTo>
                  <a:pt x="1481" y="6690"/>
                </a:lnTo>
                <a:lnTo>
                  <a:pt x="0" y="4840"/>
                </a:lnTo>
                <a:lnTo>
                  <a:pt x="2370" y="4413"/>
                </a:lnTo>
                <a:lnTo>
                  <a:pt x="4593" y="3701"/>
                </a:lnTo>
                <a:lnTo>
                  <a:pt x="8444" y="2918"/>
                </a:lnTo>
                <a:lnTo>
                  <a:pt x="10815" y="1495"/>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34"/>
          <p:cNvSpPr/>
          <p:nvPr/>
        </p:nvSpPr>
        <p:spPr>
          <a:xfrm>
            <a:off x="4013280" y="3597120"/>
            <a:ext cx="344520" cy="370080"/>
          </a:xfrm>
          <a:custGeom>
            <a:avLst/>
            <a:gdLst>
              <a:gd name="textAreaLeft" fmla="*/ 0 w 344520"/>
              <a:gd name="textAreaRight" fmla="*/ 344880 w 344520"/>
              <a:gd name="textAreaTop" fmla="*/ 0 h 370080"/>
              <a:gd name="textAreaBottom" fmla="*/ 370440 h 370080"/>
            </a:gdLst>
            <a:ahLst/>
            <a:rect l="textAreaLeft" t="textAreaTop" r="textAreaRight" b="textAreaBottom"/>
            <a:pathLst>
              <a:path w="20000" h="20000">
                <a:moveTo>
                  <a:pt x="8981" y="291"/>
                </a:moveTo>
                <a:lnTo>
                  <a:pt x="8981" y="0"/>
                </a:lnTo>
                <a:lnTo>
                  <a:pt x="11774" y="0"/>
                </a:lnTo>
                <a:lnTo>
                  <a:pt x="14113" y="0"/>
                </a:lnTo>
                <a:lnTo>
                  <a:pt x="15245" y="0"/>
                </a:lnTo>
                <a:lnTo>
                  <a:pt x="16075" y="0"/>
                </a:lnTo>
                <a:lnTo>
                  <a:pt x="15245" y="1164"/>
                </a:lnTo>
                <a:lnTo>
                  <a:pt x="15245" y="3345"/>
                </a:lnTo>
                <a:lnTo>
                  <a:pt x="16377" y="2982"/>
                </a:lnTo>
                <a:lnTo>
                  <a:pt x="17962" y="2982"/>
                </a:lnTo>
                <a:lnTo>
                  <a:pt x="18415" y="3345"/>
                </a:lnTo>
                <a:lnTo>
                  <a:pt x="19170" y="4436"/>
                </a:lnTo>
                <a:lnTo>
                  <a:pt x="18415" y="5236"/>
                </a:lnTo>
                <a:lnTo>
                  <a:pt x="17962" y="5964"/>
                </a:lnTo>
                <a:lnTo>
                  <a:pt x="17962" y="7855"/>
                </a:lnTo>
                <a:lnTo>
                  <a:pt x="19925" y="9018"/>
                </a:lnTo>
                <a:lnTo>
                  <a:pt x="19925" y="12000"/>
                </a:lnTo>
                <a:lnTo>
                  <a:pt x="19170" y="13091"/>
                </a:lnTo>
                <a:lnTo>
                  <a:pt x="18415" y="14255"/>
                </a:lnTo>
                <a:lnTo>
                  <a:pt x="18415" y="15782"/>
                </a:lnTo>
                <a:lnTo>
                  <a:pt x="17962" y="15782"/>
                </a:lnTo>
                <a:lnTo>
                  <a:pt x="17208" y="14255"/>
                </a:lnTo>
                <a:lnTo>
                  <a:pt x="15245" y="14982"/>
                </a:lnTo>
                <a:lnTo>
                  <a:pt x="12906" y="13091"/>
                </a:lnTo>
                <a:lnTo>
                  <a:pt x="12075" y="14982"/>
                </a:lnTo>
                <a:lnTo>
                  <a:pt x="10943" y="14982"/>
                </a:lnTo>
                <a:lnTo>
                  <a:pt x="10189" y="14255"/>
                </a:lnTo>
                <a:lnTo>
                  <a:pt x="9736" y="16145"/>
                </a:lnTo>
                <a:lnTo>
                  <a:pt x="10943" y="16945"/>
                </a:lnTo>
                <a:lnTo>
                  <a:pt x="10943" y="19127"/>
                </a:lnTo>
                <a:lnTo>
                  <a:pt x="10189" y="19127"/>
                </a:lnTo>
                <a:lnTo>
                  <a:pt x="9736" y="18764"/>
                </a:lnTo>
                <a:lnTo>
                  <a:pt x="8981" y="19127"/>
                </a:lnTo>
                <a:lnTo>
                  <a:pt x="7849" y="19927"/>
                </a:lnTo>
                <a:lnTo>
                  <a:pt x="4679" y="16945"/>
                </a:lnTo>
                <a:lnTo>
                  <a:pt x="3547" y="15782"/>
                </a:lnTo>
                <a:lnTo>
                  <a:pt x="4679" y="16145"/>
                </a:lnTo>
                <a:lnTo>
                  <a:pt x="4679" y="15782"/>
                </a:lnTo>
                <a:lnTo>
                  <a:pt x="2792" y="14982"/>
                </a:lnTo>
                <a:lnTo>
                  <a:pt x="1962" y="13818"/>
                </a:lnTo>
                <a:lnTo>
                  <a:pt x="2792" y="13818"/>
                </a:lnTo>
                <a:lnTo>
                  <a:pt x="1962" y="13091"/>
                </a:lnTo>
                <a:lnTo>
                  <a:pt x="2792" y="12364"/>
                </a:lnTo>
                <a:lnTo>
                  <a:pt x="1962" y="12000"/>
                </a:lnTo>
                <a:lnTo>
                  <a:pt x="1585" y="12364"/>
                </a:lnTo>
                <a:lnTo>
                  <a:pt x="830" y="10836"/>
                </a:lnTo>
                <a:lnTo>
                  <a:pt x="0" y="9382"/>
                </a:lnTo>
                <a:lnTo>
                  <a:pt x="1585" y="9382"/>
                </a:lnTo>
                <a:lnTo>
                  <a:pt x="1962" y="7127"/>
                </a:lnTo>
                <a:lnTo>
                  <a:pt x="2792" y="7855"/>
                </a:lnTo>
                <a:lnTo>
                  <a:pt x="3925" y="7127"/>
                </a:lnTo>
                <a:lnTo>
                  <a:pt x="1962" y="6400"/>
                </a:lnTo>
                <a:lnTo>
                  <a:pt x="1962" y="5236"/>
                </a:lnTo>
                <a:lnTo>
                  <a:pt x="2792" y="5236"/>
                </a:lnTo>
                <a:lnTo>
                  <a:pt x="2792" y="4145"/>
                </a:lnTo>
                <a:lnTo>
                  <a:pt x="5132" y="4145"/>
                </a:lnTo>
                <a:lnTo>
                  <a:pt x="7094" y="4145"/>
                </a:lnTo>
                <a:lnTo>
                  <a:pt x="8981" y="4145"/>
                </a:lnTo>
                <a:lnTo>
                  <a:pt x="8981" y="291"/>
                </a:lnTo>
                <a:close/>
              </a:path>
            </a:pathLst>
          </a:custGeom>
          <a:solidFill>
            <a:srgbClr val="99ff99"/>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35"/>
          <p:cNvSpPr/>
          <p:nvPr/>
        </p:nvSpPr>
        <p:spPr>
          <a:xfrm>
            <a:off x="2629080" y="2960640"/>
            <a:ext cx="428400" cy="331920"/>
          </a:xfrm>
          <a:custGeom>
            <a:avLst/>
            <a:gdLst>
              <a:gd name="textAreaLeft" fmla="*/ 0 w 428400"/>
              <a:gd name="textAreaRight" fmla="*/ 428760 w 428400"/>
              <a:gd name="textAreaTop" fmla="*/ 0 h 331920"/>
              <a:gd name="textAreaBottom" fmla="*/ 331920 h 331920"/>
            </a:gdLst>
            <a:ahLst/>
            <a:rect l="textAreaLeft" t="textAreaTop" r="textAreaRight" b="textAreaBottom"/>
            <a:pathLst>
              <a:path w="20000" h="20000">
                <a:moveTo>
                  <a:pt x="3780" y="0"/>
                </a:moveTo>
                <a:lnTo>
                  <a:pt x="5671" y="0"/>
                </a:lnTo>
                <a:lnTo>
                  <a:pt x="5671" y="902"/>
                </a:lnTo>
                <a:lnTo>
                  <a:pt x="7256" y="1311"/>
                </a:lnTo>
                <a:lnTo>
                  <a:pt x="8232" y="902"/>
                </a:lnTo>
                <a:lnTo>
                  <a:pt x="8841" y="902"/>
                </a:lnTo>
                <a:lnTo>
                  <a:pt x="10427" y="902"/>
                </a:lnTo>
                <a:lnTo>
                  <a:pt x="10427" y="1311"/>
                </a:lnTo>
                <a:lnTo>
                  <a:pt x="10732" y="2131"/>
                </a:lnTo>
                <a:lnTo>
                  <a:pt x="11341" y="2131"/>
                </a:lnTo>
                <a:lnTo>
                  <a:pt x="12317" y="3361"/>
                </a:lnTo>
                <a:lnTo>
                  <a:pt x="13902" y="2131"/>
                </a:lnTo>
                <a:lnTo>
                  <a:pt x="14817" y="2131"/>
                </a:lnTo>
                <a:lnTo>
                  <a:pt x="15488" y="1311"/>
                </a:lnTo>
                <a:lnTo>
                  <a:pt x="15793" y="902"/>
                </a:lnTo>
                <a:lnTo>
                  <a:pt x="17073" y="3361"/>
                </a:lnTo>
                <a:lnTo>
                  <a:pt x="17317" y="4262"/>
                </a:lnTo>
                <a:lnTo>
                  <a:pt x="18049" y="4672"/>
                </a:lnTo>
                <a:lnTo>
                  <a:pt x="18049" y="6393"/>
                </a:lnTo>
                <a:lnTo>
                  <a:pt x="18293" y="6885"/>
                </a:lnTo>
                <a:lnTo>
                  <a:pt x="18293" y="8033"/>
                </a:lnTo>
                <a:lnTo>
                  <a:pt x="19573" y="9754"/>
                </a:lnTo>
                <a:lnTo>
                  <a:pt x="18963" y="10246"/>
                </a:lnTo>
                <a:lnTo>
                  <a:pt x="18963" y="11885"/>
                </a:lnTo>
                <a:lnTo>
                  <a:pt x="19573" y="12295"/>
                </a:lnTo>
                <a:lnTo>
                  <a:pt x="19573" y="13607"/>
                </a:lnTo>
                <a:lnTo>
                  <a:pt x="19573" y="14426"/>
                </a:lnTo>
                <a:lnTo>
                  <a:pt x="19939" y="15738"/>
                </a:lnTo>
                <a:lnTo>
                  <a:pt x="18963" y="15738"/>
                </a:lnTo>
                <a:lnTo>
                  <a:pt x="18293" y="16557"/>
                </a:lnTo>
                <a:lnTo>
                  <a:pt x="18963" y="16967"/>
                </a:lnTo>
                <a:lnTo>
                  <a:pt x="18293" y="19098"/>
                </a:lnTo>
                <a:lnTo>
                  <a:pt x="18049" y="19098"/>
                </a:lnTo>
                <a:lnTo>
                  <a:pt x="17073" y="18607"/>
                </a:lnTo>
                <a:lnTo>
                  <a:pt x="17073" y="19918"/>
                </a:lnTo>
                <a:lnTo>
                  <a:pt x="15793" y="19918"/>
                </a:lnTo>
                <a:lnTo>
                  <a:pt x="14817" y="19918"/>
                </a:lnTo>
                <a:lnTo>
                  <a:pt x="14817" y="17787"/>
                </a:lnTo>
                <a:lnTo>
                  <a:pt x="14207" y="15738"/>
                </a:lnTo>
                <a:lnTo>
                  <a:pt x="12927" y="15738"/>
                </a:lnTo>
                <a:lnTo>
                  <a:pt x="11707" y="15738"/>
                </a:lnTo>
                <a:lnTo>
                  <a:pt x="11707" y="13607"/>
                </a:lnTo>
                <a:lnTo>
                  <a:pt x="11341" y="13115"/>
                </a:lnTo>
                <a:lnTo>
                  <a:pt x="11341" y="11885"/>
                </a:lnTo>
                <a:lnTo>
                  <a:pt x="10427" y="9754"/>
                </a:lnTo>
                <a:lnTo>
                  <a:pt x="7561" y="10246"/>
                </a:lnTo>
                <a:lnTo>
                  <a:pt x="7256" y="10246"/>
                </a:lnTo>
                <a:lnTo>
                  <a:pt x="6341" y="12295"/>
                </a:lnTo>
                <a:lnTo>
                  <a:pt x="5671" y="12295"/>
                </a:lnTo>
                <a:lnTo>
                  <a:pt x="4756" y="13607"/>
                </a:lnTo>
                <a:lnTo>
                  <a:pt x="4085" y="12295"/>
                </a:lnTo>
                <a:lnTo>
                  <a:pt x="3780" y="11066"/>
                </a:lnTo>
                <a:lnTo>
                  <a:pt x="1585" y="8934"/>
                </a:lnTo>
                <a:lnTo>
                  <a:pt x="976" y="7705"/>
                </a:lnTo>
                <a:lnTo>
                  <a:pt x="0" y="6885"/>
                </a:lnTo>
                <a:lnTo>
                  <a:pt x="976" y="4672"/>
                </a:lnTo>
                <a:lnTo>
                  <a:pt x="3110" y="3361"/>
                </a:lnTo>
                <a:lnTo>
                  <a:pt x="3780" y="2131"/>
                </a:lnTo>
                <a:lnTo>
                  <a:pt x="3110" y="1311"/>
                </a:lnTo>
                <a:lnTo>
                  <a:pt x="3780" y="902"/>
                </a:lnTo>
                <a:lnTo>
                  <a:pt x="3780"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36"/>
          <p:cNvSpPr/>
          <p:nvPr/>
        </p:nvSpPr>
        <p:spPr>
          <a:xfrm>
            <a:off x="6008760" y="4441680"/>
            <a:ext cx="7920" cy="41400"/>
          </a:xfrm>
          <a:custGeom>
            <a:avLst/>
            <a:gdLst>
              <a:gd name="textAreaLeft" fmla="*/ 0 w 7920"/>
              <a:gd name="textAreaRight" fmla="*/ 8280 w 7920"/>
              <a:gd name="textAreaTop" fmla="*/ 0 h 41400"/>
              <a:gd name="textAreaBottom" fmla="*/ 41400 h 41400"/>
            </a:gdLst>
            <a:ahLst/>
            <a:rect l="textAreaLeft" t="textAreaTop" r="textAreaRight" b="textAreaBottom"/>
            <a:pathLst>
              <a:path w="20000" h="20000">
                <a:moveTo>
                  <a:pt x="16667" y="19286"/>
                </a:moveTo>
                <a:lnTo>
                  <a:pt x="0" y="11429"/>
                </a:lnTo>
                <a:lnTo>
                  <a:pt x="0" y="4286"/>
                </a:lnTo>
                <a:lnTo>
                  <a:pt x="0" y="0"/>
                </a:lnTo>
                <a:lnTo>
                  <a:pt x="16667" y="0"/>
                </a:lnTo>
                <a:lnTo>
                  <a:pt x="16667" y="19286"/>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09" name="Freeform 38"/>
          <p:cNvSpPr/>
          <p:nvPr/>
        </p:nvSpPr>
        <p:spPr>
          <a:xfrm>
            <a:off x="5973840" y="4478400"/>
            <a:ext cx="444600" cy="869760"/>
          </a:xfrm>
          <a:custGeom>
            <a:avLst/>
            <a:gdLst>
              <a:gd name="textAreaLeft" fmla="*/ 0 w 444600"/>
              <a:gd name="textAreaRight" fmla="*/ 444960 w 444600"/>
              <a:gd name="textAreaTop" fmla="*/ 0 h 869760"/>
              <a:gd name="textAreaBottom" fmla="*/ 870120 h 869760"/>
            </a:gdLst>
            <a:ahLst/>
            <a:rect l="textAreaLeft" t="textAreaTop" r="textAreaRight" b="textAreaBottom"/>
            <a:pathLst>
              <a:path w="20000" h="20000">
                <a:moveTo>
                  <a:pt x="4795" y="19969"/>
                </a:moveTo>
                <a:lnTo>
                  <a:pt x="3918" y="19470"/>
                </a:lnTo>
                <a:lnTo>
                  <a:pt x="1754" y="19159"/>
                </a:lnTo>
                <a:lnTo>
                  <a:pt x="819" y="18193"/>
                </a:lnTo>
                <a:lnTo>
                  <a:pt x="819" y="16604"/>
                </a:lnTo>
                <a:lnTo>
                  <a:pt x="234" y="16106"/>
                </a:lnTo>
                <a:lnTo>
                  <a:pt x="0" y="14486"/>
                </a:lnTo>
                <a:lnTo>
                  <a:pt x="819" y="13676"/>
                </a:lnTo>
                <a:lnTo>
                  <a:pt x="1520" y="13551"/>
                </a:lnTo>
                <a:lnTo>
                  <a:pt x="3918" y="11589"/>
                </a:lnTo>
                <a:lnTo>
                  <a:pt x="3918" y="11433"/>
                </a:lnTo>
                <a:lnTo>
                  <a:pt x="3918" y="10810"/>
                </a:lnTo>
                <a:lnTo>
                  <a:pt x="3333" y="10312"/>
                </a:lnTo>
                <a:lnTo>
                  <a:pt x="2690" y="9813"/>
                </a:lnTo>
                <a:lnTo>
                  <a:pt x="2690" y="8536"/>
                </a:lnTo>
                <a:lnTo>
                  <a:pt x="3918" y="6760"/>
                </a:lnTo>
                <a:lnTo>
                  <a:pt x="4211" y="6106"/>
                </a:lnTo>
                <a:lnTo>
                  <a:pt x="5380" y="5950"/>
                </a:lnTo>
                <a:lnTo>
                  <a:pt x="6316" y="5639"/>
                </a:lnTo>
                <a:lnTo>
                  <a:pt x="7251" y="5950"/>
                </a:lnTo>
                <a:lnTo>
                  <a:pt x="7251" y="5639"/>
                </a:lnTo>
                <a:lnTo>
                  <a:pt x="8129" y="5452"/>
                </a:lnTo>
                <a:lnTo>
                  <a:pt x="9064" y="5639"/>
                </a:lnTo>
                <a:lnTo>
                  <a:pt x="8713" y="5140"/>
                </a:lnTo>
                <a:lnTo>
                  <a:pt x="10526" y="4642"/>
                </a:lnTo>
                <a:lnTo>
                  <a:pt x="10526" y="5140"/>
                </a:lnTo>
                <a:lnTo>
                  <a:pt x="11813" y="4829"/>
                </a:lnTo>
                <a:lnTo>
                  <a:pt x="11111" y="4642"/>
                </a:lnTo>
                <a:lnTo>
                  <a:pt x="12047" y="3863"/>
                </a:lnTo>
                <a:lnTo>
                  <a:pt x="12047" y="4330"/>
                </a:lnTo>
                <a:lnTo>
                  <a:pt x="12982" y="3863"/>
                </a:lnTo>
                <a:lnTo>
                  <a:pt x="13626" y="3863"/>
                </a:lnTo>
                <a:lnTo>
                  <a:pt x="12690" y="3551"/>
                </a:lnTo>
                <a:lnTo>
                  <a:pt x="12982" y="3053"/>
                </a:lnTo>
                <a:lnTo>
                  <a:pt x="13626" y="3364"/>
                </a:lnTo>
                <a:lnTo>
                  <a:pt x="13626" y="3053"/>
                </a:lnTo>
                <a:lnTo>
                  <a:pt x="12982" y="2243"/>
                </a:lnTo>
                <a:lnTo>
                  <a:pt x="14211" y="2243"/>
                </a:lnTo>
                <a:lnTo>
                  <a:pt x="14211" y="2555"/>
                </a:lnTo>
                <a:lnTo>
                  <a:pt x="15088" y="2087"/>
                </a:lnTo>
                <a:lnTo>
                  <a:pt x="15380" y="2243"/>
                </a:lnTo>
                <a:lnTo>
                  <a:pt x="16023" y="1433"/>
                </a:lnTo>
                <a:lnTo>
                  <a:pt x="15380" y="623"/>
                </a:lnTo>
                <a:lnTo>
                  <a:pt x="16608" y="498"/>
                </a:lnTo>
                <a:lnTo>
                  <a:pt x="16959" y="0"/>
                </a:lnTo>
                <a:lnTo>
                  <a:pt x="16959" y="498"/>
                </a:lnTo>
                <a:lnTo>
                  <a:pt x="17544" y="498"/>
                </a:lnTo>
                <a:lnTo>
                  <a:pt x="17544" y="935"/>
                </a:lnTo>
                <a:lnTo>
                  <a:pt x="18129" y="1277"/>
                </a:lnTo>
                <a:lnTo>
                  <a:pt x="19357" y="3364"/>
                </a:lnTo>
                <a:lnTo>
                  <a:pt x="19942" y="4642"/>
                </a:lnTo>
                <a:lnTo>
                  <a:pt x="19006" y="5639"/>
                </a:lnTo>
                <a:lnTo>
                  <a:pt x="18129" y="5140"/>
                </a:lnTo>
                <a:lnTo>
                  <a:pt x="17544" y="5140"/>
                </a:lnTo>
                <a:lnTo>
                  <a:pt x="17544" y="5639"/>
                </a:lnTo>
                <a:lnTo>
                  <a:pt x="18129" y="6417"/>
                </a:lnTo>
                <a:lnTo>
                  <a:pt x="16959" y="7383"/>
                </a:lnTo>
                <a:lnTo>
                  <a:pt x="16959" y="8069"/>
                </a:lnTo>
                <a:lnTo>
                  <a:pt x="15088" y="11121"/>
                </a:lnTo>
                <a:lnTo>
                  <a:pt x="12047" y="14829"/>
                </a:lnTo>
                <a:lnTo>
                  <a:pt x="9064" y="19003"/>
                </a:lnTo>
                <a:lnTo>
                  <a:pt x="7836" y="19470"/>
                </a:lnTo>
                <a:lnTo>
                  <a:pt x="6316" y="19657"/>
                </a:lnTo>
                <a:lnTo>
                  <a:pt x="4795" y="19969"/>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39"/>
          <p:cNvSpPr/>
          <p:nvPr/>
        </p:nvSpPr>
        <p:spPr>
          <a:xfrm>
            <a:off x="6804000" y="4981680"/>
            <a:ext cx="23760" cy="50760"/>
          </a:xfrm>
          <a:custGeom>
            <a:avLst/>
            <a:gdLst>
              <a:gd name="textAreaLeft" fmla="*/ 0 w 23760"/>
              <a:gd name="textAreaRight" fmla="*/ 24120 w 23760"/>
              <a:gd name="textAreaTop" fmla="*/ 0 h 50760"/>
              <a:gd name="textAreaBottom" fmla="*/ 51120 h 50760"/>
            </a:gdLst>
            <a:ahLst/>
            <a:rect l="textAreaLeft" t="textAreaTop" r="textAreaRight" b="textAreaBottom"/>
            <a:pathLst>
              <a:path w="20000" h="20000">
                <a:moveTo>
                  <a:pt x="7059" y="19459"/>
                </a:moveTo>
                <a:lnTo>
                  <a:pt x="0" y="14054"/>
                </a:lnTo>
                <a:lnTo>
                  <a:pt x="0" y="10811"/>
                </a:lnTo>
                <a:lnTo>
                  <a:pt x="7059" y="0"/>
                </a:lnTo>
                <a:lnTo>
                  <a:pt x="18824" y="10811"/>
                </a:lnTo>
                <a:lnTo>
                  <a:pt x="7059" y="19459"/>
                </a:lnTo>
                <a:close/>
              </a:path>
            </a:pathLst>
          </a:custGeom>
          <a:solidFill>
            <a:srgbClr val="ff6600"/>
          </a:solidFill>
          <a:ln w="324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11" name="Freeform 40"/>
          <p:cNvSpPr/>
          <p:nvPr/>
        </p:nvSpPr>
        <p:spPr>
          <a:xfrm>
            <a:off x="5235480" y="4386240"/>
            <a:ext cx="628920" cy="1031760"/>
          </a:xfrm>
          <a:custGeom>
            <a:avLst/>
            <a:gdLst>
              <a:gd name="textAreaLeft" fmla="*/ 0 w 628920"/>
              <a:gd name="textAreaRight" fmla="*/ 629280 w 628920"/>
              <a:gd name="textAreaTop" fmla="*/ 0 h 1031760"/>
              <a:gd name="textAreaBottom" fmla="*/ 1032120 h 1031760"/>
            </a:gdLst>
            <a:ahLst/>
            <a:rect l="textAreaLeft" t="textAreaTop" r="textAreaRight" b="textAreaBottom"/>
            <a:pathLst>
              <a:path w="20000" h="20000">
                <a:moveTo>
                  <a:pt x="8820" y="1234"/>
                </a:moveTo>
                <a:lnTo>
                  <a:pt x="10062" y="1076"/>
                </a:lnTo>
                <a:lnTo>
                  <a:pt x="10518" y="1234"/>
                </a:lnTo>
                <a:lnTo>
                  <a:pt x="11180" y="1076"/>
                </a:lnTo>
                <a:lnTo>
                  <a:pt x="11843" y="1234"/>
                </a:lnTo>
                <a:lnTo>
                  <a:pt x="12671" y="1234"/>
                </a:lnTo>
                <a:lnTo>
                  <a:pt x="12878" y="1234"/>
                </a:lnTo>
                <a:lnTo>
                  <a:pt x="13954" y="1234"/>
                </a:lnTo>
                <a:lnTo>
                  <a:pt x="14576" y="1076"/>
                </a:lnTo>
                <a:lnTo>
                  <a:pt x="15031" y="814"/>
                </a:lnTo>
                <a:lnTo>
                  <a:pt x="15652" y="814"/>
                </a:lnTo>
                <a:lnTo>
                  <a:pt x="15652" y="1076"/>
                </a:lnTo>
                <a:lnTo>
                  <a:pt x="16315" y="814"/>
                </a:lnTo>
                <a:lnTo>
                  <a:pt x="17184" y="682"/>
                </a:lnTo>
                <a:lnTo>
                  <a:pt x="18468" y="420"/>
                </a:lnTo>
                <a:lnTo>
                  <a:pt x="19130" y="0"/>
                </a:lnTo>
                <a:lnTo>
                  <a:pt x="19545" y="420"/>
                </a:lnTo>
                <a:lnTo>
                  <a:pt x="19130" y="1076"/>
                </a:lnTo>
                <a:lnTo>
                  <a:pt x="19130" y="1785"/>
                </a:lnTo>
                <a:lnTo>
                  <a:pt x="19130" y="2310"/>
                </a:lnTo>
                <a:lnTo>
                  <a:pt x="19545" y="2861"/>
                </a:lnTo>
                <a:lnTo>
                  <a:pt x="19130" y="2992"/>
                </a:lnTo>
                <a:lnTo>
                  <a:pt x="19545" y="3543"/>
                </a:lnTo>
                <a:lnTo>
                  <a:pt x="19545" y="4619"/>
                </a:lnTo>
                <a:lnTo>
                  <a:pt x="19959" y="4777"/>
                </a:lnTo>
                <a:lnTo>
                  <a:pt x="19545" y="5171"/>
                </a:lnTo>
                <a:lnTo>
                  <a:pt x="19130" y="5433"/>
                </a:lnTo>
                <a:lnTo>
                  <a:pt x="19545" y="5696"/>
                </a:lnTo>
                <a:lnTo>
                  <a:pt x="18882" y="6115"/>
                </a:lnTo>
                <a:lnTo>
                  <a:pt x="18012" y="6772"/>
                </a:lnTo>
                <a:lnTo>
                  <a:pt x="17847" y="6929"/>
                </a:lnTo>
                <a:lnTo>
                  <a:pt x="17350" y="7192"/>
                </a:lnTo>
                <a:lnTo>
                  <a:pt x="16315" y="7480"/>
                </a:lnTo>
                <a:lnTo>
                  <a:pt x="16108" y="7874"/>
                </a:lnTo>
                <a:lnTo>
                  <a:pt x="13954" y="8268"/>
                </a:lnTo>
                <a:lnTo>
                  <a:pt x="12671" y="8688"/>
                </a:lnTo>
                <a:lnTo>
                  <a:pt x="12257" y="8976"/>
                </a:lnTo>
                <a:lnTo>
                  <a:pt x="12257" y="9239"/>
                </a:lnTo>
                <a:lnTo>
                  <a:pt x="11180" y="9764"/>
                </a:lnTo>
                <a:lnTo>
                  <a:pt x="10062" y="10315"/>
                </a:lnTo>
                <a:lnTo>
                  <a:pt x="8364" y="11391"/>
                </a:lnTo>
                <a:lnTo>
                  <a:pt x="8157" y="11811"/>
                </a:lnTo>
                <a:lnTo>
                  <a:pt x="8364" y="12493"/>
                </a:lnTo>
                <a:lnTo>
                  <a:pt x="8820" y="13307"/>
                </a:lnTo>
                <a:lnTo>
                  <a:pt x="9027" y="14278"/>
                </a:lnTo>
                <a:lnTo>
                  <a:pt x="9027" y="13990"/>
                </a:lnTo>
                <a:lnTo>
                  <a:pt x="9482" y="14278"/>
                </a:lnTo>
                <a:lnTo>
                  <a:pt x="9482" y="15092"/>
                </a:lnTo>
                <a:lnTo>
                  <a:pt x="9027" y="15459"/>
                </a:lnTo>
                <a:lnTo>
                  <a:pt x="8820" y="16430"/>
                </a:lnTo>
                <a:lnTo>
                  <a:pt x="9027" y="16168"/>
                </a:lnTo>
                <a:lnTo>
                  <a:pt x="9482" y="16588"/>
                </a:lnTo>
                <a:lnTo>
                  <a:pt x="8364" y="17113"/>
                </a:lnTo>
                <a:lnTo>
                  <a:pt x="5590" y="17769"/>
                </a:lnTo>
                <a:lnTo>
                  <a:pt x="4928" y="17927"/>
                </a:lnTo>
                <a:lnTo>
                  <a:pt x="4306" y="18346"/>
                </a:lnTo>
                <a:lnTo>
                  <a:pt x="3644" y="18609"/>
                </a:lnTo>
                <a:lnTo>
                  <a:pt x="3892" y="19003"/>
                </a:lnTo>
                <a:lnTo>
                  <a:pt x="4306" y="18871"/>
                </a:lnTo>
                <a:lnTo>
                  <a:pt x="4306" y="19003"/>
                </a:lnTo>
                <a:lnTo>
                  <a:pt x="4306" y="19974"/>
                </a:lnTo>
                <a:lnTo>
                  <a:pt x="3644" y="19974"/>
                </a:lnTo>
                <a:lnTo>
                  <a:pt x="2816" y="19685"/>
                </a:lnTo>
                <a:lnTo>
                  <a:pt x="3230" y="19003"/>
                </a:lnTo>
                <a:lnTo>
                  <a:pt x="2816" y="18609"/>
                </a:lnTo>
                <a:lnTo>
                  <a:pt x="2816" y="18346"/>
                </a:lnTo>
                <a:lnTo>
                  <a:pt x="2816" y="17507"/>
                </a:lnTo>
                <a:lnTo>
                  <a:pt x="2816" y="16588"/>
                </a:lnTo>
                <a:lnTo>
                  <a:pt x="2153" y="15459"/>
                </a:lnTo>
                <a:lnTo>
                  <a:pt x="2567" y="15092"/>
                </a:lnTo>
                <a:lnTo>
                  <a:pt x="2153" y="14934"/>
                </a:lnTo>
                <a:lnTo>
                  <a:pt x="1946" y="14278"/>
                </a:lnTo>
                <a:lnTo>
                  <a:pt x="3892" y="13176"/>
                </a:lnTo>
                <a:lnTo>
                  <a:pt x="4306" y="12625"/>
                </a:lnTo>
                <a:lnTo>
                  <a:pt x="4306" y="12231"/>
                </a:lnTo>
                <a:lnTo>
                  <a:pt x="4513" y="11811"/>
                </a:lnTo>
                <a:lnTo>
                  <a:pt x="5342" y="11129"/>
                </a:lnTo>
                <a:lnTo>
                  <a:pt x="4928" y="10735"/>
                </a:lnTo>
                <a:lnTo>
                  <a:pt x="4928" y="10315"/>
                </a:lnTo>
                <a:lnTo>
                  <a:pt x="4928" y="9764"/>
                </a:lnTo>
                <a:lnTo>
                  <a:pt x="5342" y="9764"/>
                </a:lnTo>
                <a:lnTo>
                  <a:pt x="4928" y="9659"/>
                </a:lnTo>
                <a:lnTo>
                  <a:pt x="5342" y="9396"/>
                </a:lnTo>
                <a:lnTo>
                  <a:pt x="5342" y="9239"/>
                </a:lnTo>
                <a:lnTo>
                  <a:pt x="5342" y="8556"/>
                </a:lnTo>
                <a:lnTo>
                  <a:pt x="5342" y="7874"/>
                </a:lnTo>
                <a:lnTo>
                  <a:pt x="4928" y="7192"/>
                </a:lnTo>
                <a:lnTo>
                  <a:pt x="4928" y="6929"/>
                </a:lnTo>
                <a:lnTo>
                  <a:pt x="3644" y="6929"/>
                </a:lnTo>
                <a:lnTo>
                  <a:pt x="3230" y="6772"/>
                </a:lnTo>
                <a:lnTo>
                  <a:pt x="2567" y="6509"/>
                </a:lnTo>
                <a:lnTo>
                  <a:pt x="2153" y="6378"/>
                </a:lnTo>
                <a:lnTo>
                  <a:pt x="870" y="6509"/>
                </a:lnTo>
                <a:lnTo>
                  <a:pt x="414" y="6115"/>
                </a:lnTo>
                <a:lnTo>
                  <a:pt x="414" y="5696"/>
                </a:lnTo>
                <a:lnTo>
                  <a:pt x="0" y="5171"/>
                </a:lnTo>
                <a:lnTo>
                  <a:pt x="5590" y="4068"/>
                </a:lnTo>
                <a:lnTo>
                  <a:pt x="6004" y="3937"/>
                </a:lnTo>
                <a:lnTo>
                  <a:pt x="6667" y="4777"/>
                </a:lnTo>
                <a:lnTo>
                  <a:pt x="7702" y="4619"/>
                </a:lnTo>
                <a:lnTo>
                  <a:pt x="8364" y="4777"/>
                </a:lnTo>
                <a:lnTo>
                  <a:pt x="8364" y="5696"/>
                </a:lnTo>
                <a:lnTo>
                  <a:pt x="8157" y="6378"/>
                </a:lnTo>
                <a:lnTo>
                  <a:pt x="8364" y="6772"/>
                </a:lnTo>
                <a:lnTo>
                  <a:pt x="9027" y="7480"/>
                </a:lnTo>
                <a:lnTo>
                  <a:pt x="9482" y="7874"/>
                </a:lnTo>
                <a:lnTo>
                  <a:pt x="9896" y="7480"/>
                </a:lnTo>
                <a:lnTo>
                  <a:pt x="9896" y="6772"/>
                </a:lnTo>
                <a:lnTo>
                  <a:pt x="10062" y="6772"/>
                </a:lnTo>
                <a:lnTo>
                  <a:pt x="10518" y="6509"/>
                </a:lnTo>
                <a:lnTo>
                  <a:pt x="10932" y="5696"/>
                </a:lnTo>
                <a:lnTo>
                  <a:pt x="11180" y="5039"/>
                </a:lnTo>
                <a:lnTo>
                  <a:pt x="10518" y="4777"/>
                </a:lnTo>
                <a:lnTo>
                  <a:pt x="9896" y="3937"/>
                </a:lnTo>
                <a:lnTo>
                  <a:pt x="9027" y="3543"/>
                </a:lnTo>
                <a:lnTo>
                  <a:pt x="8364" y="3543"/>
                </a:lnTo>
                <a:lnTo>
                  <a:pt x="8364" y="1890"/>
                </a:lnTo>
                <a:lnTo>
                  <a:pt x="8820" y="123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41"/>
          <p:cNvSpPr/>
          <p:nvPr/>
        </p:nvSpPr>
        <p:spPr>
          <a:xfrm>
            <a:off x="4181400" y="4773600"/>
            <a:ext cx="773280" cy="763560"/>
          </a:xfrm>
          <a:custGeom>
            <a:avLst/>
            <a:gdLst>
              <a:gd name="textAreaLeft" fmla="*/ 0 w 773280"/>
              <a:gd name="textAreaRight" fmla="*/ 773640 w 773280"/>
              <a:gd name="textAreaTop" fmla="*/ 0 h 763560"/>
              <a:gd name="textAreaBottom" fmla="*/ 763920 h 763560"/>
            </a:gdLst>
            <a:ahLst/>
            <a:rect l="textAreaLeft" t="textAreaTop" r="textAreaRight" b="textAreaBottom"/>
            <a:pathLst>
              <a:path w="20000" h="20000">
                <a:moveTo>
                  <a:pt x="17162" y="1062"/>
                </a:moveTo>
                <a:lnTo>
                  <a:pt x="18378" y="708"/>
                </a:lnTo>
                <a:lnTo>
                  <a:pt x="18581" y="708"/>
                </a:lnTo>
                <a:lnTo>
                  <a:pt x="19426" y="1062"/>
                </a:lnTo>
                <a:lnTo>
                  <a:pt x="19966" y="1451"/>
                </a:lnTo>
                <a:lnTo>
                  <a:pt x="19426" y="1451"/>
                </a:lnTo>
                <a:lnTo>
                  <a:pt x="18919" y="1628"/>
                </a:lnTo>
                <a:lnTo>
                  <a:pt x="18581" y="1628"/>
                </a:lnTo>
                <a:lnTo>
                  <a:pt x="17500" y="2372"/>
                </a:lnTo>
                <a:lnTo>
                  <a:pt x="16993" y="1628"/>
                </a:lnTo>
                <a:lnTo>
                  <a:pt x="15777" y="2018"/>
                </a:lnTo>
                <a:lnTo>
                  <a:pt x="13818" y="2372"/>
                </a:lnTo>
                <a:lnTo>
                  <a:pt x="13480" y="8212"/>
                </a:lnTo>
                <a:lnTo>
                  <a:pt x="12095" y="8212"/>
                </a:lnTo>
                <a:lnTo>
                  <a:pt x="11892" y="12991"/>
                </a:lnTo>
                <a:lnTo>
                  <a:pt x="11554" y="19221"/>
                </a:lnTo>
                <a:lnTo>
                  <a:pt x="11047" y="19221"/>
                </a:lnTo>
                <a:lnTo>
                  <a:pt x="10304" y="19752"/>
                </a:lnTo>
                <a:lnTo>
                  <a:pt x="10169" y="19965"/>
                </a:lnTo>
                <a:lnTo>
                  <a:pt x="9628" y="19752"/>
                </a:lnTo>
                <a:lnTo>
                  <a:pt x="8919" y="19752"/>
                </a:lnTo>
                <a:lnTo>
                  <a:pt x="8412" y="19752"/>
                </a:lnTo>
                <a:lnTo>
                  <a:pt x="7534" y="19398"/>
                </a:lnTo>
                <a:lnTo>
                  <a:pt x="7534" y="18478"/>
                </a:lnTo>
                <a:lnTo>
                  <a:pt x="7399" y="18478"/>
                </a:lnTo>
                <a:lnTo>
                  <a:pt x="6993" y="18478"/>
                </a:lnTo>
                <a:lnTo>
                  <a:pt x="6655" y="19221"/>
                </a:lnTo>
                <a:lnTo>
                  <a:pt x="6486" y="19398"/>
                </a:lnTo>
                <a:lnTo>
                  <a:pt x="5270" y="18301"/>
                </a:lnTo>
                <a:lnTo>
                  <a:pt x="4730" y="16850"/>
                </a:lnTo>
                <a:lnTo>
                  <a:pt x="4730" y="16106"/>
                </a:lnTo>
                <a:lnTo>
                  <a:pt x="4561" y="15540"/>
                </a:lnTo>
                <a:lnTo>
                  <a:pt x="4223" y="13522"/>
                </a:lnTo>
                <a:lnTo>
                  <a:pt x="3885" y="12637"/>
                </a:lnTo>
                <a:lnTo>
                  <a:pt x="3682" y="11150"/>
                </a:lnTo>
                <a:lnTo>
                  <a:pt x="3682" y="10053"/>
                </a:lnTo>
                <a:lnTo>
                  <a:pt x="3682" y="9168"/>
                </a:lnTo>
                <a:lnTo>
                  <a:pt x="2973" y="8212"/>
                </a:lnTo>
                <a:lnTo>
                  <a:pt x="1959" y="5487"/>
                </a:lnTo>
                <a:lnTo>
                  <a:pt x="912" y="3469"/>
                </a:lnTo>
                <a:lnTo>
                  <a:pt x="541" y="2549"/>
                </a:lnTo>
                <a:lnTo>
                  <a:pt x="0" y="1451"/>
                </a:lnTo>
                <a:lnTo>
                  <a:pt x="0" y="496"/>
                </a:lnTo>
                <a:lnTo>
                  <a:pt x="203" y="496"/>
                </a:lnTo>
                <a:lnTo>
                  <a:pt x="912" y="496"/>
                </a:lnTo>
                <a:lnTo>
                  <a:pt x="1047" y="496"/>
                </a:lnTo>
                <a:lnTo>
                  <a:pt x="1959" y="0"/>
                </a:lnTo>
                <a:lnTo>
                  <a:pt x="2432" y="142"/>
                </a:lnTo>
                <a:lnTo>
                  <a:pt x="3345" y="708"/>
                </a:lnTo>
                <a:lnTo>
                  <a:pt x="3682" y="708"/>
                </a:lnTo>
                <a:lnTo>
                  <a:pt x="9628" y="496"/>
                </a:lnTo>
                <a:lnTo>
                  <a:pt x="9831" y="1062"/>
                </a:lnTo>
                <a:lnTo>
                  <a:pt x="10304" y="1451"/>
                </a:lnTo>
                <a:lnTo>
                  <a:pt x="12432" y="1628"/>
                </a:lnTo>
                <a:lnTo>
                  <a:pt x="13311" y="1628"/>
                </a:lnTo>
                <a:lnTo>
                  <a:pt x="13818" y="1628"/>
                </a:lnTo>
                <a:lnTo>
                  <a:pt x="14358" y="1628"/>
                </a:lnTo>
                <a:lnTo>
                  <a:pt x="17162" y="106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43"/>
          <p:cNvSpPr/>
          <p:nvPr/>
        </p:nvSpPr>
        <p:spPr>
          <a:xfrm>
            <a:off x="4768920" y="4241880"/>
            <a:ext cx="691920" cy="608040"/>
          </a:xfrm>
          <a:custGeom>
            <a:avLst/>
            <a:gdLst>
              <a:gd name="textAreaLeft" fmla="*/ 0 w 691920"/>
              <a:gd name="textAreaRight" fmla="*/ 692280 w 691920"/>
              <a:gd name="textAreaTop" fmla="*/ 0 h 608040"/>
              <a:gd name="textAreaBottom" fmla="*/ 608400 h 608040"/>
            </a:gdLst>
            <a:ahLst/>
            <a:rect l="textAreaLeft" t="textAreaTop" r="textAreaRight" b="textAreaBottom"/>
            <a:pathLst>
              <a:path w="20000" h="20000">
                <a:moveTo>
                  <a:pt x="15265" y="0"/>
                </a:moveTo>
                <a:lnTo>
                  <a:pt x="15871" y="1153"/>
                </a:lnTo>
                <a:lnTo>
                  <a:pt x="16439" y="1153"/>
                </a:lnTo>
                <a:lnTo>
                  <a:pt x="16818" y="1375"/>
                </a:lnTo>
                <a:lnTo>
                  <a:pt x="17424" y="1818"/>
                </a:lnTo>
                <a:lnTo>
                  <a:pt x="18030" y="1818"/>
                </a:lnTo>
                <a:lnTo>
                  <a:pt x="18409" y="2084"/>
                </a:lnTo>
                <a:lnTo>
                  <a:pt x="18598" y="2084"/>
                </a:lnTo>
                <a:lnTo>
                  <a:pt x="18977" y="2971"/>
                </a:lnTo>
                <a:lnTo>
                  <a:pt x="19583" y="3636"/>
                </a:lnTo>
                <a:lnTo>
                  <a:pt x="19962" y="4346"/>
                </a:lnTo>
                <a:lnTo>
                  <a:pt x="19962" y="4789"/>
                </a:lnTo>
                <a:lnTo>
                  <a:pt x="19394" y="5055"/>
                </a:lnTo>
                <a:lnTo>
                  <a:pt x="19394" y="5942"/>
                </a:lnTo>
                <a:lnTo>
                  <a:pt x="19394" y="7317"/>
                </a:lnTo>
                <a:lnTo>
                  <a:pt x="18977" y="7805"/>
                </a:lnTo>
                <a:lnTo>
                  <a:pt x="19583" y="8514"/>
                </a:lnTo>
                <a:lnTo>
                  <a:pt x="19394" y="8692"/>
                </a:lnTo>
                <a:lnTo>
                  <a:pt x="18598" y="8692"/>
                </a:lnTo>
                <a:lnTo>
                  <a:pt x="18598" y="9845"/>
                </a:lnTo>
                <a:lnTo>
                  <a:pt x="18409" y="10776"/>
                </a:lnTo>
                <a:lnTo>
                  <a:pt x="18598" y="11663"/>
                </a:lnTo>
                <a:lnTo>
                  <a:pt x="13485" y="13525"/>
                </a:lnTo>
                <a:lnTo>
                  <a:pt x="13864" y="14412"/>
                </a:lnTo>
                <a:lnTo>
                  <a:pt x="13864" y="15122"/>
                </a:lnTo>
                <a:lnTo>
                  <a:pt x="13485" y="15122"/>
                </a:lnTo>
                <a:lnTo>
                  <a:pt x="12727" y="15122"/>
                </a:lnTo>
                <a:lnTo>
                  <a:pt x="11364" y="15565"/>
                </a:lnTo>
                <a:lnTo>
                  <a:pt x="11364" y="16497"/>
                </a:lnTo>
                <a:lnTo>
                  <a:pt x="10379" y="16940"/>
                </a:lnTo>
                <a:lnTo>
                  <a:pt x="9394" y="17650"/>
                </a:lnTo>
                <a:lnTo>
                  <a:pt x="8598" y="19468"/>
                </a:lnTo>
                <a:lnTo>
                  <a:pt x="7803" y="19956"/>
                </a:lnTo>
                <a:lnTo>
                  <a:pt x="7652" y="19468"/>
                </a:lnTo>
                <a:lnTo>
                  <a:pt x="6061" y="19468"/>
                </a:lnTo>
                <a:lnTo>
                  <a:pt x="5265" y="19246"/>
                </a:lnTo>
                <a:lnTo>
                  <a:pt x="4697" y="18758"/>
                </a:lnTo>
                <a:lnTo>
                  <a:pt x="3712" y="18315"/>
                </a:lnTo>
                <a:lnTo>
                  <a:pt x="3485" y="18315"/>
                </a:lnTo>
                <a:lnTo>
                  <a:pt x="2159" y="18758"/>
                </a:lnTo>
                <a:lnTo>
                  <a:pt x="1553" y="17428"/>
                </a:lnTo>
                <a:lnTo>
                  <a:pt x="0" y="15787"/>
                </a:lnTo>
                <a:lnTo>
                  <a:pt x="379" y="9623"/>
                </a:lnTo>
                <a:lnTo>
                  <a:pt x="3485" y="9623"/>
                </a:lnTo>
                <a:lnTo>
                  <a:pt x="3485" y="9135"/>
                </a:lnTo>
                <a:lnTo>
                  <a:pt x="3485" y="8692"/>
                </a:lnTo>
                <a:lnTo>
                  <a:pt x="3485" y="7317"/>
                </a:lnTo>
                <a:lnTo>
                  <a:pt x="3485" y="5055"/>
                </a:lnTo>
                <a:lnTo>
                  <a:pt x="4091" y="5499"/>
                </a:lnTo>
                <a:lnTo>
                  <a:pt x="4470" y="6608"/>
                </a:lnTo>
                <a:lnTo>
                  <a:pt x="5644" y="5499"/>
                </a:lnTo>
                <a:lnTo>
                  <a:pt x="6061" y="6608"/>
                </a:lnTo>
                <a:lnTo>
                  <a:pt x="7197" y="7317"/>
                </a:lnTo>
                <a:lnTo>
                  <a:pt x="7803" y="7317"/>
                </a:lnTo>
                <a:lnTo>
                  <a:pt x="8598" y="7317"/>
                </a:lnTo>
                <a:lnTo>
                  <a:pt x="8598" y="6608"/>
                </a:lnTo>
                <a:lnTo>
                  <a:pt x="8826" y="6608"/>
                </a:lnTo>
                <a:lnTo>
                  <a:pt x="9773" y="7982"/>
                </a:lnTo>
                <a:lnTo>
                  <a:pt x="10758" y="7982"/>
                </a:lnTo>
                <a:lnTo>
                  <a:pt x="11742" y="9623"/>
                </a:lnTo>
                <a:lnTo>
                  <a:pt x="11932" y="10333"/>
                </a:lnTo>
                <a:lnTo>
                  <a:pt x="12917" y="9845"/>
                </a:lnTo>
                <a:lnTo>
                  <a:pt x="12917" y="10333"/>
                </a:lnTo>
                <a:lnTo>
                  <a:pt x="13295" y="7982"/>
                </a:lnTo>
                <a:lnTo>
                  <a:pt x="12727" y="7982"/>
                </a:lnTo>
                <a:lnTo>
                  <a:pt x="12727" y="8514"/>
                </a:lnTo>
                <a:lnTo>
                  <a:pt x="11932" y="7982"/>
                </a:lnTo>
                <a:lnTo>
                  <a:pt x="11136" y="7317"/>
                </a:lnTo>
                <a:lnTo>
                  <a:pt x="10758" y="6874"/>
                </a:lnTo>
                <a:lnTo>
                  <a:pt x="11136" y="5942"/>
                </a:lnTo>
                <a:lnTo>
                  <a:pt x="11136" y="5055"/>
                </a:lnTo>
                <a:lnTo>
                  <a:pt x="11364" y="4346"/>
                </a:lnTo>
                <a:lnTo>
                  <a:pt x="11364" y="2971"/>
                </a:lnTo>
                <a:lnTo>
                  <a:pt x="11136" y="2528"/>
                </a:lnTo>
                <a:lnTo>
                  <a:pt x="11742" y="1818"/>
                </a:lnTo>
                <a:lnTo>
                  <a:pt x="11932" y="710"/>
                </a:lnTo>
                <a:lnTo>
                  <a:pt x="11932" y="177"/>
                </a:lnTo>
                <a:lnTo>
                  <a:pt x="15265" y="0"/>
                </a:lnTo>
                <a:close/>
              </a:path>
            </a:pathLst>
          </a:custGeom>
          <a:solidFill>
            <a:srgbClr val="99ff99"/>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44"/>
          <p:cNvSpPr/>
          <p:nvPr/>
        </p:nvSpPr>
        <p:spPr>
          <a:xfrm>
            <a:off x="2498760" y="2716200"/>
            <a:ext cx="352440" cy="264960"/>
          </a:xfrm>
          <a:custGeom>
            <a:avLst/>
            <a:gdLst>
              <a:gd name="textAreaLeft" fmla="*/ 0 w 352440"/>
              <a:gd name="textAreaRight" fmla="*/ 352800 w 352440"/>
              <a:gd name="textAreaTop" fmla="*/ 0 h 264960"/>
              <a:gd name="textAreaBottom" fmla="*/ 265320 h 264960"/>
            </a:gdLst>
            <a:ahLst/>
            <a:rect l="textAreaLeft" t="textAreaTop" r="textAreaRight" b="textAreaBottom"/>
            <a:pathLst>
              <a:path w="20000" h="20000">
                <a:moveTo>
                  <a:pt x="2222" y="2030"/>
                </a:moveTo>
                <a:lnTo>
                  <a:pt x="3778" y="406"/>
                </a:lnTo>
                <a:lnTo>
                  <a:pt x="6148" y="406"/>
                </a:lnTo>
                <a:lnTo>
                  <a:pt x="9185" y="0"/>
                </a:lnTo>
                <a:lnTo>
                  <a:pt x="10296" y="406"/>
                </a:lnTo>
                <a:lnTo>
                  <a:pt x="11926" y="3147"/>
                </a:lnTo>
                <a:lnTo>
                  <a:pt x="13037" y="3147"/>
                </a:lnTo>
                <a:lnTo>
                  <a:pt x="13407" y="5787"/>
                </a:lnTo>
                <a:lnTo>
                  <a:pt x="14148" y="5787"/>
                </a:lnTo>
                <a:lnTo>
                  <a:pt x="14963" y="7310"/>
                </a:lnTo>
                <a:lnTo>
                  <a:pt x="15259" y="8325"/>
                </a:lnTo>
                <a:lnTo>
                  <a:pt x="17259" y="8934"/>
                </a:lnTo>
                <a:lnTo>
                  <a:pt x="17259" y="10964"/>
                </a:lnTo>
                <a:lnTo>
                  <a:pt x="18000" y="11574"/>
                </a:lnTo>
                <a:lnTo>
                  <a:pt x="17259" y="14112"/>
                </a:lnTo>
                <a:lnTo>
                  <a:pt x="18000" y="15736"/>
                </a:lnTo>
                <a:lnTo>
                  <a:pt x="18444" y="15736"/>
                </a:lnTo>
                <a:lnTo>
                  <a:pt x="19926" y="17259"/>
                </a:lnTo>
                <a:lnTo>
                  <a:pt x="19926" y="19391"/>
                </a:lnTo>
                <a:lnTo>
                  <a:pt x="18000" y="19391"/>
                </a:lnTo>
                <a:lnTo>
                  <a:pt x="17259" y="19391"/>
                </a:lnTo>
                <a:lnTo>
                  <a:pt x="16148" y="19898"/>
                </a:lnTo>
                <a:lnTo>
                  <a:pt x="14148" y="19391"/>
                </a:lnTo>
                <a:lnTo>
                  <a:pt x="14148" y="18274"/>
                </a:lnTo>
                <a:lnTo>
                  <a:pt x="11926" y="18274"/>
                </a:lnTo>
                <a:lnTo>
                  <a:pt x="6889" y="18274"/>
                </a:lnTo>
                <a:lnTo>
                  <a:pt x="5407" y="19391"/>
                </a:lnTo>
                <a:lnTo>
                  <a:pt x="4222" y="19391"/>
                </a:lnTo>
                <a:lnTo>
                  <a:pt x="1926" y="19898"/>
                </a:lnTo>
                <a:lnTo>
                  <a:pt x="4222" y="18274"/>
                </a:lnTo>
                <a:lnTo>
                  <a:pt x="1926" y="18274"/>
                </a:lnTo>
                <a:lnTo>
                  <a:pt x="1185" y="16751"/>
                </a:lnTo>
                <a:lnTo>
                  <a:pt x="4963" y="15736"/>
                </a:lnTo>
                <a:lnTo>
                  <a:pt x="4963" y="15127"/>
                </a:lnTo>
                <a:lnTo>
                  <a:pt x="6148" y="15127"/>
                </a:lnTo>
                <a:lnTo>
                  <a:pt x="7259" y="14112"/>
                </a:lnTo>
                <a:lnTo>
                  <a:pt x="10296" y="15736"/>
                </a:lnTo>
                <a:lnTo>
                  <a:pt x="11926" y="14112"/>
                </a:lnTo>
                <a:lnTo>
                  <a:pt x="9926" y="14112"/>
                </a:lnTo>
                <a:lnTo>
                  <a:pt x="8000" y="13096"/>
                </a:lnTo>
                <a:lnTo>
                  <a:pt x="5407" y="13096"/>
                </a:lnTo>
                <a:lnTo>
                  <a:pt x="1926" y="14112"/>
                </a:lnTo>
                <a:lnTo>
                  <a:pt x="1926" y="13096"/>
                </a:lnTo>
                <a:lnTo>
                  <a:pt x="2222" y="12589"/>
                </a:lnTo>
                <a:lnTo>
                  <a:pt x="1185" y="12589"/>
                </a:lnTo>
                <a:lnTo>
                  <a:pt x="296" y="11574"/>
                </a:lnTo>
                <a:lnTo>
                  <a:pt x="0" y="8934"/>
                </a:lnTo>
                <a:lnTo>
                  <a:pt x="296" y="7310"/>
                </a:lnTo>
                <a:lnTo>
                  <a:pt x="1926" y="4772"/>
                </a:lnTo>
                <a:lnTo>
                  <a:pt x="2222" y="203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45"/>
          <p:cNvSpPr/>
          <p:nvPr/>
        </p:nvSpPr>
        <p:spPr>
          <a:xfrm>
            <a:off x="2732040" y="3122640"/>
            <a:ext cx="174600" cy="201600"/>
          </a:xfrm>
          <a:custGeom>
            <a:avLst/>
            <a:gdLst>
              <a:gd name="textAreaLeft" fmla="*/ 0 w 174600"/>
              <a:gd name="textAreaRight" fmla="*/ 174960 w 174600"/>
              <a:gd name="textAreaTop" fmla="*/ 0 h 201600"/>
              <a:gd name="textAreaBottom" fmla="*/ 201960 h 201600"/>
            </a:gdLst>
            <a:ahLst/>
            <a:rect l="textAreaLeft" t="textAreaTop" r="textAreaRight" b="textAreaBottom"/>
            <a:pathLst>
              <a:path w="20000" h="20000">
                <a:moveTo>
                  <a:pt x="0" y="6184"/>
                </a:moveTo>
                <a:lnTo>
                  <a:pt x="2222" y="4079"/>
                </a:lnTo>
                <a:lnTo>
                  <a:pt x="3852" y="4079"/>
                </a:lnTo>
                <a:lnTo>
                  <a:pt x="6074" y="789"/>
                </a:lnTo>
                <a:lnTo>
                  <a:pt x="6815" y="789"/>
                </a:lnTo>
                <a:lnTo>
                  <a:pt x="13778" y="0"/>
                </a:lnTo>
                <a:lnTo>
                  <a:pt x="16000" y="3421"/>
                </a:lnTo>
                <a:lnTo>
                  <a:pt x="16000" y="5395"/>
                </a:lnTo>
                <a:lnTo>
                  <a:pt x="16889" y="6184"/>
                </a:lnTo>
                <a:lnTo>
                  <a:pt x="16889" y="9605"/>
                </a:lnTo>
                <a:lnTo>
                  <a:pt x="19852" y="9605"/>
                </a:lnTo>
                <a:lnTo>
                  <a:pt x="19852" y="11579"/>
                </a:lnTo>
                <a:lnTo>
                  <a:pt x="18370" y="11579"/>
                </a:lnTo>
                <a:lnTo>
                  <a:pt x="18370" y="14211"/>
                </a:lnTo>
                <a:lnTo>
                  <a:pt x="16000" y="16316"/>
                </a:lnTo>
                <a:lnTo>
                  <a:pt x="13778" y="19868"/>
                </a:lnTo>
                <a:lnTo>
                  <a:pt x="8444" y="17763"/>
                </a:lnTo>
                <a:lnTo>
                  <a:pt x="2222" y="15000"/>
                </a:lnTo>
                <a:lnTo>
                  <a:pt x="2222" y="12895"/>
                </a:lnTo>
                <a:lnTo>
                  <a:pt x="0" y="9605"/>
                </a:lnTo>
                <a:lnTo>
                  <a:pt x="0" y="7500"/>
                </a:lnTo>
                <a:lnTo>
                  <a:pt x="0" y="618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46"/>
          <p:cNvSpPr/>
          <p:nvPr/>
        </p:nvSpPr>
        <p:spPr>
          <a:xfrm>
            <a:off x="4951440" y="4700520"/>
            <a:ext cx="457200" cy="422280"/>
          </a:xfrm>
          <a:custGeom>
            <a:avLst/>
            <a:gdLst>
              <a:gd name="textAreaLeft" fmla="*/ 0 w 457200"/>
              <a:gd name="textAreaRight" fmla="*/ 457560 w 457200"/>
              <a:gd name="textAreaTop" fmla="*/ 0 h 422280"/>
              <a:gd name="textAreaBottom" fmla="*/ 422640 h 422280"/>
            </a:gdLst>
            <a:ahLst/>
            <a:rect l="textAreaLeft" t="textAreaTop" r="textAreaRight" b="textAreaBottom"/>
            <a:pathLst>
              <a:path w="20000" h="20000">
                <a:moveTo>
                  <a:pt x="0" y="6026"/>
                </a:moveTo>
                <a:lnTo>
                  <a:pt x="1207" y="6282"/>
                </a:lnTo>
                <a:lnTo>
                  <a:pt x="3563" y="6282"/>
                </a:lnTo>
                <a:lnTo>
                  <a:pt x="3851" y="6987"/>
                </a:lnTo>
                <a:lnTo>
                  <a:pt x="5057" y="6282"/>
                </a:lnTo>
                <a:lnTo>
                  <a:pt x="6264" y="3654"/>
                </a:lnTo>
                <a:lnTo>
                  <a:pt x="7759" y="2628"/>
                </a:lnTo>
                <a:lnTo>
                  <a:pt x="9253" y="1987"/>
                </a:lnTo>
                <a:lnTo>
                  <a:pt x="9253" y="641"/>
                </a:lnTo>
                <a:lnTo>
                  <a:pt x="11322" y="0"/>
                </a:lnTo>
                <a:lnTo>
                  <a:pt x="12529" y="0"/>
                </a:lnTo>
                <a:lnTo>
                  <a:pt x="13103" y="0"/>
                </a:lnTo>
                <a:lnTo>
                  <a:pt x="13736" y="1026"/>
                </a:lnTo>
                <a:lnTo>
                  <a:pt x="15517" y="641"/>
                </a:lnTo>
                <a:lnTo>
                  <a:pt x="16092" y="1026"/>
                </a:lnTo>
                <a:lnTo>
                  <a:pt x="17011" y="1667"/>
                </a:lnTo>
                <a:lnTo>
                  <a:pt x="17586" y="1987"/>
                </a:lnTo>
                <a:lnTo>
                  <a:pt x="19368" y="1987"/>
                </a:lnTo>
                <a:lnTo>
                  <a:pt x="19368" y="2628"/>
                </a:lnTo>
                <a:lnTo>
                  <a:pt x="19943" y="4295"/>
                </a:lnTo>
                <a:lnTo>
                  <a:pt x="19943" y="6026"/>
                </a:lnTo>
                <a:lnTo>
                  <a:pt x="19943" y="7628"/>
                </a:lnTo>
                <a:lnTo>
                  <a:pt x="19943" y="8013"/>
                </a:lnTo>
                <a:lnTo>
                  <a:pt x="19368" y="8654"/>
                </a:lnTo>
                <a:lnTo>
                  <a:pt x="19943" y="8910"/>
                </a:lnTo>
                <a:lnTo>
                  <a:pt x="19368" y="8910"/>
                </a:lnTo>
                <a:lnTo>
                  <a:pt x="19368" y="10256"/>
                </a:lnTo>
                <a:lnTo>
                  <a:pt x="19368" y="11282"/>
                </a:lnTo>
                <a:lnTo>
                  <a:pt x="19943" y="12308"/>
                </a:lnTo>
                <a:lnTo>
                  <a:pt x="18793" y="13910"/>
                </a:lnTo>
                <a:lnTo>
                  <a:pt x="18448" y="14936"/>
                </a:lnTo>
                <a:lnTo>
                  <a:pt x="18448" y="15897"/>
                </a:lnTo>
                <a:lnTo>
                  <a:pt x="17874" y="17308"/>
                </a:lnTo>
                <a:lnTo>
                  <a:pt x="15172" y="19936"/>
                </a:lnTo>
                <a:lnTo>
                  <a:pt x="14598" y="19231"/>
                </a:lnTo>
                <a:lnTo>
                  <a:pt x="13103" y="19936"/>
                </a:lnTo>
                <a:lnTo>
                  <a:pt x="11609" y="19231"/>
                </a:lnTo>
                <a:lnTo>
                  <a:pt x="10115" y="19231"/>
                </a:lnTo>
                <a:lnTo>
                  <a:pt x="9253" y="19231"/>
                </a:lnTo>
                <a:lnTo>
                  <a:pt x="9253" y="17564"/>
                </a:lnTo>
                <a:lnTo>
                  <a:pt x="7759" y="17308"/>
                </a:lnTo>
                <a:lnTo>
                  <a:pt x="6839" y="17308"/>
                </a:lnTo>
                <a:lnTo>
                  <a:pt x="6264" y="15897"/>
                </a:lnTo>
                <a:lnTo>
                  <a:pt x="5977" y="13910"/>
                </a:lnTo>
                <a:lnTo>
                  <a:pt x="5402" y="13910"/>
                </a:lnTo>
                <a:lnTo>
                  <a:pt x="5057" y="12308"/>
                </a:lnTo>
                <a:lnTo>
                  <a:pt x="3563" y="11667"/>
                </a:lnTo>
                <a:lnTo>
                  <a:pt x="2126" y="10641"/>
                </a:lnTo>
                <a:lnTo>
                  <a:pt x="2126" y="9615"/>
                </a:lnTo>
                <a:lnTo>
                  <a:pt x="575" y="7628"/>
                </a:lnTo>
                <a:lnTo>
                  <a:pt x="0" y="6026"/>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49"/>
          <p:cNvSpPr/>
          <p:nvPr/>
        </p:nvSpPr>
        <p:spPr>
          <a:xfrm>
            <a:off x="5216400" y="3798720"/>
            <a:ext cx="622440" cy="652680"/>
          </a:xfrm>
          <a:custGeom>
            <a:avLst/>
            <a:gdLst>
              <a:gd name="textAreaLeft" fmla="*/ 0 w 622440"/>
              <a:gd name="textAreaRight" fmla="*/ 622440 w 622440"/>
              <a:gd name="textAreaTop" fmla="*/ 0 h 652680"/>
              <a:gd name="textAreaBottom" fmla="*/ 653040 h 652680"/>
            </a:gdLst>
            <a:ahLst/>
            <a:rect l="textAreaLeft" t="textAreaTop" r="textAreaRight" b="textAreaBottom"/>
            <a:pathLst>
              <a:path w="20000" h="20000">
                <a:moveTo>
                  <a:pt x="2176" y="248"/>
                </a:moveTo>
                <a:lnTo>
                  <a:pt x="2845" y="0"/>
                </a:lnTo>
                <a:lnTo>
                  <a:pt x="5649" y="0"/>
                </a:lnTo>
                <a:lnTo>
                  <a:pt x="8452" y="0"/>
                </a:lnTo>
                <a:lnTo>
                  <a:pt x="9079" y="0"/>
                </a:lnTo>
                <a:lnTo>
                  <a:pt x="15816" y="4058"/>
                </a:lnTo>
                <a:lnTo>
                  <a:pt x="15816" y="5176"/>
                </a:lnTo>
                <a:lnTo>
                  <a:pt x="18201" y="7288"/>
                </a:lnTo>
                <a:lnTo>
                  <a:pt x="17573" y="8571"/>
                </a:lnTo>
                <a:lnTo>
                  <a:pt x="17573" y="9896"/>
                </a:lnTo>
                <a:lnTo>
                  <a:pt x="17992" y="10725"/>
                </a:lnTo>
                <a:lnTo>
                  <a:pt x="18201" y="10932"/>
                </a:lnTo>
                <a:lnTo>
                  <a:pt x="18661" y="11346"/>
                </a:lnTo>
                <a:lnTo>
                  <a:pt x="18661" y="11843"/>
                </a:lnTo>
                <a:lnTo>
                  <a:pt x="18201" y="12008"/>
                </a:lnTo>
                <a:lnTo>
                  <a:pt x="18661" y="13085"/>
                </a:lnTo>
                <a:lnTo>
                  <a:pt x="18201" y="14161"/>
                </a:lnTo>
                <a:lnTo>
                  <a:pt x="18661" y="15487"/>
                </a:lnTo>
                <a:lnTo>
                  <a:pt x="18828" y="16936"/>
                </a:lnTo>
                <a:lnTo>
                  <a:pt x="19707" y="17184"/>
                </a:lnTo>
                <a:lnTo>
                  <a:pt x="19958" y="17598"/>
                </a:lnTo>
                <a:lnTo>
                  <a:pt x="19958" y="18012"/>
                </a:lnTo>
                <a:lnTo>
                  <a:pt x="19289" y="18675"/>
                </a:lnTo>
                <a:lnTo>
                  <a:pt x="17992" y="19089"/>
                </a:lnTo>
                <a:lnTo>
                  <a:pt x="17113" y="19296"/>
                </a:lnTo>
                <a:lnTo>
                  <a:pt x="16444" y="19710"/>
                </a:lnTo>
                <a:lnTo>
                  <a:pt x="16444" y="19296"/>
                </a:lnTo>
                <a:lnTo>
                  <a:pt x="15816" y="19296"/>
                </a:lnTo>
                <a:lnTo>
                  <a:pt x="15397" y="19710"/>
                </a:lnTo>
                <a:lnTo>
                  <a:pt x="14728" y="19959"/>
                </a:lnTo>
                <a:lnTo>
                  <a:pt x="13640" y="19959"/>
                </a:lnTo>
                <a:lnTo>
                  <a:pt x="13431" y="19959"/>
                </a:lnTo>
                <a:lnTo>
                  <a:pt x="12594" y="19959"/>
                </a:lnTo>
                <a:lnTo>
                  <a:pt x="11925" y="19710"/>
                </a:lnTo>
                <a:lnTo>
                  <a:pt x="11297" y="19959"/>
                </a:lnTo>
                <a:lnTo>
                  <a:pt x="10795" y="19710"/>
                </a:lnTo>
                <a:lnTo>
                  <a:pt x="9540" y="19959"/>
                </a:lnTo>
                <a:lnTo>
                  <a:pt x="9079" y="19710"/>
                </a:lnTo>
                <a:lnTo>
                  <a:pt x="9079" y="18675"/>
                </a:lnTo>
                <a:lnTo>
                  <a:pt x="8033" y="16315"/>
                </a:lnTo>
                <a:lnTo>
                  <a:pt x="7364" y="15901"/>
                </a:lnTo>
                <a:lnTo>
                  <a:pt x="6276" y="15487"/>
                </a:lnTo>
                <a:lnTo>
                  <a:pt x="6067" y="15487"/>
                </a:lnTo>
                <a:lnTo>
                  <a:pt x="5649" y="15238"/>
                </a:lnTo>
                <a:lnTo>
                  <a:pt x="4979" y="15238"/>
                </a:lnTo>
                <a:lnTo>
                  <a:pt x="4351" y="14824"/>
                </a:lnTo>
                <a:lnTo>
                  <a:pt x="3933" y="14576"/>
                </a:lnTo>
                <a:lnTo>
                  <a:pt x="3264" y="14576"/>
                </a:lnTo>
                <a:lnTo>
                  <a:pt x="2594" y="13540"/>
                </a:lnTo>
                <a:lnTo>
                  <a:pt x="1715" y="11843"/>
                </a:lnTo>
                <a:lnTo>
                  <a:pt x="669" y="10725"/>
                </a:lnTo>
                <a:lnTo>
                  <a:pt x="0" y="9648"/>
                </a:lnTo>
                <a:lnTo>
                  <a:pt x="0" y="8157"/>
                </a:lnTo>
                <a:lnTo>
                  <a:pt x="0" y="7288"/>
                </a:lnTo>
                <a:lnTo>
                  <a:pt x="0" y="6460"/>
                </a:lnTo>
                <a:lnTo>
                  <a:pt x="1088" y="6253"/>
                </a:lnTo>
                <a:lnTo>
                  <a:pt x="2176" y="5176"/>
                </a:lnTo>
                <a:lnTo>
                  <a:pt x="2845" y="4513"/>
                </a:lnTo>
                <a:lnTo>
                  <a:pt x="2845" y="3644"/>
                </a:lnTo>
                <a:lnTo>
                  <a:pt x="2176" y="3478"/>
                </a:lnTo>
                <a:lnTo>
                  <a:pt x="2176" y="3023"/>
                </a:lnTo>
                <a:lnTo>
                  <a:pt x="2594" y="2816"/>
                </a:lnTo>
                <a:lnTo>
                  <a:pt x="2594" y="2360"/>
                </a:lnTo>
                <a:lnTo>
                  <a:pt x="2594" y="1284"/>
                </a:lnTo>
                <a:lnTo>
                  <a:pt x="2176" y="248"/>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51"/>
          <p:cNvSpPr/>
          <p:nvPr/>
        </p:nvSpPr>
        <p:spPr>
          <a:xfrm>
            <a:off x="6665760" y="5040360"/>
            <a:ext cx="36720" cy="36360"/>
          </a:xfrm>
          <a:custGeom>
            <a:avLst/>
            <a:gdLst>
              <a:gd name="textAreaLeft" fmla="*/ 0 w 36720"/>
              <a:gd name="textAreaRight" fmla="*/ 37080 w 36720"/>
              <a:gd name="textAreaTop" fmla="*/ 0 h 36360"/>
              <a:gd name="textAreaBottom" fmla="*/ 36720 h 36360"/>
            </a:gdLst>
            <a:ahLst/>
            <a:rect l="textAreaLeft" t="textAreaTop" r="textAreaRight" b="textAreaBottom"/>
            <a:pathLst>
              <a:path w="20000" h="20000">
                <a:moveTo>
                  <a:pt x="11852" y="19259"/>
                </a:moveTo>
                <a:lnTo>
                  <a:pt x="0" y="15556"/>
                </a:lnTo>
                <a:lnTo>
                  <a:pt x="7407" y="0"/>
                </a:lnTo>
                <a:lnTo>
                  <a:pt x="19259" y="15556"/>
                </a:lnTo>
                <a:lnTo>
                  <a:pt x="11852" y="19259"/>
                </a:lnTo>
                <a:close/>
              </a:path>
            </a:pathLst>
          </a:custGeom>
          <a:solidFill>
            <a:srgbClr val="ffffff"/>
          </a:solidFill>
          <a:ln w="32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9" name="Freeform 52"/>
          <p:cNvSpPr/>
          <p:nvPr/>
        </p:nvSpPr>
        <p:spPr>
          <a:xfrm>
            <a:off x="2533680" y="1677960"/>
            <a:ext cx="36360" cy="17640"/>
          </a:xfrm>
          <a:custGeom>
            <a:avLst/>
            <a:gdLst>
              <a:gd name="textAreaLeft" fmla="*/ 0 w 36360"/>
              <a:gd name="textAreaRight" fmla="*/ 36720 w 36360"/>
              <a:gd name="textAreaTop" fmla="*/ 0 h 17640"/>
              <a:gd name="textAreaBottom" fmla="*/ 18000 h 17640"/>
            </a:gdLst>
            <a:ahLst/>
            <a:rect l="textAreaLeft" t="textAreaTop" r="textAreaRight" b="textAreaBottom"/>
            <a:pathLst>
              <a:path w="20000" h="20000">
                <a:moveTo>
                  <a:pt x="11852" y="18182"/>
                </a:moveTo>
                <a:lnTo>
                  <a:pt x="0" y="0"/>
                </a:lnTo>
                <a:lnTo>
                  <a:pt x="3704" y="0"/>
                </a:lnTo>
                <a:lnTo>
                  <a:pt x="19259" y="18182"/>
                </a:lnTo>
                <a:lnTo>
                  <a:pt x="11852" y="18182"/>
                </a:lnTo>
                <a:close/>
              </a:path>
            </a:pathLst>
          </a:custGeom>
          <a:solidFill>
            <a:srgbClr val="ffffff"/>
          </a:solidFill>
          <a:ln w="324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20" name="Freeform 53"/>
          <p:cNvSpPr/>
          <p:nvPr/>
        </p:nvSpPr>
        <p:spPr>
          <a:xfrm>
            <a:off x="2541600" y="196524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20000" h="20000">
                <a:moveTo>
                  <a:pt x="7857" y="19259"/>
                </a:moveTo>
                <a:lnTo>
                  <a:pt x="0" y="4444"/>
                </a:lnTo>
                <a:lnTo>
                  <a:pt x="19286" y="0"/>
                </a:lnTo>
                <a:lnTo>
                  <a:pt x="15000" y="11852"/>
                </a:lnTo>
                <a:lnTo>
                  <a:pt x="7857" y="19259"/>
                </a:lnTo>
                <a:close/>
              </a:path>
            </a:pathLst>
          </a:custGeom>
          <a:solidFill>
            <a:srgbClr val="ffffff"/>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1" name="Freeform 54"/>
          <p:cNvSpPr/>
          <p:nvPr/>
        </p:nvSpPr>
        <p:spPr>
          <a:xfrm>
            <a:off x="6399360" y="2128680"/>
            <a:ext cx="39600" cy="98640"/>
          </a:xfrm>
          <a:custGeom>
            <a:avLst/>
            <a:gdLst>
              <a:gd name="textAreaLeft" fmla="*/ 0 w 39600"/>
              <a:gd name="textAreaRight" fmla="*/ 39960 w 39600"/>
              <a:gd name="textAreaTop" fmla="*/ 0 h 98640"/>
              <a:gd name="textAreaBottom" fmla="*/ 99000 h 98640"/>
            </a:gdLst>
            <a:ahLst/>
            <a:rect l="textAreaLeft" t="textAreaTop" r="textAreaRight" b="textAreaBottom"/>
            <a:pathLst>
              <a:path w="20000" h="20000">
                <a:moveTo>
                  <a:pt x="3750" y="17027"/>
                </a:moveTo>
                <a:lnTo>
                  <a:pt x="0" y="5405"/>
                </a:lnTo>
                <a:lnTo>
                  <a:pt x="3750" y="4324"/>
                </a:lnTo>
                <a:lnTo>
                  <a:pt x="9375" y="0"/>
                </a:lnTo>
                <a:lnTo>
                  <a:pt x="19375" y="4324"/>
                </a:lnTo>
                <a:lnTo>
                  <a:pt x="19375" y="11081"/>
                </a:lnTo>
                <a:lnTo>
                  <a:pt x="19375" y="17027"/>
                </a:lnTo>
                <a:lnTo>
                  <a:pt x="15625" y="19730"/>
                </a:lnTo>
                <a:lnTo>
                  <a:pt x="9375" y="17027"/>
                </a:lnTo>
                <a:lnTo>
                  <a:pt x="3750" y="1702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Freeform 55"/>
          <p:cNvSpPr/>
          <p:nvPr/>
        </p:nvSpPr>
        <p:spPr>
          <a:xfrm>
            <a:off x="6154560" y="1862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20000" h="20000">
                <a:moveTo>
                  <a:pt x="0" y="12174"/>
                </a:moveTo>
                <a:lnTo>
                  <a:pt x="2941" y="7826"/>
                </a:lnTo>
                <a:lnTo>
                  <a:pt x="4706" y="0"/>
                </a:lnTo>
                <a:lnTo>
                  <a:pt x="12059" y="0"/>
                </a:lnTo>
                <a:lnTo>
                  <a:pt x="15000" y="3188"/>
                </a:lnTo>
                <a:lnTo>
                  <a:pt x="18235" y="3188"/>
                </a:lnTo>
                <a:lnTo>
                  <a:pt x="18235" y="6087"/>
                </a:lnTo>
                <a:lnTo>
                  <a:pt x="12059" y="7826"/>
                </a:lnTo>
                <a:lnTo>
                  <a:pt x="15000" y="10725"/>
                </a:lnTo>
                <a:lnTo>
                  <a:pt x="19706" y="19710"/>
                </a:lnTo>
                <a:lnTo>
                  <a:pt x="12059" y="19710"/>
                </a:lnTo>
                <a:lnTo>
                  <a:pt x="10588" y="15072"/>
                </a:lnTo>
                <a:lnTo>
                  <a:pt x="0" y="12174"/>
                </a:lnTo>
                <a:close/>
              </a:path>
            </a:pathLst>
          </a:custGeom>
          <a:solidFill>
            <a:srgbClr val="ffffff"/>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3" name="Freeform 56"/>
          <p:cNvSpPr/>
          <p:nvPr/>
        </p:nvSpPr>
        <p:spPr>
          <a:xfrm>
            <a:off x="4168800" y="4092480"/>
            <a:ext cx="723960" cy="744480"/>
          </a:xfrm>
          <a:custGeom>
            <a:avLst/>
            <a:gdLst>
              <a:gd name="textAreaLeft" fmla="*/ 0 w 723960"/>
              <a:gd name="textAreaRight" fmla="*/ 724320 w 723960"/>
              <a:gd name="textAreaTop" fmla="*/ 0 h 744480"/>
              <a:gd name="textAreaBottom" fmla="*/ 744840 h 744480"/>
            </a:gdLst>
            <a:ahLst/>
            <a:rect l="textAreaLeft" t="textAreaTop" r="textAreaRight" b="textAreaBottom"/>
            <a:pathLst>
              <a:path w="20000" h="20000">
                <a:moveTo>
                  <a:pt x="2450" y="0"/>
                </a:moveTo>
                <a:lnTo>
                  <a:pt x="2955" y="0"/>
                </a:lnTo>
                <a:lnTo>
                  <a:pt x="3532" y="218"/>
                </a:lnTo>
                <a:lnTo>
                  <a:pt x="4288" y="0"/>
                </a:lnTo>
                <a:lnTo>
                  <a:pt x="7279" y="0"/>
                </a:lnTo>
                <a:lnTo>
                  <a:pt x="8216" y="0"/>
                </a:lnTo>
                <a:lnTo>
                  <a:pt x="8396" y="764"/>
                </a:lnTo>
                <a:lnTo>
                  <a:pt x="8396" y="1127"/>
                </a:lnTo>
                <a:lnTo>
                  <a:pt x="8757" y="1709"/>
                </a:lnTo>
                <a:lnTo>
                  <a:pt x="8757" y="2073"/>
                </a:lnTo>
                <a:lnTo>
                  <a:pt x="9730" y="3564"/>
                </a:lnTo>
                <a:lnTo>
                  <a:pt x="11207" y="3564"/>
                </a:lnTo>
                <a:lnTo>
                  <a:pt x="11351" y="3200"/>
                </a:lnTo>
                <a:lnTo>
                  <a:pt x="12685" y="3200"/>
                </a:lnTo>
                <a:lnTo>
                  <a:pt x="12685" y="2655"/>
                </a:lnTo>
                <a:lnTo>
                  <a:pt x="13045" y="2655"/>
                </a:lnTo>
                <a:lnTo>
                  <a:pt x="13045" y="2073"/>
                </a:lnTo>
                <a:lnTo>
                  <a:pt x="13802" y="1709"/>
                </a:lnTo>
                <a:lnTo>
                  <a:pt x="14739" y="1491"/>
                </a:lnTo>
                <a:lnTo>
                  <a:pt x="14739" y="2473"/>
                </a:lnTo>
                <a:lnTo>
                  <a:pt x="16216" y="2473"/>
                </a:lnTo>
                <a:lnTo>
                  <a:pt x="16613" y="3564"/>
                </a:lnTo>
                <a:lnTo>
                  <a:pt x="16973" y="4545"/>
                </a:lnTo>
                <a:lnTo>
                  <a:pt x="16216" y="5673"/>
                </a:lnTo>
                <a:lnTo>
                  <a:pt x="16973" y="6400"/>
                </a:lnTo>
                <a:lnTo>
                  <a:pt x="17189" y="6618"/>
                </a:lnTo>
                <a:lnTo>
                  <a:pt x="17189" y="7927"/>
                </a:lnTo>
                <a:lnTo>
                  <a:pt x="17189" y="8473"/>
                </a:lnTo>
                <a:lnTo>
                  <a:pt x="17550" y="8836"/>
                </a:lnTo>
                <a:lnTo>
                  <a:pt x="17694" y="8473"/>
                </a:lnTo>
                <a:lnTo>
                  <a:pt x="18486" y="8473"/>
                </a:lnTo>
                <a:lnTo>
                  <a:pt x="19387" y="8109"/>
                </a:lnTo>
                <a:lnTo>
                  <a:pt x="19964" y="8473"/>
                </a:lnTo>
                <a:lnTo>
                  <a:pt x="19964" y="8109"/>
                </a:lnTo>
                <a:lnTo>
                  <a:pt x="19964" y="9964"/>
                </a:lnTo>
                <a:lnTo>
                  <a:pt x="19964" y="11127"/>
                </a:lnTo>
                <a:lnTo>
                  <a:pt x="19964" y="11491"/>
                </a:lnTo>
                <a:lnTo>
                  <a:pt x="19964" y="11891"/>
                </a:lnTo>
                <a:lnTo>
                  <a:pt x="16973" y="11891"/>
                </a:lnTo>
                <a:lnTo>
                  <a:pt x="16613" y="16945"/>
                </a:lnTo>
                <a:lnTo>
                  <a:pt x="18126" y="18291"/>
                </a:lnTo>
                <a:lnTo>
                  <a:pt x="18667" y="19382"/>
                </a:lnTo>
                <a:lnTo>
                  <a:pt x="15676" y="19964"/>
                </a:lnTo>
                <a:lnTo>
                  <a:pt x="15099" y="19964"/>
                </a:lnTo>
                <a:lnTo>
                  <a:pt x="14523" y="19964"/>
                </a:lnTo>
                <a:lnTo>
                  <a:pt x="13622" y="19964"/>
                </a:lnTo>
                <a:lnTo>
                  <a:pt x="11351" y="19782"/>
                </a:lnTo>
                <a:lnTo>
                  <a:pt x="10847" y="19382"/>
                </a:lnTo>
                <a:lnTo>
                  <a:pt x="10631" y="18836"/>
                </a:lnTo>
                <a:lnTo>
                  <a:pt x="4288" y="19018"/>
                </a:lnTo>
                <a:lnTo>
                  <a:pt x="3928" y="19018"/>
                </a:lnTo>
                <a:lnTo>
                  <a:pt x="2955" y="18473"/>
                </a:lnTo>
                <a:lnTo>
                  <a:pt x="2450" y="18291"/>
                </a:lnTo>
                <a:lnTo>
                  <a:pt x="1477" y="18836"/>
                </a:lnTo>
                <a:lnTo>
                  <a:pt x="1333" y="18836"/>
                </a:lnTo>
                <a:lnTo>
                  <a:pt x="577" y="18836"/>
                </a:lnTo>
                <a:lnTo>
                  <a:pt x="360" y="18836"/>
                </a:lnTo>
                <a:lnTo>
                  <a:pt x="360" y="17527"/>
                </a:lnTo>
                <a:lnTo>
                  <a:pt x="0" y="16764"/>
                </a:lnTo>
                <a:lnTo>
                  <a:pt x="577" y="16400"/>
                </a:lnTo>
                <a:lnTo>
                  <a:pt x="1333" y="14873"/>
                </a:lnTo>
                <a:lnTo>
                  <a:pt x="1333" y="13382"/>
                </a:lnTo>
                <a:lnTo>
                  <a:pt x="1874" y="12036"/>
                </a:lnTo>
                <a:lnTo>
                  <a:pt x="2054" y="11491"/>
                </a:lnTo>
                <a:lnTo>
                  <a:pt x="2811" y="10945"/>
                </a:lnTo>
                <a:lnTo>
                  <a:pt x="3387" y="10545"/>
                </a:lnTo>
                <a:lnTo>
                  <a:pt x="3532" y="9055"/>
                </a:lnTo>
                <a:lnTo>
                  <a:pt x="3387" y="7927"/>
                </a:lnTo>
                <a:lnTo>
                  <a:pt x="2811" y="6618"/>
                </a:lnTo>
                <a:lnTo>
                  <a:pt x="2450" y="5127"/>
                </a:lnTo>
                <a:lnTo>
                  <a:pt x="2955" y="4545"/>
                </a:lnTo>
                <a:lnTo>
                  <a:pt x="2054" y="1709"/>
                </a:lnTo>
                <a:lnTo>
                  <a:pt x="1333" y="218"/>
                </a:lnTo>
                <a:lnTo>
                  <a:pt x="2054" y="218"/>
                </a:lnTo>
                <a:lnTo>
                  <a:pt x="245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Freeform 58"/>
          <p:cNvSpPr/>
          <p:nvPr/>
        </p:nvSpPr>
        <p:spPr>
          <a:xfrm>
            <a:off x="5181480" y="3876840"/>
            <a:ext cx="127080" cy="134640"/>
          </a:xfrm>
          <a:custGeom>
            <a:avLst/>
            <a:gdLst>
              <a:gd name="textAreaLeft" fmla="*/ 0 w 127080"/>
              <a:gd name="textAreaRight" fmla="*/ 127440 w 127080"/>
              <a:gd name="textAreaTop" fmla="*/ 0 h 134640"/>
              <a:gd name="textAreaBottom" fmla="*/ 135000 h 134640"/>
            </a:gdLst>
            <a:ahLst/>
            <a:rect l="textAreaLeft" t="textAreaTop" r="textAreaRight" b="textAreaBottom"/>
            <a:pathLst>
              <a:path w="20000" h="20000">
                <a:moveTo>
                  <a:pt x="0" y="3200"/>
                </a:moveTo>
                <a:lnTo>
                  <a:pt x="5474" y="2200"/>
                </a:lnTo>
                <a:lnTo>
                  <a:pt x="5474" y="5400"/>
                </a:lnTo>
                <a:lnTo>
                  <a:pt x="8632" y="3200"/>
                </a:lnTo>
                <a:lnTo>
                  <a:pt x="10737" y="2200"/>
                </a:lnTo>
                <a:lnTo>
                  <a:pt x="14105" y="0"/>
                </a:lnTo>
                <a:lnTo>
                  <a:pt x="16421" y="3200"/>
                </a:lnTo>
                <a:lnTo>
                  <a:pt x="16421" y="5400"/>
                </a:lnTo>
                <a:lnTo>
                  <a:pt x="19789" y="6200"/>
                </a:lnTo>
                <a:lnTo>
                  <a:pt x="19789" y="10400"/>
                </a:lnTo>
                <a:lnTo>
                  <a:pt x="16421" y="13600"/>
                </a:lnTo>
                <a:lnTo>
                  <a:pt x="10737" y="18600"/>
                </a:lnTo>
                <a:lnTo>
                  <a:pt x="5474" y="19800"/>
                </a:lnTo>
                <a:lnTo>
                  <a:pt x="5474" y="18600"/>
                </a:lnTo>
                <a:lnTo>
                  <a:pt x="4421" y="13600"/>
                </a:lnTo>
                <a:lnTo>
                  <a:pt x="4421" y="10400"/>
                </a:lnTo>
                <a:lnTo>
                  <a:pt x="4421" y="8200"/>
                </a:lnTo>
                <a:lnTo>
                  <a:pt x="2105" y="6200"/>
                </a:lnTo>
                <a:lnTo>
                  <a:pt x="0" y="320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59"/>
          <p:cNvSpPr/>
          <p:nvPr/>
        </p:nvSpPr>
        <p:spPr>
          <a:xfrm>
            <a:off x="5925960" y="2975040"/>
            <a:ext cx="90720" cy="114120"/>
          </a:xfrm>
          <a:custGeom>
            <a:avLst/>
            <a:gdLst>
              <a:gd name="textAreaLeft" fmla="*/ 0 w 90720"/>
              <a:gd name="textAreaRight" fmla="*/ 91080 w 90720"/>
              <a:gd name="textAreaTop" fmla="*/ 0 h 114120"/>
              <a:gd name="textAreaBottom" fmla="*/ 114480 h 114120"/>
            </a:gdLst>
            <a:ahLst/>
            <a:rect l="textAreaLeft" t="textAreaTop" r="textAreaRight" b="textAreaBottom"/>
            <a:pathLst>
              <a:path w="20000" h="20000">
                <a:moveTo>
                  <a:pt x="18235" y="0"/>
                </a:moveTo>
                <a:lnTo>
                  <a:pt x="19706" y="7143"/>
                </a:lnTo>
                <a:lnTo>
                  <a:pt x="10882" y="10952"/>
                </a:lnTo>
                <a:lnTo>
                  <a:pt x="10882" y="13571"/>
                </a:lnTo>
                <a:lnTo>
                  <a:pt x="18235" y="10952"/>
                </a:lnTo>
                <a:lnTo>
                  <a:pt x="19706" y="13571"/>
                </a:lnTo>
                <a:lnTo>
                  <a:pt x="18235" y="15952"/>
                </a:lnTo>
                <a:lnTo>
                  <a:pt x="15000" y="19762"/>
                </a:lnTo>
                <a:lnTo>
                  <a:pt x="12059" y="17381"/>
                </a:lnTo>
                <a:lnTo>
                  <a:pt x="2941" y="17381"/>
                </a:lnTo>
                <a:lnTo>
                  <a:pt x="0" y="10952"/>
                </a:lnTo>
                <a:lnTo>
                  <a:pt x="4706" y="7143"/>
                </a:lnTo>
                <a:lnTo>
                  <a:pt x="7647" y="3571"/>
                </a:lnTo>
                <a:lnTo>
                  <a:pt x="12059" y="952"/>
                </a:lnTo>
                <a:lnTo>
                  <a:pt x="18235"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62"/>
          <p:cNvSpPr/>
          <p:nvPr/>
        </p:nvSpPr>
        <p:spPr>
          <a:xfrm>
            <a:off x="3992400" y="2940120"/>
            <a:ext cx="447840" cy="664920"/>
          </a:xfrm>
          <a:custGeom>
            <a:avLst/>
            <a:gdLst>
              <a:gd name="textAreaLeft" fmla="*/ 0 w 447840"/>
              <a:gd name="textAreaRight" fmla="*/ 448200 w 447840"/>
              <a:gd name="textAreaTop" fmla="*/ 0 h 664920"/>
              <a:gd name="textAreaBottom" fmla="*/ 665280 h 664920"/>
            </a:gdLst>
            <a:ahLst/>
            <a:rect l="textAreaLeft" t="textAreaTop" r="textAreaRight" b="textAreaBottom"/>
            <a:pathLst>
              <a:path w="20000" h="20000">
                <a:moveTo>
                  <a:pt x="14810" y="0"/>
                </a:moveTo>
                <a:lnTo>
                  <a:pt x="15743" y="0"/>
                </a:lnTo>
                <a:lnTo>
                  <a:pt x="15743" y="649"/>
                </a:lnTo>
                <a:lnTo>
                  <a:pt x="16618" y="1095"/>
                </a:lnTo>
                <a:lnTo>
                  <a:pt x="17201" y="2110"/>
                </a:lnTo>
                <a:lnTo>
                  <a:pt x="17201" y="2961"/>
                </a:lnTo>
                <a:lnTo>
                  <a:pt x="17201" y="4016"/>
                </a:lnTo>
                <a:lnTo>
                  <a:pt x="17551" y="5071"/>
                </a:lnTo>
                <a:lnTo>
                  <a:pt x="18717" y="5720"/>
                </a:lnTo>
                <a:lnTo>
                  <a:pt x="16327" y="5720"/>
                </a:lnTo>
                <a:lnTo>
                  <a:pt x="15102" y="5720"/>
                </a:lnTo>
                <a:lnTo>
                  <a:pt x="14810" y="6531"/>
                </a:lnTo>
                <a:lnTo>
                  <a:pt x="16618" y="7789"/>
                </a:lnTo>
                <a:lnTo>
                  <a:pt x="17551" y="8195"/>
                </a:lnTo>
                <a:lnTo>
                  <a:pt x="18134" y="9452"/>
                </a:lnTo>
                <a:lnTo>
                  <a:pt x="18717" y="9858"/>
                </a:lnTo>
                <a:lnTo>
                  <a:pt x="18717" y="10507"/>
                </a:lnTo>
                <a:lnTo>
                  <a:pt x="17551" y="10953"/>
                </a:lnTo>
                <a:lnTo>
                  <a:pt x="16618" y="12617"/>
                </a:lnTo>
                <a:lnTo>
                  <a:pt x="16327" y="12819"/>
                </a:lnTo>
                <a:lnTo>
                  <a:pt x="16327" y="14280"/>
                </a:lnTo>
                <a:lnTo>
                  <a:pt x="16618" y="14523"/>
                </a:lnTo>
                <a:lnTo>
                  <a:pt x="16618" y="15578"/>
                </a:lnTo>
                <a:lnTo>
                  <a:pt x="17551" y="15984"/>
                </a:lnTo>
                <a:lnTo>
                  <a:pt x="17551" y="16998"/>
                </a:lnTo>
                <a:lnTo>
                  <a:pt x="19592" y="18296"/>
                </a:lnTo>
                <a:lnTo>
                  <a:pt x="19942" y="18296"/>
                </a:lnTo>
                <a:lnTo>
                  <a:pt x="19592" y="19310"/>
                </a:lnTo>
                <a:lnTo>
                  <a:pt x="19942" y="19757"/>
                </a:lnTo>
                <a:lnTo>
                  <a:pt x="16618" y="19310"/>
                </a:lnTo>
                <a:lnTo>
                  <a:pt x="12653" y="19757"/>
                </a:lnTo>
                <a:lnTo>
                  <a:pt x="11837" y="19757"/>
                </a:lnTo>
                <a:lnTo>
                  <a:pt x="10029" y="19757"/>
                </a:lnTo>
                <a:lnTo>
                  <a:pt x="7872" y="19757"/>
                </a:lnTo>
                <a:lnTo>
                  <a:pt x="7872" y="19959"/>
                </a:lnTo>
                <a:lnTo>
                  <a:pt x="4548" y="19757"/>
                </a:lnTo>
                <a:lnTo>
                  <a:pt x="3615" y="19310"/>
                </a:lnTo>
                <a:lnTo>
                  <a:pt x="3615" y="17890"/>
                </a:lnTo>
                <a:lnTo>
                  <a:pt x="3615" y="16998"/>
                </a:lnTo>
                <a:lnTo>
                  <a:pt x="2391" y="16592"/>
                </a:lnTo>
                <a:lnTo>
                  <a:pt x="2157" y="16592"/>
                </a:lnTo>
                <a:lnTo>
                  <a:pt x="1574" y="15984"/>
                </a:lnTo>
                <a:lnTo>
                  <a:pt x="641" y="15578"/>
                </a:lnTo>
                <a:lnTo>
                  <a:pt x="0" y="15578"/>
                </a:lnTo>
                <a:lnTo>
                  <a:pt x="933" y="14280"/>
                </a:lnTo>
                <a:lnTo>
                  <a:pt x="1574" y="12819"/>
                </a:lnTo>
                <a:lnTo>
                  <a:pt x="3032" y="11765"/>
                </a:lnTo>
                <a:lnTo>
                  <a:pt x="4548" y="11116"/>
                </a:lnTo>
                <a:lnTo>
                  <a:pt x="5481" y="11116"/>
                </a:lnTo>
                <a:lnTo>
                  <a:pt x="6064" y="10953"/>
                </a:lnTo>
                <a:lnTo>
                  <a:pt x="6939" y="11602"/>
                </a:lnTo>
                <a:lnTo>
                  <a:pt x="6939" y="11765"/>
                </a:lnTo>
                <a:lnTo>
                  <a:pt x="7872" y="11765"/>
                </a:lnTo>
                <a:lnTo>
                  <a:pt x="8746" y="11116"/>
                </a:lnTo>
                <a:lnTo>
                  <a:pt x="9329" y="11116"/>
                </a:lnTo>
                <a:lnTo>
                  <a:pt x="8746" y="10507"/>
                </a:lnTo>
                <a:lnTo>
                  <a:pt x="10262" y="8398"/>
                </a:lnTo>
                <a:lnTo>
                  <a:pt x="11195" y="7789"/>
                </a:lnTo>
                <a:lnTo>
                  <a:pt x="11195" y="6734"/>
                </a:lnTo>
                <a:lnTo>
                  <a:pt x="12653" y="6531"/>
                </a:lnTo>
                <a:lnTo>
                  <a:pt x="12420" y="5720"/>
                </a:lnTo>
                <a:lnTo>
                  <a:pt x="13294" y="5071"/>
                </a:lnTo>
                <a:lnTo>
                  <a:pt x="13294" y="4422"/>
                </a:lnTo>
                <a:lnTo>
                  <a:pt x="14227" y="3408"/>
                </a:lnTo>
                <a:lnTo>
                  <a:pt x="15102" y="3813"/>
                </a:lnTo>
                <a:lnTo>
                  <a:pt x="16327" y="2759"/>
                </a:lnTo>
                <a:lnTo>
                  <a:pt x="15743" y="1663"/>
                </a:lnTo>
                <a:lnTo>
                  <a:pt x="14810" y="1258"/>
                </a:lnTo>
                <a:lnTo>
                  <a:pt x="14810"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63"/>
          <p:cNvSpPr/>
          <p:nvPr/>
        </p:nvSpPr>
        <p:spPr>
          <a:xfrm>
            <a:off x="5407200" y="4307040"/>
            <a:ext cx="183960" cy="487080"/>
          </a:xfrm>
          <a:custGeom>
            <a:avLst/>
            <a:gdLst>
              <a:gd name="textAreaLeft" fmla="*/ 0 w 183960"/>
              <a:gd name="textAreaRight" fmla="*/ 184320 w 183960"/>
              <a:gd name="textAreaTop" fmla="*/ 0 h 487080"/>
              <a:gd name="textAreaBottom" fmla="*/ 487440 h 487080"/>
            </a:gdLst>
            <a:ahLst/>
            <a:rect l="textAreaLeft" t="textAreaTop" r="textAreaRight" b="textAreaBottom"/>
            <a:pathLst>
              <a:path w="20000" h="20000">
                <a:moveTo>
                  <a:pt x="845" y="0"/>
                </a:moveTo>
                <a:lnTo>
                  <a:pt x="4366" y="552"/>
                </a:lnTo>
                <a:lnTo>
                  <a:pt x="6620" y="1105"/>
                </a:lnTo>
                <a:lnTo>
                  <a:pt x="10282" y="4254"/>
                </a:lnTo>
                <a:lnTo>
                  <a:pt x="10282" y="5635"/>
                </a:lnTo>
                <a:lnTo>
                  <a:pt x="11831" y="5967"/>
                </a:lnTo>
                <a:lnTo>
                  <a:pt x="10282" y="7403"/>
                </a:lnTo>
                <a:lnTo>
                  <a:pt x="10282" y="10829"/>
                </a:lnTo>
                <a:lnTo>
                  <a:pt x="12394" y="10829"/>
                </a:lnTo>
                <a:lnTo>
                  <a:pt x="15493" y="11713"/>
                </a:lnTo>
                <a:lnTo>
                  <a:pt x="17606" y="13425"/>
                </a:lnTo>
                <a:lnTo>
                  <a:pt x="19859" y="13978"/>
                </a:lnTo>
                <a:lnTo>
                  <a:pt x="19014" y="15359"/>
                </a:lnTo>
                <a:lnTo>
                  <a:pt x="17606" y="17127"/>
                </a:lnTo>
                <a:lnTo>
                  <a:pt x="16056" y="17680"/>
                </a:lnTo>
                <a:lnTo>
                  <a:pt x="15493" y="17680"/>
                </a:lnTo>
                <a:lnTo>
                  <a:pt x="15493" y="19116"/>
                </a:lnTo>
                <a:lnTo>
                  <a:pt x="14085" y="19945"/>
                </a:lnTo>
                <a:lnTo>
                  <a:pt x="12394" y="19116"/>
                </a:lnTo>
                <a:lnTo>
                  <a:pt x="10282" y="17680"/>
                </a:lnTo>
                <a:lnTo>
                  <a:pt x="9577" y="16796"/>
                </a:lnTo>
                <a:lnTo>
                  <a:pt x="10282" y="15359"/>
                </a:lnTo>
                <a:lnTo>
                  <a:pt x="10282" y="13425"/>
                </a:lnTo>
                <a:lnTo>
                  <a:pt x="8028" y="13094"/>
                </a:lnTo>
                <a:lnTo>
                  <a:pt x="4366" y="13425"/>
                </a:lnTo>
                <a:lnTo>
                  <a:pt x="2254" y="11713"/>
                </a:lnTo>
                <a:lnTo>
                  <a:pt x="845" y="11934"/>
                </a:lnTo>
                <a:lnTo>
                  <a:pt x="0" y="10829"/>
                </a:lnTo>
                <a:lnTo>
                  <a:pt x="845" y="9669"/>
                </a:lnTo>
                <a:lnTo>
                  <a:pt x="845" y="8232"/>
                </a:lnTo>
                <a:lnTo>
                  <a:pt x="3803" y="8232"/>
                </a:lnTo>
                <a:lnTo>
                  <a:pt x="4366" y="8011"/>
                </a:lnTo>
                <a:lnTo>
                  <a:pt x="2254" y="7127"/>
                </a:lnTo>
                <a:lnTo>
                  <a:pt x="3803" y="6519"/>
                </a:lnTo>
                <a:lnTo>
                  <a:pt x="3803" y="4807"/>
                </a:lnTo>
                <a:lnTo>
                  <a:pt x="3803" y="3702"/>
                </a:lnTo>
                <a:lnTo>
                  <a:pt x="5775" y="3370"/>
                </a:lnTo>
                <a:lnTo>
                  <a:pt x="5775" y="2818"/>
                </a:lnTo>
                <a:lnTo>
                  <a:pt x="4366" y="1989"/>
                </a:lnTo>
                <a:lnTo>
                  <a:pt x="2254" y="1105"/>
                </a:lnTo>
                <a:lnTo>
                  <a:pt x="845"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Freeform 64"/>
          <p:cNvSpPr/>
          <p:nvPr/>
        </p:nvSpPr>
        <p:spPr>
          <a:xfrm>
            <a:off x="5181480" y="3805200"/>
            <a:ext cx="115920" cy="108000"/>
          </a:xfrm>
          <a:custGeom>
            <a:avLst/>
            <a:gdLst>
              <a:gd name="textAreaLeft" fmla="*/ 0 w 115920"/>
              <a:gd name="textAreaRight" fmla="*/ 116280 w 115920"/>
              <a:gd name="textAreaTop" fmla="*/ 0 h 108000"/>
              <a:gd name="textAreaBottom" fmla="*/ 108360 h 108000"/>
            </a:gdLst>
            <a:ahLst/>
            <a:rect l="textAreaLeft" t="textAreaTop" r="textAreaRight" b="textAreaBottom"/>
            <a:pathLst>
              <a:path w="20000" h="20000">
                <a:moveTo>
                  <a:pt x="8090" y="2532"/>
                </a:moveTo>
                <a:lnTo>
                  <a:pt x="11461" y="2532"/>
                </a:lnTo>
                <a:lnTo>
                  <a:pt x="11461" y="4051"/>
                </a:lnTo>
                <a:lnTo>
                  <a:pt x="17528" y="0"/>
                </a:lnTo>
                <a:lnTo>
                  <a:pt x="19775" y="6582"/>
                </a:lnTo>
                <a:lnTo>
                  <a:pt x="19775" y="12911"/>
                </a:lnTo>
                <a:lnTo>
                  <a:pt x="19775" y="15696"/>
                </a:lnTo>
                <a:lnTo>
                  <a:pt x="17528" y="16962"/>
                </a:lnTo>
                <a:lnTo>
                  <a:pt x="15056" y="12911"/>
                </a:lnTo>
                <a:lnTo>
                  <a:pt x="11461" y="15696"/>
                </a:lnTo>
                <a:lnTo>
                  <a:pt x="9213" y="16962"/>
                </a:lnTo>
                <a:lnTo>
                  <a:pt x="5843" y="19747"/>
                </a:lnTo>
                <a:lnTo>
                  <a:pt x="5843" y="15696"/>
                </a:lnTo>
                <a:lnTo>
                  <a:pt x="0" y="16962"/>
                </a:lnTo>
                <a:lnTo>
                  <a:pt x="0" y="15696"/>
                </a:lnTo>
                <a:lnTo>
                  <a:pt x="2247" y="12911"/>
                </a:lnTo>
                <a:lnTo>
                  <a:pt x="4719" y="6582"/>
                </a:lnTo>
                <a:lnTo>
                  <a:pt x="8090" y="4051"/>
                </a:lnTo>
                <a:lnTo>
                  <a:pt x="8090" y="2532"/>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65"/>
          <p:cNvSpPr/>
          <p:nvPr/>
        </p:nvSpPr>
        <p:spPr>
          <a:xfrm>
            <a:off x="5248440" y="5348160"/>
            <a:ext cx="91800" cy="76320"/>
          </a:xfrm>
          <a:custGeom>
            <a:avLst/>
            <a:gdLst>
              <a:gd name="textAreaLeft" fmla="*/ 0 w 91800"/>
              <a:gd name="textAreaRight" fmla="*/ 92160 w 91800"/>
              <a:gd name="textAreaTop" fmla="*/ 0 h 76320"/>
              <a:gd name="textAreaBottom" fmla="*/ 76680 h 76320"/>
            </a:gdLst>
            <a:ahLst/>
            <a:rect l="textAreaLeft" t="textAreaTop" r="textAreaRight" b="textAreaBottom"/>
            <a:pathLst>
              <a:path w="20000" h="20000">
                <a:moveTo>
                  <a:pt x="16812" y="0"/>
                </a:moveTo>
                <a:lnTo>
                  <a:pt x="19710" y="5517"/>
                </a:lnTo>
                <a:lnTo>
                  <a:pt x="16812" y="14138"/>
                </a:lnTo>
                <a:lnTo>
                  <a:pt x="16812" y="19655"/>
                </a:lnTo>
                <a:lnTo>
                  <a:pt x="7826" y="19655"/>
                </a:lnTo>
                <a:lnTo>
                  <a:pt x="0" y="8966"/>
                </a:lnTo>
                <a:lnTo>
                  <a:pt x="7826" y="0"/>
                </a:lnTo>
                <a:lnTo>
                  <a:pt x="16812" y="0"/>
                </a:lnTo>
                <a:close/>
              </a:path>
            </a:pathLst>
          </a:custGeom>
          <a:solidFill>
            <a:srgbClr val="ffffff"/>
          </a:solidFill>
          <a:ln w="324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130" name="Freeform 66"/>
          <p:cNvSpPr/>
          <p:nvPr/>
        </p:nvSpPr>
        <p:spPr>
          <a:xfrm>
            <a:off x="5032440" y="5516640"/>
            <a:ext cx="131760" cy="137880"/>
          </a:xfrm>
          <a:custGeom>
            <a:avLst/>
            <a:gdLst>
              <a:gd name="textAreaLeft" fmla="*/ 0 w 131760"/>
              <a:gd name="textAreaRight" fmla="*/ 132120 w 131760"/>
              <a:gd name="textAreaTop" fmla="*/ 0 h 137880"/>
              <a:gd name="textAreaBottom" fmla="*/ 137880 h 137880"/>
            </a:gdLst>
            <a:ahLst/>
            <a:rect l="textAreaLeft" t="textAreaTop" r="textAreaRight" b="textAreaBottom"/>
            <a:pathLst>
              <a:path w="20000" h="20000">
                <a:moveTo>
                  <a:pt x="5253" y="3077"/>
                </a:moveTo>
                <a:lnTo>
                  <a:pt x="13535" y="0"/>
                </a:lnTo>
                <a:lnTo>
                  <a:pt x="16566" y="1923"/>
                </a:lnTo>
                <a:lnTo>
                  <a:pt x="19798" y="6923"/>
                </a:lnTo>
                <a:lnTo>
                  <a:pt x="18586" y="9808"/>
                </a:lnTo>
                <a:lnTo>
                  <a:pt x="18586" y="12885"/>
                </a:lnTo>
                <a:lnTo>
                  <a:pt x="9495" y="14808"/>
                </a:lnTo>
                <a:lnTo>
                  <a:pt x="8283" y="19808"/>
                </a:lnTo>
                <a:lnTo>
                  <a:pt x="3232" y="17885"/>
                </a:lnTo>
                <a:lnTo>
                  <a:pt x="808" y="11923"/>
                </a:lnTo>
                <a:lnTo>
                  <a:pt x="0" y="9808"/>
                </a:lnTo>
                <a:lnTo>
                  <a:pt x="808" y="7885"/>
                </a:lnTo>
                <a:lnTo>
                  <a:pt x="5253" y="307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67"/>
          <p:cNvSpPr/>
          <p:nvPr/>
        </p:nvSpPr>
        <p:spPr>
          <a:xfrm>
            <a:off x="2610000" y="1973160"/>
            <a:ext cx="19080" cy="36720"/>
          </a:xfrm>
          <a:custGeom>
            <a:avLst/>
            <a:gdLst>
              <a:gd name="textAreaLeft" fmla="*/ 0 w 19080"/>
              <a:gd name="textAreaRight" fmla="*/ 19440 w 19080"/>
              <a:gd name="textAreaTop" fmla="*/ 0 h 36720"/>
              <a:gd name="textAreaBottom" fmla="*/ 37080 h 36720"/>
            </a:gdLst>
            <a:ahLst/>
            <a:rect l="textAreaLeft" t="textAreaTop" r="textAreaRight" b="textAreaBottom"/>
            <a:pathLst>
              <a:path w="20000" h="20000">
                <a:moveTo>
                  <a:pt x="11765" y="19259"/>
                </a:moveTo>
                <a:lnTo>
                  <a:pt x="0" y="14815"/>
                </a:lnTo>
                <a:lnTo>
                  <a:pt x="18824" y="0"/>
                </a:lnTo>
                <a:lnTo>
                  <a:pt x="11765" y="19259"/>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32" name="Freeform 68"/>
          <p:cNvSpPr/>
          <p:nvPr/>
        </p:nvSpPr>
        <p:spPr>
          <a:xfrm>
            <a:off x="4202280" y="4002120"/>
            <a:ext cx="56880" cy="81000"/>
          </a:xfrm>
          <a:custGeom>
            <a:avLst/>
            <a:gdLst>
              <a:gd name="textAreaLeft" fmla="*/ 0 w 56880"/>
              <a:gd name="textAreaRight" fmla="*/ 57240 w 56880"/>
              <a:gd name="textAreaTop" fmla="*/ 0 h 81000"/>
              <a:gd name="textAreaBottom" fmla="*/ 81000 h 81000"/>
            </a:gdLst>
            <a:ahLst/>
            <a:rect l="textAreaLeft" t="textAreaTop" r="textAreaRight" b="textAreaBottom"/>
            <a:pathLst>
              <a:path w="20000" h="20000">
                <a:moveTo>
                  <a:pt x="0" y="10690"/>
                </a:moveTo>
                <a:lnTo>
                  <a:pt x="6977" y="5517"/>
                </a:lnTo>
                <a:lnTo>
                  <a:pt x="6977" y="2069"/>
                </a:lnTo>
                <a:lnTo>
                  <a:pt x="14419" y="0"/>
                </a:lnTo>
                <a:lnTo>
                  <a:pt x="19535" y="2069"/>
                </a:lnTo>
                <a:lnTo>
                  <a:pt x="19535" y="5517"/>
                </a:lnTo>
                <a:lnTo>
                  <a:pt x="12093" y="10690"/>
                </a:lnTo>
                <a:lnTo>
                  <a:pt x="12093" y="19655"/>
                </a:lnTo>
                <a:lnTo>
                  <a:pt x="5116" y="19655"/>
                </a:lnTo>
                <a:lnTo>
                  <a:pt x="5116" y="16207"/>
                </a:lnTo>
                <a:lnTo>
                  <a:pt x="0" y="10690"/>
                </a:lnTo>
                <a:close/>
              </a:path>
            </a:pathLst>
          </a:custGeom>
          <a:solidFill>
            <a:srgbClr val="ffffff"/>
          </a:solid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133" name="Freeform 70"/>
          <p:cNvSpPr/>
          <p:nvPr/>
        </p:nvSpPr>
        <p:spPr>
          <a:xfrm>
            <a:off x="4044960" y="3583080"/>
            <a:ext cx="123840" cy="93600"/>
          </a:xfrm>
          <a:custGeom>
            <a:avLst/>
            <a:gdLst>
              <a:gd name="textAreaLeft" fmla="*/ 0 w 123840"/>
              <a:gd name="textAreaRight" fmla="*/ 124200 w 123840"/>
              <a:gd name="textAreaTop" fmla="*/ 0 h 93600"/>
              <a:gd name="textAreaBottom" fmla="*/ 93960 h 93600"/>
            </a:gdLst>
            <a:ahLst/>
            <a:rect l="textAreaLeft" t="textAreaTop" r="textAreaRight" b="textAreaBottom"/>
            <a:pathLst>
              <a:path w="20000" h="20000">
                <a:moveTo>
                  <a:pt x="4421" y="0"/>
                </a:moveTo>
                <a:lnTo>
                  <a:pt x="7789" y="3188"/>
                </a:lnTo>
                <a:lnTo>
                  <a:pt x="19789" y="4638"/>
                </a:lnTo>
                <a:lnTo>
                  <a:pt x="19789" y="19710"/>
                </a:lnTo>
                <a:lnTo>
                  <a:pt x="14316" y="19710"/>
                </a:lnTo>
                <a:lnTo>
                  <a:pt x="8842" y="19710"/>
                </a:lnTo>
                <a:lnTo>
                  <a:pt x="2316" y="19710"/>
                </a:lnTo>
                <a:lnTo>
                  <a:pt x="0" y="16522"/>
                </a:lnTo>
                <a:lnTo>
                  <a:pt x="4421" y="7826"/>
                </a:lnTo>
                <a:lnTo>
                  <a:pt x="4421"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83"/>
          <p:cNvSpPr/>
          <p:nvPr/>
        </p:nvSpPr>
        <p:spPr>
          <a:xfrm>
            <a:off x="714240" y="450072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Calibri"/>
              </a:rPr>
              <a:t>Réseaux Nationaux Membres</a:t>
            </a:r>
            <a:endParaRPr b="0" lang="en-US" sz="1800" spc="-1" strike="noStrike">
              <a:solidFill>
                <a:srgbClr val="000000"/>
              </a:solidFill>
              <a:latin typeface="Calibri"/>
            </a:endParaRPr>
          </a:p>
        </p:txBody>
      </p:sp>
      <p:sp>
        <p:nvSpPr>
          <p:cNvPr id="135" name="Text Box 85"/>
          <p:cNvSpPr/>
          <p:nvPr/>
        </p:nvSpPr>
        <p:spPr>
          <a:xfrm>
            <a:off x="714240" y="4786200"/>
            <a:ext cx="335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Calibri"/>
              </a:rPr>
              <a:t>Réseaux Nationaux non Membres</a:t>
            </a:r>
            <a:endParaRPr b="0" lang="en-US" sz="1800" spc="-1" strike="noStrike">
              <a:solidFill>
                <a:srgbClr val="000000"/>
              </a:solidFill>
              <a:latin typeface="Calibri"/>
            </a:endParaRPr>
          </a:p>
        </p:txBody>
      </p:sp>
      <p:sp>
        <p:nvSpPr>
          <p:cNvPr id="136" name="Rectangle 84"/>
          <p:cNvSpPr/>
          <p:nvPr/>
        </p:nvSpPr>
        <p:spPr>
          <a:xfrm>
            <a:off x="220680" y="4832280"/>
            <a:ext cx="504720" cy="2890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7" name="Rectangle 80"/>
          <p:cNvSpPr/>
          <p:nvPr/>
        </p:nvSpPr>
        <p:spPr>
          <a:xfrm>
            <a:off x="214200" y="4500720"/>
            <a:ext cx="50508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8" name="Freeform 2"/>
          <p:cNvSpPr/>
          <p:nvPr/>
        </p:nvSpPr>
        <p:spPr>
          <a:xfrm>
            <a:off x="3013200" y="1398600"/>
            <a:ext cx="1191960" cy="1179360"/>
          </a:xfrm>
          <a:custGeom>
            <a:avLst/>
            <a:gdLst>
              <a:gd name="textAreaLeft" fmla="*/ 0 w 1191960"/>
              <a:gd name="textAreaRight" fmla="*/ 1192320 w 1191960"/>
              <a:gd name="textAreaTop" fmla="*/ 0 h 1179360"/>
              <a:gd name="textAreaBottom" fmla="*/ 1179720 h 1179360"/>
            </a:gdLst>
            <a:ahLst/>
            <a:rect l="textAreaLeft" t="textAreaTop" r="textAreaRight" b="textAreaBottom"/>
            <a:pathLst>
              <a:path w="20000" h="20000">
                <a:moveTo>
                  <a:pt x="6228" y="2250"/>
                </a:moveTo>
                <a:lnTo>
                  <a:pt x="6579" y="2250"/>
                </a:lnTo>
                <a:lnTo>
                  <a:pt x="6930" y="1906"/>
                </a:lnTo>
                <a:lnTo>
                  <a:pt x="7478" y="1791"/>
                </a:lnTo>
                <a:lnTo>
                  <a:pt x="7829" y="1538"/>
                </a:lnTo>
                <a:lnTo>
                  <a:pt x="8158" y="1309"/>
                </a:lnTo>
                <a:lnTo>
                  <a:pt x="8728" y="941"/>
                </a:lnTo>
                <a:lnTo>
                  <a:pt x="9868" y="597"/>
                </a:lnTo>
                <a:lnTo>
                  <a:pt x="10789" y="597"/>
                </a:lnTo>
                <a:lnTo>
                  <a:pt x="11338" y="367"/>
                </a:lnTo>
                <a:lnTo>
                  <a:pt x="11689" y="230"/>
                </a:lnTo>
                <a:lnTo>
                  <a:pt x="12500" y="230"/>
                </a:lnTo>
                <a:lnTo>
                  <a:pt x="13048" y="597"/>
                </a:lnTo>
                <a:lnTo>
                  <a:pt x="13399" y="597"/>
                </a:lnTo>
                <a:lnTo>
                  <a:pt x="13750" y="367"/>
                </a:lnTo>
                <a:lnTo>
                  <a:pt x="14298" y="0"/>
                </a:lnTo>
                <a:lnTo>
                  <a:pt x="14430" y="0"/>
                </a:lnTo>
                <a:lnTo>
                  <a:pt x="14868" y="230"/>
                </a:lnTo>
                <a:lnTo>
                  <a:pt x="14978" y="0"/>
                </a:lnTo>
                <a:lnTo>
                  <a:pt x="15768" y="367"/>
                </a:lnTo>
                <a:lnTo>
                  <a:pt x="16447" y="230"/>
                </a:lnTo>
                <a:lnTo>
                  <a:pt x="16447" y="367"/>
                </a:lnTo>
                <a:lnTo>
                  <a:pt x="16118" y="597"/>
                </a:lnTo>
                <a:lnTo>
                  <a:pt x="16118" y="850"/>
                </a:lnTo>
                <a:lnTo>
                  <a:pt x="16118" y="1538"/>
                </a:lnTo>
                <a:lnTo>
                  <a:pt x="16118" y="2503"/>
                </a:lnTo>
                <a:lnTo>
                  <a:pt x="15461" y="3467"/>
                </a:lnTo>
                <a:lnTo>
                  <a:pt x="15768" y="4271"/>
                </a:lnTo>
                <a:lnTo>
                  <a:pt x="16118" y="4409"/>
                </a:lnTo>
                <a:lnTo>
                  <a:pt x="16360" y="5235"/>
                </a:lnTo>
                <a:lnTo>
                  <a:pt x="17039" y="5580"/>
                </a:lnTo>
                <a:lnTo>
                  <a:pt x="17368" y="7738"/>
                </a:lnTo>
                <a:lnTo>
                  <a:pt x="17610" y="9047"/>
                </a:lnTo>
                <a:lnTo>
                  <a:pt x="17829" y="10356"/>
                </a:lnTo>
                <a:lnTo>
                  <a:pt x="17610" y="10930"/>
                </a:lnTo>
                <a:lnTo>
                  <a:pt x="17829" y="11871"/>
                </a:lnTo>
                <a:lnTo>
                  <a:pt x="17368" y="12377"/>
                </a:lnTo>
                <a:lnTo>
                  <a:pt x="17939" y="13318"/>
                </a:lnTo>
                <a:lnTo>
                  <a:pt x="17939" y="13685"/>
                </a:lnTo>
                <a:lnTo>
                  <a:pt x="18289" y="14259"/>
                </a:lnTo>
                <a:lnTo>
                  <a:pt x="18728" y="14030"/>
                </a:lnTo>
                <a:lnTo>
                  <a:pt x="19408" y="14397"/>
                </a:lnTo>
                <a:lnTo>
                  <a:pt x="19978" y="15201"/>
                </a:lnTo>
                <a:lnTo>
                  <a:pt x="19079" y="15798"/>
                </a:lnTo>
                <a:lnTo>
                  <a:pt x="15548" y="17819"/>
                </a:lnTo>
                <a:lnTo>
                  <a:pt x="14079" y="19265"/>
                </a:lnTo>
                <a:lnTo>
                  <a:pt x="12500" y="19839"/>
                </a:lnTo>
                <a:lnTo>
                  <a:pt x="11579" y="19977"/>
                </a:lnTo>
                <a:lnTo>
                  <a:pt x="11338" y="19839"/>
                </a:lnTo>
                <a:lnTo>
                  <a:pt x="11579" y="19380"/>
                </a:lnTo>
                <a:lnTo>
                  <a:pt x="11338" y="19036"/>
                </a:lnTo>
                <a:lnTo>
                  <a:pt x="11009" y="18760"/>
                </a:lnTo>
                <a:lnTo>
                  <a:pt x="10570" y="18668"/>
                </a:lnTo>
                <a:lnTo>
                  <a:pt x="10088" y="18439"/>
                </a:lnTo>
                <a:lnTo>
                  <a:pt x="9539" y="18071"/>
                </a:lnTo>
                <a:lnTo>
                  <a:pt x="9539" y="17819"/>
                </a:lnTo>
                <a:lnTo>
                  <a:pt x="3618" y="13433"/>
                </a:lnTo>
                <a:lnTo>
                  <a:pt x="0" y="10815"/>
                </a:lnTo>
                <a:lnTo>
                  <a:pt x="0" y="9277"/>
                </a:lnTo>
                <a:lnTo>
                  <a:pt x="351" y="9047"/>
                </a:lnTo>
                <a:lnTo>
                  <a:pt x="1250" y="8450"/>
                </a:lnTo>
                <a:lnTo>
                  <a:pt x="1820" y="8450"/>
                </a:lnTo>
                <a:lnTo>
                  <a:pt x="2149" y="8312"/>
                </a:lnTo>
                <a:lnTo>
                  <a:pt x="2500" y="8450"/>
                </a:lnTo>
                <a:lnTo>
                  <a:pt x="3268" y="8312"/>
                </a:lnTo>
                <a:lnTo>
                  <a:pt x="4430" y="7256"/>
                </a:lnTo>
                <a:lnTo>
                  <a:pt x="4759" y="6889"/>
                </a:lnTo>
                <a:lnTo>
                  <a:pt x="4759" y="6521"/>
                </a:lnTo>
                <a:lnTo>
                  <a:pt x="4759" y="6292"/>
                </a:lnTo>
                <a:lnTo>
                  <a:pt x="5461" y="6177"/>
                </a:lnTo>
                <a:lnTo>
                  <a:pt x="5461" y="5832"/>
                </a:lnTo>
                <a:lnTo>
                  <a:pt x="7149" y="5580"/>
                </a:lnTo>
                <a:lnTo>
                  <a:pt x="7149" y="5350"/>
                </a:lnTo>
                <a:lnTo>
                  <a:pt x="7149" y="4983"/>
                </a:lnTo>
                <a:lnTo>
                  <a:pt x="6930" y="4638"/>
                </a:lnTo>
                <a:lnTo>
                  <a:pt x="6798" y="3812"/>
                </a:lnTo>
                <a:lnTo>
                  <a:pt x="6798" y="3330"/>
                </a:lnTo>
                <a:lnTo>
                  <a:pt x="6579" y="2732"/>
                </a:lnTo>
                <a:lnTo>
                  <a:pt x="6228" y="225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6"/>
          <p:cNvSpPr/>
          <p:nvPr/>
        </p:nvSpPr>
        <p:spPr>
          <a:xfrm>
            <a:off x="4027320" y="1685880"/>
            <a:ext cx="901800" cy="870120"/>
          </a:xfrm>
          <a:custGeom>
            <a:avLst/>
            <a:gdLst>
              <a:gd name="textAreaLeft" fmla="*/ 0 w 901800"/>
              <a:gd name="textAreaRight" fmla="*/ 902160 w 901800"/>
              <a:gd name="textAreaTop" fmla="*/ 0 h 870120"/>
              <a:gd name="textAreaBottom" fmla="*/ 870480 h 870120"/>
            </a:gdLst>
            <a:ahLst/>
            <a:rect l="textAreaLeft" t="textAreaTop" r="textAreaRight" b="textAreaBottom"/>
            <a:pathLst>
              <a:path w="20000" h="20000">
                <a:moveTo>
                  <a:pt x="0" y="4199"/>
                </a:moveTo>
                <a:lnTo>
                  <a:pt x="319" y="4199"/>
                </a:lnTo>
                <a:lnTo>
                  <a:pt x="1072" y="3390"/>
                </a:lnTo>
                <a:lnTo>
                  <a:pt x="783" y="2240"/>
                </a:lnTo>
                <a:lnTo>
                  <a:pt x="1797" y="1275"/>
                </a:lnTo>
                <a:lnTo>
                  <a:pt x="2725" y="964"/>
                </a:lnTo>
                <a:lnTo>
                  <a:pt x="2435" y="498"/>
                </a:lnTo>
                <a:lnTo>
                  <a:pt x="2435" y="0"/>
                </a:lnTo>
                <a:lnTo>
                  <a:pt x="3768" y="187"/>
                </a:lnTo>
                <a:lnTo>
                  <a:pt x="5101" y="498"/>
                </a:lnTo>
                <a:lnTo>
                  <a:pt x="5884" y="809"/>
                </a:lnTo>
                <a:lnTo>
                  <a:pt x="7072" y="964"/>
                </a:lnTo>
                <a:lnTo>
                  <a:pt x="7536" y="2240"/>
                </a:lnTo>
                <a:lnTo>
                  <a:pt x="9478" y="2924"/>
                </a:lnTo>
                <a:lnTo>
                  <a:pt x="12174" y="4323"/>
                </a:lnTo>
                <a:lnTo>
                  <a:pt x="12928" y="3546"/>
                </a:lnTo>
                <a:lnTo>
                  <a:pt x="13217" y="2924"/>
                </a:lnTo>
                <a:lnTo>
                  <a:pt x="12928" y="1617"/>
                </a:lnTo>
                <a:lnTo>
                  <a:pt x="13362" y="809"/>
                </a:lnTo>
                <a:lnTo>
                  <a:pt x="14406" y="498"/>
                </a:lnTo>
                <a:lnTo>
                  <a:pt x="14580" y="498"/>
                </a:lnTo>
                <a:lnTo>
                  <a:pt x="14870" y="187"/>
                </a:lnTo>
                <a:lnTo>
                  <a:pt x="15768" y="187"/>
                </a:lnTo>
                <a:lnTo>
                  <a:pt x="16551" y="498"/>
                </a:lnTo>
                <a:lnTo>
                  <a:pt x="16841" y="964"/>
                </a:lnTo>
                <a:lnTo>
                  <a:pt x="18029" y="1617"/>
                </a:lnTo>
                <a:lnTo>
                  <a:pt x="19507" y="2240"/>
                </a:lnTo>
                <a:lnTo>
                  <a:pt x="19217" y="2551"/>
                </a:lnTo>
                <a:lnTo>
                  <a:pt x="19507" y="3546"/>
                </a:lnTo>
                <a:lnTo>
                  <a:pt x="19217" y="4323"/>
                </a:lnTo>
                <a:lnTo>
                  <a:pt x="19507" y="5661"/>
                </a:lnTo>
                <a:lnTo>
                  <a:pt x="19971" y="16423"/>
                </a:lnTo>
                <a:lnTo>
                  <a:pt x="19971" y="19471"/>
                </a:lnTo>
                <a:lnTo>
                  <a:pt x="18783" y="19471"/>
                </a:lnTo>
                <a:lnTo>
                  <a:pt x="18783" y="19969"/>
                </a:lnTo>
                <a:lnTo>
                  <a:pt x="8551" y="14495"/>
                </a:lnTo>
                <a:lnTo>
                  <a:pt x="7072" y="15117"/>
                </a:lnTo>
                <a:lnTo>
                  <a:pt x="6174" y="15583"/>
                </a:lnTo>
                <a:lnTo>
                  <a:pt x="5101" y="14806"/>
                </a:lnTo>
                <a:lnTo>
                  <a:pt x="3449" y="14308"/>
                </a:lnTo>
                <a:lnTo>
                  <a:pt x="2725" y="13219"/>
                </a:lnTo>
                <a:lnTo>
                  <a:pt x="1797" y="12722"/>
                </a:lnTo>
                <a:lnTo>
                  <a:pt x="1217" y="13033"/>
                </a:lnTo>
                <a:lnTo>
                  <a:pt x="783" y="12224"/>
                </a:lnTo>
                <a:lnTo>
                  <a:pt x="783" y="11757"/>
                </a:lnTo>
                <a:lnTo>
                  <a:pt x="0" y="10482"/>
                </a:lnTo>
                <a:lnTo>
                  <a:pt x="609" y="9798"/>
                </a:lnTo>
                <a:lnTo>
                  <a:pt x="319" y="8523"/>
                </a:lnTo>
                <a:lnTo>
                  <a:pt x="609" y="7745"/>
                </a:lnTo>
                <a:lnTo>
                  <a:pt x="319" y="5972"/>
                </a:lnTo>
                <a:lnTo>
                  <a:pt x="0" y="419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4"/>
          <p:cNvSpPr/>
          <p:nvPr/>
        </p:nvSpPr>
        <p:spPr>
          <a:xfrm>
            <a:off x="5364000" y="2646360"/>
            <a:ext cx="928800" cy="888840"/>
          </a:xfrm>
          <a:custGeom>
            <a:avLst/>
            <a:gdLst>
              <a:gd name="textAreaLeft" fmla="*/ 0 w 928800"/>
              <a:gd name="textAreaRight" fmla="*/ 929160 w 928800"/>
              <a:gd name="textAreaTop" fmla="*/ 0 h 888840"/>
              <a:gd name="textAreaBottom" fmla="*/ 889200 h 888840"/>
            </a:gdLst>
            <a:ahLst/>
            <a:rect l="textAreaLeft" t="textAreaTop" r="textAreaRight" b="textAreaBottom"/>
            <a:pathLst>
              <a:path w="20000" h="20000">
                <a:moveTo>
                  <a:pt x="7018" y="0"/>
                </a:moveTo>
                <a:lnTo>
                  <a:pt x="7470" y="1578"/>
                </a:lnTo>
                <a:lnTo>
                  <a:pt x="8133" y="3005"/>
                </a:lnTo>
                <a:lnTo>
                  <a:pt x="8584" y="4097"/>
                </a:lnTo>
                <a:lnTo>
                  <a:pt x="8735" y="4097"/>
                </a:lnTo>
                <a:lnTo>
                  <a:pt x="8735" y="3460"/>
                </a:lnTo>
                <a:lnTo>
                  <a:pt x="9367" y="4249"/>
                </a:lnTo>
                <a:lnTo>
                  <a:pt x="9518" y="4249"/>
                </a:lnTo>
                <a:lnTo>
                  <a:pt x="10301" y="4583"/>
                </a:lnTo>
                <a:lnTo>
                  <a:pt x="11386" y="5524"/>
                </a:lnTo>
                <a:lnTo>
                  <a:pt x="12018" y="6586"/>
                </a:lnTo>
                <a:lnTo>
                  <a:pt x="12771" y="7071"/>
                </a:lnTo>
                <a:lnTo>
                  <a:pt x="13072" y="7071"/>
                </a:lnTo>
                <a:lnTo>
                  <a:pt x="13434" y="7405"/>
                </a:lnTo>
                <a:lnTo>
                  <a:pt x="12771" y="7557"/>
                </a:lnTo>
                <a:lnTo>
                  <a:pt x="12319" y="7860"/>
                </a:lnTo>
                <a:lnTo>
                  <a:pt x="12018" y="8316"/>
                </a:lnTo>
                <a:lnTo>
                  <a:pt x="11536" y="8801"/>
                </a:lnTo>
                <a:lnTo>
                  <a:pt x="11837" y="9621"/>
                </a:lnTo>
                <a:lnTo>
                  <a:pt x="12771" y="9621"/>
                </a:lnTo>
                <a:lnTo>
                  <a:pt x="13072" y="9924"/>
                </a:lnTo>
                <a:lnTo>
                  <a:pt x="12771" y="10379"/>
                </a:lnTo>
                <a:lnTo>
                  <a:pt x="13886" y="11654"/>
                </a:lnTo>
                <a:lnTo>
                  <a:pt x="14669" y="12109"/>
                </a:lnTo>
                <a:lnTo>
                  <a:pt x="18735" y="13657"/>
                </a:lnTo>
                <a:lnTo>
                  <a:pt x="19970" y="13657"/>
                </a:lnTo>
                <a:lnTo>
                  <a:pt x="16084" y="17754"/>
                </a:lnTo>
                <a:lnTo>
                  <a:pt x="15602" y="17754"/>
                </a:lnTo>
                <a:lnTo>
                  <a:pt x="13886" y="18240"/>
                </a:lnTo>
                <a:lnTo>
                  <a:pt x="13434" y="19029"/>
                </a:lnTo>
                <a:lnTo>
                  <a:pt x="12651" y="19029"/>
                </a:lnTo>
                <a:lnTo>
                  <a:pt x="12018" y="19332"/>
                </a:lnTo>
                <a:lnTo>
                  <a:pt x="11084" y="19332"/>
                </a:lnTo>
                <a:lnTo>
                  <a:pt x="10602" y="19029"/>
                </a:lnTo>
                <a:lnTo>
                  <a:pt x="9819" y="19029"/>
                </a:lnTo>
                <a:lnTo>
                  <a:pt x="9367" y="19029"/>
                </a:lnTo>
                <a:lnTo>
                  <a:pt x="8735" y="19970"/>
                </a:lnTo>
                <a:lnTo>
                  <a:pt x="7349" y="19788"/>
                </a:lnTo>
                <a:lnTo>
                  <a:pt x="6084" y="19029"/>
                </a:lnTo>
                <a:lnTo>
                  <a:pt x="4518" y="18543"/>
                </a:lnTo>
                <a:lnTo>
                  <a:pt x="3765" y="18240"/>
                </a:lnTo>
                <a:lnTo>
                  <a:pt x="3765" y="17299"/>
                </a:lnTo>
                <a:lnTo>
                  <a:pt x="3283" y="17299"/>
                </a:lnTo>
                <a:lnTo>
                  <a:pt x="2952" y="16662"/>
                </a:lnTo>
                <a:lnTo>
                  <a:pt x="2831" y="16055"/>
                </a:lnTo>
                <a:lnTo>
                  <a:pt x="1717" y="15266"/>
                </a:lnTo>
                <a:lnTo>
                  <a:pt x="934" y="14446"/>
                </a:lnTo>
                <a:lnTo>
                  <a:pt x="0" y="13991"/>
                </a:lnTo>
                <a:lnTo>
                  <a:pt x="0" y="13202"/>
                </a:lnTo>
                <a:lnTo>
                  <a:pt x="934" y="13202"/>
                </a:lnTo>
                <a:lnTo>
                  <a:pt x="1566" y="12898"/>
                </a:lnTo>
                <a:lnTo>
                  <a:pt x="1566" y="11472"/>
                </a:lnTo>
                <a:lnTo>
                  <a:pt x="1717" y="10865"/>
                </a:lnTo>
                <a:lnTo>
                  <a:pt x="1717" y="10379"/>
                </a:lnTo>
                <a:lnTo>
                  <a:pt x="2048" y="9924"/>
                </a:lnTo>
                <a:lnTo>
                  <a:pt x="2530" y="9924"/>
                </a:lnTo>
                <a:lnTo>
                  <a:pt x="2831" y="9621"/>
                </a:lnTo>
                <a:lnTo>
                  <a:pt x="2952" y="8316"/>
                </a:lnTo>
                <a:lnTo>
                  <a:pt x="3584" y="7405"/>
                </a:lnTo>
                <a:lnTo>
                  <a:pt x="4066" y="7071"/>
                </a:lnTo>
                <a:lnTo>
                  <a:pt x="4217" y="6282"/>
                </a:lnTo>
                <a:lnTo>
                  <a:pt x="4518" y="4583"/>
                </a:lnTo>
                <a:lnTo>
                  <a:pt x="5000" y="2853"/>
                </a:lnTo>
                <a:lnTo>
                  <a:pt x="5000" y="2064"/>
                </a:lnTo>
                <a:lnTo>
                  <a:pt x="5301" y="1244"/>
                </a:lnTo>
                <a:lnTo>
                  <a:pt x="5783" y="1244"/>
                </a:lnTo>
                <a:lnTo>
                  <a:pt x="5783" y="941"/>
                </a:lnTo>
                <a:lnTo>
                  <a:pt x="6235" y="486"/>
                </a:lnTo>
                <a:lnTo>
                  <a:pt x="6867" y="819"/>
                </a:lnTo>
                <a:lnTo>
                  <a:pt x="7018"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6"/>
          <p:cNvSpPr/>
          <p:nvPr/>
        </p:nvSpPr>
        <p:spPr>
          <a:xfrm>
            <a:off x="5481720" y="3438360"/>
            <a:ext cx="465120" cy="601920"/>
          </a:xfrm>
          <a:custGeom>
            <a:avLst/>
            <a:gdLst>
              <a:gd name="textAreaLeft" fmla="*/ 0 w 465120"/>
              <a:gd name="textAreaRight" fmla="*/ 465480 w 465120"/>
              <a:gd name="textAreaTop" fmla="*/ 0 h 601920"/>
              <a:gd name="textAreaBottom" fmla="*/ 602280 h 601920"/>
            </a:gdLst>
            <a:ahLst/>
            <a:rect l="textAreaLeft" t="textAreaTop" r="textAreaRight" b="textAreaBottom"/>
            <a:pathLst>
              <a:path w="20000" h="20000">
                <a:moveTo>
                  <a:pt x="613" y="1839"/>
                </a:moveTo>
                <a:lnTo>
                  <a:pt x="891" y="1166"/>
                </a:lnTo>
                <a:lnTo>
                  <a:pt x="2340" y="717"/>
                </a:lnTo>
                <a:lnTo>
                  <a:pt x="3788" y="0"/>
                </a:lnTo>
                <a:lnTo>
                  <a:pt x="4345" y="717"/>
                </a:lnTo>
                <a:lnTo>
                  <a:pt x="4680" y="717"/>
                </a:lnTo>
                <a:lnTo>
                  <a:pt x="6072" y="1166"/>
                </a:lnTo>
                <a:lnTo>
                  <a:pt x="8969" y="1839"/>
                </a:lnTo>
                <a:lnTo>
                  <a:pt x="11309" y="3004"/>
                </a:lnTo>
                <a:lnTo>
                  <a:pt x="13872" y="3229"/>
                </a:lnTo>
                <a:lnTo>
                  <a:pt x="15042" y="1839"/>
                </a:lnTo>
                <a:lnTo>
                  <a:pt x="15877" y="1839"/>
                </a:lnTo>
                <a:lnTo>
                  <a:pt x="17326" y="1839"/>
                </a:lnTo>
                <a:lnTo>
                  <a:pt x="18217" y="2287"/>
                </a:lnTo>
                <a:lnTo>
                  <a:pt x="19944" y="2287"/>
                </a:lnTo>
                <a:lnTo>
                  <a:pt x="17660" y="4395"/>
                </a:lnTo>
                <a:lnTo>
                  <a:pt x="17660" y="11614"/>
                </a:lnTo>
                <a:lnTo>
                  <a:pt x="19053" y="13004"/>
                </a:lnTo>
                <a:lnTo>
                  <a:pt x="18774" y="13901"/>
                </a:lnTo>
                <a:lnTo>
                  <a:pt x="17326" y="14619"/>
                </a:lnTo>
                <a:lnTo>
                  <a:pt x="17326" y="15112"/>
                </a:lnTo>
                <a:lnTo>
                  <a:pt x="16435" y="15291"/>
                </a:lnTo>
                <a:lnTo>
                  <a:pt x="15320" y="15785"/>
                </a:lnTo>
                <a:lnTo>
                  <a:pt x="15042" y="16951"/>
                </a:lnTo>
                <a:lnTo>
                  <a:pt x="13872" y="18789"/>
                </a:lnTo>
                <a:lnTo>
                  <a:pt x="12981" y="19955"/>
                </a:lnTo>
                <a:lnTo>
                  <a:pt x="9805" y="17668"/>
                </a:lnTo>
                <a:lnTo>
                  <a:pt x="9805" y="16457"/>
                </a:lnTo>
                <a:lnTo>
                  <a:pt x="891" y="12063"/>
                </a:lnTo>
                <a:lnTo>
                  <a:pt x="0" y="12063"/>
                </a:lnTo>
                <a:lnTo>
                  <a:pt x="0" y="9731"/>
                </a:lnTo>
                <a:lnTo>
                  <a:pt x="1727" y="7399"/>
                </a:lnTo>
                <a:lnTo>
                  <a:pt x="2897" y="6233"/>
                </a:lnTo>
                <a:lnTo>
                  <a:pt x="1727" y="4395"/>
                </a:lnTo>
                <a:lnTo>
                  <a:pt x="1504" y="3229"/>
                </a:lnTo>
                <a:lnTo>
                  <a:pt x="1504" y="2556"/>
                </a:lnTo>
                <a:lnTo>
                  <a:pt x="613" y="2287"/>
                </a:lnTo>
                <a:lnTo>
                  <a:pt x="613" y="1839"/>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8"/>
          <p:cNvSpPr/>
          <p:nvPr/>
        </p:nvSpPr>
        <p:spPr>
          <a:xfrm>
            <a:off x="2522520" y="1490760"/>
            <a:ext cx="915840" cy="955440"/>
          </a:xfrm>
          <a:custGeom>
            <a:avLst/>
            <a:gdLst>
              <a:gd name="textAreaLeft" fmla="*/ 0 w 915840"/>
              <a:gd name="textAreaRight" fmla="*/ 916200 w 915840"/>
              <a:gd name="textAreaTop" fmla="*/ 0 h 955440"/>
              <a:gd name="textAreaBottom" fmla="*/ 955800 h 955440"/>
            </a:gdLst>
            <a:ahLst/>
            <a:rect l="textAreaLeft" t="textAreaTop" r="textAreaRight" b="textAreaBottom"/>
            <a:pathLst>
              <a:path w="20000" h="20000">
                <a:moveTo>
                  <a:pt x="18807" y="878"/>
                </a:moveTo>
                <a:lnTo>
                  <a:pt x="19233" y="1473"/>
                </a:lnTo>
                <a:lnTo>
                  <a:pt x="19517" y="2210"/>
                </a:lnTo>
                <a:lnTo>
                  <a:pt x="19517" y="2805"/>
                </a:lnTo>
                <a:lnTo>
                  <a:pt x="19688" y="3824"/>
                </a:lnTo>
                <a:lnTo>
                  <a:pt x="19972" y="4278"/>
                </a:lnTo>
                <a:lnTo>
                  <a:pt x="19972" y="4703"/>
                </a:lnTo>
                <a:lnTo>
                  <a:pt x="19972" y="4986"/>
                </a:lnTo>
                <a:lnTo>
                  <a:pt x="17784" y="5297"/>
                </a:lnTo>
                <a:lnTo>
                  <a:pt x="17784" y="5722"/>
                </a:lnTo>
                <a:lnTo>
                  <a:pt x="16903" y="5864"/>
                </a:lnTo>
                <a:lnTo>
                  <a:pt x="16903" y="6147"/>
                </a:lnTo>
                <a:lnTo>
                  <a:pt x="16903" y="6601"/>
                </a:lnTo>
                <a:lnTo>
                  <a:pt x="16449" y="7054"/>
                </a:lnTo>
                <a:lnTo>
                  <a:pt x="14972" y="8385"/>
                </a:lnTo>
                <a:lnTo>
                  <a:pt x="13949" y="8527"/>
                </a:lnTo>
                <a:lnTo>
                  <a:pt x="13523" y="8385"/>
                </a:lnTo>
                <a:lnTo>
                  <a:pt x="13068" y="8527"/>
                </a:lnTo>
                <a:lnTo>
                  <a:pt x="12330" y="8527"/>
                </a:lnTo>
                <a:lnTo>
                  <a:pt x="11165" y="9263"/>
                </a:lnTo>
                <a:lnTo>
                  <a:pt x="10739" y="9547"/>
                </a:lnTo>
                <a:lnTo>
                  <a:pt x="10739" y="11445"/>
                </a:lnTo>
                <a:lnTo>
                  <a:pt x="10739" y="13371"/>
                </a:lnTo>
                <a:lnTo>
                  <a:pt x="6449" y="13484"/>
                </a:lnTo>
                <a:lnTo>
                  <a:pt x="6449" y="16601"/>
                </a:lnTo>
                <a:lnTo>
                  <a:pt x="5284" y="17025"/>
                </a:lnTo>
                <a:lnTo>
                  <a:pt x="4972" y="17309"/>
                </a:lnTo>
                <a:lnTo>
                  <a:pt x="4972" y="17762"/>
                </a:lnTo>
                <a:lnTo>
                  <a:pt x="4972" y="19518"/>
                </a:lnTo>
                <a:lnTo>
                  <a:pt x="284" y="19518"/>
                </a:lnTo>
                <a:lnTo>
                  <a:pt x="0" y="19972"/>
                </a:lnTo>
                <a:lnTo>
                  <a:pt x="284" y="18810"/>
                </a:lnTo>
                <a:lnTo>
                  <a:pt x="739" y="18187"/>
                </a:lnTo>
                <a:lnTo>
                  <a:pt x="1023" y="17762"/>
                </a:lnTo>
                <a:lnTo>
                  <a:pt x="1165" y="17309"/>
                </a:lnTo>
                <a:lnTo>
                  <a:pt x="1449" y="16884"/>
                </a:lnTo>
                <a:lnTo>
                  <a:pt x="1903" y="16147"/>
                </a:lnTo>
                <a:lnTo>
                  <a:pt x="2784" y="15127"/>
                </a:lnTo>
                <a:lnTo>
                  <a:pt x="2784" y="14249"/>
                </a:lnTo>
                <a:lnTo>
                  <a:pt x="3352" y="13371"/>
                </a:lnTo>
                <a:lnTo>
                  <a:pt x="4545" y="12040"/>
                </a:lnTo>
                <a:lnTo>
                  <a:pt x="5284" y="10878"/>
                </a:lnTo>
                <a:lnTo>
                  <a:pt x="6619" y="10425"/>
                </a:lnTo>
                <a:lnTo>
                  <a:pt x="7614" y="9972"/>
                </a:lnTo>
                <a:lnTo>
                  <a:pt x="8807" y="8810"/>
                </a:lnTo>
                <a:lnTo>
                  <a:pt x="9545" y="7649"/>
                </a:lnTo>
                <a:lnTo>
                  <a:pt x="9233" y="7054"/>
                </a:lnTo>
                <a:lnTo>
                  <a:pt x="9233" y="5864"/>
                </a:lnTo>
                <a:lnTo>
                  <a:pt x="9688" y="5297"/>
                </a:lnTo>
                <a:lnTo>
                  <a:pt x="9972" y="4561"/>
                </a:lnTo>
                <a:lnTo>
                  <a:pt x="10739" y="3541"/>
                </a:lnTo>
                <a:lnTo>
                  <a:pt x="11619" y="3088"/>
                </a:lnTo>
                <a:lnTo>
                  <a:pt x="13068" y="2380"/>
                </a:lnTo>
                <a:lnTo>
                  <a:pt x="13523" y="1190"/>
                </a:lnTo>
                <a:lnTo>
                  <a:pt x="13949" y="0"/>
                </a:lnTo>
                <a:lnTo>
                  <a:pt x="14688" y="0"/>
                </a:lnTo>
                <a:lnTo>
                  <a:pt x="15398" y="765"/>
                </a:lnTo>
                <a:lnTo>
                  <a:pt x="16619" y="765"/>
                </a:lnTo>
                <a:lnTo>
                  <a:pt x="17330" y="765"/>
                </a:lnTo>
                <a:lnTo>
                  <a:pt x="17784" y="453"/>
                </a:lnTo>
                <a:lnTo>
                  <a:pt x="18068" y="878"/>
                </a:lnTo>
                <a:lnTo>
                  <a:pt x="18807" y="87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20"/>
          <p:cNvSpPr/>
          <p:nvPr/>
        </p:nvSpPr>
        <p:spPr>
          <a:xfrm>
            <a:off x="5891040" y="3021120"/>
            <a:ext cx="584280" cy="807840"/>
          </a:xfrm>
          <a:custGeom>
            <a:avLst/>
            <a:gdLst>
              <a:gd name="textAreaLeft" fmla="*/ 0 w 584280"/>
              <a:gd name="textAreaRight" fmla="*/ 584640 w 584280"/>
              <a:gd name="textAreaTop" fmla="*/ 0 h 807840"/>
              <a:gd name="textAreaBottom" fmla="*/ 808200 h 807840"/>
            </a:gdLst>
            <a:ahLst/>
            <a:rect l="textAreaLeft" t="textAreaTop" r="textAreaRight" b="textAreaBottom"/>
            <a:pathLst>
              <a:path w="20000" h="20000">
                <a:moveTo>
                  <a:pt x="3453" y="1728"/>
                </a:moveTo>
                <a:lnTo>
                  <a:pt x="3946" y="1229"/>
                </a:lnTo>
                <a:lnTo>
                  <a:pt x="4170" y="897"/>
                </a:lnTo>
                <a:lnTo>
                  <a:pt x="5785" y="2259"/>
                </a:lnTo>
                <a:lnTo>
                  <a:pt x="6951" y="2591"/>
                </a:lnTo>
                <a:lnTo>
                  <a:pt x="9058" y="1728"/>
                </a:lnTo>
                <a:lnTo>
                  <a:pt x="10628" y="1894"/>
                </a:lnTo>
                <a:lnTo>
                  <a:pt x="12556" y="1395"/>
                </a:lnTo>
                <a:lnTo>
                  <a:pt x="13229" y="1395"/>
                </a:lnTo>
                <a:lnTo>
                  <a:pt x="15112" y="1229"/>
                </a:lnTo>
                <a:lnTo>
                  <a:pt x="16233" y="1229"/>
                </a:lnTo>
                <a:lnTo>
                  <a:pt x="17668" y="897"/>
                </a:lnTo>
                <a:lnTo>
                  <a:pt x="18565" y="532"/>
                </a:lnTo>
                <a:lnTo>
                  <a:pt x="18789" y="0"/>
                </a:lnTo>
                <a:lnTo>
                  <a:pt x="19955" y="365"/>
                </a:lnTo>
                <a:lnTo>
                  <a:pt x="19507" y="1229"/>
                </a:lnTo>
                <a:lnTo>
                  <a:pt x="19507" y="1395"/>
                </a:lnTo>
                <a:lnTo>
                  <a:pt x="19507" y="2591"/>
                </a:lnTo>
                <a:lnTo>
                  <a:pt x="19238" y="3953"/>
                </a:lnTo>
                <a:lnTo>
                  <a:pt x="17668" y="5515"/>
                </a:lnTo>
                <a:lnTo>
                  <a:pt x="17399" y="6179"/>
                </a:lnTo>
                <a:lnTo>
                  <a:pt x="17399" y="6711"/>
                </a:lnTo>
                <a:lnTo>
                  <a:pt x="15785" y="8439"/>
                </a:lnTo>
                <a:lnTo>
                  <a:pt x="15785" y="8970"/>
                </a:lnTo>
                <a:lnTo>
                  <a:pt x="13722" y="11362"/>
                </a:lnTo>
                <a:lnTo>
                  <a:pt x="10179" y="13920"/>
                </a:lnTo>
                <a:lnTo>
                  <a:pt x="7892" y="15349"/>
                </a:lnTo>
                <a:lnTo>
                  <a:pt x="4170" y="17542"/>
                </a:lnTo>
                <a:lnTo>
                  <a:pt x="1166" y="19967"/>
                </a:lnTo>
                <a:lnTo>
                  <a:pt x="0" y="18937"/>
                </a:lnTo>
                <a:lnTo>
                  <a:pt x="0" y="13588"/>
                </a:lnTo>
                <a:lnTo>
                  <a:pt x="1839" y="12027"/>
                </a:lnTo>
                <a:lnTo>
                  <a:pt x="2780" y="11694"/>
                </a:lnTo>
                <a:lnTo>
                  <a:pt x="3946" y="11694"/>
                </a:lnTo>
                <a:lnTo>
                  <a:pt x="4664" y="10864"/>
                </a:lnTo>
                <a:lnTo>
                  <a:pt x="7220" y="10332"/>
                </a:lnTo>
                <a:lnTo>
                  <a:pt x="7892" y="10332"/>
                </a:lnTo>
                <a:lnTo>
                  <a:pt x="13722" y="5847"/>
                </a:lnTo>
                <a:lnTo>
                  <a:pt x="11839" y="5847"/>
                </a:lnTo>
                <a:lnTo>
                  <a:pt x="5785" y="4153"/>
                </a:lnTo>
                <a:lnTo>
                  <a:pt x="4664" y="3621"/>
                </a:lnTo>
                <a:lnTo>
                  <a:pt x="3004" y="2259"/>
                </a:lnTo>
                <a:lnTo>
                  <a:pt x="3453" y="172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21"/>
          <p:cNvSpPr/>
          <p:nvPr/>
        </p:nvSpPr>
        <p:spPr>
          <a:xfrm>
            <a:off x="3933720" y="1378080"/>
            <a:ext cx="235080" cy="476280"/>
          </a:xfrm>
          <a:custGeom>
            <a:avLst/>
            <a:gdLst>
              <a:gd name="textAreaLeft" fmla="*/ 0 w 235080"/>
              <a:gd name="textAreaRight" fmla="*/ 235440 w 235080"/>
              <a:gd name="textAreaTop" fmla="*/ 0 h 476280"/>
              <a:gd name="textAreaBottom" fmla="*/ 476640 h 476280"/>
            </a:gdLst>
            <a:ahLst/>
            <a:rect l="textAreaLeft" t="textAreaTop" r="textAreaRight" b="textAreaBottom"/>
            <a:pathLst>
              <a:path w="20000" h="20000">
                <a:moveTo>
                  <a:pt x="5055" y="1473"/>
                </a:moveTo>
                <a:lnTo>
                  <a:pt x="6703" y="340"/>
                </a:lnTo>
                <a:lnTo>
                  <a:pt x="9560" y="0"/>
                </a:lnTo>
                <a:lnTo>
                  <a:pt x="11868" y="340"/>
                </a:lnTo>
                <a:lnTo>
                  <a:pt x="12527" y="1756"/>
                </a:lnTo>
                <a:lnTo>
                  <a:pt x="15385" y="907"/>
                </a:lnTo>
                <a:lnTo>
                  <a:pt x="16484" y="1473"/>
                </a:lnTo>
                <a:lnTo>
                  <a:pt x="14286" y="2323"/>
                </a:lnTo>
                <a:lnTo>
                  <a:pt x="13626" y="3796"/>
                </a:lnTo>
                <a:lnTo>
                  <a:pt x="15385" y="4646"/>
                </a:lnTo>
                <a:lnTo>
                  <a:pt x="16484" y="6176"/>
                </a:lnTo>
                <a:lnTo>
                  <a:pt x="14286" y="7649"/>
                </a:lnTo>
                <a:lnTo>
                  <a:pt x="11868" y="9065"/>
                </a:lnTo>
                <a:lnTo>
                  <a:pt x="12527" y="10312"/>
                </a:lnTo>
                <a:lnTo>
                  <a:pt x="14286" y="10312"/>
                </a:lnTo>
                <a:lnTo>
                  <a:pt x="14286" y="10878"/>
                </a:lnTo>
                <a:lnTo>
                  <a:pt x="16484" y="10878"/>
                </a:lnTo>
                <a:lnTo>
                  <a:pt x="17033" y="11445"/>
                </a:lnTo>
                <a:lnTo>
                  <a:pt x="18791" y="12295"/>
                </a:lnTo>
                <a:lnTo>
                  <a:pt x="18791" y="13201"/>
                </a:lnTo>
                <a:lnTo>
                  <a:pt x="19890" y="14051"/>
                </a:lnTo>
                <a:lnTo>
                  <a:pt x="16484" y="14618"/>
                </a:lnTo>
                <a:lnTo>
                  <a:pt x="12527" y="16431"/>
                </a:lnTo>
                <a:lnTo>
                  <a:pt x="13626" y="18470"/>
                </a:lnTo>
                <a:lnTo>
                  <a:pt x="10769" y="19943"/>
                </a:lnTo>
                <a:lnTo>
                  <a:pt x="9560" y="19943"/>
                </a:lnTo>
                <a:lnTo>
                  <a:pt x="8022" y="14618"/>
                </a:lnTo>
                <a:lnTo>
                  <a:pt x="4505" y="13768"/>
                </a:lnTo>
                <a:lnTo>
                  <a:pt x="3297" y="11728"/>
                </a:lnTo>
                <a:lnTo>
                  <a:pt x="1648" y="11445"/>
                </a:lnTo>
                <a:lnTo>
                  <a:pt x="0" y="9405"/>
                </a:lnTo>
                <a:lnTo>
                  <a:pt x="3297" y="7082"/>
                </a:lnTo>
                <a:lnTo>
                  <a:pt x="3297" y="4646"/>
                </a:lnTo>
                <a:lnTo>
                  <a:pt x="3297" y="2946"/>
                </a:lnTo>
                <a:lnTo>
                  <a:pt x="3297" y="2323"/>
                </a:lnTo>
                <a:lnTo>
                  <a:pt x="5055" y="1756"/>
                </a:lnTo>
                <a:lnTo>
                  <a:pt x="5055" y="147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22"/>
          <p:cNvSpPr/>
          <p:nvPr/>
        </p:nvSpPr>
        <p:spPr>
          <a:xfrm>
            <a:off x="5229360" y="3490920"/>
            <a:ext cx="318960" cy="338040"/>
          </a:xfrm>
          <a:custGeom>
            <a:avLst/>
            <a:gdLst>
              <a:gd name="textAreaLeft" fmla="*/ 0 w 318960"/>
              <a:gd name="textAreaRight" fmla="*/ 319320 w 318960"/>
              <a:gd name="textAreaTop" fmla="*/ 0 h 338040"/>
              <a:gd name="textAreaBottom" fmla="*/ 338400 h 338040"/>
            </a:gdLst>
            <a:ahLst/>
            <a:rect l="textAreaLeft" t="textAreaTop" r="textAreaRight" b="textAreaBottom"/>
            <a:pathLst>
              <a:path w="20000" h="20000">
                <a:moveTo>
                  <a:pt x="4245" y="1280"/>
                </a:moveTo>
                <a:lnTo>
                  <a:pt x="4735" y="800"/>
                </a:lnTo>
                <a:lnTo>
                  <a:pt x="7673" y="1280"/>
                </a:lnTo>
                <a:lnTo>
                  <a:pt x="8898" y="2080"/>
                </a:lnTo>
                <a:lnTo>
                  <a:pt x="9388" y="1280"/>
                </a:lnTo>
                <a:lnTo>
                  <a:pt x="11429" y="1280"/>
                </a:lnTo>
                <a:lnTo>
                  <a:pt x="14367" y="1280"/>
                </a:lnTo>
                <a:lnTo>
                  <a:pt x="16571" y="0"/>
                </a:lnTo>
                <a:lnTo>
                  <a:pt x="16571" y="800"/>
                </a:lnTo>
                <a:lnTo>
                  <a:pt x="17796" y="1280"/>
                </a:lnTo>
                <a:lnTo>
                  <a:pt x="17796" y="2480"/>
                </a:lnTo>
                <a:lnTo>
                  <a:pt x="18204" y="4560"/>
                </a:lnTo>
                <a:lnTo>
                  <a:pt x="19918" y="7840"/>
                </a:lnTo>
                <a:lnTo>
                  <a:pt x="18204" y="9920"/>
                </a:lnTo>
                <a:lnTo>
                  <a:pt x="15673" y="14080"/>
                </a:lnTo>
                <a:lnTo>
                  <a:pt x="15673" y="18240"/>
                </a:lnTo>
                <a:lnTo>
                  <a:pt x="10204" y="18240"/>
                </a:lnTo>
                <a:lnTo>
                  <a:pt x="4735" y="18240"/>
                </a:lnTo>
                <a:lnTo>
                  <a:pt x="3429" y="18640"/>
                </a:lnTo>
                <a:lnTo>
                  <a:pt x="1306" y="19920"/>
                </a:lnTo>
                <a:lnTo>
                  <a:pt x="1306" y="19440"/>
                </a:lnTo>
                <a:lnTo>
                  <a:pt x="0" y="19440"/>
                </a:lnTo>
                <a:lnTo>
                  <a:pt x="490" y="14880"/>
                </a:lnTo>
                <a:lnTo>
                  <a:pt x="1306" y="12880"/>
                </a:lnTo>
                <a:lnTo>
                  <a:pt x="2531" y="10800"/>
                </a:lnTo>
                <a:lnTo>
                  <a:pt x="4735" y="8720"/>
                </a:lnTo>
                <a:lnTo>
                  <a:pt x="6041" y="7520"/>
                </a:lnTo>
                <a:lnTo>
                  <a:pt x="4735" y="5360"/>
                </a:lnTo>
                <a:lnTo>
                  <a:pt x="4735" y="4080"/>
                </a:lnTo>
                <a:lnTo>
                  <a:pt x="4735" y="2480"/>
                </a:lnTo>
                <a:lnTo>
                  <a:pt x="4245" y="128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28"/>
          <p:cNvSpPr/>
          <p:nvPr/>
        </p:nvSpPr>
        <p:spPr>
          <a:xfrm>
            <a:off x="6508800" y="2182680"/>
            <a:ext cx="425520" cy="540000"/>
          </a:xfrm>
          <a:custGeom>
            <a:avLst/>
            <a:gdLst>
              <a:gd name="textAreaLeft" fmla="*/ 0 w 425520"/>
              <a:gd name="textAreaRight" fmla="*/ 425880 w 425520"/>
              <a:gd name="textAreaTop" fmla="*/ 0 h 540000"/>
              <a:gd name="textAreaBottom" fmla="*/ 540360 h 540000"/>
            </a:gdLst>
            <a:ahLst/>
            <a:rect l="textAreaLeft" t="textAreaTop" r="textAreaRight" b="textAreaBottom"/>
            <a:pathLst>
              <a:path w="20000" h="20000">
                <a:moveTo>
                  <a:pt x="8196" y="6216"/>
                </a:moveTo>
                <a:lnTo>
                  <a:pt x="8196" y="4411"/>
                </a:lnTo>
                <a:lnTo>
                  <a:pt x="8563" y="3609"/>
                </a:lnTo>
                <a:lnTo>
                  <a:pt x="8563" y="2857"/>
                </a:lnTo>
                <a:lnTo>
                  <a:pt x="9847" y="2857"/>
                </a:lnTo>
                <a:lnTo>
                  <a:pt x="10092" y="2857"/>
                </a:lnTo>
                <a:lnTo>
                  <a:pt x="9847" y="2055"/>
                </a:lnTo>
                <a:lnTo>
                  <a:pt x="9174" y="2055"/>
                </a:lnTo>
                <a:lnTo>
                  <a:pt x="8563" y="301"/>
                </a:lnTo>
                <a:lnTo>
                  <a:pt x="9174" y="0"/>
                </a:lnTo>
                <a:lnTo>
                  <a:pt x="9847" y="0"/>
                </a:lnTo>
                <a:lnTo>
                  <a:pt x="11682" y="2356"/>
                </a:lnTo>
                <a:lnTo>
                  <a:pt x="15229" y="3358"/>
                </a:lnTo>
                <a:lnTo>
                  <a:pt x="16820" y="3609"/>
                </a:lnTo>
                <a:lnTo>
                  <a:pt x="18960" y="5714"/>
                </a:lnTo>
                <a:lnTo>
                  <a:pt x="19939" y="6216"/>
                </a:lnTo>
                <a:lnTo>
                  <a:pt x="18960" y="8822"/>
                </a:lnTo>
                <a:lnTo>
                  <a:pt x="16820" y="11178"/>
                </a:lnTo>
                <a:lnTo>
                  <a:pt x="16453" y="11178"/>
                </a:lnTo>
                <a:lnTo>
                  <a:pt x="15841" y="10877"/>
                </a:lnTo>
                <a:lnTo>
                  <a:pt x="15229" y="11880"/>
                </a:lnTo>
                <a:lnTo>
                  <a:pt x="14862" y="13233"/>
                </a:lnTo>
                <a:lnTo>
                  <a:pt x="15229" y="14536"/>
                </a:lnTo>
                <a:lnTo>
                  <a:pt x="12599" y="15038"/>
                </a:lnTo>
                <a:lnTo>
                  <a:pt x="11682" y="15789"/>
                </a:lnTo>
                <a:lnTo>
                  <a:pt x="11682" y="16591"/>
                </a:lnTo>
                <a:lnTo>
                  <a:pt x="11070" y="17093"/>
                </a:lnTo>
                <a:lnTo>
                  <a:pt x="8563" y="17393"/>
                </a:lnTo>
                <a:lnTo>
                  <a:pt x="8563" y="18647"/>
                </a:lnTo>
                <a:lnTo>
                  <a:pt x="8196" y="19148"/>
                </a:lnTo>
                <a:lnTo>
                  <a:pt x="7217" y="19148"/>
                </a:lnTo>
                <a:lnTo>
                  <a:pt x="4465" y="19699"/>
                </a:lnTo>
                <a:lnTo>
                  <a:pt x="3119" y="19950"/>
                </a:lnTo>
                <a:lnTo>
                  <a:pt x="0" y="14536"/>
                </a:lnTo>
                <a:lnTo>
                  <a:pt x="8196" y="11880"/>
                </a:lnTo>
                <a:lnTo>
                  <a:pt x="9174" y="7519"/>
                </a:lnTo>
                <a:lnTo>
                  <a:pt x="8196" y="621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33"/>
          <p:cNvSpPr/>
          <p:nvPr/>
        </p:nvSpPr>
        <p:spPr>
          <a:xfrm>
            <a:off x="3013200" y="3086280"/>
            <a:ext cx="339480" cy="384120"/>
          </a:xfrm>
          <a:custGeom>
            <a:avLst/>
            <a:gdLst>
              <a:gd name="textAreaLeft" fmla="*/ 0 w 339480"/>
              <a:gd name="textAreaRight" fmla="*/ 339840 w 339480"/>
              <a:gd name="textAreaTop" fmla="*/ 0 h 384120"/>
              <a:gd name="textAreaBottom" fmla="*/ 384480 h 384120"/>
            </a:gdLst>
            <a:ahLst/>
            <a:rect l="textAreaLeft" t="textAreaTop" r="textAreaRight" b="textAreaBottom"/>
            <a:pathLst>
              <a:path w="20000" h="20000">
                <a:moveTo>
                  <a:pt x="2000" y="1825"/>
                </a:moveTo>
                <a:lnTo>
                  <a:pt x="3154" y="281"/>
                </a:lnTo>
                <a:lnTo>
                  <a:pt x="3538" y="1123"/>
                </a:lnTo>
                <a:lnTo>
                  <a:pt x="5154" y="1825"/>
                </a:lnTo>
                <a:lnTo>
                  <a:pt x="5154" y="1123"/>
                </a:lnTo>
                <a:lnTo>
                  <a:pt x="5615" y="281"/>
                </a:lnTo>
                <a:lnTo>
                  <a:pt x="6385" y="0"/>
                </a:lnTo>
                <a:lnTo>
                  <a:pt x="7154" y="0"/>
                </a:lnTo>
                <a:lnTo>
                  <a:pt x="7538" y="1123"/>
                </a:lnTo>
                <a:lnTo>
                  <a:pt x="8769" y="1123"/>
                </a:lnTo>
                <a:lnTo>
                  <a:pt x="10308" y="281"/>
                </a:lnTo>
                <a:lnTo>
                  <a:pt x="10308" y="1123"/>
                </a:lnTo>
                <a:lnTo>
                  <a:pt x="11538" y="1825"/>
                </a:lnTo>
                <a:lnTo>
                  <a:pt x="12692" y="3579"/>
                </a:lnTo>
                <a:lnTo>
                  <a:pt x="13923" y="3579"/>
                </a:lnTo>
                <a:lnTo>
                  <a:pt x="14769" y="2175"/>
                </a:lnTo>
                <a:lnTo>
                  <a:pt x="16769" y="2175"/>
                </a:lnTo>
                <a:lnTo>
                  <a:pt x="19154" y="4000"/>
                </a:lnTo>
                <a:lnTo>
                  <a:pt x="19154" y="4702"/>
                </a:lnTo>
                <a:lnTo>
                  <a:pt x="19923" y="6877"/>
                </a:lnTo>
                <a:lnTo>
                  <a:pt x="19923" y="8000"/>
                </a:lnTo>
                <a:lnTo>
                  <a:pt x="18692" y="8702"/>
                </a:lnTo>
                <a:lnTo>
                  <a:pt x="18692" y="10456"/>
                </a:lnTo>
                <a:lnTo>
                  <a:pt x="17077" y="12351"/>
                </a:lnTo>
                <a:lnTo>
                  <a:pt x="18692" y="15228"/>
                </a:lnTo>
                <a:lnTo>
                  <a:pt x="19154" y="17053"/>
                </a:lnTo>
                <a:lnTo>
                  <a:pt x="19154" y="18105"/>
                </a:lnTo>
                <a:lnTo>
                  <a:pt x="17923" y="17404"/>
                </a:lnTo>
                <a:lnTo>
                  <a:pt x="17923" y="16351"/>
                </a:lnTo>
                <a:lnTo>
                  <a:pt x="17077" y="17404"/>
                </a:lnTo>
                <a:lnTo>
                  <a:pt x="15538" y="17053"/>
                </a:lnTo>
                <a:lnTo>
                  <a:pt x="13923" y="17404"/>
                </a:lnTo>
                <a:lnTo>
                  <a:pt x="10308" y="17404"/>
                </a:lnTo>
                <a:lnTo>
                  <a:pt x="7154" y="18105"/>
                </a:lnTo>
                <a:lnTo>
                  <a:pt x="3154" y="19930"/>
                </a:lnTo>
                <a:lnTo>
                  <a:pt x="2385" y="17404"/>
                </a:lnTo>
                <a:lnTo>
                  <a:pt x="3154" y="15228"/>
                </a:lnTo>
                <a:lnTo>
                  <a:pt x="2385" y="14456"/>
                </a:lnTo>
                <a:lnTo>
                  <a:pt x="2000" y="14175"/>
                </a:lnTo>
                <a:lnTo>
                  <a:pt x="308" y="14175"/>
                </a:lnTo>
                <a:lnTo>
                  <a:pt x="0" y="12632"/>
                </a:lnTo>
                <a:lnTo>
                  <a:pt x="0" y="12351"/>
                </a:lnTo>
                <a:lnTo>
                  <a:pt x="0" y="11228"/>
                </a:lnTo>
                <a:lnTo>
                  <a:pt x="0" y="9754"/>
                </a:lnTo>
                <a:lnTo>
                  <a:pt x="308" y="9754"/>
                </a:lnTo>
                <a:lnTo>
                  <a:pt x="1231" y="8000"/>
                </a:lnTo>
                <a:lnTo>
                  <a:pt x="308" y="7579"/>
                </a:lnTo>
                <a:lnTo>
                  <a:pt x="1231" y="6877"/>
                </a:lnTo>
                <a:lnTo>
                  <a:pt x="2385" y="6877"/>
                </a:lnTo>
                <a:lnTo>
                  <a:pt x="2000" y="5754"/>
                </a:lnTo>
                <a:lnTo>
                  <a:pt x="2000" y="5053"/>
                </a:lnTo>
                <a:lnTo>
                  <a:pt x="2000" y="4000"/>
                </a:lnTo>
                <a:lnTo>
                  <a:pt x="1231" y="3579"/>
                </a:lnTo>
                <a:lnTo>
                  <a:pt x="1231" y="2175"/>
                </a:lnTo>
                <a:lnTo>
                  <a:pt x="2000" y="1825"/>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37"/>
          <p:cNvSpPr/>
          <p:nvPr/>
        </p:nvSpPr>
        <p:spPr>
          <a:xfrm>
            <a:off x="4149720" y="3514680"/>
            <a:ext cx="430200" cy="534960"/>
          </a:xfrm>
          <a:custGeom>
            <a:avLst/>
            <a:gdLst>
              <a:gd name="textAreaLeft" fmla="*/ 0 w 430200"/>
              <a:gd name="textAreaRight" fmla="*/ 430560 w 430200"/>
              <a:gd name="textAreaTop" fmla="*/ 0 h 534960"/>
              <a:gd name="textAreaBottom" fmla="*/ 535320 h 534960"/>
            </a:gdLst>
            <a:ahLst/>
            <a:rect l="textAreaLeft" t="textAreaTop" r="textAreaRight" b="textAreaBottom"/>
            <a:pathLst>
              <a:path w="20000" h="20000">
                <a:moveTo>
                  <a:pt x="13434" y="3139"/>
                </a:moveTo>
                <a:lnTo>
                  <a:pt x="14699" y="1823"/>
                </a:lnTo>
                <a:lnTo>
                  <a:pt x="14940" y="0"/>
                </a:lnTo>
                <a:lnTo>
                  <a:pt x="17169" y="0"/>
                </a:lnTo>
                <a:lnTo>
                  <a:pt x="18735" y="0"/>
                </a:lnTo>
                <a:lnTo>
                  <a:pt x="19940" y="0"/>
                </a:lnTo>
                <a:lnTo>
                  <a:pt x="19940" y="1316"/>
                </a:lnTo>
                <a:lnTo>
                  <a:pt x="19639" y="2076"/>
                </a:lnTo>
                <a:lnTo>
                  <a:pt x="18735" y="3949"/>
                </a:lnTo>
                <a:lnTo>
                  <a:pt x="18735" y="5266"/>
                </a:lnTo>
                <a:lnTo>
                  <a:pt x="18133" y="6278"/>
                </a:lnTo>
                <a:lnTo>
                  <a:pt x="18133" y="7646"/>
                </a:lnTo>
                <a:lnTo>
                  <a:pt x="18133" y="8658"/>
                </a:lnTo>
                <a:lnTo>
                  <a:pt x="18133" y="9418"/>
                </a:lnTo>
                <a:lnTo>
                  <a:pt x="16506" y="10734"/>
                </a:lnTo>
                <a:lnTo>
                  <a:pt x="15542" y="10734"/>
                </a:lnTo>
                <a:lnTo>
                  <a:pt x="14940" y="11797"/>
                </a:lnTo>
                <a:lnTo>
                  <a:pt x="14699" y="12304"/>
                </a:lnTo>
                <a:lnTo>
                  <a:pt x="13434" y="13114"/>
                </a:lnTo>
                <a:lnTo>
                  <a:pt x="13434" y="14430"/>
                </a:lnTo>
                <a:lnTo>
                  <a:pt x="13434" y="15696"/>
                </a:lnTo>
                <a:lnTo>
                  <a:pt x="13072" y="17063"/>
                </a:lnTo>
                <a:lnTo>
                  <a:pt x="12169" y="17873"/>
                </a:lnTo>
                <a:lnTo>
                  <a:pt x="10964" y="18380"/>
                </a:lnTo>
                <a:lnTo>
                  <a:pt x="10602" y="18633"/>
                </a:lnTo>
                <a:lnTo>
                  <a:pt x="9639" y="19646"/>
                </a:lnTo>
                <a:lnTo>
                  <a:pt x="9036" y="18633"/>
                </a:lnTo>
                <a:lnTo>
                  <a:pt x="8434" y="18380"/>
                </a:lnTo>
                <a:lnTo>
                  <a:pt x="7530" y="18380"/>
                </a:lnTo>
                <a:lnTo>
                  <a:pt x="6867" y="19139"/>
                </a:lnTo>
                <a:lnTo>
                  <a:pt x="5904" y="19139"/>
                </a:lnTo>
                <a:lnTo>
                  <a:pt x="5663" y="18633"/>
                </a:lnTo>
                <a:lnTo>
                  <a:pt x="5060" y="18633"/>
                </a:lnTo>
                <a:lnTo>
                  <a:pt x="4337" y="18380"/>
                </a:lnTo>
                <a:lnTo>
                  <a:pt x="3434" y="18633"/>
                </a:lnTo>
                <a:lnTo>
                  <a:pt x="3434" y="19139"/>
                </a:lnTo>
                <a:lnTo>
                  <a:pt x="2470" y="19949"/>
                </a:lnTo>
                <a:lnTo>
                  <a:pt x="1867" y="19139"/>
                </a:lnTo>
                <a:lnTo>
                  <a:pt x="0" y="17063"/>
                </a:lnTo>
                <a:lnTo>
                  <a:pt x="964" y="16506"/>
                </a:lnTo>
                <a:lnTo>
                  <a:pt x="1566" y="16253"/>
                </a:lnTo>
                <a:lnTo>
                  <a:pt x="1867" y="16506"/>
                </a:lnTo>
                <a:lnTo>
                  <a:pt x="2470" y="16506"/>
                </a:lnTo>
                <a:lnTo>
                  <a:pt x="2470" y="14987"/>
                </a:lnTo>
                <a:lnTo>
                  <a:pt x="1566" y="14430"/>
                </a:lnTo>
                <a:lnTo>
                  <a:pt x="1867" y="13114"/>
                </a:lnTo>
                <a:lnTo>
                  <a:pt x="2470" y="13620"/>
                </a:lnTo>
                <a:lnTo>
                  <a:pt x="3434" y="13620"/>
                </a:lnTo>
                <a:lnTo>
                  <a:pt x="4096" y="12304"/>
                </a:lnTo>
                <a:lnTo>
                  <a:pt x="5904" y="13620"/>
                </a:lnTo>
                <a:lnTo>
                  <a:pt x="7530" y="13114"/>
                </a:lnTo>
                <a:lnTo>
                  <a:pt x="8133" y="14177"/>
                </a:lnTo>
                <a:lnTo>
                  <a:pt x="8434" y="14177"/>
                </a:lnTo>
                <a:lnTo>
                  <a:pt x="8434" y="13114"/>
                </a:lnTo>
                <a:lnTo>
                  <a:pt x="9036" y="12304"/>
                </a:lnTo>
                <a:lnTo>
                  <a:pt x="9639" y="11544"/>
                </a:lnTo>
                <a:lnTo>
                  <a:pt x="9639" y="9418"/>
                </a:lnTo>
                <a:lnTo>
                  <a:pt x="8133" y="8658"/>
                </a:lnTo>
                <a:lnTo>
                  <a:pt x="8133" y="7342"/>
                </a:lnTo>
                <a:lnTo>
                  <a:pt x="8434" y="6835"/>
                </a:lnTo>
                <a:lnTo>
                  <a:pt x="9036" y="6278"/>
                </a:lnTo>
                <a:lnTo>
                  <a:pt x="8434" y="5468"/>
                </a:lnTo>
                <a:lnTo>
                  <a:pt x="8133" y="5266"/>
                </a:lnTo>
                <a:lnTo>
                  <a:pt x="6867" y="5266"/>
                </a:lnTo>
                <a:lnTo>
                  <a:pt x="5904" y="5468"/>
                </a:lnTo>
                <a:lnTo>
                  <a:pt x="5904" y="3949"/>
                </a:lnTo>
                <a:lnTo>
                  <a:pt x="6566" y="3139"/>
                </a:lnTo>
                <a:lnTo>
                  <a:pt x="5904" y="3139"/>
                </a:lnTo>
                <a:lnTo>
                  <a:pt x="10000" y="2582"/>
                </a:lnTo>
                <a:lnTo>
                  <a:pt x="13434" y="3139"/>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42"/>
          <p:cNvSpPr/>
          <p:nvPr/>
        </p:nvSpPr>
        <p:spPr>
          <a:xfrm>
            <a:off x="3670200" y="2889360"/>
            <a:ext cx="687600" cy="590400"/>
          </a:xfrm>
          <a:custGeom>
            <a:avLst/>
            <a:gdLst>
              <a:gd name="textAreaLeft" fmla="*/ 0 w 687600"/>
              <a:gd name="textAreaRight" fmla="*/ 687960 w 687600"/>
              <a:gd name="textAreaTop" fmla="*/ 0 h 590400"/>
              <a:gd name="textAreaBottom" fmla="*/ 590760 h 590400"/>
            </a:gdLst>
            <a:ahLst/>
            <a:rect l="textAreaLeft" t="textAreaTop" r="textAreaRight" b="textAreaBottom"/>
            <a:pathLst>
              <a:path w="20000" h="20000">
                <a:moveTo>
                  <a:pt x="18034" y="0"/>
                </a:moveTo>
                <a:lnTo>
                  <a:pt x="18601" y="1193"/>
                </a:lnTo>
                <a:lnTo>
                  <a:pt x="18979" y="1651"/>
                </a:lnTo>
                <a:lnTo>
                  <a:pt x="18979" y="3073"/>
                </a:lnTo>
                <a:lnTo>
                  <a:pt x="19584" y="3532"/>
                </a:lnTo>
                <a:lnTo>
                  <a:pt x="19962" y="4771"/>
                </a:lnTo>
                <a:lnTo>
                  <a:pt x="19206" y="5917"/>
                </a:lnTo>
                <a:lnTo>
                  <a:pt x="18601" y="5459"/>
                </a:lnTo>
                <a:lnTo>
                  <a:pt x="18034" y="6651"/>
                </a:lnTo>
                <a:lnTo>
                  <a:pt x="18034" y="7385"/>
                </a:lnTo>
                <a:lnTo>
                  <a:pt x="17429" y="8073"/>
                </a:lnTo>
                <a:lnTo>
                  <a:pt x="17618" y="8991"/>
                </a:lnTo>
                <a:lnTo>
                  <a:pt x="16635" y="9266"/>
                </a:lnTo>
                <a:lnTo>
                  <a:pt x="16635" y="10413"/>
                </a:lnTo>
                <a:lnTo>
                  <a:pt x="16030" y="11147"/>
                </a:lnTo>
                <a:lnTo>
                  <a:pt x="15085" y="13486"/>
                </a:lnTo>
                <a:lnTo>
                  <a:pt x="15463" y="14220"/>
                </a:lnTo>
                <a:lnTo>
                  <a:pt x="15085" y="14220"/>
                </a:lnTo>
                <a:lnTo>
                  <a:pt x="14480" y="14954"/>
                </a:lnTo>
                <a:lnTo>
                  <a:pt x="13913" y="14954"/>
                </a:lnTo>
                <a:lnTo>
                  <a:pt x="13913" y="14725"/>
                </a:lnTo>
                <a:lnTo>
                  <a:pt x="13308" y="14037"/>
                </a:lnTo>
                <a:lnTo>
                  <a:pt x="12930" y="14220"/>
                </a:lnTo>
                <a:lnTo>
                  <a:pt x="12325" y="14220"/>
                </a:lnTo>
                <a:lnTo>
                  <a:pt x="11380" y="14954"/>
                </a:lnTo>
                <a:lnTo>
                  <a:pt x="10397" y="16101"/>
                </a:lnTo>
                <a:lnTo>
                  <a:pt x="9981" y="17798"/>
                </a:lnTo>
                <a:lnTo>
                  <a:pt x="9376" y="19220"/>
                </a:lnTo>
                <a:lnTo>
                  <a:pt x="9225" y="18991"/>
                </a:lnTo>
                <a:lnTo>
                  <a:pt x="9225" y="19220"/>
                </a:lnTo>
                <a:lnTo>
                  <a:pt x="7826" y="19679"/>
                </a:lnTo>
                <a:lnTo>
                  <a:pt x="6881" y="19220"/>
                </a:lnTo>
                <a:lnTo>
                  <a:pt x="6881" y="19679"/>
                </a:lnTo>
                <a:lnTo>
                  <a:pt x="5671" y="19954"/>
                </a:lnTo>
                <a:lnTo>
                  <a:pt x="5104" y="19679"/>
                </a:lnTo>
                <a:lnTo>
                  <a:pt x="4121" y="18073"/>
                </a:lnTo>
                <a:lnTo>
                  <a:pt x="4348" y="17798"/>
                </a:lnTo>
                <a:lnTo>
                  <a:pt x="4348" y="17339"/>
                </a:lnTo>
                <a:lnTo>
                  <a:pt x="3743" y="17339"/>
                </a:lnTo>
                <a:lnTo>
                  <a:pt x="3554" y="16101"/>
                </a:lnTo>
                <a:lnTo>
                  <a:pt x="2155" y="15459"/>
                </a:lnTo>
                <a:lnTo>
                  <a:pt x="227" y="15459"/>
                </a:lnTo>
                <a:lnTo>
                  <a:pt x="0" y="13486"/>
                </a:lnTo>
                <a:lnTo>
                  <a:pt x="0" y="11147"/>
                </a:lnTo>
                <a:lnTo>
                  <a:pt x="0" y="9954"/>
                </a:lnTo>
                <a:lnTo>
                  <a:pt x="605" y="9725"/>
                </a:lnTo>
                <a:lnTo>
                  <a:pt x="1021" y="8532"/>
                </a:lnTo>
                <a:lnTo>
                  <a:pt x="1172" y="8073"/>
                </a:lnTo>
                <a:lnTo>
                  <a:pt x="1172" y="7385"/>
                </a:lnTo>
                <a:lnTo>
                  <a:pt x="1550" y="6651"/>
                </a:lnTo>
                <a:lnTo>
                  <a:pt x="1172" y="4954"/>
                </a:lnTo>
                <a:lnTo>
                  <a:pt x="1172" y="4771"/>
                </a:lnTo>
                <a:lnTo>
                  <a:pt x="1172" y="2844"/>
                </a:lnTo>
                <a:lnTo>
                  <a:pt x="2155" y="1881"/>
                </a:lnTo>
                <a:lnTo>
                  <a:pt x="2571" y="917"/>
                </a:lnTo>
                <a:lnTo>
                  <a:pt x="3176" y="459"/>
                </a:lnTo>
                <a:lnTo>
                  <a:pt x="4348" y="459"/>
                </a:lnTo>
                <a:lnTo>
                  <a:pt x="4348" y="0"/>
                </a:lnTo>
                <a:lnTo>
                  <a:pt x="5293" y="459"/>
                </a:lnTo>
                <a:lnTo>
                  <a:pt x="6276" y="917"/>
                </a:lnTo>
                <a:lnTo>
                  <a:pt x="6881" y="1651"/>
                </a:lnTo>
                <a:lnTo>
                  <a:pt x="8809" y="1193"/>
                </a:lnTo>
                <a:lnTo>
                  <a:pt x="10775" y="2339"/>
                </a:lnTo>
                <a:lnTo>
                  <a:pt x="11758" y="1881"/>
                </a:lnTo>
                <a:lnTo>
                  <a:pt x="12325" y="1651"/>
                </a:lnTo>
                <a:lnTo>
                  <a:pt x="12930" y="1193"/>
                </a:lnTo>
                <a:lnTo>
                  <a:pt x="13497" y="917"/>
                </a:lnTo>
                <a:lnTo>
                  <a:pt x="16446" y="1651"/>
                </a:lnTo>
                <a:lnTo>
                  <a:pt x="17051" y="1193"/>
                </a:lnTo>
                <a:lnTo>
                  <a:pt x="17618" y="917"/>
                </a:lnTo>
                <a:lnTo>
                  <a:pt x="18034"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47"/>
          <p:cNvSpPr/>
          <p:nvPr/>
        </p:nvSpPr>
        <p:spPr>
          <a:xfrm>
            <a:off x="4433760" y="5108400"/>
            <a:ext cx="938520" cy="827280"/>
          </a:xfrm>
          <a:custGeom>
            <a:avLst/>
            <a:gdLst>
              <a:gd name="textAreaLeft" fmla="*/ 0 w 938520"/>
              <a:gd name="textAreaRight" fmla="*/ 938520 w 938520"/>
              <a:gd name="textAreaTop" fmla="*/ 0 h 827280"/>
              <a:gd name="textAreaBottom" fmla="*/ 827640 h 827280"/>
            </a:gdLst>
            <a:ahLst/>
            <a:rect l="textAreaLeft" t="textAreaTop" r="textAreaRight" b="textAreaBottom"/>
            <a:pathLst>
              <a:path w="20000" h="20000">
                <a:moveTo>
                  <a:pt x="15506" y="0"/>
                </a:moveTo>
                <a:lnTo>
                  <a:pt x="15090" y="523"/>
                </a:lnTo>
                <a:lnTo>
                  <a:pt x="14646" y="523"/>
                </a:lnTo>
                <a:lnTo>
                  <a:pt x="13953" y="1373"/>
                </a:lnTo>
                <a:lnTo>
                  <a:pt x="13675" y="1373"/>
                </a:lnTo>
                <a:lnTo>
                  <a:pt x="13509" y="1699"/>
                </a:lnTo>
                <a:lnTo>
                  <a:pt x="13232" y="1863"/>
                </a:lnTo>
                <a:lnTo>
                  <a:pt x="12788" y="2549"/>
                </a:lnTo>
                <a:lnTo>
                  <a:pt x="12788" y="3235"/>
                </a:lnTo>
                <a:lnTo>
                  <a:pt x="12372" y="3562"/>
                </a:lnTo>
                <a:lnTo>
                  <a:pt x="11650" y="3889"/>
                </a:lnTo>
                <a:lnTo>
                  <a:pt x="11068" y="5261"/>
                </a:lnTo>
                <a:lnTo>
                  <a:pt x="10485" y="5261"/>
                </a:lnTo>
                <a:lnTo>
                  <a:pt x="9764" y="5261"/>
                </a:lnTo>
                <a:lnTo>
                  <a:pt x="9071" y="5261"/>
                </a:lnTo>
                <a:lnTo>
                  <a:pt x="8350" y="4739"/>
                </a:lnTo>
                <a:lnTo>
                  <a:pt x="7628" y="4739"/>
                </a:lnTo>
                <a:lnTo>
                  <a:pt x="7628" y="5752"/>
                </a:lnTo>
                <a:lnTo>
                  <a:pt x="6907" y="6601"/>
                </a:lnTo>
                <a:lnTo>
                  <a:pt x="6463" y="6601"/>
                </a:lnTo>
                <a:lnTo>
                  <a:pt x="6463" y="6765"/>
                </a:lnTo>
                <a:lnTo>
                  <a:pt x="5742" y="6765"/>
                </a:lnTo>
                <a:lnTo>
                  <a:pt x="5049" y="7092"/>
                </a:lnTo>
                <a:lnTo>
                  <a:pt x="5049" y="6275"/>
                </a:lnTo>
                <a:lnTo>
                  <a:pt x="5326" y="5752"/>
                </a:lnTo>
                <a:lnTo>
                  <a:pt x="5049" y="5261"/>
                </a:lnTo>
                <a:lnTo>
                  <a:pt x="4882" y="4412"/>
                </a:lnTo>
                <a:lnTo>
                  <a:pt x="4438" y="3889"/>
                </a:lnTo>
                <a:lnTo>
                  <a:pt x="4161" y="9641"/>
                </a:lnTo>
                <a:lnTo>
                  <a:pt x="3745" y="9641"/>
                </a:lnTo>
                <a:lnTo>
                  <a:pt x="3162" y="10163"/>
                </a:lnTo>
                <a:lnTo>
                  <a:pt x="3024" y="10359"/>
                </a:lnTo>
                <a:lnTo>
                  <a:pt x="2607" y="10163"/>
                </a:lnTo>
                <a:lnTo>
                  <a:pt x="1997" y="10163"/>
                </a:lnTo>
                <a:lnTo>
                  <a:pt x="1581" y="10163"/>
                </a:lnTo>
                <a:lnTo>
                  <a:pt x="860" y="9837"/>
                </a:lnTo>
                <a:lnTo>
                  <a:pt x="860" y="8954"/>
                </a:lnTo>
                <a:lnTo>
                  <a:pt x="749" y="8954"/>
                </a:lnTo>
                <a:lnTo>
                  <a:pt x="444" y="8954"/>
                </a:lnTo>
                <a:lnTo>
                  <a:pt x="166" y="9641"/>
                </a:lnTo>
                <a:lnTo>
                  <a:pt x="0" y="9837"/>
                </a:lnTo>
                <a:lnTo>
                  <a:pt x="166" y="10686"/>
                </a:lnTo>
                <a:lnTo>
                  <a:pt x="860" y="12516"/>
                </a:lnTo>
                <a:lnTo>
                  <a:pt x="1886" y="14706"/>
                </a:lnTo>
                <a:lnTo>
                  <a:pt x="1997" y="15556"/>
                </a:lnTo>
                <a:lnTo>
                  <a:pt x="1886" y="16438"/>
                </a:lnTo>
                <a:lnTo>
                  <a:pt x="1442" y="16438"/>
                </a:lnTo>
                <a:lnTo>
                  <a:pt x="1442" y="16765"/>
                </a:lnTo>
                <a:lnTo>
                  <a:pt x="1997" y="18105"/>
                </a:lnTo>
                <a:lnTo>
                  <a:pt x="1886" y="18954"/>
                </a:lnTo>
                <a:lnTo>
                  <a:pt x="1997" y="18954"/>
                </a:lnTo>
                <a:lnTo>
                  <a:pt x="1997" y="18627"/>
                </a:lnTo>
                <a:lnTo>
                  <a:pt x="2607" y="18627"/>
                </a:lnTo>
                <a:lnTo>
                  <a:pt x="2607" y="19118"/>
                </a:lnTo>
                <a:lnTo>
                  <a:pt x="2746" y="19118"/>
                </a:lnTo>
                <a:lnTo>
                  <a:pt x="3162" y="19641"/>
                </a:lnTo>
                <a:lnTo>
                  <a:pt x="3883" y="19967"/>
                </a:lnTo>
                <a:lnTo>
                  <a:pt x="4161" y="19444"/>
                </a:lnTo>
                <a:lnTo>
                  <a:pt x="4438" y="19118"/>
                </a:lnTo>
                <a:lnTo>
                  <a:pt x="5603" y="19118"/>
                </a:lnTo>
                <a:lnTo>
                  <a:pt x="6463" y="18954"/>
                </a:lnTo>
                <a:lnTo>
                  <a:pt x="6463" y="18627"/>
                </a:lnTo>
                <a:lnTo>
                  <a:pt x="7628" y="18627"/>
                </a:lnTo>
                <a:lnTo>
                  <a:pt x="8350" y="18627"/>
                </a:lnTo>
                <a:lnTo>
                  <a:pt x="9764" y="18954"/>
                </a:lnTo>
                <a:lnTo>
                  <a:pt x="9931" y="18627"/>
                </a:lnTo>
                <a:lnTo>
                  <a:pt x="10624" y="18627"/>
                </a:lnTo>
                <a:lnTo>
                  <a:pt x="10902" y="18301"/>
                </a:lnTo>
                <a:lnTo>
                  <a:pt x="11789" y="18301"/>
                </a:lnTo>
                <a:lnTo>
                  <a:pt x="14092" y="16438"/>
                </a:lnTo>
                <a:lnTo>
                  <a:pt x="15368" y="15098"/>
                </a:lnTo>
                <a:lnTo>
                  <a:pt x="16533" y="13889"/>
                </a:lnTo>
                <a:lnTo>
                  <a:pt x="16533" y="13366"/>
                </a:lnTo>
                <a:lnTo>
                  <a:pt x="17365" y="12353"/>
                </a:lnTo>
                <a:lnTo>
                  <a:pt x="17365" y="11830"/>
                </a:lnTo>
                <a:lnTo>
                  <a:pt x="18974" y="10163"/>
                </a:lnTo>
                <a:lnTo>
                  <a:pt x="19528" y="8824"/>
                </a:lnTo>
                <a:lnTo>
                  <a:pt x="19972" y="7484"/>
                </a:lnTo>
                <a:lnTo>
                  <a:pt x="19528" y="7484"/>
                </a:lnTo>
                <a:lnTo>
                  <a:pt x="18974" y="7092"/>
                </a:lnTo>
                <a:lnTo>
                  <a:pt x="18974" y="7614"/>
                </a:lnTo>
                <a:lnTo>
                  <a:pt x="18114" y="7614"/>
                </a:lnTo>
                <a:lnTo>
                  <a:pt x="17365" y="6601"/>
                </a:lnTo>
                <a:lnTo>
                  <a:pt x="18114" y="5752"/>
                </a:lnTo>
                <a:lnTo>
                  <a:pt x="18974" y="5752"/>
                </a:lnTo>
                <a:lnTo>
                  <a:pt x="18974" y="5425"/>
                </a:lnTo>
                <a:lnTo>
                  <a:pt x="18974" y="4412"/>
                </a:lnTo>
                <a:lnTo>
                  <a:pt x="18974" y="3235"/>
                </a:lnTo>
                <a:lnTo>
                  <a:pt x="18558" y="1863"/>
                </a:lnTo>
                <a:lnTo>
                  <a:pt x="18835" y="1373"/>
                </a:lnTo>
                <a:lnTo>
                  <a:pt x="18558" y="1209"/>
                </a:lnTo>
                <a:lnTo>
                  <a:pt x="18391" y="359"/>
                </a:lnTo>
                <a:lnTo>
                  <a:pt x="18114" y="0"/>
                </a:lnTo>
                <a:lnTo>
                  <a:pt x="17365" y="359"/>
                </a:lnTo>
                <a:lnTo>
                  <a:pt x="16671" y="0"/>
                </a:lnTo>
                <a:lnTo>
                  <a:pt x="15950" y="0"/>
                </a:lnTo>
                <a:lnTo>
                  <a:pt x="15506" y="0"/>
                </a:lnTo>
                <a:close/>
              </a:path>
            </a:pathLst>
          </a:custGeom>
          <a:solidFill>
            <a:srgbClr val="0066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48"/>
          <p:cNvSpPr/>
          <p:nvPr/>
        </p:nvSpPr>
        <p:spPr>
          <a:xfrm>
            <a:off x="4721400" y="2386080"/>
            <a:ext cx="1009440" cy="1143000"/>
          </a:xfrm>
          <a:custGeom>
            <a:avLst/>
            <a:gdLst>
              <a:gd name="textAreaLeft" fmla="*/ 0 w 1009440"/>
              <a:gd name="textAreaRight" fmla="*/ 1009800 w 1009440"/>
              <a:gd name="textAreaTop" fmla="*/ 0 h 1143000"/>
              <a:gd name="textAreaBottom" fmla="*/ 1143360 h 1143000"/>
            </a:gdLst>
            <a:ahLst/>
            <a:rect l="textAreaLeft" t="textAreaTop" r="textAreaRight" b="textAreaBottom"/>
            <a:pathLst>
              <a:path w="20000" h="20000">
                <a:moveTo>
                  <a:pt x="3416" y="0"/>
                </a:moveTo>
                <a:lnTo>
                  <a:pt x="17410" y="95"/>
                </a:lnTo>
                <a:lnTo>
                  <a:pt x="17686" y="711"/>
                </a:lnTo>
                <a:lnTo>
                  <a:pt x="18127" y="1090"/>
                </a:lnTo>
                <a:lnTo>
                  <a:pt x="17961" y="1090"/>
                </a:lnTo>
                <a:lnTo>
                  <a:pt x="18567" y="3531"/>
                </a:lnTo>
                <a:lnTo>
                  <a:pt x="19118" y="3910"/>
                </a:lnTo>
                <a:lnTo>
                  <a:pt x="19835" y="4289"/>
                </a:lnTo>
                <a:lnTo>
                  <a:pt x="19972" y="4526"/>
                </a:lnTo>
                <a:lnTo>
                  <a:pt x="19835" y="5142"/>
                </a:lnTo>
                <a:lnTo>
                  <a:pt x="19256" y="4882"/>
                </a:lnTo>
                <a:lnTo>
                  <a:pt x="18843" y="5261"/>
                </a:lnTo>
                <a:lnTo>
                  <a:pt x="18843" y="5498"/>
                </a:lnTo>
                <a:lnTo>
                  <a:pt x="18402" y="5498"/>
                </a:lnTo>
                <a:lnTo>
                  <a:pt x="18127" y="6137"/>
                </a:lnTo>
                <a:lnTo>
                  <a:pt x="18127" y="6730"/>
                </a:lnTo>
                <a:lnTo>
                  <a:pt x="17686" y="8081"/>
                </a:lnTo>
                <a:lnTo>
                  <a:pt x="17410" y="9431"/>
                </a:lnTo>
                <a:lnTo>
                  <a:pt x="17273" y="10047"/>
                </a:lnTo>
                <a:lnTo>
                  <a:pt x="16832" y="10308"/>
                </a:lnTo>
                <a:lnTo>
                  <a:pt x="16253" y="11019"/>
                </a:lnTo>
                <a:lnTo>
                  <a:pt x="16116" y="12014"/>
                </a:lnTo>
                <a:lnTo>
                  <a:pt x="15840" y="12251"/>
                </a:lnTo>
                <a:lnTo>
                  <a:pt x="15427" y="12251"/>
                </a:lnTo>
                <a:lnTo>
                  <a:pt x="15124" y="12630"/>
                </a:lnTo>
                <a:lnTo>
                  <a:pt x="15124" y="13009"/>
                </a:lnTo>
                <a:lnTo>
                  <a:pt x="14986" y="13483"/>
                </a:lnTo>
                <a:lnTo>
                  <a:pt x="14986" y="14573"/>
                </a:lnTo>
                <a:lnTo>
                  <a:pt x="14408" y="14810"/>
                </a:lnTo>
                <a:lnTo>
                  <a:pt x="13554" y="14810"/>
                </a:lnTo>
                <a:lnTo>
                  <a:pt x="13554" y="15427"/>
                </a:lnTo>
                <a:lnTo>
                  <a:pt x="14408" y="15806"/>
                </a:lnTo>
                <a:lnTo>
                  <a:pt x="15124" y="16422"/>
                </a:lnTo>
                <a:lnTo>
                  <a:pt x="16116" y="17038"/>
                </a:lnTo>
                <a:lnTo>
                  <a:pt x="16253" y="17512"/>
                </a:lnTo>
                <a:lnTo>
                  <a:pt x="16556" y="18009"/>
                </a:lnTo>
                <a:lnTo>
                  <a:pt x="16997" y="18009"/>
                </a:lnTo>
                <a:lnTo>
                  <a:pt x="16997" y="18768"/>
                </a:lnTo>
                <a:lnTo>
                  <a:pt x="16832" y="18768"/>
                </a:lnTo>
                <a:lnTo>
                  <a:pt x="16556" y="18389"/>
                </a:lnTo>
                <a:lnTo>
                  <a:pt x="15840" y="18768"/>
                </a:lnTo>
                <a:lnTo>
                  <a:pt x="15124" y="19005"/>
                </a:lnTo>
                <a:lnTo>
                  <a:pt x="14986" y="19360"/>
                </a:lnTo>
                <a:lnTo>
                  <a:pt x="14242" y="19739"/>
                </a:lnTo>
                <a:lnTo>
                  <a:pt x="13278" y="19739"/>
                </a:lnTo>
                <a:lnTo>
                  <a:pt x="12562" y="19739"/>
                </a:lnTo>
                <a:lnTo>
                  <a:pt x="12424" y="19976"/>
                </a:lnTo>
                <a:lnTo>
                  <a:pt x="11983" y="19739"/>
                </a:lnTo>
                <a:lnTo>
                  <a:pt x="10992" y="19597"/>
                </a:lnTo>
                <a:lnTo>
                  <a:pt x="10854" y="19739"/>
                </a:lnTo>
                <a:lnTo>
                  <a:pt x="9835" y="19123"/>
                </a:lnTo>
                <a:lnTo>
                  <a:pt x="9394" y="18768"/>
                </a:lnTo>
                <a:lnTo>
                  <a:pt x="9118" y="18768"/>
                </a:lnTo>
                <a:lnTo>
                  <a:pt x="9118" y="19005"/>
                </a:lnTo>
                <a:lnTo>
                  <a:pt x="8430" y="19005"/>
                </a:lnTo>
                <a:lnTo>
                  <a:pt x="8430" y="18768"/>
                </a:lnTo>
                <a:lnTo>
                  <a:pt x="8264" y="19005"/>
                </a:lnTo>
                <a:lnTo>
                  <a:pt x="7989" y="19123"/>
                </a:lnTo>
                <a:lnTo>
                  <a:pt x="7548" y="19005"/>
                </a:lnTo>
                <a:lnTo>
                  <a:pt x="7135" y="18768"/>
                </a:lnTo>
                <a:lnTo>
                  <a:pt x="7135" y="18389"/>
                </a:lnTo>
                <a:lnTo>
                  <a:pt x="6584" y="18152"/>
                </a:lnTo>
                <a:lnTo>
                  <a:pt x="6419" y="17512"/>
                </a:lnTo>
                <a:lnTo>
                  <a:pt x="5702" y="17156"/>
                </a:lnTo>
                <a:lnTo>
                  <a:pt x="5399" y="16540"/>
                </a:lnTo>
                <a:lnTo>
                  <a:pt x="5289" y="16422"/>
                </a:lnTo>
                <a:lnTo>
                  <a:pt x="4986" y="16422"/>
                </a:lnTo>
                <a:lnTo>
                  <a:pt x="4848" y="16066"/>
                </a:lnTo>
                <a:lnTo>
                  <a:pt x="4160" y="16066"/>
                </a:lnTo>
                <a:lnTo>
                  <a:pt x="3829" y="15190"/>
                </a:lnTo>
                <a:lnTo>
                  <a:pt x="3416" y="14810"/>
                </a:lnTo>
                <a:lnTo>
                  <a:pt x="2700" y="14810"/>
                </a:lnTo>
                <a:lnTo>
                  <a:pt x="2700" y="14455"/>
                </a:lnTo>
                <a:lnTo>
                  <a:pt x="1983" y="14455"/>
                </a:lnTo>
                <a:lnTo>
                  <a:pt x="1846" y="14218"/>
                </a:lnTo>
                <a:lnTo>
                  <a:pt x="1846" y="13981"/>
                </a:lnTo>
                <a:lnTo>
                  <a:pt x="1570" y="13839"/>
                </a:lnTo>
                <a:lnTo>
                  <a:pt x="1983" y="13602"/>
                </a:lnTo>
                <a:lnTo>
                  <a:pt x="1846" y="13009"/>
                </a:lnTo>
                <a:lnTo>
                  <a:pt x="1129" y="12251"/>
                </a:lnTo>
                <a:lnTo>
                  <a:pt x="854" y="12014"/>
                </a:lnTo>
                <a:lnTo>
                  <a:pt x="1129" y="11659"/>
                </a:lnTo>
                <a:lnTo>
                  <a:pt x="551" y="11398"/>
                </a:lnTo>
                <a:lnTo>
                  <a:pt x="551" y="10900"/>
                </a:lnTo>
                <a:lnTo>
                  <a:pt x="441" y="10403"/>
                </a:lnTo>
                <a:lnTo>
                  <a:pt x="441" y="10308"/>
                </a:lnTo>
                <a:lnTo>
                  <a:pt x="165" y="10047"/>
                </a:lnTo>
                <a:lnTo>
                  <a:pt x="0" y="10308"/>
                </a:lnTo>
                <a:lnTo>
                  <a:pt x="0" y="9810"/>
                </a:lnTo>
                <a:lnTo>
                  <a:pt x="441" y="9431"/>
                </a:lnTo>
                <a:lnTo>
                  <a:pt x="165" y="8815"/>
                </a:lnTo>
                <a:lnTo>
                  <a:pt x="551" y="8460"/>
                </a:lnTo>
                <a:lnTo>
                  <a:pt x="441" y="8081"/>
                </a:lnTo>
                <a:lnTo>
                  <a:pt x="551" y="7844"/>
                </a:lnTo>
                <a:lnTo>
                  <a:pt x="1129" y="7204"/>
                </a:lnTo>
                <a:lnTo>
                  <a:pt x="854" y="7109"/>
                </a:lnTo>
                <a:lnTo>
                  <a:pt x="1295" y="6872"/>
                </a:lnTo>
                <a:lnTo>
                  <a:pt x="2287" y="6730"/>
                </a:lnTo>
                <a:lnTo>
                  <a:pt x="2287" y="2701"/>
                </a:lnTo>
                <a:lnTo>
                  <a:pt x="2287" y="2322"/>
                </a:lnTo>
                <a:lnTo>
                  <a:pt x="3416" y="2322"/>
                </a:lnTo>
                <a:lnTo>
                  <a:pt x="3416"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50"/>
          <p:cNvSpPr/>
          <p:nvPr/>
        </p:nvSpPr>
        <p:spPr>
          <a:xfrm>
            <a:off x="4218120" y="3413160"/>
            <a:ext cx="1108080" cy="1143000"/>
          </a:xfrm>
          <a:custGeom>
            <a:avLst/>
            <a:gdLst>
              <a:gd name="textAreaLeft" fmla="*/ 0 w 1108080"/>
              <a:gd name="textAreaRight" fmla="*/ 1108440 w 1108080"/>
              <a:gd name="textAreaTop" fmla="*/ 0 h 1143000"/>
              <a:gd name="textAreaBottom" fmla="*/ 1143360 h 1143000"/>
            </a:gdLst>
            <a:ahLst/>
            <a:rect l="textAreaLeft" t="textAreaTop" r="textAreaRight" b="textAreaBottom"/>
            <a:pathLst>
              <a:path w="20000" h="20000">
                <a:moveTo>
                  <a:pt x="6565" y="1704"/>
                </a:moveTo>
                <a:lnTo>
                  <a:pt x="6565" y="1112"/>
                </a:lnTo>
                <a:lnTo>
                  <a:pt x="6565" y="970"/>
                </a:lnTo>
                <a:lnTo>
                  <a:pt x="7059" y="615"/>
                </a:lnTo>
                <a:lnTo>
                  <a:pt x="7647" y="142"/>
                </a:lnTo>
                <a:lnTo>
                  <a:pt x="8376" y="734"/>
                </a:lnTo>
                <a:lnTo>
                  <a:pt x="8988" y="970"/>
                </a:lnTo>
                <a:lnTo>
                  <a:pt x="9624" y="1112"/>
                </a:lnTo>
                <a:lnTo>
                  <a:pt x="10212" y="1112"/>
                </a:lnTo>
                <a:lnTo>
                  <a:pt x="10588" y="1349"/>
                </a:lnTo>
                <a:lnTo>
                  <a:pt x="10965" y="734"/>
                </a:lnTo>
                <a:lnTo>
                  <a:pt x="11200" y="734"/>
                </a:lnTo>
                <a:lnTo>
                  <a:pt x="11788" y="734"/>
                </a:lnTo>
                <a:lnTo>
                  <a:pt x="12165" y="615"/>
                </a:lnTo>
                <a:lnTo>
                  <a:pt x="12776" y="379"/>
                </a:lnTo>
                <a:lnTo>
                  <a:pt x="13129" y="379"/>
                </a:lnTo>
                <a:lnTo>
                  <a:pt x="13506" y="379"/>
                </a:lnTo>
                <a:lnTo>
                  <a:pt x="13765" y="142"/>
                </a:lnTo>
                <a:lnTo>
                  <a:pt x="13859" y="0"/>
                </a:lnTo>
                <a:lnTo>
                  <a:pt x="14353" y="142"/>
                </a:lnTo>
                <a:lnTo>
                  <a:pt x="14729" y="142"/>
                </a:lnTo>
                <a:lnTo>
                  <a:pt x="14847" y="379"/>
                </a:lnTo>
                <a:lnTo>
                  <a:pt x="15341" y="379"/>
                </a:lnTo>
                <a:lnTo>
                  <a:pt x="15459" y="142"/>
                </a:lnTo>
                <a:lnTo>
                  <a:pt x="15835" y="142"/>
                </a:lnTo>
                <a:lnTo>
                  <a:pt x="16306" y="379"/>
                </a:lnTo>
                <a:lnTo>
                  <a:pt x="16306" y="734"/>
                </a:lnTo>
                <a:lnTo>
                  <a:pt x="16682" y="970"/>
                </a:lnTo>
                <a:lnTo>
                  <a:pt x="17035" y="1112"/>
                </a:lnTo>
                <a:lnTo>
                  <a:pt x="17271" y="970"/>
                </a:lnTo>
                <a:lnTo>
                  <a:pt x="17412" y="734"/>
                </a:lnTo>
                <a:lnTo>
                  <a:pt x="17412" y="970"/>
                </a:lnTo>
                <a:lnTo>
                  <a:pt x="18000" y="970"/>
                </a:lnTo>
                <a:lnTo>
                  <a:pt x="18000" y="734"/>
                </a:lnTo>
                <a:lnTo>
                  <a:pt x="18235" y="734"/>
                </a:lnTo>
                <a:lnTo>
                  <a:pt x="18612" y="1112"/>
                </a:lnTo>
                <a:lnTo>
                  <a:pt x="19482" y="1704"/>
                </a:lnTo>
                <a:lnTo>
                  <a:pt x="19600" y="2083"/>
                </a:lnTo>
                <a:lnTo>
                  <a:pt x="19600" y="2556"/>
                </a:lnTo>
                <a:lnTo>
                  <a:pt x="19600" y="2935"/>
                </a:lnTo>
                <a:lnTo>
                  <a:pt x="19976" y="3550"/>
                </a:lnTo>
                <a:lnTo>
                  <a:pt x="19600" y="3929"/>
                </a:lnTo>
                <a:lnTo>
                  <a:pt x="18988" y="4544"/>
                </a:lnTo>
                <a:lnTo>
                  <a:pt x="18612" y="5136"/>
                </a:lnTo>
                <a:lnTo>
                  <a:pt x="18376" y="5751"/>
                </a:lnTo>
                <a:lnTo>
                  <a:pt x="18235" y="7101"/>
                </a:lnTo>
                <a:lnTo>
                  <a:pt x="18235" y="7219"/>
                </a:lnTo>
                <a:lnTo>
                  <a:pt x="17906" y="7456"/>
                </a:lnTo>
                <a:lnTo>
                  <a:pt x="17647" y="8071"/>
                </a:lnTo>
                <a:lnTo>
                  <a:pt x="17412" y="8331"/>
                </a:lnTo>
                <a:lnTo>
                  <a:pt x="17412" y="8450"/>
                </a:lnTo>
                <a:lnTo>
                  <a:pt x="17647" y="8805"/>
                </a:lnTo>
                <a:lnTo>
                  <a:pt x="17906" y="9041"/>
                </a:lnTo>
                <a:lnTo>
                  <a:pt x="17906" y="9325"/>
                </a:lnTo>
                <a:lnTo>
                  <a:pt x="17906" y="9680"/>
                </a:lnTo>
                <a:lnTo>
                  <a:pt x="18000" y="10296"/>
                </a:lnTo>
                <a:lnTo>
                  <a:pt x="18000" y="10414"/>
                </a:lnTo>
                <a:lnTo>
                  <a:pt x="18000" y="10888"/>
                </a:lnTo>
                <a:lnTo>
                  <a:pt x="18000" y="11408"/>
                </a:lnTo>
                <a:lnTo>
                  <a:pt x="18000" y="12237"/>
                </a:lnTo>
                <a:lnTo>
                  <a:pt x="18376" y="12852"/>
                </a:lnTo>
                <a:lnTo>
                  <a:pt x="18988" y="13491"/>
                </a:lnTo>
                <a:lnTo>
                  <a:pt x="19482" y="14462"/>
                </a:lnTo>
                <a:lnTo>
                  <a:pt x="17412" y="14556"/>
                </a:lnTo>
                <a:lnTo>
                  <a:pt x="17412" y="14840"/>
                </a:lnTo>
                <a:lnTo>
                  <a:pt x="17271" y="15432"/>
                </a:lnTo>
                <a:lnTo>
                  <a:pt x="16918" y="15811"/>
                </a:lnTo>
                <a:lnTo>
                  <a:pt x="17035" y="16047"/>
                </a:lnTo>
                <a:lnTo>
                  <a:pt x="17035" y="16781"/>
                </a:lnTo>
                <a:lnTo>
                  <a:pt x="16918" y="17160"/>
                </a:lnTo>
                <a:lnTo>
                  <a:pt x="16918" y="17633"/>
                </a:lnTo>
                <a:lnTo>
                  <a:pt x="16682" y="18130"/>
                </a:lnTo>
                <a:lnTo>
                  <a:pt x="16918" y="18367"/>
                </a:lnTo>
                <a:lnTo>
                  <a:pt x="17412" y="18722"/>
                </a:lnTo>
                <a:lnTo>
                  <a:pt x="17906" y="19006"/>
                </a:lnTo>
                <a:lnTo>
                  <a:pt x="17906" y="18722"/>
                </a:lnTo>
                <a:lnTo>
                  <a:pt x="18235" y="18722"/>
                </a:lnTo>
                <a:lnTo>
                  <a:pt x="18000" y="19976"/>
                </a:lnTo>
                <a:lnTo>
                  <a:pt x="18000" y="19716"/>
                </a:lnTo>
                <a:lnTo>
                  <a:pt x="17412" y="19976"/>
                </a:lnTo>
                <a:lnTo>
                  <a:pt x="17271" y="19598"/>
                </a:lnTo>
                <a:lnTo>
                  <a:pt x="16682" y="18722"/>
                </a:lnTo>
                <a:lnTo>
                  <a:pt x="16071" y="18722"/>
                </a:lnTo>
                <a:lnTo>
                  <a:pt x="15459" y="17988"/>
                </a:lnTo>
                <a:lnTo>
                  <a:pt x="15341" y="17988"/>
                </a:lnTo>
                <a:lnTo>
                  <a:pt x="15341" y="18367"/>
                </a:lnTo>
                <a:lnTo>
                  <a:pt x="14847" y="18367"/>
                </a:lnTo>
                <a:lnTo>
                  <a:pt x="14471" y="18367"/>
                </a:lnTo>
                <a:lnTo>
                  <a:pt x="13765" y="17988"/>
                </a:lnTo>
                <a:lnTo>
                  <a:pt x="13506" y="17396"/>
                </a:lnTo>
                <a:lnTo>
                  <a:pt x="12776" y="17988"/>
                </a:lnTo>
                <a:lnTo>
                  <a:pt x="12541" y="17396"/>
                </a:lnTo>
                <a:lnTo>
                  <a:pt x="12165" y="17160"/>
                </a:lnTo>
                <a:lnTo>
                  <a:pt x="12165" y="17396"/>
                </a:lnTo>
                <a:lnTo>
                  <a:pt x="11788" y="17160"/>
                </a:lnTo>
                <a:lnTo>
                  <a:pt x="11200" y="17396"/>
                </a:lnTo>
                <a:lnTo>
                  <a:pt x="10706" y="17396"/>
                </a:lnTo>
                <a:lnTo>
                  <a:pt x="10588" y="17633"/>
                </a:lnTo>
                <a:lnTo>
                  <a:pt x="10353" y="17396"/>
                </a:lnTo>
                <a:lnTo>
                  <a:pt x="10353" y="17018"/>
                </a:lnTo>
                <a:lnTo>
                  <a:pt x="10353" y="16166"/>
                </a:lnTo>
                <a:lnTo>
                  <a:pt x="10212" y="16047"/>
                </a:lnTo>
                <a:lnTo>
                  <a:pt x="9718" y="15574"/>
                </a:lnTo>
                <a:lnTo>
                  <a:pt x="10212" y="14840"/>
                </a:lnTo>
                <a:lnTo>
                  <a:pt x="9976" y="14201"/>
                </a:lnTo>
                <a:lnTo>
                  <a:pt x="9718" y="13491"/>
                </a:lnTo>
                <a:lnTo>
                  <a:pt x="8753" y="13491"/>
                </a:lnTo>
                <a:lnTo>
                  <a:pt x="8753" y="12852"/>
                </a:lnTo>
                <a:lnTo>
                  <a:pt x="8141" y="12970"/>
                </a:lnTo>
                <a:lnTo>
                  <a:pt x="7647" y="13231"/>
                </a:lnTo>
                <a:lnTo>
                  <a:pt x="7647" y="13586"/>
                </a:lnTo>
                <a:lnTo>
                  <a:pt x="7412" y="13586"/>
                </a:lnTo>
                <a:lnTo>
                  <a:pt x="7412" y="13964"/>
                </a:lnTo>
                <a:lnTo>
                  <a:pt x="6565" y="13964"/>
                </a:lnTo>
                <a:lnTo>
                  <a:pt x="6447" y="14201"/>
                </a:lnTo>
                <a:lnTo>
                  <a:pt x="5482" y="14201"/>
                </a:lnTo>
                <a:lnTo>
                  <a:pt x="4847" y="13231"/>
                </a:lnTo>
                <a:lnTo>
                  <a:pt x="4847" y="12970"/>
                </a:lnTo>
                <a:lnTo>
                  <a:pt x="4612" y="12615"/>
                </a:lnTo>
                <a:lnTo>
                  <a:pt x="4612" y="12379"/>
                </a:lnTo>
                <a:lnTo>
                  <a:pt x="4518" y="11882"/>
                </a:lnTo>
                <a:lnTo>
                  <a:pt x="3882" y="11882"/>
                </a:lnTo>
                <a:lnTo>
                  <a:pt x="1929" y="11882"/>
                </a:lnTo>
                <a:lnTo>
                  <a:pt x="1435" y="12000"/>
                </a:lnTo>
                <a:lnTo>
                  <a:pt x="1082" y="11882"/>
                </a:lnTo>
                <a:lnTo>
                  <a:pt x="729" y="11882"/>
                </a:lnTo>
                <a:lnTo>
                  <a:pt x="94" y="11882"/>
                </a:lnTo>
                <a:lnTo>
                  <a:pt x="0" y="11645"/>
                </a:lnTo>
                <a:lnTo>
                  <a:pt x="376" y="11645"/>
                </a:lnTo>
                <a:lnTo>
                  <a:pt x="376" y="11030"/>
                </a:lnTo>
                <a:lnTo>
                  <a:pt x="729" y="10651"/>
                </a:lnTo>
                <a:lnTo>
                  <a:pt x="729" y="10414"/>
                </a:lnTo>
                <a:lnTo>
                  <a:pt x="965" y="10414"/>
                </a:lnTo>
                <a:lnTo>
                  <a:pt x="1082" y="10651"/>
                </a:lnTo>
                <a:lnTo>
                  <a:pt x="1435" y="10651"/>
                </a:lnTo>
                <a:lnTo>
                  <a:pt x="1694" y="10296"/>
                </a:lnTo>
                <a:lnTo>
                  <a:pt x="2071" y="10296"/>
                </a:lnTo>
                <a:lnTo>
                  <a:pt x="2306" y="10414"/>
                </a:lnTo>
                <a:lnTo>
                  <a:pt x="2541" y="10888"/>
                </a:lnTo>
                <a:lnTo>
                  <a:pt x="2918" y="10414"/>
                </a:lnTo>
                <a:lnTo>
                  <a:pt x="3035" y="10296"/>
                </a:lnTo>
                <a:lnTo>
                  <a:pt x="3506" y="10059"/>
                </a:lnTo>
                <a:lnTo>
                  <a:pt x="3882" y="9680"/>
                </a:lnTo>
                <a:lnTo>
                  <a:pt x="4000" y="9041"/>
                </a:lnTo>
                <a:lnTo>
                  <a:pt x="4000" y="8450"/>
                </a:lnTo>
                <a:lnTo>
                  <a:pt x="4000" y="7834"/>
                </a:lnTo>
                <a:lnTo>
                  <a:pt x="4518" y="7456"/>
                </a:lnTo>
                <a:lnTo>
                  <a:pt x="4612" y="7219"/>
                </a:lnTo>
                <a:lnTo>
                  <a:pt x="4847" y="6722"/>
                </a:lnTo>
                <a:lnTo>
                  <a:pt x="5224" y="6722"/>
                </a:lnTo>
                <a:lnTo>
                  <a:pt x="5835" y="6130"/>
                </a:lnTo>
                <a:lnTo>
                  <a:pt x="5835" y="5751"/>
                </a:lnTo>
                <a:lnTo>
                  <a:pt x="5835" y="5278"/>
                </a:lnTo>
                <a:lnTo>
                  <a:pt x="5835" y="4639"/>
                </a:lnTo>
                <a:lnTo>
                  <a:pt x="6071" y="4166"/>
                </a:lnTo>
                <a:lnTo>
                  <a:pt x="6071" y="3550"/>
                </a:lnTo>
                <a:lnTo>
                  <a:pt x="6447" y="2698"/>
                </a:lnTo>
                <a:lnTo>
                  <a:pt x="6565" y="2320"/>
                </a:lnTo>
                <a:lnTo>
                  <a:pt x="6565" y="1704"/>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57"/>
          <p:cNvSpPr/>
          <p:nvPr/>
        </p:nvSpPr>
        <p:spPr>
          <a:xfrm>
            <a:off x="4641840" y="4829040"/>
            <a:ext cx="522360" cy="576360"/>
          </a:xfrm>
          <a:custGeom>
            <a:avLst/>
            <a:gdLst>
              <a:gd name="textAreaLeft" fmla="*/ 0 w 522360"/>
              <a:gd name="textAreaRight" fmla="*/ 522720 w 522360"/>
              <a:gd name="textAreaTop" fmla="*/ 0 h 576360"/>
              <a:gd name="textAreaBottom" fmla="*/ 576720 h 576360"/>
            </a:gdLst>
            <a:ahLst/>
            <a:rect l="textAreaLeft" t="textAreaTop" r="textAreaRight" b="textAreaBottom"/>
            <a:pathLst>
              <a:path w="20000" h="20000">
                <a:moveTo>
                  <a:pt x="11900" y="0"/>
                </a:moveTo>
                <a:lnTo>
                  <a:pt x="12400" y="1224"/>
                </a:lnTo>
                <a:lnTo>
                  <a:pt x="13750" y="2682"/>
                </a:lnTo>
                <a:lnTo>
                  <a:pt x="13750" y="3435"/>
                </a:lnTo>
                <a:lnTo>
                  <a:pt x="15050" y="4141"/>
                </a:lnTo>
                <a:lnTo>
                  <a:pt x="16300" y="4612"/>
                </a:lnTo>
                <a:lnTo>
                  <a:pt x="16600" y="5835"/>
                </a:lnTo>
                <a:lnTo>
                  <a:pt x="17100" y="5835"/>
                </a:lnTo>
                <a:lnTo>
                  <a:pt x="17400" y="7294"/>
                </a:lnTo>
                <a:lnTo>
                  <a:pt x="17900" y="8282"/>
                </a:lnTo>
                <a:lnTo>
                  <a:pt x="18650" y="8282"/>
                </a:lnTo>
                <a:lnTo>
                  <a:pt x="19950" y="8518"/>
                </a:lnTo>
                <a:lnTo>
                  <a:pt x="19950" y="9694"/>
                </a:lnTo>
                <a:lnTo>
                  <a:pt x="19150" y="10447"/>
                </a:lnTo>
                <a:lnTo>
                  <a:pt x="18400" y="10447"/>
                </a:lnTo>
                <a:lnTo>
                  <a:pt x="17100" y="11718"/>
                </a:lnTo>
                <a:lnTo>
                  <a:pt x="16600" y="11718"/>
                </a:lnTo>
                <a:lnTo>
                  <a:pt x="16300" y="12188"/>
                </a:lnTo>
                <a:lnTo>
                  <a:pt x="15800" y="12376"/>
                </a:lnTo>
                <a:lnTo>
                  <a:pt x="15050" y="13365"/>
                </a:lnTo>
                <a:lnTo>
                  <a:pt x="15050" y="14400"/>
                </a:lnTo>
                <a:lnTo>
                  <a:pt x="14250" y="14871"/>
                </a:lnTo>
                <a:lnTo>
                  <a:pt x="13000" y="15341"/>
                </a:lnTo>
                <a:lnTo>
                  <a:pt x="11900" y="17271"/>
                </a:lnTo>
                <a:lnTo>
                  <a:pt x="10850" y="17271"/>
                </a:lnTo>
                <a:lnTo>
                  <a:pt x="9600" y="17271"/>
                </a:lnTo>
                <a:lnTo>
                  <a:pt x="8300" y="17271"/>
                </a:lnTo>
                <a:lnTo>
                  <a:pt x="7000" y="16518"/>
                </a:lnTo>
                <a:lnTo>
                  <a:pt x="5750" y="16518"/>
                </a:lnTo>
                <a:lnTo>
                  <a:pt x="5750" y="18024"/>
                </a:lnTo>
                <a:lnTo>
                  <a:pt x="4400" y="19200"/>
                </a:lnTo>
                <a:lnTo>
                  <a:pt x="3600" y="19200"/>
                </a:lnTo>
                <a:lnTo>
                  <a:pt x="3600" y="19482"/>
                </a:lnTo>
                <a:lnTo>
                  <a:pt x="2350" y="19482"/>
                </a:lnTo>
                <a:lnTo>
                  <a:pt x="1050" y="19953"/>
                </a:lnTo>
                <a:lnTo>
                  <a:pt x="1050" y="18729"/>
                </a:lnTo>
                <a:lnTo>
                  <a:pt x="1550" y="18024"/>
                </a:lnTo>
                <a:lnTo>
                  <a:pt x="1050" y="17271"/>
                </a:lnTo>
                <a:lnTo>
                  <a:pt x="800" y="16047"/>
                </a:lnTo>
                <a:lnTo>
                  <a:pt x="0" y="15341"/>
                </a:lnTo>
                <a:lnTo>
                  <a:pt x="300" y="8988"/>
                </a:lnTo>
                <a:lnTo>
                  <a:pt x="2350" y="8988"/>
                </a:lnTo>
                <a:lnTo>
                  <a:pt x="2850" y="1224"/>
                </a:lnTo>
                <a:lnTo>
                  <a:pt x="5750" y="753"/>
                </a:lnTo>
                <a:lnTo>
                  <a:pt x="7500" y="188"/>
                </a:lnTo>
                <a:lnTo>
                  <a:pt x="8300" y="1224"/>
                </a:lnTo>
                <a:lnTo>
                  <a:pt x="9850" y="188"/>
                </a:lnTo>
                <a:lnTo>
                  <a:pt x="10350" y="188"/>
                </a:lnTo>
                <a:lnTo>
                  <a:pt x="11150" y="0"/>
                </a:lnTo>
                <a:lnTo>
                  <a:pt x="11900" y="0"/>
                </a:lnTo>
                <a:close/>
              </a:path>
            </a:pathLst>
          </a:custGeom>
          <a:solidFill>
            <a:srgbClr val="99ff99"/>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60"/>
          <p:cNvSpPr/>
          <p:nvPr/>
        </p:nvSpPr>
        <p:spPr>
          <a:xfrm>
            <a:off x="2522520" y="2889360"/>
            <a:ext cx="189000" cy="50760"/>
          </a:xfrm>
          <a:custGeom>
            <a:avLst/>
            <a:gdLst>
              <a:gd name="textAreaLeft" fmla="*/ 0 w 189000"/>
              <a:gd name="textAreaRight" fmla="*/ 189360 w 189000"/>
              <a:gd name="textAreaTop" fmla="*/ 0 h 50760"/>
              <a:gd name="textAreaBottom" fmla="*/ 51120 h 50760"/>
            </a:gdLst>
            <a:ahLst/>
            <a:rect l="textAreaLeft" t="textAreaTop" r="textAreaRight" b="textAreaBottom"/>
            <a:pathLst>
              <a:path w="20000" h="20000">
                <a:moveTo>
                  <a:pt x="1370" y="5405"/>
                </a:moveTo>
                <a:lnTo>
                  <a:pt x="7808" y="0"/>
                </a:lnTo>
                <a:lnTo>
                  <a:pt x="12740" y="0"/>
                </a:lnTo>
                <a:lnTo>
                  <a:pt x="16164" y="5405"/>
                </a:lnTo>
                <a:lnTo>
                  <a:pt x="19863" y="5405"/>
                </a:lnTo>
                <a:lnTo>
                  <a:pt x="16986" y="14054"/>
                </a:lnTo>
                <a:lnTo>
                  <a:pt x="11233" y="5405"/>
                </a:lnTo>
                <a:lnTo>
                  <a:pt x="9178" y="10811"/>
                </a:lnTo>
                <a:lnTo>
                  <a:pt x="6986" y="10811"/>
                </a:lnTo>
                <a:lnTo>
                  <a:pt x="6986" y="14054"/>
                </a:lnTo>
                <a:lnTo>
                  <a:pt x="0" y="19459"/>
                </a:lnTo>
                <a:lnTo>
                  <a:pt x="0" y="14054"/>
                </a:lnTo>
                <a:lnTo>
                  <a:pt x="1370" y="10811"/>
                </a:lnTo>
                <a:lnTo>
                  <a:pt x="1370" y="5405"/>
                </a:lnTo>
                <a:close/>
              </a:path>
            </a:pathLst>
          </a:custGeom>
          <a:solidFill>
            <a:srgbClr val="008000"/>
          </a:solidFill>
          <a:ln w="324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5" name="Freeform 61"/>
          <p:cNvSpPr/>
          <p:nvPr/>
        </p:nvSpPr>
        <p:spPr>
          <a:xfrm>
            <a:off x="2533680" y="2960640"/>
            <a:ext cx="177840" cy="114480"/>
          </a:xfrm>
          <a:custGeom>
            <a:avLst/>
            <a:gdLst>
              <a:gd name="textAreaLeft" fmla="*/ 0 w 177840"/>
              <a:gd name="textAreaRight" fmla="*/ 178200 w 177840"/>
              <a:gd name="textAreaTop" fmla="*/ 0 h 114480"/>
              <a:gd name="textAreaBottom" fmla="*/ 114840 h 114480"/>
            </a:gdLst>
            <a:ahLst/>
            <a:rect l="textAreaLeft" t="textAreaTop" r="textAreaRight" b="textAreaBottom"/>
            <a:pathLst>
              <a:path w="20000" h="20000">
                <a:moveTo>
                  <a:pt x="0" y="3765"/>
                </a:moveTo>
                <a:lnTo>
                  <a:pt x="4559" y="2588"/>
                </a:lnTo>
                <a:lnTo>
                  <a:pt x="6912" y="2588"/>
                </a:lnTo>
                <a:lnTo>
                  <a:pt x="9853" y="0"/>
                </a:lnTo>
                <a:lnTo>
                  <a:pt x="19853" y="0"/>
                </a:lnTo>
                <a:lnTo>
                  <a:pt x="19853" y="2588"/>
                </a:lnTo>
                <a:lnTo>
                  <a:pt x="18235" y="3765"/>
                </a:lnTo>
                <a:lnTo>
                  <a:pt x="19853" y="6118"/>
                </a:lnTo>
                <a:lnTo>
                  <a:pt x="18235" y="9647"/>
                </a:lnTo>
                <a:lnTo>
                  <a:pt x="12941" y="13412"/>
                </a:lnTo>
                <a:lnTo>
                  <a:pt x="10588" y="19765"/>
                </a:lnTo>
                <a:lnTo>
                  <a:pt x="9853" y="16000"/>
                </a:lnTo>
                <a:lnTo>
                  <a:pt x="8382" y="18353"/>
                </a:lnTo>
                <a:lnTo>
                  <a:pt x="8382" y="9647"/>
                </a:lnTo>
                <a:lnTo>
                  <a:pt x="4559" y="9647"/>
                </a:lnTo>
                <a:lnTo>
                  <a:pt x="4559" y="8706"/>
                </a:lnTo>
                <a:lnTo>
                  <a:pt x="2353" y="6118"/>
                </a:lnTo>
                <a:lnTo>
                  <a:pt x="0" y="376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69"/>
          <p:cNvSpPr/>
          <p:nvPr/>
        </p:nvSpPr>
        <p:spPr>
          <a:xfrm>
            <a:off x="5032440" y="5516640"/>
            <a:ext cx="131760" cy="137880"/>
          </a:xfrm>
          <a:custGeom>
            <a:avLst/>
            <a:gdLst>
              <a:gd name="textAreaLeft" fmla="*/ 0 w 131760"/>
              <a:gd name="textAreaRight" fmla="*/ 132120 w 131760"/>
              <a:gd name="textAreaTop" fmla="*/ 0 h 137880"/>
              <a:gd name="textAreaBottom" fmla="*/ 137880 h 137880"/>
            </a:gdLst>
            <a:ahLst/>
            <a:rect l="textAreaLeft" t="textAreaTop" r="textAreaRight" b="textAreaBottom"/>
            <a:pathLst>
              <a:path w="20000" h="20000">
                <a:moveTo>
                  <a:pt x="18586" y="12885"/>
                </a:moveTo>
                <a:lnTo>
                  <a:pt x="9495" y="14808"/>
                </a:lnTo>
                <a:lnTo>
                  <a:pt x="8283" y="19808"/>
                </a:lnTo>
                <a:lnTo>
                  <a:pt x="3232" y="17885"/>
                </a:lnTo>
                <a:lnTo>
                  <a:pt x="808" y="11923"/>
                </a:lnTo>
                <a:lnTo>
                  <a:pt x="0" y="9808"/>
                </a:lnTo>
                <a:lnTo>
                  <a:pt x="808" y="7885"/>
                </a:lnTo>
                <a:lnTo>
                  <a:pt x="5253" y="3077"/>
                </a:lnTo>
                <a:lnTo>
                  <a:pt x="13535" y="0"/>
                </a:lnTo>
                <a:lnTo>
                  <a:pt x="16566" y="1923"/>
                </a:lnTo>
                <a:lnTo>
                  <a:pt x="19798" y="6923"/>
                </a:lnTo>
                <a:lnTo>
                  <a:pt x="18586" y="9808"/>
                </a:lnTo>
                <a:lnTo>
                  <a:pt x="18586" y="1288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71"/>
          <p:cNvSpPr/>
          <p:nvPr/>
        </p:nvSpPr>
        <p:spPr>
          <a:xfrm>
            <a:off x="4892760" y="1758960"/>
            <a:ext cx="696960" cy="646200"/>
          </a:xfrm>
          <a:custGeom>
            <a:avLst/>
            <a:gdLst>
              <a:gd name="textAreaLeft" fmla="*/ 0 w 696960"/>
              <a:gd name="textAreaRight" fmla="*/ 697320 w 696960"/>
              <a:gd name="textAreaTop" fmla="*/ 0 h 646200"/>
              <a:gd name="textAreaBottom" fmla="*/ 646560 h 646200"/>
            </a:gdLst>
            <a:ahLst/>
            <a:rect l="textAreaLeft" t="textAreaTop" r="textAreaRight" b="textAreaBottom"/>
            <a:pathLst>
              <a:path w="20000" h="20000">
                <a:moveTo>
                  <a:pt x="374" y="671"/>
                </a:moveTo>
                <a:lnTo>
                  <a:pt x="1159" y="671"/>
                </a:lnTo>
                <a:lnTo>
                  <a:pt x="2542" y="671"/>
                </a:lnTo>
                <a:lnTo>
                  <a:pt x="6579" y="1719"/>
                </a:lnTo>
                <a:lnTo>
                  <a:pt x="8710" y="1551"/>
                </a:lnTo>
                <a:lnTo>
                  <a:pt x="8710" y="671"/>
                </a:lnTo>
                <a:lnTo>
                  <a:pt x="9308" y="1090"/>
                </a:lnTo>
                <a:lnTo>
                  <a:pt x="9682" y="671"/>
                </a:lnTo>
                <a:lnTo>
                  <a:pt x="11028" y="1090"/>
                </a:lnTo>
                <a:lnTo>
                  <a:pt x="11626" y="1719"/>
                </a:lnTo>
                <a:lnTo>
                  <a:pt x="11626" y="1090"/>
                </a:lnTo>
                <a:lnTo>
                  <a:pt x="11850" y="1090"/>
                </a:lnTo>
                <a:lnTo>
                  <a:pt x="12224" y="1551"/>
                </a:lnTo>
                <a:lnTo>
                  <a:pt x="13383" y="1551"/>
                </a:lnTo>
                <a:lnTo>
                  <a:pt x="15140" y="1090"/>
                </a:lnTo>
                <a:lnTo>
                  <a:pt x="15290" y="0"/>
                </a:lnTo>
                <a:lnTo>
                  <a:pt x="15664" y="671"/>
                </a:lnTo>
                <a:lnTo>
                  <a:pt x="15290" y="1551"/>
                </a:lnTo>
                <a:lnTo>
                  <a:pt x="15888" y="2390"/>
                </a:lnTo>
                <a:lnTo>
                  <a:pt x="16262" y="3438"/>
                </a:lnTo>
                <a:lnTo>
                  <a:pt x="16262" y="4990"/>
                </a:lnTo>
                <a:lnTo>
                  <a:pt x="15888" y="4990"/>
                </a:lnTo>
                <a:lnTo>
                  <a:pt x="15888" y="5660"/>
                </a:lnTo>
                <a:lnTo>
                  <a:pt x="15664" y="7379"/>
                </a:lnTo>
                <a:lnTo>
                  <a:pt x="15290" y="8050"/>
                </a:lnTo>
                <a:lnTo>
                  <a:pt x="13757" y="6709"/>
                </a:lnTo>
                <a:lnTo>
                  <a:pt x="13383" y="5660"/>
                </a:lnTo>
                <a:lnTo>
                  <a:pt x="13159" y="5241"/>
                </a:lnTo>
                <a:lnTo>
                  <a:pt x="12598" y="4361"/>
                </a:lnTo>
                <a:lnTo>
                  <a:pt x="12224" y="4361"/>
                </a:lnTo>
                <a:lnTo>
                  <a:pt x="12224" y="4570"/>
                </a:lnTo>
                <a:lnTo>
                  <a:pt x="12598" y="5241"/>
                </a:lnTo>
                <a:lnTo>
                  <a:pt x="14131" y="7799"/>
                </a:lnTo>
                <a:lnTo>
                  <a:pt x="14131" y="8470"/>
                </a:lnTo>
                <a:lnTo>
                  <a:pt x="15140" y="10189"/>
                </a:lnTo>
                <a:lnTo>
                  <a:pt x="15888" y="11908"/>
                </a:lnTo>
                <a:lnTo>
                  <a:pt x="17832" y="15849"/>
                </a:lnTo>
                <a:lnTo>
                  <a:pt x="18206" y="16268"/>
                </a:lnTo>
                <a:lnTo>
                  <a:pt x="17832" y="16268"/>
                </a:lnTo>
                <a:lnTo>
                  <a:pt x="18393" y="18239"/>
                </a:lnTo>
                <a:lnTo>
                  <a:pt x="19178" y="18658"/>
                </a:lnTo>
                <a:lnTo>
                  <a:pt x="19364" y="19287"/>
                </a:lnTo>
                <a:lnTo>
                  <a:pt x="19963" y="19958"/>
                </a:lnTo>
                <a:lnTo>
                  <a:pt x="972" y="19748"/>
                </a:lnTo>
                <a:lnTo>
                  <a:pt x="374" y="5241"/>
                </a:lnTo>
                <a:lnTo>
                  <a:pt x="0" y="3438"/>
                </a:lnTo>
                <a:lnTo>
                  <a:pt x="374" y="2390"/>
                </a:lnTo>
                <a:lnTo>
                  <a:pt x="0" y="1090"/>
                </a:lnTo>
                <a:lnTo>
                  <a:pt x="374" y="67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8"/>
          <p:cNvSpPr/>
          <p:nvPr/>
        </p:nvSpPr>
        <p:spPr>
          <a:xfrm>
            <a:off x="3500280" y="2286000"/>
            <a:ext cx="928800" cy="714240"/>
          </a:xfrm>
          <a:custGeom>
            <a:avLst/>
            <a:gdLst>
              <a:gd name="textAreaLeft" fmla="*/ 0 w 928800"/>
              <a:gd name="textAreaRight" fmla="*/ 929160 w 928800"/>
              <a:gd name="textAreaTop" fmla="*/ 0 h 714240"/>
              <a:gd name="textAreaBottom" fmla="*/ 714600 h 714240"/>
            </a:gdLst>
            <a:ahLst/>
            <a:rect l="textAreaLeft" t="textAreaTop" r="textAreaRight" b="textAreaBottom"/>
            <a:pathLst>
              <a:path w="847" h="710">
                <a:moveTo>
                  <a:pt x="90" y="649"/>
                </a:moveTo>
                <a:lnTo>
                  <a:pt x="70" y="649"/>
                </a:lnTo>
                <a:lnTo>
                  <a:pt x="40" y="624"/>
                </a:lnTo>
                <a:lnTo>
                  <a:pt x="47" y="604"/>
                </a:lnTo>
                <a:lnTo>
                  <a:pt x="50" y="604"/>
                </a:lnTo>
                <a:lnTo>
                  <a:pt x="7" y="561"/>
                </a:lnTo>
                <a:lnTo>
                  <a:pt x="0" y="512"/>
                </a:lnTo>
                <a:lnTo>
                  <a:pt x="7" y="512"/>
                </a:lnTo>
                <a:lnTo>
                  <a:pt x="57" y="492"/>
                </a:lnTo>
                <a:lnTo>
                  <a:pt x="116" y="492"/>
                </a:lnTo>
                <a:lnTo>
                  <a:pt x="179" y="487"/>
                </a:lnTo>
                <a:lnTo>
                  <a:pt x="207" y="435"/>
                </a:lnTo>
                <a:lnTo>
                  <a:pt x="207" y="393"/>
                </a:lnTo>
                <a:lnTo>
                  <a:pt x="212" y="348"/>
                </a:lnTo>
                <a:lnTo>
                  <a:pt x="212" y="305"/>
                </a:lnTo>
                <a:lnTo>
                  <a:pt x="219" y="263"/>
                </a:lnTo>
                <a:lnTo>
                  <a:pt x="259" y="249"/>
                </a:lnTo>
                <a:lnTo>
                  <a:pt x="302" y="244"/>
                </a:lnTo>
                <a:lnTo>
                  <a:pt x="342" y="198"/>
                </a:lnTo>
                <a:lnTo>
                  <a:pt x="389" y="157"/>
                </a:lnTo>
                <a:lnTo>
                  <a:pt x="445" y="119"/>
                </a:lnTo>
                <a:lnTo>
                  <a:pt x="512" y="80"/>
                </a:lnTo>
                <a:lnTo>
                  <a:pt x="568" y="38"/>
                </a:lnTo>
                <a:lnTo>
                  <a:pt x="629" y="0"/>
                </a:lnTo>
                <a:lnTo>
                  <a:pt x="705" y="20"/>
                </a:lnTo>
                <a:lnTo>
                  <a:pt x="752" y="51"/>
                </a:lnTo>
                <a:lnTo>
                  <a:pt x="788" y="33"/>
                </a:lnTo>
                <a:lnTo>
                  <a:pt x="794" y="74"/>
                </a:lnTo>
                <a:lnTo>
                  <a:pt x="801" y="119"/>
                </a:lnTo>
                <a:lnTo>
                  <a:pt x="847" y="189"/>
                </a:lnTo>
                <a:lnTo>
                  <a:pt x="833" y="211"/>
                </a:lnTo>
                <a:lnTo>
                  <a:pt x="833" y="256"/>
                </a:lnTo>
                <a:lnTo>
                  <a:pt x="833" y="305"/>
                </a:lnTo>
                <a:lnTo>
                  <a:pt x="828" y="348"/>
                </a:lnTo>
                <a:lnTo>
                  <a:pt x="828" y="393"/>
                </a:lnTo>
                <a:lnTo>
                  <a:pt x="801" y="429"/>
                </a:lnTo>
                <a:lnTo>
                  <a:pt x="774" y="467"/>
                </a:lnTo>
                <a:lnTo>
                  <a:pt x="752" y="505"/>
                </a:lnTo>
                <a:lnTo>
                  <a:pt x="731" y="537"/>
                </a:lnTo>
                <a:lnTo>
                  <a:pt x="731" y="586"/>
                </a:lnTo>
                <a:lnTo>
                  <a:pt x="665" y="624"/>
                </a:lnTo>
                <a:lnTo>
                  <a:pt x="615" y="618"/>
                </a:lnTo>
                <a:lnTo>
                  <a:pt x="556" y="611"/>
                </a:lnTo>
                <a:lnTo>
                  <a:pt x="498" y="644"/>
                </a:lnTo>
                <a:lnTo>
                  <a:pt x="452" y="624"/>
                </a:lnTo>
                <a:lnTo>
                  <a:pt x="412" y="611"/>
                </a:lnTo>
                <a:lnTo>
                  <a:pt x="356" y="624"/>
                </a:lnTo>
                <a:lnTo>
                  <a:pt x="323" y="586"/>
                </a:lnTo>
                <a:lnTo>
                  <a:pt x="266" y="586"/>
                </a:lnTo>
                <a:lnTo>
                  <a:pt x="212" y="599"/>
                </a:lnTo>
                <a:lnTo>
                  <a:pt x="200" y="644"/>
                </a:lnTo>
                <a:lnTo>
                  <a:pt x="186" y="685"/>
                </a:lnTo>
                <a:lnTo>
                  <a:pt x="179" y="710"/>
                </a:lnTo>
                <a:lnTo>
                  <a:pt x="136" y="665"/>
                </a:lnTo>
                <a:lnTo>
                  <a:pt x="123" y="685"/>
                </a:lnTo>
                <a:lnTo>
                  <a:pt x="116" y="698"/>
                </a:lnTo>
                <a:lnTo>
                  <a:pt x="116" y="691"/>
                </a:lnTo>
                <a:lnTo>
                  <a:pt x="103" y="665"/>
                </a:lnTo>
                <a:lnTo>
                  <a:pt x="90" y="649"/>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ZoneTexte 111"/>
          <p:cNvSpPr/>
          <p:nvPr/>
        </p:nvSpPr>
        <p:spPr>
          <a:xfrm>
            <a:off x="6286680" y="1143000"/>
            <a:ext cx="2857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25Réseaux Nationauxs</a:t>
            </a:r>
            <a:endParaRPr b="0" lang="en-US" sz="1800" spc="-1" strike="noStrike">
              <a:solidFill>
                <a:srgbClr val="000000"/>
              </a:solidFill>
              <a:latin typeface="Calibri"/>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1.200 IMFs</a:t>
            </a:r>
            <a:endParaRPr b="0" lang="en-US" sz="1800" spc="-1" strike="noStrike">
              <a:solidFill>
                <a:srgbClr val="000000"/>
              </a:solidFill>
              <a:latin typeface="Calibri"/>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20 Millions d’Epargnants</a:t>
            </a:r>
            <a:endParaRPr b="0" lang="en-US" sz="1800" spc="-1" strike="noStrike">
              <a:solidFill>
                <a:srgbClr val="000000"/>
              </a:solidFill>
              <a:latin typeface="Calibri"/>
            </a:endParaRPr>
          </a:p>
        </p:txBody>
      </p:sp>
      <p:sp>
        <p:nvSpPr>
          <p:cNvPr id="160" name="Freeform 19"/>
          <p:cNvSpPr/>
          <p:nvPr/>
        </p:nvSpPr>
        <p:spPr>
          <a:xfrm>
            <a:off x="2500200" y="2071800"/>
            <a:ext cx="714600" cy="785880"/>
          </a:xfrm>
          <a:custGeom>
            <a:avLst/>
            <a:gdLst>
              <a:gd name="textAreaLeft" fmla="*/ 0 w 714600"/>
              <a:gd name="textAreaRight" fmla="*/ 714960 w 714600"/>
              <a:gd name="textAreaTop" fmla="*/ 0 h 785880"/>
              <a:gd name="textAreaBottom" fmla="*/ 786240 h 785880"/>
            </a:gdLst>
            <a:ahLst/>
            <a:rect l="textAreaLeft" t="textAreaTop" r="textAreaRight" b="textAreaBottom"/>
            <a:pathLst>
              <a:path w="20000" h="20000">
                <a:moveTo>
                  <a:pt x="13897" y="0"/>
                </a:moveTo>
                <a:lnTo>
                  <a:pt x="19963" y="3885"/>
                </a:lnTo>
                <a:lnTo>
                  <a:pt x="17279" y="3885"/>
                </a:lnTo>
                <a:lnTo>
                  <a:pt x="18456" y="17128"/>
                </a:lnTo>
                <a:lnTo>
                  <a:pt x="19007" y="17669"/>
                </a:lnTo>
                <a:lnTo>
                  <a:pt x="18456" y="18919"/>
                </a:lnTo>
                <a:lnTo>
                  <a:pt x="12537" y="18919"/>
                </a:lnTo>
                <a:lnTo>
                  <a:pt x="12390" y="18581"/>
                </a:lnTo>
                <a:lnTo>
                  <a:pt x="11985" y="18919"/>
                </a:lnTo>
                <a:lnTo>
                  <a:pt x="10074" y="18581"/>
                </a:lnTo>
                <a:lnTo>
                  <a:pt x="9890" y="19054"/>
                </a:lnTo>
                <a:lnTo>
                  <a:pt x="8934" y="18378"/>
                </a:lnTo>
                <a:lnTo>
                  <a:pt x="8346" y="19054"/>
                </a:lnTo>
                <a:lnTo>
                  <a:pt x="8346" y="19764"/>
                </a:lnTo>
                <a:lnTo>
                  <a:pt x="7978" y="19966"/>
                </a:lnTo>
                <a:lnTo>
                  <a:pt x="7022" y="19764"/>
                </a:lnTo>
                <a:lnTo>
                  <a:pt x="6838" y="19426"/>
                </a:lnTo>
                <a:lnTo>
                  <a:pt x="6434" y="18919"/>
                </a:lnTo>
                <a:lnTo>
                  <a:pt x="6066" y="18919"/>
                </a:lnTo>
                <a:lnTo>
                  <a:pt x="5919" y="18041"/>
                </a:lnTo>
                <a:lnTo>
                  <a:pt x="5331" y="18041"/>
                </a:lnTo>
                <a:lnTo>
                  <a:pt x="4559" y="17128"/>
                </a:lnTo>
                <a:lnTo>
                  <a:pt x="3971" y="16993"/>
                </a:lnTo>
                <a:lnTo>
                  <a:pt x="2463" y="17128"/>
                </a:lnTo>
                <a:lnTo>
                  <a:pt x="1324" y="17128"/>
                </a:lnTo>
                <a:lnTo>
                  <a:pt x="515" y="17669"/>
                </a:lnTo>
                <a:lnTo>
                  <a:pt x="956" y="16622"/>
                </a:lnTo>
                <a:lnTo>
                  <a:pt x="1507" y="15203"/>
                </a:lnTo>
                <a:lnTo>
                  <a:pt x="1324" y="13480"/>
                </a:lnTo>
                <a:lnTo>
                  <a:pt x="515" y="12601"/>
                </a:lnTo>
                <a:lnTo>
                  <a:pt x="1324" y="12601"/>
                </a:lnTo>
                <a:lnTo>
                  <a:pt x="1324" y="11723"/>
                </a:lnTo>
                <a:lnTo>
                  <a:pt x="956" y="10709"/>
                </a:lnTo>
                <a:lnTo>
                  <a:pt x="515" y="11047"/>
                </a:lnTo>
                <a:lnTo>
                  <a:pt x="368" y="10169"/>
                </a:lnTo>
                <a:lnTo>
                  <a:pt x="0" y="10169"/>
                </a:lnTo>
                <a:lnTo>
                  <a:pt x="368" y="9628"/>
                </a:lnTo>
                <a:lnTo>
                  <a:pt x="6434" y="9628"/>
                </a:lnTo>
                <a:lnTo>
                  <a:pt x="6434" y="7534"/>
                </a:lnTo>
                <a:lnTo>
                  <a:pt x="6434" y="6993"/>
                </a:lnTo>
                <a:lnTo>
                  <a:pt x="6838" y="6655"/>
                </a:lnTo>
                <a:lnTo>
                  <a:pt x="8346" y="6149"/>
                </a:lnTo>
                <a:lnTo>
                  <a:pt x="8346" y="2432"/>
                </a:lnTo>
                <a:lnTo>
                  <a:pt x="13897" y="2297"/>
                </a:lnTo>
                <a:lnTo>
                  <a:pt x="1389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23"/>
          <p:cNvSpPr/>
          <p:nvPr/>
        </p:nvSpPr>
        <p:spPr>
          <a:xfrm>
            <a:off x="4357800" y="3071880"/>
            <a:ext cx="738000" cy="528480"/>
          </a:xfrm>
          <a:custGeom>
            <a:avLst/>
            <a:gdLst>
              <a:gd name="textAreaLeft" fmla="*/ 0 w 738000"/>
              <a:gd name="textAreaRight" fmla="*/ 738360 w 738000"/>
              <a:gd name="textAreaTop" fmla="*/ 0 h 528480"/>
              <a:gd name="textAreaBottom" fmla="*/ 528840 h 528480"/>
            </a:gdLst>
            <a:ahLst/>
            <a:rect l="textAreaLeft" t="textAreaTop" r="textAreaRight" b="textAreaBottom"/>
            <a:pathLst>
              <a:path w="20000" h="20000">
                <a:moveTo>
                  <a:pt x="1449" y="8175"/>
                </a:moveTo>
                <a:lnTo>
                  <a:pt x="2014" y="7661"/>
                </a:lnTo>
                <a:lnTo>
                  <a:pt x="2968" y="6889"/>
                </a:lnTo>
                <a:lnTo>
                  <a:pt x="3110" y="7404"/>
                </a:lnTo>
                <a:lnTo>
                  <a:pt x="3852" y="6889"/>
                </a:lnTo>
                <a:lnTo>
                  <a:pt x="4558" y="6375"/>
                </a:lnTo>
                <a:lnTo>
                  <a:pt x="4947" y="6889"/>
                </a:lnTo>
                <a:lnTo>
                  <a:pt x="5512" y="6375"/>
                </a:lnTo>
                <a:lnTo>
                  <a:pt x="5866" y="6375"/>
                </a:lnTo>
                <a:lnTo>
                  <a:pt x="6784" y="6067"/>
                </a:lnTo>
                <a:lnTo>
                  <a:pt x="6961" y="5296"/>
                </a:lnTo>
                <a:lnTo>
                  <a:pt x="6784" y="4781"/>
                </a:lnTo>
                <a:lnTo>
                  <a:pt x="7314" y="4216"/>
                </a:lnTo>
                <a:lnTo>
                  <a:pt x="8763" y="3959"/>
                </a:lnTo>
                <a:lnTo>
                  <a:pt x="9329" y="3445"/>
                </a:lnTo>
                <a:lnTo>
                  <a:pt x="9682" y="3136"/>
                </a:lnTo>
                <a:lnTo>
                  <a:pt x="10247" y="2108"/>
                </a:lnTo>
                <a:lnTo>
                  <a:pt x="10777" y="1851"/>
                </a:lnTo>
                <a:lnTo>
                  <a:pt x="11166" y="514"/>
                </a:lnTo>
                <a:lnTo>
                  <a:pt x="12085" y="0"/>
                </a:lnTo>
                <a:lnTo>
                  <a:pt x="12650" y="0"/>
                </a:lnTo>
                <a:lnTo>
                  <a:pt x="13004" y="514"/>
                </a:lnTo>
                <a:lnTo>
                  <a:pt x="13887" y="2108"/>
                </a:lnTo>
                <a:lnTo>
                  <a:pt x="14099" y="3445"/>
                </a:lnTo>
                <a:lnTo>
                  <a:pt x="13534" y="3959"/>
                </a:lnTo>
                <a:lnTo>
                  <a:pt x="13887" y="4216"/>
                </a:lnTo>
                <a:lnTo>
                  <a:pt x="13887" y="4781"/>
                </a:lnTo>
                <a:lnTo>
                  <a:pt x="14099" y="5296"/>
                </a:lnTo>
                <a:lnTo>
                  <a:pt x="15018" y="5296"/>
                </a:lnTo>
                <a:lnTo>
                  <a:pt x="15018" y="6067"/>
                </a:lnTo>
                <a:lnTo>
                  <a:pt x="15901" y="6067"/>
                </a:lnTo>
                <a:lnTo>
                  <a:pt x="16466" y="6889"/>
                </a:lnTo>
                <a:lnTo>
                  <a:pt x="16855" y="8792"/>
                </a:lnTo>
                <a:lnTo>
                  <a:pt x="17739" y="8792"/>
                </a:lnTo>
                <a:lnTo>
                  <a:pt x="17915" y="9563"/>
                </a:lnTo>
                <a:lnTo>
                  <a:pt x="18304" y="9563"/>
                </a:lnTo>
                <a:lnTo>
                  <a:pt x="18481" y="9820"/>
                </a:lnTo>
                <a:lnTo>
                  <a:pt x="18869" y="11105"/>
                </a:lnTo>
                <a:lnTo>
                  <a:pt x="19753" y="11928"/>
                </a:lnTo>
                <a:lnTo>
                  <a:pt x="19965" y="13316"/>
                </a:lnTo>
                <a:lnTo>
                  <a:pt x="19399" y="13316"/>
                </a:lnTo>
                <a:lnTo>
                  <a:pt x="19223" y="13830"/>
                </a:lnTo>
                <a:lnTo>
                  <a:pt x="18481" y="13830"/>
                </a:lnTo>
                <a:lnTo>
                  <a:pt x="18304" y="13316"/>
                </a:lnTo>
                <a:lnTo>
                  <a:pt x="17739" y="13316"/>
                </a:lnTo>
                <a:lnTo>
                  <a:pt x="16996" y="13008"/>
                </a:lnTo>
                <a:lnTo>
                  <a:pt x="16855" y="13316"/>
                </a:lnTo>
                <a:lnTo>
                  <a:pt x="16466" y="13830"/>
                </a:lnTo>
                <a:lnTo>
                  <a:pt x="15901" y="13830"/>
                </a:lnTo>
                <a:lnTo>
                  <a:pt x="15371" y="13830"/>
                </a:lnTo>
                <a:lnTo>
                  <a:pt x="14452" y="14344"/>
                </a:lnTo>
                <a:lnTo>
                  <a:pt x="13887" y="14602"/>
                </a:lnTo>
                <a:lnTo>
                  <a:pt x="13004" y="14602"/>
                </a:lnTo>
                <a:lnTo>
                  <a:pt x="12650" y="14602"/>
                </a:lnTo>
                <a:lnTo>
                  <a:pt x="12085" y="15938"/>
                </a:lnTo>
                <a:lnTo>
                  <a:pt x="11519" y="15424"/>
                </a:lnTo>
                <a:lnTo>
                  <a:pt x="10636" y="15424"/>
                </a:lnTo>
                <a:lnTo>
                  <a:pt x="9682" y="15116"/>
                </a:lnTo>
                <a:lnTo>
                  <a:pt x="8763" y="14602"/>
                </a:lnTo>
                <a:lnTo>
                  <a:pt x="7668" y="13316"/>
                </a:lnTo>
                <a:lnTo>
                  <a:pt x="6784" y="14344"/>
                </a:lnTo>
                <a:lnTo>
                  <a:pt x="6007" y="15116"/>
                </a:lnTo>
                <a:lnTo>
                  <a:pt x="6007" y="15424"/>
                </a:lnTo>
                <a:lnTo>
                  <a:pt x="6007" y="16710"/>
                </a:lnTo>
                <a:lnTo>
                  <a:pt x="5300" y="16710"/>
                </a:lnTo>
                <a:lnTo>
                  <a:pt x="4417" y="16710"/>
                </a:lnTo>
                <a:lnTo>
                  <a:pt x="3110" y="16710"/>
                </a:lnTo>
                <a:lnTo>
                  <a:pt x="2968" y="18560"/>
                </a:lnTo>
                <a:lnTo>
                  <a:pt x="2191" y="19949"/>
                </a:lnTo>
                <a:lnTo>
                  <a:pt x="2014" y="19383"/>
                </a:lnTo>
                <a:lnTo>
                  <a:pt x="2191" y="18046"/>
                </a:lnTo>
                <a:lnTo>
                  <a:pt x="2014" y="18046"/>
                </a:lnTo>
                <a:lnTo>
                  <a:pt x="742" y="16452"/>
                </a:lnTo>
                <a:lnTo>
                  <a:pt x="742" y="15116"/>
                </a:lnTo>
                <a:lnTo>
                  <a:pt x="212" y="14602"/>
                </a:lnTo>
                <a:lnTo>
                  <a:pt x="212" y="13316"/>
                </a:lnTo>
                <a:lnTo>
                  <a:pt x="0" y="13008"/>
                </a:lnTo>
                <a:lnTo>
                  <a:pt x="0" y="11105"/>
                </a:lnTo>
                <a:lnTo>
                  <a:pt x="212" y="10900"/>
                </a:lnTo>
                <a:lnTo>
                  <a:pt x="742" y="8792"/>
                </a:lnTo>
                <a:lnTo>
                  <a:pt x="1449" y="8175"/>
                </a:lnTo>
                <a:close/>
              </a:path>
            </a:pathLst>
          </a:custGeom>
          <a:solidFill>
            <a:srgbClr val="99ff99"/>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D:\AFMIN\NewPicture\AFMIN3.jpg"/>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OBJECTIFS STRATEGIQUES</a:t>
            </a:r>
            <a:endParaRPr b="0" lang="en-US" sz="4800" spc="-1" strike="noStrike">
              <a:solidFill>
                <a:srgbClr val="000000"/>
              </a:solidFill>
              <a:latin typeface="Calibri"/>
            </a:endParaRPr>
          </a:p>
        </p:txBody>
      </p:sp>
      <p:sp>
        <p:nvSpPr>
          <p:cNvPr id="164"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 </a:t>
            </a:r>
            <a:r>
              <a:rPr b="0" lang="fr-FR" sz="2800" spc="-1" strike="noStrike">
                <a:solidFill>
                  <a:srgbClr val="000000"/>
                </a:solidFill>
                <a:latin typeface="Calibri"/>
              </a:rPr>
              <a:t>Renforcer la capacité des Réseaux Nationaux </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I- faire le Plaidoyer pour une politique / environnement réglementaire favorable à la finance inclusive et influencer l'orientation stratégique de la finance inclusive en Afrique</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II- Etablir et promouvoir les normes et meilleures pratiques pour la promotion de la performance sociale</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V-  Disséminer les connaissances, les bonnes pratiques et les innovations</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V- Transformer AFMIN en un réseau régional viable</a:t>
            </a:r>
            <a:endParaRPr b="0" lang="en-US" sz="28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 descr="D:\AFMIN\NewPicture\AFMIN3.jpg"/>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PROGRAMMES ET SERVICES</a:t>
            </a:r>
            <a:endParaRPr b="0" lang="en-US" sz="4800" spc="-1" strike="noStrike">
              <a:solidFill>
                <a:srgbClr val="000000"/>
              </a:solidFill>
              <a:latin typeface="Calibri"/>
            </a:endParaRPr>
          </a:p>
        </p:txBody>
      </p:sp>
      <p:sp>
        <p:nvSpPr>
          <p:cNvPr id="167"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ENFORCEMENT DES CAPACITES DES RESEAUX NATIONAUX</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TABLISSEMENT DE NORMES DE PERFORMANCES FINANCIERES ET SOCIALES</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RIBUTION A  L’AMELIORATION DES POLITIQUES ET REGLEMENTATIONS DE LA MICROFINANCE</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TABLISSEMENT DE SYSTEMES ET DE PROCESSUS POUR L’ECHANGE ET LA  DIFFUSION D’INFORMATIONS ET DE CONNAISSANCES </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 descr="D:\AFMIN\NewPicture\AFMIN3.jpg"/>
          <p:cNvPicPr/>
          <p:nvPr/>
        </p:nvPicPr>
        <p:blipFill>
          <a:blip r:embed="rId1"/>
          <a:stretch/>
        </p:blipFill>
        <p:spPr>
          <a:xfrm>
            <a:off x="0" y="0"/>
            <a:ext cx="9144000" cy="6858000"/>
          </a:xfrm>
          <a:prstGeom prst="rect">
            <a:avLst/>
          </a:prstGeom>
          <a:ln w="0">
            <a:noFill/>
          </a:ln>
        </p:spPr>
      </p:pic>
      <p:sp>
        <p:nvSpPr>
          <p:cNvPr id="169"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PRINCIPALES REALISATIONS</a:t>
            </a:r>
            <a:endParaRPr b="0" lang="en-US" sz="4800" spc="-1" strike="noStrike">
              <a:solidFill>
                <a:srgbClr val="000000"/>
              </a:solidFill>
              <a:latin typeface="Calibri"/>
            </a:endParaRPr>
          </a:p>
        </p:txBody>
      </p:sp>
      <p:sp>
        <p:nvSpPr>
          <p:cNvPr id="170"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9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ENFORCEMENT DES CAPACITES DES RN ET DE LEURS IMFS MEMBRES</a:t>
            </a:r>
            <a:endParaRPr b="0" lang="en-US" sz="2800" spc="-1" strike="noStrike">
              <a:solidFill>
                <a:srgbClr val="000000"/>
              </a:solidFill>
              <a:latin typeface="Calibri"/>
            </a:endParaRPr>
          </a:p>
          <a:p>
            <a:pPr marL="457200" indent="-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95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TABLISSEMENT DE NORMES DE PERFORMANCE</a:t>
            </a:r>
            <a:endParaRPr b="0" lang="en-US" sz="2800" spc="-1" strike="noStrike">
              <a:solidFill>
                <a:srgbClr val="000000"/>
              </a:solidFill>
              <a:latin typeface="Calibri"/>
            </a:endParaRPr>
          </a:p>
          <a:p>
            <a:pPr marL="457200" indent="-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     AMELIORATION DU CADRE JURIDIQUE ET REGLEMENTAIRE</a:t>
            </a:r>
            <a:endParaRPr b="0" lang="en-US" sz="2800" spc="-1" strike="noStrike">
              <a:solidFill>
                <a:srgbClr val="000000"/>
              </a:solidFill>
              <a:latin typeface="Calibri"/>
            </a:endParaRPr>
          </a:p>
          <a:p>
            <a:pPr marL="457200" indent="-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4.    ETABLISSEMENT DE PLATEFORME D’ECHANGE DE CONNAISSANCES ET D’INFORMATIONS</a:t>
            </a:r>
            <a:endParaRPr b="0" lang="en-US" sz="2800" spc="-1" strike="noStrike">
              <a:solidFill>
                <a:srgbClr val="000000"/>
              </a:solidFill>
              <a:latin typeface="Calibri"/>
            </a:endParaRPr>
          </a:p>
          <a:p>
            <a:pPr marL="457200" indent="-4572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D:\AFMIN\NewPicture\AFMIN3.jpg"/>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1. RENFORCEMENT DES CAPACITES DES RN</a:t>
            </a:r>
            <a:endParaRPr b="0" lang="en-US" sz="3600" spc="-1" strike="noStrike">
              <a:solidFill>
                <a:srgbClr val="000000"/>
              </a:solidFill>
              <a:latin typeface="Calibri"/>
            </a:endParaRPr>
          </a:p>
        </p:txBody>
      </p:sp>
      <p:sp>
        <p:nvSpPr>
          <p:cNvPr id="173"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valuation des besoins et des capacités de plus de 10 Réseaux Nationaux</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ormation sur différents thèmes: Leadership, Gestion des RH, Planification stratégique, Gestion du Risque, Microfinance et VIH-SIDA, NCAT,…</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ordination des visites d’échanges entre RN et IMFs</a:t>
            </a:r>
            <a:endParaRPr b="0" lang="en-US" sz="2800" spc="-1" strike="noStrike">
              <a:solidFill>
                <a:srgbClr val="000000"/>
              </a:solidFill>
              <a:latin typeface="Calibri"/>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ordination de la participation des RNs aux évènements majeurs (SEEP Network Summit, Microcredit Summit,…)</a:t>
            </a:r>
            <a:endParaRPr b="0" lang="en-US" sz="2800" spc="-1" strike="noStrike">
              <a:solidFill>
                <a:srgbClr val="000000"/>
              </a:solidFill>
              <a:latin typeface="Calibri"/>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 descr="D:\AFMIN\NewPicture\AFMIN3.jpg"/>
          <p:cNvPicPr/>
          <p:nvPr/>
        </p:nvPicPr>
        <p:blipFill>
          <a:blip r:embed="rId1"/>
          <a:stretch/>
        </p:blipFill>
        <p:spPr>
          <a:xfrm>
            <a:off x="0" y="0"/>
            <a:ext cx="9144000" cy="6858000"/>
          </a:xfrm>
          <a:prstGeom prst="rect">
            <a:avLst/>
          </a:prstGeom>
          <a:ln w="0">
            <a:noFill/>
          </a:ln>
        </p:spPr>
      </p:pic>
      <p:sp>
        <p:nvSpPr>
          <p:cNvPr id="175"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00"/>
                </a:solidFill>
                <a:latin typeface="Calibri"/>
              </a:rPr>
              <a:t>2. ETABLISSEMENT DE NORMES DE PERFORMANCE</a:t>
            </a:r>
            <a:endParaRPr b="0" lang="en-US" sz="3400" spc="-1" strike="noStrike">
              <a:solidFill>
                <a:srgbClr val="000000"/>
              </a:solidFill>
              <a:latin typeface="Calibri"/>
            </a:endParaRPr>
          </a:p>
        </p:txBody>
      </p:sp>
      <p:sp>
        <p:nvSpPr>
          <p:cNvPr id="176"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tion de la performance sociale au niveau de 8 pays (Bénin, Burkina-Faso, Kenya, Ethiopie, Niger, Ouganda, Sénégal, Togo) et appui technique à 90 IMFs</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ise en place d’indicateurs Financiers et Sociaux pour l’ensemble des membres</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itions et contribution dans la mise en place d’indicateurs communs de performances pour les pays de la zone UMOA</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 de formations régionales sur le Suivi et l’Analyse de Performances (FRAME TOOL, MIX Monitor,…)</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ssistance Technique dans l’acquisition d’outils  au profit de plusieurs RNs (MIX Market, ALAFIA Perform, …)</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ppui aux Réseaux Nationaux dans la publication des rapports de Performances</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 d’atelier régional sur les indicateurs sociaux pour l’ensemble des membres</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ublication sur « le Rôle Catalyseur joué par les RNs dans la mesure des Performances des IMFs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D:\AFMIN\NewPicture\AFMIN3.jpg"/>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00"/>
                </a:solidFill>
                <a:latin typeface="Calibri"/>
              </a:rPr>
              <a:t>2. ETABLISSEMENT D’INDICATEURS COMMUNS DE PERFORMANCE</a:t>
            </a:r>
            <a:endParaRPr b="0" lang="en-US" sz="3400" spc="-1" strike="noStrike">
              <a:solidFill>
                <a:srgbClr val="000000"/>
              </a:solidFill>
              <a:latin typeface="Calibri"/>
            </a:endParaRPr>
          </a:p>
        </p:txBody>
      </p:sp>
      <p:sp>
        <p:nvSpPr>
          <p:cNvPr id="179"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ise en place d’indicateurs Financiers et Sociaux pour l’ensemble des membres</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itions et contribution dans la mise en place d’indicateurs communs de performances pour les pays de la zone UMOA</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 de formations régionales sur le Suivi et l’Analyse de Performances (FRAME TOOL, MIX Monitor,…)</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ssistance Technique dans l’acquisition d’outils  au profit de plusieurs RNs (ALAFIA Perform, …)</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ppui aux Réseaux Nationaux dans la publication des rapports de Performances</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 d’atelier régional sur les indicateurs sociaux pour l’ensemble des membres</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ublication sur « le Rôle Catalyseur joué par les RNs dans la mesure des Performances des IMFs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 descr="D:\AFMIN\NewPicture\AFMIN3.jpg"/>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00"/>
                </a:solidFill>
                <a:latin typeface="Calibri"/>
              </a:rPr>
              <a:t>3. AMELIORATION DU CADRE REGLEMENTAIRE DES IMF</a:t>
            </a:r>
            <a:endParaRPr b="0" lang="en-US" sz="3400" spc="-1" strike="noStrike">
              <a:solidFill>
                <a:srgbClr val="000000"/>
              </a:solidFill>
              <a:latin typeface="Calibri"/>
            </a:endParaRPr>
          </a:p>
        </p:txBody>
      </p:sp>
      <p:sp>
        <p:nvSpPr>
          <p:cNvPr id="182" name="Rectangle 3"/>
          <p:cNvSpPr/>
          <p:nvPr/>
        </p:nvSpPr>
        <p:spPr>
          <a:xfrm>
            <a:off x="428760" y="1143000"/>
            <a:ext cx="8715240" cy="5143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ation entre AFMIN et les Associations membres de la zone UMOA</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itions faites en 2004 à la BCEAO pour un réaménagement de la règlementation sur les SFD qui ont été prises en compte dans la nouvelle loi qui est entrain d’ètre promulguée dans la zone (Mali, Togo, Burkina-Faso, Niger, Sénégal, Benin, Cote d’Ivoire…)</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incipaux réaménagements: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Instauration d'un régime unique d'autorisation d'exercice;</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implication de la Banque Centrale et de la Commission Bancaire, dans la surveillance des Institutions ;</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e renforcement du dispositif prudentiel et des sanctions applicables ainsi que</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certification obligatoire des comptes pour les systèmes financiers décentralisés d'une certaine taille financière.</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 descr="D:\AFMIN\NewPicture\AFMIN3.jpg"/>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00"/>
                </a:solidFill>
                <a:latin typeface="Calibri"/>
              </a:rPr>
              <a:t>4. PLATEFORME D’ECHANGE DE CONNAISSANCES ET D’INFORMATIONS</a:t>
            </a:r>
            <a:endParaRPr b="0" lang="en-US" sz="3400" spc="-1" strike="noStrike">
              <a:solidFill>
                <a:srgbClr val="000000"/>
              </a:solidFill>
              <a:latin typeface="Calibri"/>
            </a:endParaRPr>
          </a:p>
        </p:txBody>
      </p:sp>
      <p:sp>
        <p:nvSpPr>
          <p:cNvPr id="185"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s de conférence annuelles sur les meilleures pratiques dans divers domaines: Gestion de Performance Sociale, Crise financière économique et sociale, Financement Rural, Micro-Entreprise, Innovations, Portée et efficacité des IMFs,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s de conférence virtuelles (Standards de promotion de performance sociale, services intégrés)</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éalisation d’étude et de publication sur l’introduction d’innovation dans différents pays (Mobile Banking, Banque à distance, Transfert d’Argent)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ecte et Diffusion d’information sur les derniers développements du secteur à travers le site internet</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éveloppement de synergie et de partenariat avec d’autres associations  ou organisations comme ADA, BAD, AFRACA, SEEP Network, Pamiga , ………</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 descr="D:\AFMIN\NewPicture\AFMIN3.jpg"/>
          <p:cNvPicPr/>
          <p:nvPr/>
        </p:nvPicPr>
        <p:blipFill>
          <a:blip r:embed="rId1"/>
          <a:stretch/>
        </p:blipFill>
        <p:spPr>
          <a:xfrm>
            <a:off x="0" y="0"/>
            <a:ext cx="9144000" cy="6858000"/>
          </a:xfrm>
          <a:prstGeom prst="rect">
            <a:avLst/>
          </a:prstGeom>
          <a:ln w="0">
            <a:noFill/>
          </a:ln>
        </p:spPr>
      </p:pic>
      <p:sp>
        <p:nvSpPr>
          <p:cNvPr id="187"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Comment atteindre la viabilité? </a:t>
            </a:r>
            <a:endParaRPr b="0" lang="en-US" sz="4800" spc="-1" strike="noStrike">
              <a:solidFill>
                <a:srgbClr val="000000"/>
              </a:solidFill>
              <a:latin typeface="Calibri"/>
            </a:endParaRPr>
          </a:p>
        </p:txBody>
      </p:sp>
      <p:sp>
        <p:nvSpPr>
          <p:cNvPr id="188"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Rectangle 26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190" name="Group 1"/>
          <p:cNvGrpSpPr/>
          <p:nvPr/>
        </p:nvGrpSpPr>
        <p:grpSpPr>
          <a:xfrm>
            <a:off x="714240" y="1000080"/>
            <a:ext cx="8429760" cy="5286600"/>
            <a:chOff x="714240" y="1000080"/>
            <a:chExt cx="8429760" cy="5286600"/>
          </a:xfrm>
        </p:grpSpPr>
        <p:sp>
          <p:nvSpPr>
            <p:cNvPr id="191" name="AutoShape 261"/>
            <p:cNvSpPr/>
            <p:nvPr/>
          </p:nvSpPr>
          <p:spPr>
            <a:xfrm>
              <a:off x="714240" y="1071360"/>
              <a:ext cx="8429760" cy="521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Rectangle 260"/>
            <p:cNvSpPr/>
            <p:nvPr/>
          </p:nvSpPr>
          <p:spPr>
            <a:xfrm>
              <a:off x="4994280" y="3676320"/>
              <a:ext cx="22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Times New Roman"/>
                </a:rPr>
                <a:t>QuickTime™ and a</a:t>
              </a:r>
              <a:endParaRPr b="0" lang="en-US" sz="200" spc="-1" strike="noStrike">
                <a:solidFill>
                  <a:srgbClr val="000000"/>
                </a:solidFill>
                <a:latin typeface="Calibri"/>
              </a:endParaRPr>
            </a:p>
          </p:txBody>
        </p:sp>
        <p:sp>
          <p:nvSpPr>
            <p:cNvPr id="193" name="Rectangle 259"/>
            <p:cNvSpPr/>
            <p:nvPr/>
          </p:nvSpPr>
          <p:spPr>
            <a:xfrm>
              <a:off x="4991760" y="3705480"/>
              <a:ext cx="17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Times New Roman"/>
                </a:rPr>
                <a:t> </a:t>
              </a:r>
              <a:r>
                <a:rPr b="0" lang="en-US" sz="200" spc="-1" strike="noStrike">
                  <a:solidFill>
                    <a:srgbClr val="000000"/>
                  </a:solidFill>
                  <a:latin typeface="Arial"/>
                  <a:ea typeface="Times New Roman"/>
                </a:rPr>
                <a:t>decompressor</a:t>
              </a:r>
              <a:endParaRPr b="0" lang="en-US" sz="200" spc="-1" strike="noStrike">
                <a:solidFill>
                  <a:srgbClr val="000000"/>
                </a:solidFill>
                <a:latin typeface="Calibri"/>
              </a:endParaRPr>
            </a:p>
          </p:txBody>
        </p:sp>
        <p:sp>
          <p:nvSpPr>
            <p:cNvPr id="194" name="Rectangle 258"/>
            <p:cNvSpPr/>
            <p:nvPr/>
          </p:nvSpPr>
          <p:spPr>
            <a:xfrm>
              <a:off x="4983120" y="3734280"/>
              <a:ext cx="346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Times New Roman"/>
                </a:rPr>
                <a:t>are needed to see this picture.</a:t>
              </a:r>
              <a:endParaRPr b="0" lang="en-US" sz="200" spc="-1" strike="noStrike">
                <a:solidFill>
                  <a:srgbClr val="000000"/>
                </a:solidFill>
                <a:latin typeface="Calibri"/>
              </a:endParaRPr>
            </a:p>
          </p:txBody>
        </p:sp>
        <p:sp>
          <p:nvSpPr>
            <p:cNvPr id="195" name="Rectangle 257"/>
            <p:cNvSpPr/>
            <p:nvPr/>
          </p:nvSpPr>
          <p:spPr>
            <a:xfrm>
              <a:off x="714240" y="1000080"/>
              <a:ext cx="8429760" cy="521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56"/>
            <p:cNvSpPr/>
            <p:nvPr/>
          </p:nvSpPr>
          <p:spPr>
            <a:xfrm>
              <a:off x="758520" y="1071360"/>
              <a:ext cx="912960" cy="5193000"/>
            </a:xfrm>
            <a:custGeom>
              <a:avLst/>
              <a:gdLst/>
              <a:ahLst/>
              <a:rect l="l" t="t" r="r" b="b"/>
              <a:pathLst>
                <a:path w="780" h="5382">
                  <a:moveTo>
                    <a:pt x="780" y="0"/>
                  </a:moveTo>
                  <a:lnTo>
                    <a:pt x="780" y="5382"/>
                  </a:lnTo>
                  <a:lnTo>
                    <a:pt x="0" y="5382"/>
                  </a:lnTo>
                  <a:lnTo>
                    <a:pt x="0" y="0"/>
                  </a:lnTo>
                  <a:lnTo>
                    <a:pt x="780" y="0"/>
                  </a:lnTo>
                  <a:close/>
                </a:path>
              </a:pathLst>
            </a:custGeom>
            <a:solidFill>
              <a:srgbClr val="808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 name="Freeform 255"/>
            <p:cNvSpPr/>
            <p:nvPr/>
          </p:nvSpPr>
          <p:spPr>
            <a:xfrm>
              <a:off x="758520" y="2363400"/>
              <a:ext cx="912960" cy="337320"/>
            </a:xfrm>
            <a:custGeom>
              <a:avLst/>
              <a:gdLst/>
              <a:ahLst/>
              <a:rect l="l" t="t" r="r" b="b"/>
              <a:pathLst>
                <a:path w="780" h="350">
                  <a:moveTo>
                    <a:pt x="780" y="0"/>
                  </a:moveTo>
                  <a:lnTo>
                    <a:pt x="780" y="5"/>
                  </a:lnTo>
                  <a:lnTo>
                    <a:pt x="780" y="12"/>
                  </a:lnTo>
                  <a:lnTo>
                    <a:pt x="780" y="27"/>
                  </a:lnTo>
                  <a:lnTo>
                    <a:pt x="780" y="50"/>
                  </a:lnTo>
                  <a:lnTo>
                    <a:pt x="780" y="75"/>
                  </a:lnTo>
                  <a:lnTo>
                    <a:pt x="780" y="105"/>
                  </a:lnTo>
                  <a:lnTo>
                    <a:pt x="780" y="167"/>
                  </a:lnTo>
                  <a:lnTo>
                    <a:pt x="780" y="227"/>
                  </a:lnTo>
                  <a:lnTo>
                    <a:pt x="780" y="257"/>
                  </a:lnTo>
                  <a:lnTo>
                    <a:pt x="780" y="283"/>
                  </a:lnTo>
                  <a:lnTo>
                    <a:pt x="780" y="305"/>
                  </a:lnTo>
                  <a:lnTo>
                    <a:pt x="780" y="320"/>
                  </a:lnTo>
                  <a:lnTo>
                    <a:pt x="780" y="333"/>
                  </a:lnTo>
                  <a:lnTo>
                    <a:pt x="780" y="335"/>
                  </a:lnTo>
                  <a:lnTo>
                    <a:pt x="730" y="330"/>
                  </a:lnTo>
                  <a:lnTo>
                    <a:pt x="685" y="325"/>
                  </a:lnTo>
                  <a:lnTo>
                    <a:pt x="597" y="320"/>
                  </a:lnTo>
                  <a:lnTo>
                    <a:pt x="517" y="318"/>
                  </a:lnTo>
                  <a:lnTo>
                    <a:pt x="447" y="318"/>
                  </a:lnTo>
                  <a:lnTo>
                    <a:pt x="385" y="320"/>
                  </a:lnTo>
                  <a:lnTo>
                    <a:pt x="330" y="323"/>
                  </a:lnTo>
                  <a:lnTo>
                    <a:pt x="280" y="328"/>
                  </a:lnTo>
                  <a:lnTo>
                    <a:pt x="237" y="333"/>
                  </a:lnTo>
                  <a:lnTo>
                    <a:pt x="197" y="338"/>
                  </a:lnTo>
                  <a:lnTo>
                    <a:pt x="162" y="343"/>
                  </a:lnTo>
                  <a:lnTo>
                    <a:pt x="130" y="348"/>
                  </a:lnTo>
                  <a:lnTo>
                    <a:pt x="100" y="350"/>
                  </a:lnTo>
                  <a:lnTo>
                    <a:pt x="75" y="350"/>
                  </a:lnTo>
                  <a:lnTo>
                    <a:pt x="50" y="348"/>
                  </a:lnTo>
                  <a:lnTo>
                    <a:pt x="25" y="343"/>
                  </a:lnTo>
                  <a:lnTo>
                    <a:pt x="0" y="335"/>
                  </a:lnTo>
                  <a:lnTo>
                    <a:pt x="0" y="0"/>
                  </a:lnTo>
                  <a:lnTo>
                    <a:pt x="780" y="0"/>
                  </a:lnTo>
                  <a:close/>
                </a:path>
              </a:pathLst>
            </a:custGeom>
            <a:solidFill>
              <a:srgbClr val="908a6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8" name="Freeform 254"/>
            <p:cNvSpPr/>
            <p:nvPr/>
          </p:nvSpPr>
          <p:spPr>
            <a:xfrm>
              <a:off x="758520" y="2051640"/>
              <a:ext cx="912960" cy="342360"/>
            </a:xfrm>
            <a:custGeom>
              <a:avLst/>
              <a:gdLst/>
              <a:ahLst/>
              <a:rect l="l" t="t" r="r" b="b"/>
              <a:pathLst>
                <a:path w="780" h="355">
                  <a:moveTo>
                    <a:pt x="780" y="0"/>
                  </a:moveTo>
                  <a:lnTo>
                    <a:pt x="780" y="338"/>
                  </a:lnTo>
                  <a:lnTo>
                    <a:pt x="753" y="345"/>
                  </a:lnTo>
                  <a:lnTo>
                    <a:pt x="720" y="353"/>
                  </a:lnTo>
                  <a:lnTo>
                    <a:pt x="680" y="355"/>
                  </a:lnTo>
                  <a:lnTo>
                    <a:pt x="637" y="355"/>
                  </a:lnTo>
                  <a:lnTo>
                    <a:pt x="590" y="355"/>
                  </a:lnTo>
                  <a:lnTo>
                    <a:pt x="540" y="350"/>
                  </a:lnTo>
                  <a:lnTo>
                    <a:pt x="487" y="348"/>
                  </a:lnTo>
                  <a:lnTo>
                    <a:pt x="432" y="343"/>
                  </a:lnTo>
                  <a:lnTo>
                    <a:pt x="317" y="335"/>
                  </a:lnTo>
                  <a:lnTo>
                    <a:pt x="205" y="330"/>
                  </a:lnTo>
                  <a:lnTo>
                    <a:pt x="150" y="330"/>
                  </a:lnTo>
                  <a:lnTo>
                    <a:pt x="97" y="330"/>
                  </a:lnTo>
                  <a:lnTo>
                    <a:pt x="47" y="335"/>
                  </a:lnTo>
                  <a:lnTo>
                    <a:pt x="0" y="338"/>
                  </a:lnTo>
                  <a:lnTo>
                    <a:pt x="0" y="0"/>
                  </a:lnTo>
                  <a:lnTo>
                    <a:pt x="780" y="0"/>
                  </a:lnTo>
                  <a:close/>
                </a:path>
              </a:pathLst>
            </a:custGeom>
            <a:solidFill>
              <a:srgbClr val="d6deb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9" name="Freeform 253"/>
            <p:cNvSpPr/>
            <p:nvPr/>
          </p:nvSpPr>
          <p:spPr>
            <a:xfrm>
              <a:off x="758520" y="1191960"/>
              <a:ext cx="912960" cy="216720"/>
            </a:xfrm>
            <a:custGeom>
              <a:avLst/>
              <a:gdLst/>
              <a:ahLst/>
              <a:rect l="l" t="t" r="r" b="b"/>
              <a:pathLst>
                <a:path w="780" h="225">
                  <a:moveTo>
                    <a:pt x="780" y="30"/>
                  </a:moveTo>
                  <a:lnTo>
                    <a:pt x="780" y="205"/>
                  </a:lnTo>
                  <a:lnTo>
                    <a:pt x="753" y="210"/>
                  </a:lnTo>
                  <a:lnTo>
                    <a:pt x="715" y="215"/>
                  </a:lnTo>
                  <a:lnTo>
                    <a:pt x="670" y="218"/>
                  </a:lnTo>
                  <a:lnTo>
                    <a:pt x="622" y="220"/>
                  </a:lnTo>
                  <a:lnTo>
                    <a:pt x="567" y="223"/>
                  </a:lnTo>
                  <a:lnTo>
                    <a:pt x="510" y="225"/>
                  </a:lnTo>
                  <a:lnTo>
                    <a:pt x="390" y="225"/>
                  </a:lnTo>
                  <a:lnTo>
                    <a:pt x="270" y="225"/>
                  </a:lnTo>
                  <a:lnTo>
                    <a:pt x="212" y="223"/>
                  </a:lnTo>
                  <a:lnTo>
                    <a:pt x="157" y="220"/>
                  </a:lnTo>
                  <a:lnTo>
                    <a:pt x="110" y="218"/>
                  </a:lnTo>
                  <a:lnTo>
                    <a:pt x="65" y="215"/>
                  </a:lnTo>
                  <a:lnTo>
                    <a:pt x="30" y="210"/>
                  </a:lnTo>
                  <a:lnTo>
                    <a:pt x="0" y="205"/>
                  </a:lnTo>
                  <a:lnTo>
                    <a:pt x="0" y="30"/>
                  </a:lnTo>
                  <a:lnTo>
                    <a:pt x="22" y="18"/>
                  </a:lnTo>
                  <a:lnTo>
                    <a:pt x="50" y="10"/>
                  </a:lnTo>
                  <a:lnTo>
                    <a:pt x="82" y="5"/>
                  </a:lnTo>
                  <a:lnTo>
                    <a:pt x="120" y="3"/>
                  </a:lnTo>
                  <a:lnTo>
                    <a:pt x="160" y="0"/>
                  </a:lnTo>
                  <a:lnTo>
                    <a:pt x="205" y="0"/>
                  </a:lnTo>
                  <a:lnTo>
                    <a:pt x="300" y="0"/>
                  </a:lnTo>
                  <a:lnTo>
                    <a:pt x="325" y="0"/>
                  </a:lnTo>
                  <a:lnTo>
                    <a:pt x="355" y="0"/>
                  </a:lnTo>
                  <a:lnTo>
                    <a:pt x="415" y="3"/>
                  </a:lnTo>
                  <a:lnTo>
                    <a:pt x="482" y="8"/>
                  </a:lnTo>
                  <a:lnTo>
                    <a:pt x="552" y="13"/>
                  </a:lnTo>
                  <a:lnTo>
                    <a:pt x="617" y="18"/>
                  </a:lnTo>
                  <a:lnTo>
                    <a:pt x="680" y="23"/>
                  </a:lnTo>
                  <a:lnTo>
                    <a:pt x="710" y="25"/>
                  </a:lnTo>
                  <a:lnTo>
                    <a:pt x="735" y="28"/>
                  </a:lnTo>
                  <a:lnTo>
                    <a:pt x="760" y="28"/>
                  </a:lnTo>
                  <a:lnTo>
                    <a:pt x="780" y="30"/>
                  </a:lnTo>
                  <a:close/>
                </a:path>
              </a:pathLst>
            </a:custGeom>
            <a:solidFill>
              <a:srgbClr val="908a6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0" name="Freeform 252"/>
            <p:cNvSpPr/>
            <p:nvPr/>
          </p:nvSpPr>
          <p:spPr>
            <a:xfrm>
              <a:off x="758520" y="1824840"/>
              <a:ext cx="912960" cy="252720"/>
            </a:xfrm>
            <a:custGeom>
              <a:avLst/>
              <a:gdLst/>
              <a:ahLst/>
              <a:rect l="l" t="t" r="r" b="b"/>
              <a:pathLst>
                <a:path w="780" h="262">
                  <a:moveTo>
                    <a:pt x="780" y="0"/>
                  </a:moveTo>
                  <a:lnTo>
                    <a:pt x="780" y="235"/>
                  </a:lnTo>
                  <a:lnTo>
                    <a:pt x="753" y="242"/>
                  </a:lnTo>
                  <a:lnTo>
                    <a:pt x="715" y="247"/>
                  </a:lnTo>
                  <a:lnTo>
                    <a:pt x="670" y="252"/>
                  </a:lnTo>
                  <a:lnTo>
                    <a:pt x="622" y="255"/>
                  </a:lnTo>
                  <a:lnTo>
                    <a:pt x="567" y="260"/>
                  </a:lnTo>
                  <a:lnTo>
                    <a:pt x="510" y="262"/>
                  </a:lnTo>
                  <a:lnTo>
                    <a:pt x="390" y="262"/>
                  </a:lnTo>
                  <a:lnTo>
                    <a:pt x="270" y="262"/>
                  </a:lnTo>
                  <a:lnTo>
                    <a:pt x="212" y="260"/>
                  </a:lnTo>
                  <a:lnTo>
                    <a:pt x="157" y="255"/>
                  </a:lnTo>
                  <a:lnTo>
                    <a:pt x="110" y="252"/>
                  </a:lnTo>
                  <a:lnTo>
                    <a:pt x="65" y="247"/>
                  </a:lnTo>
                  <a:lnTo>
                    <a:pt x="30" y="242"/>
                  </a:lnTo>
                  <a:lnTo>
                    <a:pt x="0" y="235"/>
                  </a:lnTo>
                  <a:lnTo>
                    <a:pt x="0" y="0"/>
                  </a:lnTo>
                  <a:lnTo>
                    <a:pt x="85" y="5"/>
                  </a:lnTo>
                  <a:lnTo>
                    <a:pt x="165" y="10"/>
                  </a:lnTo>
                  <a:lnTo>
                    <a:pt x="237" y="12"/>
                  </a:lnTo>
                  <a:lnTo>
                    <a:pt x="302" y="15"/>
                  </a:lnTo>
                  <a:lnTo>
                    <a:pt x="360" y="15"/>
                  </a:lnTo>
                  <a:lnTo>
                    <a:pt x="415" y="15"/>
                  </a:lnTo>
                  <a:lnTo>
                    <a:pt x="465" y="15"/>
                  </a:lnTo>
                  <a:lnTo>
                    <a:pt x="510" y="12"/>
                  </a:lnTo>
                  <a:lnTo>
                    <a:pt x="550" y="12"/>
                  </a:lnTo>
                  <a:lnTo>
                    <a:pt x="587" y="10"/>
                  </a:lnTo>
                  <a:lnTo>
                    <a:pt x="625" y="7"/>
                  </a:lnTo>
                  <a:lnTo>
                    <a:pt x="657" y="5"/>
                  </a:lnTo>
                  <a:lnTo>
                    <a:pt x="720" y="2"/>
                  </a:lnTo>
                  <a:lnTo>
                    <a:pt x="78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 name="Freeform 251"/>
            <p:cNvSpPr/>
            <p:nvPr/>
          </p:nvSpPr>
          <p:spPr>
            <a:xfrm>
              <a:off x="758520" y="1592280"/>
              <a:ext cx="912960" cy="326160"/>
            </a:xfrm>
            <a:custGeom>
              <a:avLst/>
              <a:gdLst/>
              <a:ahLst/>
              <a:rect l="l" t="t" r="r" b="b"/>
              <a:pathLst>
                <a:path w="780" h="338">
                  <a:moveTo>
                    <a:pt x="780" y="0"/>
                  </a:moveTo>
                  <a:lnTo>
                    <a:pt x="780" y="6"/>
                  </a:lnTo>
                  <a:lnTo>
                    <a:pt x="780" y="16"/>
                  </a:lnTo>
                  <a:lnTo>
                    <a:pt x="780" y="31"/>
                  </a:lnTo>
                  <a:lnTo>
                    <a:pt x="780" y="53"/>
                  </a:lnTo>
                  <a:lnTo>
                    <a:pt x="780" y="78"/>
                  </a:lnTo>
                  <a:lnTo>
                    <a:pt x="780" y="108"/>
                  </a:lnTo>
                  <a:lnTo>
                    <a:pt x="780" y="171"/>
                  </a:lnTo>
                  <a:lnTo>
                    <a:pt x="780" y="231"/>
                  </a:lnTo>
                  <a:lnTo>
                    <a:pt x="780" y="261"/>
                  </a:lnTo>
                  <a:lnTo>
                    <a:pt x="780" y="286"/>
                  </a:lnTo>
                  <a:lnTo>
                    <a:pt x="780" y="308"/>
                  </a:lnTo>
                  <a:lnTo>
                    <a:pt x="780" y="323"/>
                  </a:lnTo>
                  <a:lnTo>
                    <a:pt x="780" y="336"/>
                  </a:lnTo>
                  <a:lnTo>
                    <a:pt x="780" y="338"/>
                  </a:lnTo>
                  <a:lnTo>
                    <a:pt x="738" y="326"/>
                  </a:lnTo>
                  <a:lnTo>
                    <a:pt x="700" y="316"/>
                  </a:lnTo>
                  <a:lnTo>
                    <a:pt x="667" y="308"/>
                  </a:lnTo>
                  <a:lnTo>
                    <a:pt x="635" y="303"/>
                  </a:lnTo>
                  <a:lnTo>
                    <a:pt x="600" y="301"/>
                  </a:lnTo>
                  <a:lnTo>
                    <a:pt x="565" y="298"/>
                  </a:lnTo>
                  <a:lnTo>
                    <a:pt x="525" y="298"/>
                  </a:lnTo>
                  <a:lnTo>
                    <a:pt x="480" y="298"/>
                  </a:lnTo>
                  <a:lnTo>
                    <a:pt x="427" y="301"/>
                  </a:lnTo>
                  <a:lnTo>
                    <a:pt x="367" y="306"/>
                  </a:lnTo>
                  <a:lnTo>
                    <a:pt x="302" y="311"/>
                  </a:lnTo>
                  <a:lnTo>
                    <a:pt x="237" y="318"/>
                  </a:lnTo>
                  <a:lnTo>
                    <a:pt x="170" y="326"/>
                  </a:lnTo>
                  <a:lnTo>
                    <a:pt x="107" y="333"/>
                  </a:lnTo>
                  <a:lnTo>
                    <a:pt x="50" y="336"/>
                  </a:lnTo>
                  <a:lnTo>
                    <a:pt x="25" y="338"/>
                  </a:lnTo>
                  <a:lnTo>
                    <a:pt x="0" y="338"/>
                  </a:lnTo>
                  <a:lnTo>
                    <a:pt x="0" y="0"/>
                  </a:lnTo>
                  <a:lnTo>
                    <a:pt x="780" y="0"/>
                  </a:lnTo>
                  <a:close/>
                </a:path>
              </a:pathLst>
            </a:custGeom>
            <a:solidFill>
              <a:srgbClr val="996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2" name="Freeform 250"/>
            <p:cNvSpPr/>
            <p:nvPr/>
          </p:nvSpPr>
          <p:spPr>
            <a:xfrm>
              <a:off x="758520" y="1378080"/>
              <a:ext cx="912960" cy="244080"/>
            </a:xfrm>
            <a:custGeom>
              <a:avLst/>
              <a:gdLst/>
              <a:ahLst/>
              <a:rect l="l" t="t" r="r" b="b"/>
              <a:pathLst>
                <a:path w="780" h="253">
                  <a:moveTo>
                    <a:pt x="780" y="15"/>
                  </a:moveTo>
                  <a:lnTo>
                    <a:pt x="780" y="238"/>
                  </a:lnTo>
                  <a:lnTo>
                    <a:pt x="758" y="248"/>
                  </a:lnTo>
                  <a:lnTo>
                    <a:pt x="730" y="253"/>
                  </a:lnTo>
                  <a:lnTo>
                    <a:pt x="698" y="253"/>
                  </a:lnTo>
                  <a:lnTo>
                    <a:pt x="660" y="250"/>
                  </a:lnTo>
                  <a:lnTo>
                    <a:pt x="620" y="248"/>
                  </a:lnTo>
                  <a:lnTo>
                    <a:pt x="575" y="243"/>
                  </a:lnTo>
                  <a:lnTo>
                    <a:pt x="527" y="240"/>
                  </a:lnTo>
                  <a:lnTo>
                    <a:pt x="480" y="238"/>
                  </a:lnTo>
                  <a:lnTo>
                    <a:pt x="455" y="238"/>
                  </a:lnTo>
                  <a:lnTo>
                    <a:pt x="425" y="240"/>
                  </a:lnTo>
                  <a:lnTo>
                    <a:pt x="362" y="243"/>
                  </a:lnTo>
                  <a:lnTo>
                    <a:pt x="292" y="248"/>
                  </a:lnTo>
                  <a:lnTo>
                    <a:pt x="222" y="250"/>
                  </a:lnTo>
                  <a:lnTo>
                    <a:pt x="152" y="253"/>
                  </a:lnTo>
                  <a:lnTo>
                    <a:pt x="120" y="253"/>
                  </a:lnTo>
                  <a:lnTo>
                    <a:pt x="90" y="253"/>
                  </a:lnTo>
                  <a:lnTo>
                    <a:pt x="62" y="250"/>
                  </a:lnTo>
                  <a:lnTo>
                    <a:pt x="37" y="248"/>
                  </a:lnTo>
                  <a:lnTo>
                    <a:pt x="17" y="243"/>
                  </a:lnTo>
                  <a:lnTo>
                    <a:pt x="0" y="238"/>
                  </a:lnTo>
                  <a:lnTo>
                    <a:pt x="0" y="15"/>
                  </a:lnTo>
                  <a:lnTo>
                    <a:pt x="25" y="10"/>
                  </a:lnTo>
                  <a:lnTo>
                    <a:pt x="55" y="5"/>
                  </a:lnTo>
                  <a:lnTo>
                    <a:pt x="90" y="2"/>
                  </a:lnTo>
                  <a:lnTo>
                    <a:pt x="132" y="0"/>
                  </a:lnTo>
                  <a:lnTo>
                    <a:pt x="175" y="0"/>
                  </a:lnTo>
                  <a:lnTo>
                    <a:pt x="222" y="0"/>
                  </a:lnTo>
                  <a:lnTo>
                    <a:pt x="322" y="2"/>
                  </a:lnTo>
                  <a:lnTo>
                    <a:pt x="422" y="5"/>
                  </a:lnTo>
                  <a:lnTo>
                    <a:pt x="472" y="7"/>
                  </a:lnTo>
                  <a:lnTo>
                    <a:pt x="517" y="10"/>
                  </a:lnTo>
                  <a:lnTo>
                    <a:pt x="560" y="12"/>
                  </a:lnTo>
                  <a:lnTo>
                    <a:pt x="600" y="12"/>
                  </a:lnTo>
                  <a:lnTo>
                    <a:pt x="632" y="15"/>
                  </a:lnTo>
                  <a:lnTo>
                    <a:pt x="660" y="15"/>
                  </a:lnTo>
                  <a:lnTo>
                    <a:pt x="683" y="15"/>
                  </a:lnTo>
                  <a:lnTo>
                    <a:pt x="703" y="15"/>
                  </a:lnTo>
                  <a:lnTo>
                    <a:pt x="718" y="15"/>
                  </a:lnTo>
                  <a:lnTo>
                    <a:pt x="730" y="15"/>
                  </a:lnTo>
                  <a:lnTo>
                    <a:pt x="740" y="15"/>
                  </a:lnTo>
                  <a:lnTo>
                    <a:pt x="748" y="15"/>
                  </a:lnTo>
                  <a:lnTo>
                    <a:pt x="760" y="15"/>
                  </a:lnTo>
                  <a:lnTo>
                    <a:pt x="765" y="15"/>
                  </a:lnTo>
                  <a:lnTo>
                    <a:pt x="770" y="15"/>
                  </a:lnTo>
                  <a:lnTo>
                    <a:pt x="773" y="15"/>
                  </a:lnTo>
                  <a:lnTo>
                    <a:pt x="780" y="15"/>
                  </a:lnTo>
                  <a:close/>
                </a:path>
              </a:pathLst>
            </a:custGeom>
            <a:solidFill>
              <a:srgbClr val="666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3" name="Freeform 249"/>
            <p:cNvSpPr/>
            <p:nvPr/>
          </p:nvSpPr>
          <p:spPr>
            <a:xfrm>
              <a:off x="752760" y="4067280"/>
              <a:ext cx="912960" cy="340560"/>
            </a:xfrm>
            <a:custGeom>
              <a:avLst/>
              <a:gdLst/>
              <a:ahLst/>
              <a:rect l="l" t="t" r="r" b="b"/>
              <a:pathLst>
                <a:path w="780" h="353">
                  <a:moveTo>
                    <a:pt x="780" y="0"/>
                  </a:moveTo>
                  <a:lnTo>
                    <a:pt x="780" y="5"/>
                  </a:lnTo>
                  <a:lnTo>
                    <a:pt x="780" y="15"/>
                  </a:lnTo>
                  <a:lnTo>
                    <a:pt x="780" y="30"/>
                  </a:lnTo>
                  <a:lnTo>
                    <a:pt x="780" y="53"/>
                  </a:lnTo>
                  <a:lnTo>
                    <a:pt x="780" y="78"/>
                  </a:lnTo>
                  <a:lnTo>
                    <a:pt x="780" y="108"/>
                  </a:lnTo>
                  <a:lnTo>
                    <a:pt x="780" y="171"/>
                  </a:lnTo>
                  <a:lnTo>
                    <a:pt x="780" y="231"/>
                  </a:lnTo>
                  <a:lnTo>
                    <a:pt x="780" y="261"/>
                  </a:lnTo>
                  <a:lnTo>
                    <a:pt x="780" y="286"/>
                  </a:lnTo>
                  <a:lnTo>
                    <a:pt x="780" y="308"/>
                  </a:lnTo>
                  <a:lnTo>
                    <a:pt x="780" y="323"/>
                  </a:lnTo>
                  <a:lnTo>
                    <a:pt x="780" y="336"/>
                  </a:lnTo>
                  <a:lnTo>
                    <a:pt x="780" y="338"/>
                  </a:lnTo>
                  <a:lnTo>
                    <a:pt x="730" y="333"/>
                  </a:lnTo>
                  <a:lnTo>
                    <a:pt x="685" y="328"/>
                  </a:lnTo>
                  <a:lnTo>
                    <a:pt x="597" y="323"/>
                  </a:lnTo>
                  <a:lnTo>
                    <a:pt x="517" y="321"/>
                  </a:lnTo>
                  <a:lnTo>
                    <a:pt x="447" y="321"/>
                  </a:lnTo>
                  <a:lnTo>
                    <a:pt x="385" y="323"/>
                  </a:lnTo>
                  <a:lnTo>
                    <a:pt x="330" y="326"/>
                  </a:lnTo>
                  <a:lnTo>
                    <a:pt x="280" y="331"/>
                  </a:lnTo>
                  <a:lnTo>
                    <a:pt x="237" y="336"/>
                  </a:lnTo>
                  <a:lnTo>
                    <a:pt x="197" y="341"/>
                  </a:lnTo>
                  <a:lnTo>
                    <a:pt x="162" y="346"/>
                  </a:lnTo>
                  <a:lnTo>
                    <a:pt x="130" y="351"/>
                  </a:lnTo>
                  <a:lnTo>
                    <a:pt x="100" y="353"/>
                  </a:lnTo>
                  <a:lnTo>
                    <a:pt x="75" y="353"/>
                  </a:lnTo>
                  <a:lnTo>
                    <a:pt x="50" y="351"/>
                  </a:lnTo>
                  <a:lnTo>
                    <a:pt x="25" y="346"/>
                  </a:lnTo>
                  <a:lnTo>
                    <a:pt x="0" y="338"/>
                  </a:lnTo>
                  <a:lnTo>
                    <a:pt x="0" y="0"/>
                  </a:lnTo>
                  <a:lnTo>
                    <a:pt x="780" y="0"/>
                  </a:lnTo>
                  <a:close/>
                </a:path>
              </a:pathLst>
            </a:custGeom>
            <a:solidFill>
              <a:srgbClr val="908a6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4" name="Freeform 248"/>
            <p:cNvSpPr/>
            <p:nvPr/>
          </p:nvSpPr>
          <p:spPr>
            <a:xfrm>
              <a:off x="752760" y="3761280"/>
              <a:ext cx="912960" cy="342360"/>
            </a:xfrm>
            <a:custGeom>
              <a:avLst/>
              <a:gdLst/>
              <a:ahLst/>
              <a:rect l="l" t="t" r="r" b="b"/>
              <a:pathLst>
                <a:path w="780" h="355">
                  <a:moveTo>
                    <a:pt x="780" y="0"/>
                  </a:moveTo>
                  <a:lnTo>
                    <a:pt x="780" y="337"/>
                  </a:lnTo>
                  <a:lnTo>
                    <a:pt x="753" y="345"/>
                  </a:lnTo>
                  <a:lnTo>
                    <a:pt x="720" y="352"/>
                  </a:lnTo>
                  <a:lnTo>
                    <a:pt x="680" y="355"/>
                  </a:lnTo>
                  <a:lnTo>
                    <a:pt x="637" y="355"/>
                  </a:lnTo>
                  <a:lnTo>
                    <a:pt x="590" y="355"/>
                  </a:lnTo>
                  <a:lnTo>
                    <a:pt x="540" y="350"/>
                  </a:lnTo>
                  <a:lnTo>
                    <a:pt x="487" y="347"/>
                  </a:lnTo>
                  <a:lnTo>
                    <a:pt x="432" y="342"/>
                  </a:lnTo>
                  <a:lnTo>
                    <a:pt x="317" y="335"/>
                  </a:lnTo>
                  <a:lnTo>
                    <a:pt x="205" y="327"/>
                  </a:lnTo>
                  <a:lnTo>
                    <a:pt x="150" y="327"/>
                  </a:lnTo>
                  <a:lnTo>
                    <a:pt x="97" y="327"/>
                  </a:lnTo>
                  <a:lnTo>
                    <a:pt x="47" y="332"/>
                  </a:lnTo>
                  <a:lnTo>
                    <a:pt x="0" y="337"/>
                  </a:lnTo>
                  <a:lnTo>
                    <a:pt x="0" y="0"/>
                  </a:lnTo>
                  <a:lnTo>
                    <a:pt x="78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 name="Freeform 247"/>
            <p:cNvSpPr/>
            <p:nvPr/>
          </p:nvSpPr>
          <p:spPr>
            <a:xfrm>
              <a:off x="752760" y="2898720"/>
              <a:ext cx="912960" cy="216720"/>
            </a:xfrm>
            <a:custGeom>
              <a:avLst/>
              <a:gdLst/>
              <a:ahLst/>
              <a:rect l="l" t="t" r="r" b="b"/>
              <a:pathLst>
                <a:path w="780" h="225">
                  <a:moveTo>
                    <a:pt x="780" y="28"/>
                  </a:moveTo>
                  <a:lnTo>
                    <a:pt x="780" y="205"/>
                  </a:lnTo>
                  <a:lnTo>
                    <a:pt x="753" y="210"/>
                  </a:lnTo>
                  <a:lnTo>
                    <a:pt x="715" y="215"/>
                  </a:lnTo>
                  <a:lnTo>
                    <a:pt x="670" y="218"/>
                  </a:lnTo>
                  <a:lnTo>
                    <a:pt x="622" y="220"/>
                  </a:lnTo>
                  <a:lnTo>
                    <a:pt x="567" y="223"/>
                  </a:lnTo>
                  <a:lnTo>
                    <a:pt x="510" y="225"/>
                  </a:lnTo>
                  <a:lnTo>
                    <a:pt x="390" y="225"/>
                  </a:lnTo>
                  <a:lnTo>
                    <a:pt x="270" y="225"/>
                  </a:lnTo>
                  <a:lnTo>
                    <a:pt x="212" y="223"/>
                  </a:lnTo>
                  <a:lnTo>
                    <a:pt x="157" y="220"/>
                  </a:lnTo>
                  <a:lnTo>
                    <a:pt x="110" y="218"/>
                  </a:lnTo>
                  <a:lnTo>
                    <a:pt x="65" y="215"/>
                  </a:lnTo>
                  <a:lnTo>
                    <a:pt x="30" y="210"/>
                  </a:lnTo>
                  <a:lnTo>
                    <a:pt x="0" y="205"/>
                  </a:lnTo>
                  <a:lnTo>
                    <a:pt x="0" y="28"/>
                  </a:lnTo>
                  <a:lnTo>
                    <a:pt x="22" y="18"/>
                  </a:lnTo>
                  <a:lnTo>
                    <a:pt x="50" y="10"/>
                  </a:lnTo>
                  <a:lnTo>
                    <a:pt x="82" y="5"/>
                  </a:lnTo>
                  <a:lnTo>
                    <a:pt x="120" y="3"/>
                  </a:lnTo>
                  <a:lnTo>
                    <a:pt x="160" y="0"/>
                  </a:lnTo>
                  <a:lnTo>
                    <a:pt x="205" y="0"/>
                  </a:lnTo>
                  <a:lnTo>
                    <a:pt x="300" y="0"/>
                  </a:lnTo>
                  <a:lnTo>
                    <a:pt x="325" y="0"/>
                  </a:lnTo>
                  <a:lnTo>
                    <a:pt x="355" y="0"/>
                  </a:lnTo>
                  <a:lnTo>
                    <a:pt x="415" y="3"/>
                  </a:lnTo>
                  <a:lnTo>
                    <a:pt x="482" y="8"/>
                  </a:lnTo>
                  <a:lnTo>
                    <a:pt x="552" y="13"/>
                  </a:lnTo>
                  <a:lnTo>
                    <a:pt x="617" y="18"/>
                  </a:lnTo>
                  <a:lnTo>
                    <a:pt x="680" y="20"/>
                  </a:lnTo>
                  <a:lnTo>
                    <a:pt x="710" y="23"/>
                  </a:lnTo>
                  <a:lnTo>
                    <a:pt x="735" y="25"/>
                  </a:lnTo>
                  <a:lnTo>
                    <a:pt x="760" y="28"/>
                  </a:lnTo>
                  <a:lnTo>
                    <a:pt x="780" y="28"/>
                  </a:lnTo>
                  <a:close/>
                </a:path>
              </a:pathLst>
            </a:custGeom>
            <a:solidFill>
              <a:srgbClr val="666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6" name="Freeform 246"/>
            <p:cNvSpPr/>
            <p:nvPr/>
          </p:nvSpPr>
          <p:spPr>
            <a:xfrm>
              <a:off x="752760" y="3529080"/>
              <a:ext cx="912960" cy="256320"/>
            </a:xfrm>
            <a:custGeom>
              <a:avLst/>
              <a:gdLst/>
              <a:ahLst/>
              <a:rect l="l" t="t" r="r" b="b"/>
              <a:pathLst>
                <a:path w="780" h="266">
                  <a:moveTo>
                    <a:pt x="780" y="0"/>
                  </a:moveTo>
                  <a:lnTo>
                    <a:pt x="780" y="236"/>
                  </a:lnTo>
                  <a:lnTo>
                    <a:pt x="753" y="243"/>
                  </a:lnTo>
                  <a:lnTo>
                    <a:pt x="715" y="248"/>
                  </a:lnTo>
                  <a:lnTo>
                    <a:pt x="670" y="253"/>
                  </a:lnTo>
                  <a:lnTo>
                    <a:pt x="622" y="258"/>
                  </a:lnTo>
                  <a:lnTo>
                    <a:pt x="567" y="261"/>
                  </a:lnTo>
                  <a:lnTo>
                    <a:pt x="510" y="263"/>
                  </a:lnTo>
                  <a:lnTo>
                    <a:pt x="390" y="266"/>
                  </a:lnTo>
                  <a:lnTo>
                    <a:pt x="270" y="263"/>
                  </a:lnTo>
                  <a:lnTo>
                    <a:pt x="212" y="261"/>
                  </a:lnTo>
                  <a:lnTo>
                    <a:pt x="157" y="258"/>
                  </a:lnTo>
                  <a:lnTo>
                    <a:pt x="110" y="253"/>
                  </a:lnTo>
                  <a:lnTo>
                    <a:pt x="65" y="248"/>
                  </a:lnTo>
                  <a:lnTo>
                    <a:pt x="30" y="243"/>
                  </a:lnTo>
                  <a:lnTo>
                    <a:pt x="0" y="236"/>
                  </a:lnTo>
                  <a:lnTo>
                    <a:pt x="0" y="0"/>
                  </a:lnTo>
                  <a:lnTo>
                    <a:pt x="85" y="8"/>
                  </a:lnTo>
                  <a:lnTo>
                    <a:pt x="165" y="10"/>
                  </a:lnTo>
                  <a:lnTo>
                    <a:pt x="237" y="15"/>
                  </a:lnTo>
                  <a:lnTo>
                    <a:pt x="302" y="15"/>
                  </a:lnTo>
                  <a:lnTo>
                    <a:pt x="360" y="18"/>
                  </a:lnTo>
                  <a:lnTo>
                    <a:pt x="415" y="18"/>
                  </a:lnTo>
                  <a:lnTo>
                    <a:pt x="465" y="15"/>
                  </a:lnTo>
                  <a:lnTo>
                    <a:pt x="510" y="15"/>
                  </a:lnTo>
                  <a:lnTo>
                    <a:pt x="550" y="13"/>
                  </a:lnTo>
                  <a:lnTo>
                    <a:pt x="587" y="10"/>
                  </a:lnTo>
                  <a:lnTo>
                    <a:pt x="625" y="8"/>
                  </a:lnTo>
                  <a:lnTo>
                    <a:pt x="657" y="5"/>
                  </a:lnTo>
                  <a:lnTo>
                    <a:pt x="720" y="3"/>
                  </a:lnTo>
                  <a:lnTo>
                    <a:pt x="780" y="0"/>
                  </a:lnTo>
                  <a:close/>
                </a:path>
              </a:pathLst>
            </a:custGeom>
            <a:solidFill>
              <a:srgbClr val="d6deb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7" name="Freeform 245"/>
            <p:cNvSpPr/>
            <p:nvPr/>
          </p:nvSpPr>
          <p:spPr>
            <a:xfrm>
              <a:off x="752760" y="3300120"/>
              <a:ext cx="912960" cy="323280"/>
            </a:xfrm>
            <a:custGeom>
              <a:avLst/>
              <a:gdLst/>
              <a:ahLst/>
              <a:rect l="l" t="t" r="r" b="b"/>
              <a:pathLst>
                <a:path w="780" h="335">
                  <a:moveTo>
                    <a:pt x="780" y="0"/>
                  </a:moveTo>
                  <a:lnTo>
                    <a:pt x="780" y="5"/>
                  </a:lnTo>
                  <a:lnTo>
                    <a:pt x="780" y="15"/>
                  </a:lnTo>
                  <a:lnTo>
                    <a:pt x="780" y="30"/>
                  </a:lnTo>
                  <a:lnTo>
                    <a:pt x="780" y="52"/>
                  </a:lnTo>
                  <a:lnTo>
                    <a:pt x="780" y="77"/>
                  </a:lnTo>
                  <a:lnTo>
                    <a:pt x="780" y="105"/>
                  </a:lnTo>
                  <a:lnTo>
                    <a:pt x="780" y="167"/>
                  </a:lnTo>
                  <a:lnTo>
                    <a:pt x="780" y="230"/>
                  </a:lnTo>
                  <a:lnTo>
                    <a:pt x="780" y="257"/>
                  </a:lnTo>
                  <a:lnTo>
                    <a:pt x="780" y="282"/>
                  </a:lnTo>
                  <a:lnTo>
                    <a:pt x="780" y="305"/>
                  </a:lnTo>
                  <a:lnTo>
                    <a:pt x="780" y="320"/>
                  </a:lnTo>
                  <a:lnTo>
                    <a:pt x="780" y="332"/>
                  </a:lnTo>
                  <a:lnTo>
                    <a:pt x="780" y="335"/>
                  </a:lnTo>
                  <a:lnTo>
                    <a:pt x="738" y="322"/>
                  </a:lnTo>
                  <a:lnTo>
                    <a:pt x="700" y="312"/>
                  </a:lnTo>
                  <a:lnTo>
                    <a:pt x="667" y="307"/>
                  </a:lnTo>
                  <a:lnTo>
                    <a:pt x="635" y="302"/>
                  </a:lnTo>
                  <a:lnTo>
                    <a:pt x="600" y="300"/>
                  </a:lnTo>
                  <a:lnTo>
                    <a:pt x="565" y="297"/>
                  </a:lnTo>
                  <a:lnTo>
                    <a:pt x="525" y="297"/>
                  </a:lnTo>
                  <a:lnTo>
                    <a:pt x="480" y="297"/>
                  </a:lnTo>
                  <a:lnTo>
                    <a:pt x="427" y="300"/>
                  </a:lnTo>
                  <a:lnTo>
                    <a:pt x="367" y="302"/>
                  </a:lnTo>
                  <a:lnTo>
                    <a:pt x="302" y="310"/>
                  </a:lnTo>
                  <a:lnTo>
                    <a:pt x="237" y="317"/>
                  </a:lnTo>
                  <a:lnTo>
                    <a:pt x="170" y="322"/>
                  </a:lnTo>
                  <a:lnTo>
                    <a:pt x="107" y="330"/>
                  </a:lnTo>
                  <a:lnTo>
                    <a:pt x="50" y="332"/>
                  </a:lnTo>
                  <a:lnTo>
                    <a:pt x="25" y="335"/>
                  </a:lnTo>
                  <a:lnTo>
                    <a:pt x="0" y="335"/>
                  </a:lnTo>
                  <a:lnTo>
                    <a:pt x="0" y="0"/>
                  </a:lnTo>
                  <a:lnTo>
                    <a:pt x="780" y="0"/>
                  </a:lnTo>
                  <a:close/>
                </a:path>
              </a:pathLst>
            </a:custGeom>
            <a:solidFill>
              <a:srgbClr val="996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8" name="Freeform 244"/>
            <p:cNvSpPr/>
            <p:nvPr/>
          </p:nvSpPr>
          <p:spPr>
            <a:xfrm>
              <a:off x="752760" y="3081960"/>
              <a:ext cx="912960" cy="246960"/>
            </a:xfrm>
            <a:custGeom>
              <a:avLst/>
              <a:gdLst/>
              <a:ahLst/>
              <a:rect l="l" t="t" r="r" b="b"/>
              <a:pathLst>
                <a:path w="780" h="256">
                  <a:moveTo>
                    <a:pt x="780" y="15"/>
                  </a:moveTo>
                  <a:lnTo>
                    <a:pt x="780" y="238"/>
                  </a:lnTo>
                  <a:lnTo>
                    <a:pt x="758" y="248"/>
                  </a:lnTo>
                  <a:lnTo>
                    <a:pt x="730" y="253"/>
                  </a:lnTo>
                  <a:lnTo>
                    <a:pt x="698" y="256"/>
                  </a:lnTo>
                  <a:lnTo>
                    <a:pt x="660" y="253"/>
                  </a:lnTo>
                  <a:lnTo>
                    <a:pt x="620" y="248"/>
                  </a:lnTo>
                  <a:lnTo>
                    <a:pt x="575" y="243"/>
                  </a:lnTo>
                  <a:lnTo>
                    <a:pt x="527" y="241"/>
                  </a:lnTo>
                  <a:lnTo>
                    <a:pt x="480" y="238"/>
                  </a:lnTo>
                  <a:lnTo>
                    <a:pt x="455" y="238"/>
                  </a:lnTo>
                  <a:lnTo>
                    <a:pt x="425" y="241"/>
                  </a:lnTo>
                  <a:lnTo>
                    <a:pt x="362" y="243"/>
                  </a:lnTo>
                  <a:lnTo>
                    <a:pt x="292" y="248"/>
                  </a:lnTo>
                  <a:lnTo>
                    <a:pt x="222" y="253"/>
                  </a:lnTo>
                  <a:lnTo>
                    <a:pt x="152" y="256"/>
                  </a:lnTo>
                  <a:lnTo>
                    <a:pt x="120" y="256"/>
                  </a:lnTo>
                  <a:lnTo>
                    <a:pt x="90" y="253"/>
                  </a:lnTo>
                  <a:lnTo>
                    <a:pt x="62" y="253"/>
                  </a:lnTo>
                  <a:lnTo>
                    <a:pt x="37" y="248"/>
                  </a:lnTo>
                  <a:lnTo>
                    <a:pt x="17" y="246"/>
                  </a:lnTo>
                  <a:lnTo>
                    <a:pt x="0" y="238"/>
                  </a:lnTo>
                  <a:lnTo>
                    <a:pt x="0" y="15"/>
                  </a:lnTo>
                  <a:lnTo>
                    <a:pt x="25" y="10"/>
                  </a:lnTo>
                  <a:lnTo>
                    <a:pt x="55" y="5"/>
                  </a:lnTo>
                  <a:lnTo>
                    <a:pt x="90" y="3"/>
                  </a:lnTo>
                  <a:lnTo>
                    <a:pt x="132" y="0"/>
                  </a:lnTo>
                  <a:lnTo>
                    <a:pt x="175" y="0"/>
                  </a:lnTo>
                  <a:lnTo>
                    <a:pt x="222" y="0"/>
                  </a:lnTo>
                  <a:lnTo>
                    <a:pt x="322" y="3"/>
                  </a:lnTo>
                  <a:lnTo>
                    <a:pt x="422" y="5"/>
                  </a:lnTo>
                  <a:lnTo>
                    <a:pt x="472" y="8"/>
                  </a:lnTo>
                  <a:lnTo>
                    <a:pt x="517" y="10"/>
                  </a:lnTo>
                  <a:lnTo>
                    <a:pt x="560" y="13"/>
                  </a:lnTo>
                  <a:lnTo>
                    <a:pt x="600" y="13"/>
                  </a:lnTo>
                  <a:lnTo>
                    <a:pt x="632" y="15"/>
                  </a:lnTo>
                  <a:lnTo>
                    <a:pt x="660" y="15"/>
                  </a:lnTo>
                  <a:lnTo>
                    <a:pt x="682" y="15"/>
                  </a:lnTo>
                  <a:lnTo>
                    <a:pt x="703" y="15"/>
                  </a:lnTo>
                  <a:lnTo>
                    <a:pt x="718" y="15"/>
                  </a:lnTo>
                  <a:lnTo>
                    <a:pt x="730" y="15"/>
                  </a:lnTo>
                  <a:lnTo>
                    <a:pt x="740" y="15"/>
                  </a:lnTo>
                  <a:lnTo>
                    <a:pt x="748" y="15"/>
                  </a:lnTo>
                  <a:lnTo>
                    <a:pt x="760" y="15"/>
                  </a:lnTo>
                  <a:lnTo>
                    <a:pt x="765" y="15"/>
                  </a:lnTo>
                  <a:lnTo>
                    <a:pt x="770" y="15"/>
                  </a:lnTo>
                  <a:lnTo>
                    <a:pt x="773" y="15"/>
                  </a:lnTo>
                  <a:lnTo>
                    <a:pt x="780" y="15"/>
                  </a:lnTo>
                  <a:close/>
                </a:path>
              </a:pathLst>
            </a:custGeom>
            <a:solidFill>
              <a:srgbClr val="cccc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9" name="Freeform 243"/>
            <p:cNvSpPr/>
            <p:nvPr/>
          </p:nvSpPr>
          <p:spPr>
            <a:xfrm>
              <a:off x="758520" y="4852800"/>
              <a:ext cx="912960" cy="337320"/>
            </a:xfrm>
            <a:custGeom>
              <a:avLst/>
              <a:gdLst/>
              <a:ahLst/>
              <a:rect l="l" t="t" r="r" b="b"/>
              <a:pathLst>
                <a:path w="780" h="350">
                  <a:moveTo>
                    <a:pt x="780" y="0"/>
                  </a:moveTo>
                  <a:lnTo>
                    <a:pt x="780" y="5"/>
                  </a:lnTo>
                  <a:lnTo>
                    <a:pt x="780" y="15"/>
                  </a:lnTo>
                  <a:lnTo>
                    <a:pt x="780" y="30"/>
                  </a:lnTo>
                  <a:lnTo>
                    <a:pt x="780" y="52"/>
                  </a:lnTo>
                  <a:lnTo>
                    <a:pt x="780" y="77"/>
                  </a:lnTo>
                  <a:lnTo>
                    <a:pt x="780" y="107"/>
                  </a:lnTo>
                  <a:lnTo>
                    <a:pt x="780" y="167"/>
                  </a:lnTo>
                  <a:lnTo>
                    <a:pt x="780" y="227"/>
                  </a:lnTo>
                  <a:lnTo>
                    <a:pt x="780" y="257"/>
                  </a:lnTo>
                  <a:lnTo>
                    <a:pt x="780" y="282"/>
                  </a:lnTo>
                  <a:lnTo>
                    <a:pt x="780" y="305"/>
                  </a:lnTo>
                  <a:lnTo>
                    <a:pt x="780" y="320"/>
                  </a:lnTo>
                  <a:lnTo>
                    <a:pt x="780" y="332"/>
                  </a:lnTo>
                  <a:lnTo>
                    <a:pt x="780" y="335"/>
                  </a:lnTo>
                  <a:lnTo>
                    <a:pt x="730" y="330"/>
                  </a:lnTo>
                  <a:lnTo>
                    <a:pt x="685" y="325"/>
                  </a:lnTo>
                  <a:lnTo>
                    <a:pt x="597" y="320"/>
                  </a:lnTo>
                  <a:lnTo>
                    <a:pt x="517" y="317"/>
                  </a:lnTo>
                  <a:lnTo>
                    <a:pt x="447" y="317"/>
                  </a:lnTo>
                  <a:lnTo>
                    <a:pt x="385" y="320"/>
                  </a:lnTo>
                  <a:lnTo>
                    <a:pt x="330" y="322"/>
                  </a:lnTo>
                  <a:lnTo>
                    <a:pt x="280" y="327"/>
                  </a:lnTo>
                  <a:lnTo>
                    <a:pt x="237" y="332"/>
                  </a:lnTo>
                  <a:lnTo>
                    <a:pt x="197" y="337"/>
                  </a:lnTo>
                  <a:lnTo>
                    <a:pt x="162" y="342"/>
                  </a:lnTo>
                  <a:lnTo>
                    <a:pt x="130" y="347"/>
                  </a:lnTo>
                  <a:lnTo>
                    <a:pt x="100" y="350"/>
                  </a:lnTo>
                  <a:lnTo>
                    <a:pt x="75" y="350"/>
                  </a:lnTo>
                  <a:lnTo>
                    <a:pt x="50" y="347"/>
                  </a:lnTo>
                  <a:lnTo>
                    <a:pt x="25" y="342"/>
                  </a:lnTo>
                  <a:lnTo>
                    <a:pt x="0" y="335"/>
                  </a:lnTo>
                  <a:lnTo>
                    <a:pt x="0" y="0"/>
                  </a:lnTo>
                  <a:lnTo>
                    <a:pt x="780" y="0"/>
                  </a:lnTo>
                  <a:close/>
                </a:path>
              </a:pathLst>
            </a:custGeom>
            <a:solidFill>
              <a:srgbClr val="cccc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0" name="Freeform 242"/>
            <p:cNvSpPr/>
            <p:nvPr/>
          </p:nvSpPr>
          <p:spPr>
            <a:xfrm>
              <a:off x="758520" y="4541040"/>
              <a:ext cx="912960" cy="345240"/>
            </a:xfrm>
            <a:custGeom>
              <a:avLst/>
              <a:gdLst/>
              <a:ahLst/>
              <a:rect l="l" t="t" r="r" b="b"/>
              <a:pathLst>
                <a:path w="780" h="358">
                  <a:moveTo>
                    <a:pt x="780" y="0"/>
                  </a:moveTo>
                  <a:lnTo>
                    <a:pt x="780" y="340"/>
                  </a:lnTo>
                  <a:lnTo>
                    <a:pt x="753" y="348"/>
                  </a:lnTo>
                  <a:lnTo>
                    <a:pt x="720" y="355"/>
                  </a:lnTo>
                  <a:lnTo>
                    <a:pt x="680" y="358"/>
                  </a:lnTo>
                  <a:lnTo>
                    <a:pt x="637" y="358"/>
                  </a:lnTo>
                  <a:lnTo>
                    <a:pt x="590" y="358"/>
                  </a:lnTo>
                  <a:lnTo>
                    <a:pt x="540" y="353"/>
                  </a:lnTo>
                  <a:lnTo>
                    <a:pt x="487" y="350"/>
                  </a:lnTo>
                  <a:lnTo>
                    <a:pt x="432" y="345"/>
                  </a:lnTo>
                  <a:lnTo>
                    <a:pt x="317" y="338"/>
                  </a:lnTo>
                  <a:lnTo>
                    <a:pt x="205" y="330"/>
                  </a:lnTo>
                  <a:lnTo>
                    <a:pt x="150" y="330"/>
                  </a:lnTo>
                  <a:lnTo>
                    <a:pt x="97" y="330"/>
                  </a:lnTo>
                  <a:lnTo>
                    <a:pt x="47" y="335"/>
                  </a:lnTo>
                  <a:lnTo>
                    <a:pt x="0" y="340"/>
                  </a:lnTo>
                  <a:lnTo>
                    <a:pt x="0" y="0"/>
                  </a:lnTo>
                  <a:lnTo>
                    <a:pt x="780" y="0"/>
                  </a:lnTo>
                  <a:close/>
                </a:path>
              </a:pathLst>
            </a:custGeom>
            <a:solidFill>
              <a:srgbClr val="666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 name="Freeform 241"/>
            <p:cNvSpPr/>
            <p:nvPr/>
          </p:nvSpPr>
          <p:spPr>
            <a:xfrm>
              <a:off x="752760" y="5386320"/>
              <a:ext cx="912960" cy="216720"/>
            </a:xfrm>
            <a:custGeom>
              <a:avLst/>
              <a:gdLst/>
              <a:ahLst/>
              <a:rect l="l" t="t" r="r" b="b"/>
              <a:pathLst>
                <a:path w="780" h="225">
                  <a:moveTo>
                    <a:pt x="780" y="30"/>
                  </a:moveTo>
                  <a:lnTo>
                    <a:pt x="780" y="205"/>
                  </a:lnTo>
                  <a:lnTo>
                    <a:pt x="753" y="210"/>
                  </a:lnTo>
                  <a:lnTo>
                    <a:pt x="715" y="215"/>
                  </a:lnTo>
                  <a:lnTo>
                    <a:pt x="670" y="217"/>
                  </a:lnTo>
                  <a:lnTo>
                    <a:pt x="622" y="220"/>
                  </a:lnTo>
                  <a:lnTo>
                    <a:pt x="567" y="222"/>
                  </a:lnTo>
                  <a:lnTo>
                    <a:pt x="510" y="225"/>
                  </a:lnTo>
                  <a:lnTo>
                    <a:pt x="390" y="225"/>
                  </a:lnTo>
                  <a:lnTo>
                    <a:pt x="270" y="225"/>
                  </a:lnTo>
                  <a:lnTo>
                    <a:pt x="212" y="222"/>
                  </a:lnTo>
                  <a:lnTo>
                    <a:pt x="157" y="220"/>
                  </a:lnTo>
                  <a:lnTo>
                    <a:pt x="110" y="217"/>
                  </a:lnTo>
                  <a:lnTo>
                    <a:pt x="65" y="215"/>
                  </a:lnTo>
                  <a:lnTo>
                    <a:pt x="30" y="210"/>
                  </a:lnTo>
                  <a:lnTo>
                    <a:pt x="0" y="205"/>
                  </a:lnTo>
                  <a:lnTo>
                    <a:pt x="0" y="30"/>
                  </a:lnTo>
                  <a:lnTo>
                    <a:pt x="22" y="17"/>
                  </a:lnTo>
                  <a:lnTo>
                    <a:pt x="50" y="10"/>
                  </a:lnTo>
                  <a:lnTo>
                    <a:pt x="82" y="5"/>
                  </a:lnTo>
                  <a:lnTo>
                    <a:pt x="120" y="2"/>
                  </a:lnTo>
                  <a:lnTo>
                    <a:pt x="160" y="0"/>
                  </a:lnTo>
                  <a:lnTo>
                    <a:pt x="205" y="0"/>
                  </a:lnTo>
                  <a:lnTo>
                    <a:pt x="300" y="0"/>
                  </a:lnTo>
                  <a:lnTo>
                    <a:pt x="325" y="0"/>
                  </a:lnTo>
                  <a:lnTo>
                    <a:pt x="355" y="0"/>
                  </a:lnTo>
                  <a:lnTo>
                    <a:pt x="415" y="2"/>
                  </a:lnTo>
                  <a:lnTo>
                    <a:pt x="482" y="7"/>
                  </a:lnTo>
                  <a:lnTo>
                    <a:pt x="552" y="12"/>
                  </a:lnTo>
                  <a:lnTo>
                    <a:pt x="617" y="17"/>
                  </a:lnTo>
                  <a:lnTo>
                    <a:pt x="680" y="22"/>
                  </a:lnTo>
                  <a:lnTo>
                    <a:pt x="710" y="25"/>
                  </a:lnTo>
                  <a:lnTo>
                    <a:pt x="735" y="27"/>
                  </a:lnTo>
                  <a:lnTo>
                    <a:pt x="760" y="27"/>
                  </a:lnTo>
                  <a:lnTo>
                    <a:pt x="780" y="30"/>
                  </a:lnTo>
                  <a:close/>
                </a:path>
              </a:pathLst>
            </a:custGeom>
            <a:solidFill>
              <a:srgbClr val="d6deb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2" name="Freeform 240"/>
            <p:cNvSpPr/>
            <p:nvPr/>
          </p:nvSpPr>
          <p:spPr>
            <a:xfrm>
              <a:off x="752760" y="6018480"/>
              <a:ext cx="912960" cy="263160"/>
            </a:xfrm>
            <a:custGeom>
              <a:avLst/>
              <a:gdLst/>
              <a:ahLst/>
              <a:rect l="l" t="t" r="r" b="b"/>
              <a:pathLst>
                <a:path w="780" h="273">
                  <a:moveTo>
                    <a:pt x="780" y="0"/>
                  </a:moveTo>
                  <a:lnTo>
                    <a:pt x="780" y="273"/>
                  </a:lnTo>
                  <a:lnTo>
                    <a:pt x="7" y="273"/>
                  </a:lnTo>
                  <a:lnTo>
                    <a:pt x="0" y="0"/>
                  </a:lnTo>
                  <a:lnTo>
                    <a:pt x="85" y="8"/>
                  </a:lnTo>
                  <a:lnTo>
                    <a:pt x="165" y="10"/>
                  </a:lnTo>
                  <a:lnTo>
                    <a:pt x="237" y="15"/>
                  </a:lnTo>
                  <a:lnTo>
                    <a:pt x="302" y="15"/>
                  </a:lnTo>
                  <a:lnTo>
                    <a:pt x="360" y="18"/>
                  </a:lnTo>
                  <a:lnTo>
                    <a:pt x="415" y="18"/>
                  </a:lnTo>
                  <a:lnTo>
                    <a:pt x="465" y="15"/>
                  </a:lnTo>
                  <a:lnTo>
                    <a:pt x="510" y="15"/>
                  </a:lnTo>
                  <a:lnTo>
                    <a:pt x="550" y="13"/>
                  </a:lnTo>
                  <a:lnTo>
                    <a:pt x="587" y="10"/>
                  </a:lnTo>
                  <a:lnTo>
                    <a:pt x="625" y="8"/>
                  </a:lnTo>
                  <a:lnTo>
                    <a:pt x="657" y="5"/>
                  </a:lnTo>
                  <a:lnTo>
                    <a:pt x="720" y="3"/>
                  </a:lnTo>
                  <a:lnTo>
                    <a:pt x="78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3" name="Freeform 239"/>
            <p:cNvSpPr/>
            <p:nvPr/>
          </p:nvSpPr>
          <p:spPr>
            <a:xfrm>
              <a:off x="752760" y="5786640"/>
              <a:ext cx="912960" cy="326160"/>
            </a:xfrm>
            <a:custGeom>
              <a:avLst/>
              <a:gdLst/>
              <a:ahLst/>
              <a:rect l="l" t="t" r="r" b="b"/>
              <a:pathLst>
                <a:path w="780" h="338">
                  <a:moveTo>
                    <a:pt x="780" y="0"/>
                  </a:moveTo>
                  <a:lnTo>
                    <a:pt x="780" y="5"/>
                  </a:lnTo>
                  <a:lnTo>
                    <a:pt x="780" y="15"/>
                  </a:lnTo>
                  <a:lnTo>
                    <a:pt x="780" y="30"/>
                  </a:lnTo>
                  <a:lnTo>
                    <a:pt x="780" y="53"/>
                  </a:lnTo>
                  <a:lnTo>
                    <a:pt x="780" y="78"/>
                  </a:lnTo>
                  <a:lnTo>
                    <a:pt x="780" y="108"/>
                  </a:lnTo>
                  <a:lnTo>
                    <a:pt x="780" y="170"/>
                  </a:lnTo>
                  <a:lnTo>
                    <a:pt x="780" y="230"/>
                  </a:lnTo>
                  <a:lnTo>
                    <a:pt x="780" y="260"/>
                  </a:lnTo>
                  <a:lnTo>
                    <a:pt x="780" y="285"/>
                  </a:lnTo>
                  <a:lnTo>
                    <a:pt x="780" y="308"/>
                  </a:lnTo>
                  <a:lnTo>
                    <a:pt x="780" y="323"/>
                  </a:lnTo>
                  <a:lnTo>
                    <a:pt x="780" y="335"/>
                  </a:lnTo>
                  <a:lnTo>
                    <a:pt x="780" y="338"/>
                  </a:lnTo>
                  <a:lnTo>
                    <a:pt x="738" y="325"/>
                  </a:lnTo>
                  <a:lnTo>
                    <a:pt x="700" y="315"/>
                  </a:lnTo>
                  <a:lnTo>
                    <a:pt x="667" y="308"/>
                  </a:lnTo>
                  <a:lnTo>
                    <a:pt x="635" y="303"/>
                  </a:lnTo>
                  <a:lnTo>
                    <a:pt x="600" y="300"/>
                  </a:lnTo>
                  <a:lnTo>
                    <a:pt x="565" y="298"/>
                  </a:lnTo>
                  <a:lnTo>
                    <a:pt x="525" y="298"/>
                  </a:lnTo>
                  <a:lnTo>
                    <a:pt x="480" y="298"/>
                  </a:lnTo>
                  <a:lnTo>
                    <a:pt x="427" y="300"/>
                  </a:lnTo>
                  <a:lnTo>
                    <a:pt x="367" y="305"/>
                  </a:lnTo>
                  <a:lnTo>
                    <a:pt x="302" y="310"/>
                  </a:lnTo>
                  <a:lnTo>
                    <a:pt x="237" y="318"/>
                  </a:lnTo>
                  <a:lnTo>
                    <a:pt x="170" y="325"/>
                  </a:lnTo>
                  <a:lnTo>
                    <a:pt x="107" y="333"/>
                  </a:lnTo>
                  <a:lnTo>
                    <a:pt x="50" y="335"/>
                  </a:lnTo>
                  <a:lnTo>
                    <a:pt x="25" y="338"/>
                  </a:lnTo>
                  <a:lnTo>
                    <a:pt x="0" y="338"/>
                  </a:lnTo>
                  <a:lnTo>
                    <a:pt x="0" y="0"/>
                  </a:lnTo>
                  <a:lnTo>
                    <a:pt x="780" y="0"/>
                  </a:lnTo>
                  <a:close/>
                </a:path>
              </a:pathLst>
            </a:custGeom>
            <a:solidFill>
              <a:srgbClr val="996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4" name="Freeform 238"/>
            <p:cNvSpPr/>
            <p:nvPr/>
          </p:nvSpPr>
          <p:spPr>
            <a:xfrm>
              <a:off x="752760" y="5569560"/>
              <a:ext cx="912960" cy="245880"/>
            </a:xfrm>
            <a:custGeom>
              <a:avLst/>
              <a:gdLst/>
              <a:ahLst/>
              <a:rect l="l" t="t" r="r" b="b"/>
              <a:pathLst>
                <a:path w="780" h="255">
                  <a:moveTo>
                    <a:pt x="780" y="17"/>
                  </a:moveTo>
                  <a:lnTo>
                    <a:pt x="780" y="240"/>
                  </a:lnTo>
                  <a:lnTo>
                    <a:pt x="758" y="250"/>
                  </a:lnTo>
                  <a:lnTo>
                    <a:pt x="730" y="255"/>
                  </a:lnTo>
                  <a:lnTo>
                    <a:pt x="698" y="255"/>
                  </a:lnTo>
                  <a:lnTo>
                    <a:pt x="660" y="253"/>
                  </a:lnTo>
                  <a:lnTo>
                    <a:pt x="620" y="250"/>
                  </a:lnTo>
                  <a:lnTo>
                    <a:pt x="575" y="245"/>
                  </a:lnTo>
                  <a:lnTo>
                    <a:pt x="527" y="243"/>
                  </a:lnTo>
                  <a:lnTo>
                    <a:pt x="480" y="240"/>
                  </a:lnTo>
                  <a:lnTo>
                    <a:pt x="455" y="240"/>
                  </a:lnTo>
                  <a:lnTo>
                    <a:pt x="425" y="243"/>
                  </a:lnTo>
                  <a:lnTo>
                    <a:pt x="362" y="245"/>
                  </a:lnTo>
                  <a:lnTo>
                    <a:pt x="292" y="250"/>
                  </a:lnTo>
                  <a:lnTo>
                    <a:pt x="222" y="253"/>
                  </a:lnTo>
                  <a:lnTo>
                    <a:pt x="152" y="255"/>
                  </a:lnTo>
                  <a:lnTo>
                    <a:pt x="120" y="255"/>
                  </a:lnTo>
                  <a:lnTo>
                    <a:pt x="90" y="255"/>
                  </a:lnTo>
                  <a:lnTo>
                    <a:pt x="62" y="253"/>
                  </a:lnTo>
                  <a:lnTo>
                    <a:pt x="37" y="250"/>
                  </a:lnTo>
                  <a:lnTo>
                    <a:pt x="17" y="245"/>
                  </a:lnTo>
                  <a:lnTo>
                    <a:pt x="0" y="240"/>
                  </a:lnTo>
                  <a:lnTo>
                    <a:pt x="0" y="17"/>
                  </a:lnTo>
                  <a:lnTo>
                    <a:pt x="25" y="12"/>
                  </a:lnTo>
                  <a:lnTo>
                    <a:pt x="55" y="7"/>
                  </a:lnTo>
                  <a:lnTo>
                    <a:pt x="90" y="2"/>
                  </a:lnTo>
                  <a:lnTo>
                    <a:pt x="132" y="2"/>
                  </a:lnTo>
                  <a:lnTo>
                    <a:pt x="175" y="0"/>
                  </a:lnTo>
                  <a:lnTo>
                    <a:pt x="222" y="0"/>
                  </a:lnTo>
                  <a:lnTo>
                    <a:pt x="322" y="2"/>
                  </a:lnTo>
                  <a:lnTo>
                    <a:pt x="422" y="7"/>
                  </a:lnTo>
                  <a:lnTo>
                    <a:pt x="472" y="10"/>
                  </a:lnTo>
                  <a:lnTo>
                    <a:pt x="517" y="12"/>
                  </a:lnTo>
                  <a:lnTo>
                    <a:pt x="560" y="15"/>
                  </a:lnTo>
                  <a:lnTo>
                    <a:pt x="600" y="15"/>
                  </a:lnTo>
                  <a:lnTo>
                    <a:pt x="632" y="17"/>
                  </a:lnTo>
                  <a:lnTo>
                    <a:pt x="660" y="17"/>
                  </a:lnTo>
                  <a:lnTo>
                    <a:pt x="682" y="17"/>
                  </a:lnTo>
                  <a:lnTo>
                    <a:pt x="703" y="17"/>
                  </a:lnTo>
                  <a:lnTo>
                    <a:pt x="718" y="17"/>
                  </a:lnTo>
                  <a:lnTo>
                    <a:pt x="730" y="17"/>
                  </a:lnTo>
                  <a:lnTo>
                    <a:pt x="740" y="17"/>
                  </a:lnTo>
                  <a:lnTo>
                    <a:pt x="748" y="17"/>
                  </a:lnTo>
                  <a:lnTo>
                    <a:pt x="760" y="17"/>
                  </a:lnTo>
                  <a:lnTo>
                    <a:pt x="765" y="17"/>
                  </a:lnTo>
                  <a:lnTo>
                    <a:pt x="770" y="17"/>
                  </a:lnTo>
                  <a:lnTo>
                    <a:pt x="773" y="17"/>
                  </a:lnTo>
                  <a:lnTo>
                    <a:pt x="780" y="17"/>
                  </a:lnTo>
                  <a:close/>
                </a:path>
              </a:pathLst>
            </a:custGeom>
            <a:solidFill>
              <a:srgbClr val="666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215" name="Group 138"/>
            <p:cNvGrpSpPr/>
            <p:nvPr/>
          </p:nvGrpSpPr>
          <p:grpSpPr>
            <a:xfrm>
              <a:off x="714240" y="1071360"/>
              <a:ext cx="412920" cy="5215320"/>
              <a:chOff x="714240" y="1071360"/>
              <a:chExt cx="412920" cy="5215320"/>
            </a:xfrm>
          </p:grpSpPr>
          <p:sp>
            <p:nvSpPr>
              <p:cNvPr id="216" name="Rectangle 237"/>
              <p:cNvSpPr/>
              <p:nvPr/>
            </p:nvSpPr>
            <p:spPr>
              <a:xfrm>
                <a:off x="714240" y="1071360"/>
                <a:ext cx="9000" cy="52153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Rectangle 236"/>
              <p:cNvSpPr/>
              <p:nvPr/>
            </p:nvSpPr>
            <p:spPr>
              <a:xfrm>
                <a:off x="723240" y="1071360"/>
                <a:ext cx="7920" cy="52153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Rectangle 235"/>
              <p:cNvSpPr/>
              <p:nvPr/>
            </p:nvSpPr>
            <p:spPr>
              <a:xfrm>
                <a:off x="731520" y="1071360"/>
                <a:ext cx="9000" cy="52153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234"/>
              <p:cNvSpPr/>
              <p:nvPr/>
            </p:nvSpPr>
            <p:spPr>
              <a:xfrm>
                <a:off x="740880" y="1071360"/>
                <a:ext cx="7920" cy="5215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Rectangle 233"/>
              <p:cNvSpPr/>
              <p:nvPr/>
            </p:nvSpPr>
            <p:spPr>
              <a:xfrm>
                <a:off x="749160" y="1071360"/>
                <a:ext cx="5760" cy="5215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232"/>
              <p:cNvSpPr/>
              <p:nvPr/>
            </p:nvSpPr>
            <p:spPr>
              <a:xfrm>
                <a:off x="754920" y="1071360"/>
                <a:ext cx="9360" cy="52153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Rectangle 231"/>
              <p:cNvSpPr/>
              <p:nvPr/>
            </p:nvSpPr>
            <p:spPr>
              <a:xfrm>
                <a:off x="764640" y="1071360"/>
                <a:ext cx="7920" cy="52153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Rectangle 230"/>
              <p:cNvSpPr/>
              <p:nvPr/>
            </p:nvSpPr>
            <p:spPr>
              <a:xfrm>
                <a:off x="772560" y="1071360"/>
                <a:ext cx="9360" cy="52153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Rectangle 229"/>
              <p:cNvSpPr/>
              <p:nvPr/>
            </p:nvSpPr>
            <p:spPr>
              <a:xfrm>
                <a:off x="781920" y="1071360"/>
                <a:ext cx="7920" cy="52153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Rectangle 228"/>
              <p:cNvSpPr/>
              <p:nvPr/>
            </p:nvSpPr>
            <p:spPr>
              <a:xfrm>
                <a:off x="790200" y="1071360"/>
                <a:ext cx="9000" cy="521532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Rectangle 227"/>
              <p:cNvSpPr/>
              <p:nvPr/>
            </p:nvSpPr>
            <p:spPr>
              <a:xfrm>
                <a:off x="799560" y="1071360"/>
                <a:ext cx="7920" cy="52153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226"/>
              <p:cNvSpPr/>
              <p:nvPr/>
            </p:nvSpPr>
            <p:spPr>
              <a:xfrm>
                <a:off x="807840" y="1071360"/>
                <a:ext cx="9000" cy="521532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Rectangle 225"/>
              <p:cNvSpPr/>
              <p:nvPr/>
            </p:nvSpPr>
            <p:spPr>
              <a:xfrm>
                <a:off x="817200" y="1071360"/>
                <a:ext cx="5760" cy="52153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Rectangle 224"/>
              <p:cNvSpPr/>
              <p:nvPr/>
            </p:nvSpPr>
            <p:spPr>
              <a:xfrm>
                <a:off x="822960" y="1071360"/>
                <a:ext cx="7920" cy="52153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Rectangle 223"/>
              <p:cNvSpPr/>
              <p:nvPr/>
            </p:nvSpPr>
            <p:spPr>
              <a:xfrm>
                <a:off x="831240" y="1071360"/>
                <a:ext cx="9000" cy="521532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Rectangle 222"/>
              <p:cNvSpPr/>
              <p:nvPr/>
            </p:nvSpPr>
            <p:spPr>
              <a:xfrm>
                <a:off x="840600" y="1071360"/>
                <a:ext cx="7920" cy="52153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Rectangle 221"/>
              <p:cNvSpPr/>
              <p:nvPr/>
            </p:nvSpPr>
            <p:spPr>
              <a:xfrm>
                <a:off x="848520" y="1071360"/>
                <a:ext cx="9000" cy="5215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Rectangle 220"/>
              <p:cNvSpPr/>
              <p:nvPr/>
            </p:nvSpPr>
            <p:spPr>
              <a:xfrm>
                <a:off x="857880" y="1071360"/>
                <a:ext cx="7920" cy="52153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219"/>
              <p:cNvSpPr/>
              <p:nvPr/>
            </p:nvSpPr>
            <p:spPr>
              <a:xfrm>
                <a:off x="866160" y="1071360"/>
                <a:ext cx="9360" cy="52153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Rectangle 218"/>
              <p:cNvSpPr/>
              <p:nvPr/>
            </p:nvSpPr>
            <p:spPr>
              <a:xfrm>
                <a:off x="875880" y="1071360"/>
                <a:ext cx="7920" cy="52153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Rectangle 217"/>
              <p:cNvSpPr/>
              <p:nvPr/>
            </p:nvSpPr>
            <p:spPr>
              <a:xfrm>
                <a:off x="883800" y="1071360"/>
                <a:ext cx="5760" cy="521532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Rectangle 216"/>
              <p:cNvSpPr/>
              <p:nvPr/>
            </p:nvSpPr>
            <p:spPr>
              <a:xfrm>
                <a:off x="889560" y="1071360"/>
                <a:ext cx="9360" cy="521532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Rectangle 215"/>
              <p:cNvSpPr/>
              <p:nvPr/>
            </p:nvSpPr>
            <p:spPr>
              <a:xfrm>
                <a:off x="899280" y="1071360"/>
                <a:ext cx="7920" cy="521532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Rectangle 214"/>
              <p:cNvSpPr/>
              <p:nvPr/>
            </p:nvSpPr>
            <p:spPr>
              <a:xfrm>
                <a:off x="907200" y="1071360"/>
                <a:ext cx="9000" cy="521532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213"/>
              <p:cNvSpPr/>
              <p:nvPr/>
            </p:nvSpPr>
            <p:spPr>
              <a:xfrm>
                <a:off x="916560" y="1071360"/>
                <a:ext cx="7920" cy="521532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Rectangle 212"/>
              <p:cNvSpPr/>
              <p:nvPr/>
            </p:nvSpPr>
            <p:spPr>
              <a:xfrm>
                <a:off x="924840" y="1071360"/>
                <a:ext cx="9000" cy="52153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Rectangle 211"/>
              <p:cNvSpPr/>
              <p:nvPr/>
            </p:nvSpPr>
            <p:spPr>
              <a:xfrm>
                <a:off x="934200" y="1071360"/>
                <a:ext cx="7920" cy="52153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Rectangle 210"/>
              <p:cNvSpPr/>
              <p:nvPr/>
            </p:nvSpPr>
            <p:spPr>
              <a:xfrm>
                <a:off x="942480" y="1071360"/>
                <a:ext cx="9000" cy="52153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Rectangle 209"/>
              <p:cNvSpPr/>
              <p:nvPr/>
            </p:nvSpPr>
            <p:spPr>
              <a:xfrm>
                <a:off x="951840" y="1071360"/>
                <a:ext cx="5760" cy="521532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Rectangle 208"/>
              <p:cNvSpPr/>
              <p:nvPr/>
            </p:nvSpPr>
            <p:spPr>
              <a:xfrm>
                <a:off x="957600" y="1071360"/>
                <a:ext cx="7920" cy="52153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Rectangle 207"/>
              <p:cNvSpPr/>
              <p:nvPr/>
            </p:nvSpPr>
            <p:spPr>
              <a:xfrm>
                <a:off x="965880" y="1071360"/>
                <a:ext cx="9000" cy="521532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Rectangle 206"/>
              <p:cNvSpPr/>
              <p:nvPr/>
            </p:nvSpPr>
            <p:spPr>
              <a:xfrm>
                <a:off x="974880" y="1071360"/>
                <a:ext cx="7920" cy="52153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Rectangle 205"/>
              <p:cNvSpPr/>
              <p:nvPr/>
            </p:nvSpPr>
            <p:spPr>
              <a:xfrm>
                <a:off x="983160" y="1071360"/>
                <a:ext cx="9360" cy="521532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Rectangle 204"/>
              <p:cNvSpPr/>
              <p:nvPr/>
            </p:nvSpPr>
            <p:spPr>
              <a:xfrm>
                <a:off x="992880" y="1071360"/>
                <a:ext cx="7920" cy="521532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Rectangle 203"/>
              <p:cNvSpPr/>
              <p:nvPr/>
            </p:nvSpPr>
            <p:spPr>
              <a:xfrm>
                <a:off x="1000800" y="1071360"/>
                <a:ext cx="9360" cy="5215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Rectangle 202"/>
              <p:cNvSpPr/>
              <p:nvPr/>
            </p:nvSpPr>
            <p:spPr>
              <a:xfrm>
                <a:off x="1010520" y="1071360"/>
                <a:ext cx="7920" cy="521532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Rectangle 201"/>
              <p:cNvSpPr/>
              <p:nvPr/>
            </p:nvSpPr>
            <p:spPr>
              <a:xfrm>
                <a:off x="1018440" y="1071360"/>
                <a:ext cx="5760" cy="521532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Rectangle 200"/>
              <p:cNvSpPr/>
              <p:nvPr/>
            </p:nvSpPr>
            <p:spPr>
              <a:xfrm>
                <a:off x="1024560" y="1071360"/>
                <a:ext cx="9000" cy="521532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Rectangle 199"/>
              <p:cNvSpPr/>
              <p:nvPr/>
            </p:nvSpPr>
            <p:spPr>
              <a:xfrm>
                <a:off x="1033560" y="1071360"/>
                <a:ext cx="7920" cy="52153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Rectangle 198"/>
              <p:cNvSpPr/>
              <p:nvPr/>
            </p:nvSpPr>
            <p:spPr>
              <a:xfrm>
                <a:off x="1041840" y="1071360"/>
                <a:ext cx="9000" cy="521532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Rectangle 197"/>
              <p:cNvSpPr/>
              <p:nvPr/>
            </p:nvSpPr>
            <p:spPr>
              <a:xfrm>
                <a:off x="1051200" y="1071360"/>
                <a:ext cx="7920" cy="521532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Rectangle 196"/>
              <p:cNvSpPr/>
              <p:nvPr/>
            </p:nvSpPr>
            <p:spPr>
              <a:xfrm>
                <a:off x="1059480" y="1071360"/>
                <a:ext cx="9000" cy="521532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Rectangle 195"/>
              <p:cNvSpPr/>
              <p:nvPr/>
            </p:nvSpPr>
            <p:spPr>
              <a:xfrm>
                <a:off x="1068840" y="1071360"/>
                <a:ext cx="7920" cy="5215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Rectangle 194"/>
              <p:cNvSpPr/>
              <p:nvPr/>
            </p:nvSpPr>
            <p:spPr>
              <a:xfrm>
                <a:off x="1077120" y="1071360"/>
                <a:ext cx="9000" cy="52153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193"/>
              <p:cNvSpPr/>
              <p:nvPr/>
            </p:nvSpPr>
            <p:spPr>
              <a:xfrm>
                <a:off x="1086120" y="1071360"/>
                <a:ext cx="5760" cy="521532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192"/>
              <p:cNvSpPr/>
              <p:nvPr/>
            </p:nvSpPr>
            <p:spPr>
              <a:xfrm>
                <a:off x="1092240" y="1071360"/>
                <a:ext cx="7920" cy="5215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91"/>
              <p:cNvSpPr/>
              <p:nvPr/>
            </p:nvSpPr>
            <p:spPr>
              <a:xfrm>
                <a:off x="1100520" y="1071360"/>
                <a:ext cx="9000" cy="52153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ectangle 190"/>
              <p:cNvSpPr/>
              <p:nvPr/>
            </p:nvSpPr>
            <p:spPr>
              <a:xfrm>
                <a:off x="1109520" y="1071360"/>
                <a:ext cx="7920" cy="5215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189"/>
              <p:cNvSpPr/>
              <p:nvPr/>
            </p:nvSpPr>
            <p:spPr>
              <a:xfrm>
                <a:off x="1117800" y="1071360"/>
                <a:ext cx="9360" cy="52153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Freeform 188"/>
              <p:cNvSpPr/>
              <p:nvPr/>
            </p:nvSpPr>
            <p:spPr>
              <a:xfrm>
                <a:off x="714240" y="1071360"/>
                <a:ext cx="409320" cy="5210280"/>
              </a:xfrm>
              <a:custGeom>
                <a:avLst/>
                <a:gdLst/>
                <a:ahLst/>
                <a:rect l="l" t="t" r="r" b="b"/>
                <a:pathLst>
                  <a:path w="350" h="5400">
                    <a:moveTo>
                      <a:pt x="263" y="0"/>
                    </a:moveTo>
                    <a:lnTo>
                      <a:pt x="285" y="145"/>
                    </a:lnTo>
                    <a:lnTo>
                      <a:pt x="303" y="283"/>
                    </a:lnTo>
                    <a:lnTo>
                      <a:pt x="318" y="418"/>
                    </a:lnTo>
                    <a:lnTo>
                      <a:pt x="330" y="548"/>
                    </a:lnTo>
                    <a:lnTo>
                      <a:pt x="338" y="676"/>
                    </a:lnTo>
                    <a:lnTo>
                      <a:pt x="345" y="798"/>
                    </a:lnTo>
                    <a:lnTo>
                      <a:pt x="350" y="1043"/>
                    </a:lnTo>
                    <a:lnTo>
                      <a:pt x="348" y="1289"/>
                    </a:lnTo>
                    <a:lnTo>
                      <a:pt x="338" y="1534"/>
                    </a:lnTo>
                    <a:lnTo>
                      <a:pt x="330" y="1659"/>
                    </a:lnTo>
                    <a:lnTo>
                      <a:pt x="323" y="1789"/>
                    </a:lnTo>
                    <a:lnTo>
                      <a:pt x="313" y="1922"/>
                    </a:lnTo>
                    <a:lnTo>
                      <a:pt x="305" y="2059"/>
                    </a:lnTo>
                    <a:lnTo>
                      <a:pt x="295" y="2202"/>
                    </a:lnTo>
                    <a:lnTo>
                      <a:pt x="285" y="2352"/>
                    </a:lnTo>
                    <a:lnTo>
                      <a:pt x="275" y="2505"/>
                    </a:lnTo>
                    <a:lnTo>
                      <a:pt x="268" y="2667"/>
                    </a:lnTo>
                    <a:lnTo>
                      <a:pt x="258" y="2838"/>
                    </a:lnTo>
                    <a:lnTo>
                      <a:pt x="250" y="3015"/>
                    </a:lnTo>
                    <a:lnTo>
                      <a:pt x="243" y="3200"/>
                    </a:lnTo>
                    <a:lnTo>
                      <a:pt x="240" y="3298"/>
                    </a:lnTo>
                    <a:lnTo>
                      <a:pt x="235" y="3398"/>
                    </a:lnTo>
                    <a:lnTo>
                      <a:pt x="233" y="3501"/>
                    </a:lnTo>
                    <a:lnTo>
                      <a:pt x="230" y="3606"/>
                    </a:lnTo>
                    <a:lnTo>
                      <a:pt x="230" y="3713"/>
                    </a:lnTo>
                    <a:lnTo>
                      <a:pt x="228" y="3824"/>
                    </a:lnTo>
                    <a:lnTo>
                      <a:pt x="228" y="3936"/>
                    </a:lnTo>
                    <a:lnTo>
                      <a:pt x="228" y="4051"/>
                    </a:lnTo>
                    <a:lnTo>
                      <a:pt x="228" y="4171"/>
                    </a:lnTo>
                    <a:lnTo>
                      <a:pt x="228" y="4294"/>
                    </a:lnTo>
                    <a:lnTo>
                      <a:pt x="228" y="4419"/>
                    </a:lnTo>
                    <a:lnTo>
                      <a:pt x="230" y="4549"/>
                    </a:lnTo>
                    <a:lnTo>
                      <a:pt x="233" y="4682"/>
                    </a:lnTo>
                    <a:lnTo>
                      <a:pt x="235" y="4817"/>
                    </a:lnTo>
                    <a:lnTo>
                      <a:pt x="238" y="4957"/>
                    </a:lnTo>
                    <a:lnTo>
                      <a:pt x="243" y="5102"/>
                    </a:lnTo>
                    <a:lnTo>
                      <a:pt x="248" y="5250"/>
                    </a:lnTo>
                    <a:lnTo>
                      <a:pt x="253" y="5400"/>
                    </a:lnTo>
                    <a:lnTo>
                      <a:pt x="5" y="5400"/>
                    </a:lnTo>
                    <a:lnTo>
                      <a:pt x="0" y="0"/>
                    </a:lnTo>
                    <a:lnTo>
                      <a:pt x="263"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 name="Rectangle 187"/>
              <p:cNvSpPr/>
              <p:nvPr/>
            </p:nvSpPr>
            <p:spPr>
              <a:xfrm>
                <a:off x="714240" y="1071360"/>
                <a:ext cx="9000" cy="52153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186"/>
              <p:cNvSpPr/>
              <p:nvPr/>
            </p:nvSpPr>
            <p:spPr>
              <a:xfrm>
                <a:off x="723240" y="1071360"/>
                <a:ext cx="7920" cy="52153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Rectangle 185"/>
              <p:cNvSpPr/>
              <p:nvPr/>
            </p:nvSpPr>
            <p:spPr>
              <a:xfrm>
                <a:off x="731520" y="1071360"/>
                <a:ext cx="9000" cy="52153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Rectangle 184"/>
              <p:cNvSpPr/>
              <p:nvPr/>
            </p:nvSpPr>
            <p:spPr>
              <a:xfrm>
                <a:off x="740880" y="1071360"/>
                <a:ext cx="7920" cy="5215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Rectangle 183"/>
              <p:cNvSpPr/>
              <p:nvPr/>
            </p:nvSpPr>
            <p:spPr>
              <a:xfrm>
                <a:off x="749160" y="1071360"/>
                <a:ext cx="5760" cy="5215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Rectangle 182"/>
              <p:cNvSpPr/>
              <p:nvPr/>
            </p:nvSpPr>
            <p:spPr>
              <a:xfrm>
                <a:off x="754920" y="1071360"/>
                <a:ext cx="9360" cy="52153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Rectangle 181"/>
              <p:cNvSpPr/>
              <p:nvPr/>
            </p:nvSpPr>
            <p:spPr>
              <a:xfrm>
                <a:off x="764640" y="1071360"/>
                <a:ext cx="7920" cy="52153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Rectangle 180"/>
              <p:cNvSpPr/>
              <p:nvPr/>
            </p:nvSpPr>
            <p:spPr>
              <a:xfrm>
                <a:off x="772560" y="1071360"/>
                <a:ext cx="9360" cy="52153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Rectangle 179"/>
              <p:cNvSpPr/>
              <p:nvPr/>
            </p:nvSpPr>
            <p:spPr>
              <a:xfrm>
                <a:off x="781920" y="1071360"/>
                <a:ext cx="7920" cy="52153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Rectangle 178"/>
              <p:cNvSpPr/>
              <p:nvPr/>
            </p:nvSpPr>
            <p:spPr>
              <a:xfrm>
                <a:off x="790200" y="1071360"/>
                <a:ext cx="9000" cy="521532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Rectangle 177"/>
              <p:cNvSpPr/>
              <p:nvPr/>
            </p:nvSpPr>
            <p:spPr>
              <a:xfrm>
                <a:off x="799560" y="1071360"/>
                <a:ext cx="7920" cy="52153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176"/>
              <p:cNvSpPr/>
              <p:nvPr/>
            </p:nvSpPr>
            <p:spPr>
              <a:xfrm>
                <a:off x="807840" y="1071360"/>
                <a:ext cx="9000" cy="521532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175"/>
              <p:cNvSpPr/>
              <p:nvPr/>
            </p:nvSpPr>
            <p:spPr>
              <a:xfrm>
                <a:off x="817200" y="1071360"/>
                <a:ext cx="5760" cy="52153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174"/>
              <p:cNvSpPr/>
              <p:nvPr/>
            </p:nvSpPr>
            <p:spPr>
              <a:xfrm>
                <a:off x="822960" y="1071360"/>
                <a:ext cx="7920" cy="52153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Rectangle 173"/>
              <p:cNvSpPr/>
              <p:nvPr/>
            </p:nvSpPr>
            <p:spPr>
              <a:xfrm>
                <a:off x="831240" y="1071360"/>
                <a:ext cx="9000" cy="521532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Rectangle 172"/>
              <p:cNvSpPr/>
              <p:nvPr/>
            </p:nvSpPr>
            <p:spPr>
              <a:xfrm>
                <a:off x="840600" y="1071360"/>
                <a:ext cx="7920" cy="52153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Rectangle 171"/>
              <p:cNvSpPr/>
              <p:nvPr/>
            </p:nvSpPr>
            <p:spPr>
              <a:xfrm>
                <a:off x="848520" y="1071360"/>
                <a:ext cx="9000" cy="5215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Rectangle 170"/>
              <p:cNvSpPr/>
              <p:nvPr/>
            </p:nvSpPr>
            <p:spPr>
              <a:xfrm>
                <a:off x="857880" y="1071360"/>
                <a:ext cx="7920" cy="52153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Rectangle 169"/>
              <p:cNvSpPr/>
              <p:nvPr/>
            </p:nvSpPr>
            <p:spPr>
              <a:xfrm>
                <a:off x="866160" y="1071360"/>
                <a:ext cx="9360" cy="52153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Rectangle 168"/>
              <p:cNvSpPr/>
              <p:nvPr/>
            </p:nvSpPr>
            <p:spPr>
              <a:xfrm>
                <a:off x="875880" y="1071360"/>
                <a:ext cx="7920" cy="52153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Rectangle 167"/>
              <p:cNvSpPr/>
              <p:nvPr/>
            </p:nvSpPr>
            <p:spPr>
              <a:xfrm>
                <a:off x="883800" y="1071360"/>
                <a:ext cx="5760" cy="521532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Rectangle 166"/>
              <p:cNvSpPr/>
              <p:nvPr/>
            </p:nvSpPr>
            <p:spPr>
              <a:xfrm>
                <a:off x="889560" y="1071360"/>
                <a:ext cx="9360" cy="521532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Rectangle 165"/>
              <p:cNvSpPr/>
              <p:nvPr/>
            </p:nvSpPr>
            <p:spPr>
              <a:xfrm>
                <a:off x="899280" y="1071360"/>
                <a:ext cx="7920" cy="521532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Rectangle 164"/>
              <p:cNvSpPr/>
              <p:nvPr/>
            </p:nvSpPr>
            <p:spPr>
              <a:xfrm>
                <a:off x="907200" y="1071360"/>
                <a:ext cx="9000" cy="521532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Rectangle 163"/>
              <p:cNvSpPr/>
              <p:nvPr/>
            </p:nvSpPr>
            <p:spPr>
              <a:xfrm>
                <a:off x="916560" y="1071360"/>
                <a:ext cx="7920" cy="521532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Rectangle 162"/>
              <p:cNvSpPr/>
              <p:nvPr/>
            </p:nvSpPr>
            <p:spPr>
              <a:xfrm>
                <a:off x="924840" y="1071360"/>
                <a:ext cx="9000" cy="52153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Rectangle 161"/>
              <p:cNvSpPr/>
              <p:nvPr/>
            </p:nvSpPr>
            <p:spPr>
              <a:xfrm>
                <a:off x="934200" y="1071360"/>
                <a:ext cx="7920" cy="52153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Rectangle 160"/>
              <p:cNvSpPr/>
              <p:nvPr/>
            </p:nvSpPr>
            <p:spPr>
              <a:xfrm>
                <a:off x="942480" y="1071360"/>
                <a:ext cx="9000" cy="52153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Rectangle 159"/>
              <p:cNvSpPr/>
              <p:nvPr/>
            </p:nvSpPr>
            <p:spPr>
              <a:xfrm>
                <a:off x="951840" y="1071360"/>
                <a:ext cx="5760" cy="521532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Rectangle 158"/>
              <p:cNvSpPr/>
              <p:nvPr/>
            </p:nvSpPr>
            <p:spPr>
              <a:xfrm>
                <a:off x="957600" y="1071360"/>
                <a:ext cx="7920" cy="52153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Rectangle 157"/>
              <p:cNvSpPr/>
              <p:nvPr/>
            </p:nvSpPr>
            <p:spPr>
              <a:xfrm>
                <a:off x="965880" y="1071360"/>
                <a:ext cx="9000" cy="521532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Rectangle 156"/>
              <p:cNvSpPr/>
              <p:nvPr/>
            </p:nvSpPr>
            <p:spPr>
              <a:xfrm>
                <a:off x="974880" y="1071360"/>
                <a:ext cx="7920" cy="52153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Rectangle 155"/>
              <p:cNvSpPr/>
              <p:nvPr/>
            </p:nvSpPr>
            <p:spPr>
              <a:xfrm>
                <a:off x="983160" y="1071360"/>
                <a:ext cx="9360" cy="521532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Rectangle 154"/>
              <p:cNvSpPr/>
              <p:nvPr/>
            </p:nvSpPr>
            <p:spPr>
              <a:xfrm>
                <a:off x="992880" y="1071360"/>
                <a:ext cx="7920" cy="521532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Rectangle 153"/>
              <p:cNvSpPr/>
              <p:nvPr/>
            </p:nvSpPr>
            <p:spPr>
              <a:xfrm>
                <a:off x="1000800" y="1071360"/>
                <a:ext cx="9360" cy="5215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Rectangle 152"/>
              <p:cNvSpPr/>
              <p:nvPr/>
            </p:nvSpPr>
            <p:spPr>
              <a:xfrm>
                <a:off x="1010520" y="1071360"/>
                <a:ext cx="7920" cy="521532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Rectangle 151"/>
              <p:cNvSpPr/>
              <p:nvPr/>
            </p:nvSpPr>
            <p:spPr>
              <a:xfrm>
                <a:off x="1018440" y="1071360"/>
                <a:ext cx="5760" cy="521532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Rectangle 150"/>
              <p:cNvSpPr/>
              <p:nvPr/>
            </p:nvSpPr>
            <p:spPr>
              <a:xfrm>
                <a:off x="1024560" y="1071360"/>
                <a:ext cx="9000" cy="521532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ectangle 149"/>
              <p:cNvSpPr/>
              <p:nvPr/>
            </p:nvSpPr>
            <p:spPr>
              <a:xfrm>
                <a:off x="1033560" y="1071360"/>
                <a:ext cx="7920" cy="52153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Rectangle 148"/>
              <p:cNvSpPr/>
              <p:nvPr/>
            </p:nvSpPr>
            <p:spPr>
              <a:xfrm>
                <a:off x="1041840" y="1071360"/>
                <a:ext cx="9000" cy="521532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Rectangle 147"/>
              <p:cNvSpPr/>
              <p:nvPr/>
            </p:nvSpPr>
            <p:spPr>
              <a:xfrm>
                <a:off x="1051200" y="1071360"/>
                <a:ext cx="7920" cy="521532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146"/>
              <p:cNvSpPr/>
              <p:nvPr/>
            </p:nvSpPr>
            <p:spPr>
              <a:xfrm>
                <a:off x="1059480" y="1071360"/>
                <a:ext cx="9000" cy="521532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Rectangle 145"/>
              <p:cNvSpPr/>
              <p:nvPr/>
            </p:nvSpPr>
            <p:spPr>
              <a:xfrm>
                <a:off x="1068840" y="1071360"/>
                <a:ext cx="7920" cy="5215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Rectangle 144"/>
              <p:cNvSpPr/>
              <p:nvPr/>
            </p:nvSpPr>
            <p:spPr>
              <a:xfrm>
                <a:off x="1077120" y="1071360"/>
                <a:ext cx="9000" cy="52153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Rectangle 143"/>
              <p:cNvSpPr/>
              <p:nvPr/>
            </p:nvSpPr>
            <p:spPr>
              <a:xfrm>
                <a:off x="1086120" y="1071360"/>
                <a:ext cx="5760" cy="521532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Rectangle 142"/>
              <p:cNvSpPr/>
              <p:nvPr/>
            </p:nvSpPr>
            <p:spPr>
              <a:xfrm>
                <a:off x="1092240" y="1071360"/>
                <a:ext cx="7920" cy="5215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Rectangle 141"/>
              <p:cNvSpPr/>
              <p:nvPr/>
            </p:nvSpPr>
            <p:spPr>
              <a:xfrm>
                <a:off x="1100520" y="1071360"/>
                <a:ext cx="9000" cy="52153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Rectangle 140"/>
              <p:cNvSpPr/>
              <p:nvPr/>
            </p:nvSpPr>
            <p:spPr>
              <a:xfrm>
                <a:off x="1109520" y="1071360"/>
                <a:ext cx="7920" cy="5215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Rectangle 139"/>
              <p:cNvSpPr/>
              <p:nvPr/>
            </p:nvSpPr>
            <p:spPr>
              <a:xfrm>
                <a:off x="1117800" y="1071360"/>
                <a:ext cx="9360" cy="52153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15" name="Group 68"/>
            <p:cNvGrpSpPr/>
            <p:nvPr/>
          </p:nvGrpSpPr>
          <p:grpSpPr>
            <a:xfrm>
              <a:off x="1420200" y="1071360"/>
              <a:ext cx="284040" cy="5215320"/>
              <a:chOff x="1420200" y="1071360"/>
              <a:chExt cx="284040" cy="5215320"/>
            </a:xfrm>
          </p:grpSpPr>
          <p:sp>
            <p:nvSpPr>
              <p:cNvPr id="316" name="Rectangle 137"/>
              <p:cNvSpPr/>
              <p:nvPr/>
            </p:nvSpPr>
            <p:spPr>
              <a:xfrm>
                <a:off x="1420200" y="1071360"/>
                <a:ext cx="7920" cy="52153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Rectangle 136"/>
              <p:cNvSpPr/>
              <p:nvPr/>
            </p:nvSpPr>
            <p:spPr>
              <a:xfrm>
                <a:off x="1428120" y="1071360"/>
                <a:ext cx="9000" cy="521532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Rectangle 135"/>
              <p:cNvSpPr/>
              <p:nvPr/>
            </p:nvSpPr>
            <p:spPr>
              <a:xfrm>
                <a:off x="1437480" y="1071360"/>
                <a:ext cx="7920" cy="5215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Rectangle 134"/>
              <p:cNvSpPr/>
              <p:nvPr/>
            </p:nvSpPr>
            <p:spPr>
              <a:xfrm>
                <a:off x="1445760" y="1071360"/>
                <a:ext cx="5760" cy="521532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Rectangle 133"/>
              <p:cNvSpPr/>
              <p:nvPr/>
            </p:nvSpPr>
            <p:spPr>
              <a:xfrm>
                <a:off x="1451520" y="1071360"/>
                <a:ext cx="9000" cy="521532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Rectangle 132"/>
              <p:cNvSpPr/>
              <p:nvPr/>
            </p:nvSpPr>
            <p:spPr>
              <a:xfrm>
                <a:off x="1460880" y="1071360"/>
                <a:ext cx="7920" cy="521532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Rectangle 131"/>
              <p:cNvSpPr/>
              <p:nvPr/>
            </p:nvSpPr>
            <p:spPr>
              <a:xfrm>
                <a:off x="1469160" y="1071360"/>
                <a:ext cx="9360" cy="521532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Rectangle 130"/>
              <p:cNvSpPr/>
              <p:nvPr/>
            </p:nvSpPr>
            <p:spPr>
              <a:xfrm>
                <a:off x="1478520" y="1071360"/>
                <a:ext cx="7920" cy="521532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Rectangle 129"/>
              <p:cNvSpPr/>
              <p:nvPr/>
            </p:nvSpPr>
            <p:spPr>
              <a:xfrm>
                <a:off x="1486800" y="1071360"/>
                <a:ext cx="9360" cy="521532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Rectangle 128"/>
              <p:cNvSpPr/>
              <p:nvPr/>
            </p:nvSpPr>
            <p:spPr>
              <a:xfrm>
                <a:off x="1496160" y="1071360"/>
                <a:ext cx="7920" cy="5215320"/>
              </a:xfrm>
              <a:prstGeom prst="rect">
                <a:avLst/>
              </a:prstGeom>
              <a:solidFill>
                <a:srgbClr val="9797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Rectangle 127"/>
              <p:cNvSpPr/>
              <p:nvPr/>
            </p:nvSpPr>
            <p:spPr>
              <a:xfrm>
                <a:off x="1504440" y="1071360"/>
                <a:ext cx="5760" cy="521532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Rectangle 126"/>
              <p:cNvSpPr/>
              <p:nvPr/>
            </p:nvSpPr>
            <p:spPr>
              <a:xfrm>
                <a:off x="1510200" y="1071360"/>
                <a:ext cx="9000" cy="521532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Rectangle 125"/>
              <p:cNvSpPr/>
              <p:nvPr/>
            </p:nvSpPr>
            <p:spPr>
              <a:xfrm>
                <a:off x="1519560" y="1071360"/>
                <a:ext cx="7920" cy="521532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Rectangle 124"/>
              <p:cNvSpPr/>
              <p:nvPr/>
            </p:nvSpPr>
            <p:spPr>
              <a:xfrm>
                <a:off x="1527840" y="1071360"/>
                <a:ext cx="9000" cy="521532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Rectangle 123"/>
              <p:cNvSpPr/>
              <p:nvPr/>
            </p:nvSpPr>
            <p:spPr>
              <a:xfrm>
                <a:off x="1537200" y="1071360"/>
                <a:ext cx="7920" cy="52153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1" name="Rectangle 122"/>
              <p:cNvSpPr/>
              <p:nvPr/>
            </p:nvSpPr>
            <p:spPr>
              <a:xfrm>
                <a:off x="1545120" y="1071360"/>
                <a:ext cx="9000" cy="52153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Rectangle 121"/>
              <p:cNvSpPr/>
              <p:nvPr/>
            </p:nvSpPr>
            <p:spPr>
              <a:xfrm>
                <a:off x="1554480" y="1071360"/>
                <a:ext cx="5760" cy="521532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Rectangle 120"/>
              <p:cNvSpPr/>
              <p:nvPr/>
            </p:nvSpPr>
            <p:spPr>
              <a:xfrm>
                <a:off x="1560240" y="1071360"/>
                <a:ext cx="9360" cy="521532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Rectangle 119"/>
              <p:cNvSpPr/>
              <p:nvPr/>
            </p:nvSpPr>
            <p:spPr>
              <a:xfrm>
                <a:off x="1569960" y="1071360"/>
                <a:ext cx="7920" cy="521532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Rectangle 118"/>
              <p:cNvSpPr/>
              <p:nvPr/>
            </p:nvSpPr>
            <p:spPr>
              <a:xfrm>
                <a:off x="1577880" y="1071360"/>
                <a:ext cx="9360" cy="5215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Rectangle 117"/>
              <p:cNvSpPr/>
              <p:nvPr/>
            </p:nvSpPr>
            <p:spPr>
              <a:xfrm>
                <a:off x="1587600" y="1071360"/>
                <a:ext cx="7920" cy="521532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Rectangle 116"/>
              <p:cNvSpPr/>
              <p:nvPr/>
            </p:nvSpPr>
            <p:spPr>
              <a:xfrm>
                <a:off x="1595880" y="1071360"/>
                <a:ext cx="9000" cy="521532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Rectangle 115"/>
              <p:cNvSpPr/>
              <p:nvPr/>
            </p:nvSpPr>
            <p:spPr>
              <a:xfrm>
                <a:off x="1604880" y="1071360"/>
                <a:ext cx="7920" cy="5215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Rectangle 114"/>
              <p:cNvSpPr/>
              <p:nvPr/>
            </p:nvSpPr>
            <p:spPr>
              <a:xfrm>
                <a:off x="1613160" y="1071360"/>
                <a:ext cx="5760" cy="52153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113"/>
              <p:cNvSpPr/>
              <p:nvPr/>
            </p:nvSpPr>
            <p:spPr>
              <a:xfrm>
                <a:off x="1618920" y="1071360"/>
                <a:ext cx="9000" cy="52153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Rectangle 112"/>
              <p:cNvSpPr/>
              <p:nvPr/>
            </p:nvSpPr>
            <p:spPr>
              <a:xfrm>
                <a:off x="1628280" y="1071360"/>
                <a:ext cx="7920" cy="521532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Rectangle 111"/>
              <p:cNvSpPr/>
              <p:nvPr/>
            </p:nvSpPr>
            <p:spPr>
              <a:xfrm>
                <a:off x="1636560" y="1071360"/>
                <a:ext cx="9000" cy="52153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Rectangle 110"/>
              <p:cNvSpPr/>
              <p:nvPr/>
            </p:nvSpPr>
            <p:spPr>
              <a:xfrm>
                <a:off x="1645920" y="1071360"/>
                <a:ext cx="7920" cy="521532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Rectangle 109"/>
              <p:cNvSpPr/>
              <p:nvPr/>
            </p:nvSpPr>
            <p:spPr>
              <a:xfrm>
                <a:off x="1654200" y="1071360"/>
                <a:ext cx="9000" cy="52153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Rectangle 108"/>
              <p:cNvSpPr/>
              <p:nvPr/>
            </p:nvSpPr>
            <p:spPr>
              <a:xfrm>
                <a:off x="1663200" y="1071360"/>
                <a:ext cx="7920" cy="52153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107"/>
              <p:cNvSpPr/>
              <p:nvPr/>
            </p:nvSpPr>
            <p:spPr>
              <a:xfrm>
                <a:off x="1671480" y="1071360"/>
                <a:ext cx="5760" cy="52153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Rectangle 106"/>
              <p:cNvSpPr/>
              <p:nvPr/>
            </p:nvSpPr>
            <p:spPr>
              <a:xfrm>
                <a:off x="1677600" y="1071360"/>
                <a:ext cx="9000" cy="5215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Rectangle 105"/>
              <p:cNvSpPr/>
              <p:nvPr/>
            </p:nvSpPr>
            <p:spPr>
              <a:xfrm>
                <a:off x="1686600" y="1071360"/>
                <a:ext cx="7920" cy="52153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Rectangle 104"/>
              <p:cNvSpPr/>
              <p:nvPr/>
            </p:nvSpPr>
            <p:spPr>
              <a:xfrm>
                <a:off x="1694880" y="1071360"/>
                <a:ext cx="9360" cy="52153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103"/>
              <p:cNvSpPr/>
              <p:nvPr/>
            </p:nvSpPr>
            <p:spPr>
              <a:xfrm>
                <a:off x="1420200" y="1071360"/>
                <a:ext cx="278640" cy="5210280"/>
              </a:xfrm>
              <a:custGeom>
                <a:avLst/>
                <a:gdLst/>
                <a:ahLst/>
                <a:rect l="l" t="t" r="r" b="b"/>
                <a:pathLst>
                  <a:path w="238" h="5400">
                    <a:moveTo>
                      <a:pt x="37" y="0"/>
                    </a:moveTo>
                    <a:lnTo>
                      <a:pt x="35" y="45"/>
                    </a:lnTo>
                    <a:lnTo>
                      <a:pt x="35" y="93"/>
                    </a:lnTo>
                    <a:lnTo>
                      <a:pt x="35" y="145"/>
                    </a:lnTo>
                    <a:lnTo>
                      <a:pt x="32" y="203"/>
                    </a:lnTo>
                    <a:lnTo>
                      <a:pt x="32" y="260"/>
                    </a:lnTo>
                    <a:lnTo>
                      <a:pt x="32" y="325"/>
                    </a:lnTo>
                    <a:lnTo>
                      <a:pt x="32" y="390"/>
                    </a:lnTo>
                    <a:lnTo>
                      <a:pt x="35" y="460"/>
                    </a:lnTo>
                    <a:lnTo>
                      <a:pt x="35" y="535"/>
                    </a:lnTo>
                    <a:lnTo>
                      <a:pt x="35" y="611"/>
                    </a:lnTo>
                    <a:lnTo>
                      <a:pt x="37" y="688"/>
                    </a:lnTo>
                    <a:lnTo>
                      <a:pt x="37" y="771"/>
                    </a:lnTo>
                    <a:lnTo>
                      <a:pt x="40" y="856"/>
                    </a:lnTo>
                    <a:lnTo>
                      <a:pt x="42" y="941"/>
                    </a:lnTo>
                    <a:lnTo>
                      <a:pt x="45" y="1121"/>
                    </a:lnTo>
                    <a:lnTo>
                      <a:pt x="50" y="1309"/>
                    </a:lnTo>
                    <a:lnTo>
                      <a:pt x="55" y="1501"/>
                    </a:lnTo>
                    <a:lnTo>
                      <a:pt x="60" y="1704"/>
                    </a:lnTo>
                    <a:lnTo>
                      <a:pt x="62" y="1909"/>
                    </a:lnTo>
                    <a:lnTo>
                      <a:pt x="67" y="2119"/>
                    </a:lnTo>
                    <a:lnTo>
                      <a:pt x="72" y="2332"/>
                    </a:lnTo>
                    <a:lnTo>
                      <a:pt x="82" y="2760"/>
                    </a:lnTo>
                    <a:lnTo>
                      <a:pt x="85" y="2975"/>
                    </a:lnTo>
                    <a:lnTo>
                      <a:pt x="87" y="3188"/>
                    </a:lnTo>
                    <a:lnTo>
                      <a:pt x="90" y="3398"/>
                    </a:lnTo>
                    <a:lnTo>
                      <a:pt x="92" y="3606"/>
                    </a:lnTo>
                    <a:lnTo>
                      <a:pt x="92" y="3806"/>
                    </a:lnTo>
                    <a:lnTo>
                      <a:pt x="92" y="4004"/>
                    </a:lnTo>
                    <a:lnTo>
                      <a:pt x="90" y="4189"/>
                    </a:lnTo>
                    <a:lnTo>
                      <a:pt x="87" y="4369"/>
                    </a:lnTo>
                    <a:lnTo>
                      <a:pt x="85" y="4457"/>
                    </a:lnTo>
                    <a:lnTo>
                      <a:pt x="82" y="4542"/>
                    </a:lnTo>
                    <a:lnTo>
                      <a:pt x="80" y="4624"/>
                    </a:lnTo>
                    <a:lnTo>
                      <a:pt x="75" y="4704"/>
                    </a:lnTo>
                    <a:lnTo>
                      <a:pt x="72" y="4779"/>
                    </a:lnTo>
                    <a:lnTo>
                      <a:pt x="67" y="4855"/>
                    </a:lnTo>
                    <a:lnTo>
                      <a:pt x="62" y="4925"/>
                    </a:lnTo>
                    <a:lnTo>
                      <a:pt x="57" y="4992"/>
                    </a:lnTo>
                    <a:lnTo>
                      <a:pt x="52" y="5057"/>
                    </a:lnTo>
                    <a:lnTo>
                      <a:pt x="47" y="5117"/>
                    </a:lnTo>
                    <a:lnTo>
                      <a:pt x="40" y="5175"/>
                    </a:lnTo>
                    <a:lnTo>
                      <a:pt x="32" y="5227"/>
                    </a:lnTo>
                    <a:lnTo>
                      <a:pt x="25" y="5277"/>
                    </a:lnTo>
                    <a:lnTo>
                      <a:pt x="17" y="5322"/>
                    </a:lnTo>
                    <a:lnTo>
                      <a:pt x="10" y="5362"/>
                    </a:lnTo>
                    <a:lnTo>
                      <a:pt x="0" y="5400"/>
                    </a:lnTo>
                    <a:lnTo>
                      <a:pt x="238" y="5400"/>
                    </a:lnTo>
                    <a:lnTo>
                      <a:pt x="238" y="2"/>
                    </a:lnTo>
                    <a:lnTo>
                      <a:pt x="37"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1" name="Rectangle 102"/>
              <p:cNvSpPr/>
              <p:nvPr/>
            </p:nvSpPr>
            <p:spPr>
              <a:xfrm>
                <a:off x="1420200" y="1071360"/>
                <a:ext cx="7920" cy="52153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Rectangle 101"/>
              <p:cNvSpPr/>
              <p:nvPr/>
            </p:nvSpPr>
            <p:spPr>
              <a:xfrm>
                <a:off x="1428120" y="1071360"/>
                <a:ext cx="9000" cy="521532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Rectangle 100"/>
              <p:cNvSpPr/>
              <p:nvPr/>
            </p:nvSpPr>
            <p:spPr>
              <a:xfrm>
                <a:off x="1437480" y="1071360"/>
                <a:ext cx="7920" cy="5215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Rectangle 99"/>
              <p:cNvSpPr/>
              <p:nvPr/>
            </p:nvSpPr>
            <p:spPr>
              <a:xfrm>
                <a:off x="1445760" y="1071360"/>
                <a:ext cx="5760" cy="521532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Rectangle 98"/>
              <p:cNvSpPr/>
              <p:nvPr/>
            </p:nvSpPr>
            <p:spPr>
              <a:xfrm>
                <a:off x="1451520" y="1071360"/>
                <a:ext cx="9000" cy="521532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Rectangle 97"/>
              <p:cNvSpPr/>
              <p:nvPr/>
            </p:nvSpPr>
            <p:spPr>
              <a:xfrm>
                <a:off x="1460880" y="1071360"/>
                <a:ext cx="7920" cy="521532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Rectangle 96"/>
              <p:cNvSpPr/>
              <p:nvPr/>
            </p:nvSpPr>
            <p:spPr>
              <a:xfrm>
                <a:off x="1469160" y="1071360"/>
                <a:ext cx="9360" cy="521532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8" name="Rectangle 95"/>
              <p:cNvSpPr/>
              <p:nvPr/>
            </p:nvSpPr>
            <p:spPr>
              <a:xfrm>
                <a:off x="1478520" y="1071360"/>
                <a:ext cx="7920" cy="521532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Rectangle 94"/>
              <p:cNvSpPr/>
              <p:nvPr/>
            </p:nvSpPr>
            <p:spPr>
              <a:xfrm>
                <a:off x="1486800" y="1071360"/>
                <a:ext cx="9360" cy="521532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Rectangle 93"/>
              <p:cNvSpPr/>
              <p:nvPr/>
            </p:nvSpPr>
            <p:spPr>
              <a:xfrm>
                <a:off x="1496160" y="1071360"/>
                <a:ext cx="7920" cy="5215320"/>
              </a:xfrm>
              <a:prstGeom prst="rect">
                <a:avLst/>
              </a:prstGeom>
              <a:solidFill>
                <a:srgbClr val="9797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Rectangle 92"/>
              <p:cNvSpPr/>
              <p:nvPr/>
            </p:nvSpPr>
            <p:spPr>
              <a:xfrm>
                <a:off x="1504440" y="1071360"/>
                <a:ext cx="5760" cy="521532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Rectangle 91"/>
              <p:cNvSpPr/>
              <p:nvPr/>
            </p:nvSpPr>
            <p:spPr>
              <a:xfrm>
                <a:off x="1510200" y="1071360"/>
                <a:ext cx="9000" cy="521532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Rectangle 90"/>
              <p:cNvSpPr/>
              <p:nvPr/>
            </p:nvSpPr>
            <p:spPr>
              <a:xfrm>
                <a:off x="1519560" y="1071360"/>
                <a:ext cx="7920" cy="521532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Rectangle 89"/>
              <p:cNvSpPr/>
              <p:nvPr/>
            </p:nvSpPr>
            <p:spPr>
              <a:xfrm>
                <a:off x="1527840" y="1071360"/>
                <a:ext cx="9000" cy="521532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Rectangle 88"/>
              <p:cNvSpPr/>
              <p:nvPr/>
            </p:nvSpPr>
            <p:spPr>
              <a:xfrm>
                <a:off x="1537200" y="1071360"/>
                <a:ext cx="7920" cy="52153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Rectangle 87"/>
              <p:cNvSpPr/>
              <p:nvPr/>
            </p:nvSpPr>
            <p:spPr>
              <a:xfrm>
                <a:off x="1545120" y="1071360"/>
                <a:ext cx="9000" cy="52153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Rectangle 86"/>
              <p:cNvSpPr/>
              <p:nvPr/>
            </p:nvSpPr>
            <p:spPr>
              <a:xfrm>
                <a:off x="1554480" y="1071360"/>
                <a:ext cx="5760" cy="521532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Rectangle 85"/>
              <p:cNvSpPr/>
              <p:nvPr/>
            </p:nvSpPr>
            <p:spPr>
              <a:xfrm>
                <a:off x="1560240" y="1071360"/>
                <a:ext cx="9360" cy="521532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Rectangle 84"/>
              <p:cNvSpPr/>
              <p:nvPr/>
            </p:nvSpPr>
            <p:spPr>
              <a:xfrm>
                <a:off x="1569960" y="1071360"/>
                <a:ext cx="7920" cy="521532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Rectangle 83"/>
              <p:cNvSpPr/>
              <p:nvPr/>
            </p:nvSpPr>
            <p:spPr>
              <a:xfrm>
                <a:off x="1577880" y="1071360"/>
                <a:ext cx="9360" cy="5215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Rectangle 82"/>
              <p:cNvSpPr/>
              <p:nvPr/>
            </p:nvSpPr>
            <p:spPr>
              <a:xfrm>
                <a:off x="1587600" y="1071360"/>
                <a:ext cx="7920" cy="521532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Rectangle 81"/>
              <p:cNvSpPr/>
              <p:nvPr/>
            </p:nvSpPr>
            <p:spPr>
              <a:xfrm>
                <a:off x="1595880" y="1071360"/>
                <a:ext cx="9000" cy="521532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Rectangle 80"/>
              <p:cNvSpPr/>
              <p:nvPr/>
            </p:nvSpPr>
            <p:spPr>
              <a:xfrm>
                <a:off x="1604880" y="1071360"/>
                <a:ext cx="7920" cy="5215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4" name="Rectangle 79"/>
              <p:cNvSpPr/>
              <p:nvPr/>
            </p:nvSpPr>
            <p:spPr>
              <a:xfrm>
                <a:off x="1613160" y="1071360"/>
                <a:ext cx="5760" cy="52153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Rectangle 78"/>
              <p:cNvSpPr/>
              <p:nvPr/>
            </p:nvSpPr>
            <p:spPr>
              <a:xfrm>
                <a:off x="1618920" y="1071360"/>
                <a:ext cx="9000" cy="52153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77"/>
              <p:cNvSpPr/>
              <p:nvPr/>
            </p:nvSpPr>
            <p:spPr>
              <a:xfrm>
                <a:off x="1628280" y="1071360"/>
                <a:ext cx="7920" cy="521532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Rectangle 76"/>
              <p:cNvSpPr/>
              <p:nvPr/>
            </p:nvSpPr>
            <p:spPr>
              <a:xfrm>
                <a:off x="1636560" y="1071360"/>
                <a:ext cx="9000" cy="52153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Rectangle 75"/>
              <p:cNvSpPr/>
              <p:nvPr/>
            </p:nvSpPr>
            <p:spPr>
              <a:xfrm>
                <a:off x="1645920" y="1071360"/>
                <a:ext cx="7920" cy="521532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Rectangle 74"/>
              <p:cNvSpPr/>
              <p:nvPr/>
            </p:nvSpPr>
            <p:spPr>
              <a:xfrm>
                <a:off x="1654200" y="1071360"/>
                <a:ext cx="9000" cy="52153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Rectangle 73"/>
              <p:cNvSpPr/>
              <p:nvPr/>
            </p:nvSpPr>
            <p:spPr>
              <a:xfrm>
                <a:off x="1663200" y="1071360"/>
                <a:ext cx="7920" cy="52153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Rectangle 72"/>
              <p:cNvSpPr/>
              <p:nvPr/>
            </p:nvSpPr>
            <p:spPr>
              <a:xfrm>
                <a:off x="1671480" y="1071360"/>
                <a:ext cx="5760" cy="52153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Rectangle 71"/>
              <p:cNvSpPr/>
              <p:nvPr/>
            </p:nvSpPr>
            <p:spPr>
              <a:xfrm>
                <a:off x="1677600" y="1071360"/>
                <a:ext cx="9000" cy="5215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Rectangle 70"/>
              <p:cNvSpPr/>
              <p:nvPr/>
            </p:nvSpPr>
            <p:spPr>
              <a:xfrm>
                <a:off x="1686600" y="1071360"/>
                <a:ext cx="7920" cy="52153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Rectangle 69"/>
              <p:cNvSpPr/>
              <p:nvPr/>
            </p:nvSpPr>
            <p:spPr>
              <a:xfrm>
                <a:off x="1694880" y="1071360"/>
                <a:ext cx="9360" cy="52153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Rectangle 67"/>
            <p:cNvSpPr/>
            <p:nvPr/>
          </p:nvSpPr>
          <p:spPr>
            <a:xfrm>
              <a:off x="1816560" y="1214280"/>
              <a:ext cx="562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33"/>
                  </a:solidFill>
                  <a:latin typeface="Arial"/>
                  <a:ea typeface="Times New Roman"/>
                </a:rPr>
                <a:t>Une</a:t>
              </a:r>
              <a:r>
                <a:rPr b="0" lang="en-US" sz="2400" spc="-1" strike="noStrike">
                  <a:solidFill>
                    <a:srgbClr val="666633"/>
                  </a:solidFill>
                  <a:latin typeface="Arial"/>
                  <a:ea typeface="Times New Roman"/>
                </a:rPr>
                <a:t> nouvelle architecture de financement</a:t>
              </a:r>
              <a:endParaRPr b="0" lang="en-US" sz="2400" spc="-1" strike="noStrike">
                <a:solidFill>
                  <a:srgbClr val="000000"/>
                </a:solidFill>
                <a:latin typeface="Calibri"/>
              </a:endParaRPr>
            </a:p>
          </p:txBody>
        </p:sp>
        <p:sp>
          <p:nvSpPr>
            <p:cNvPr id="386" name="Rectangle 66"/>
            <p:cNvSpPr/>
            <p:nvPr/>
          </p:nvSpPr>
          <p:spPr>
            <a:xfrm>
              <a:off x="1829880" y="1713960"/>
              <a:ext cx="3345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33"/>
                  </a:solidFill>
                  <a:latin typeface="Arial"/>
                  <a:ea typeface="Times New Roman"/>
                </a:rPr>
                <a:t>(Une nouvelle gouvernance?)</a:t>
              </a:r>
              <a:endParaRPr b="0" lang="en-US" sz="2000" spc="-1" strike="noStrike">
                <a:solidFill>
                  <a:srgbClr val="000000"/>
                </a:solidFill>
                <a:latin typeface="Calibri"/>
              </a:endParaRPr>
            </a:p>
          </p:txBody>
        </p:sp>
        <p:sp>
          <p:nvSpPr>
            <p:cNvPr id="387" name="Rectangle 65"/>
            <p:cNvSpPr/>
            <p:nvPr/>
          </p:nvSpPr>
          <p:spPr>
            <a:xfrm>
              <a:off x="2979000" y="239400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PUTS</a:t>
              </a:r>
              <a:endParaRPr b="0" lang="en-US" sz="2000" spc="-1" strike="noStrike">
                <a:solidFill>
                  <a:srgbClr val="000000"/>
                </a:solidFill>
                <a:latin typeface="Calibri"/>
              </a:endParaRPr>
            </a:p>
          </p:txBody>
        </p:sp>
        <p:sp>
          <p:nvSpPr>
            <p:cNvPr id="388" name="Rectangle 64"/>
            <p:cNvSpPr/>
            <p:nvPr/>
          </p:nvSpPr>
          <p:spPr>
            <a:xfrm>
              <a:off x="6284160" y="2394000"/>
              <a:ext cx="121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TPUTS</a:t>
              </a:r>
              <a:endParaRPr b="0" lang="en-US" sz="2000" spc="-1" strike="noStrike">
                <a:solidFill>
                  <a:srgbClr val="000000"/>
                </a:solidFill>
                <a:latin typeface="Calibri"/>
              </a:endParaRPr>
            </a:p>
          </p:txBody>
        </p:sp>
        <p:sp>
          <p:nvSpPr>
            <p:cNvPr id="389" name="Rectangle 63"/>
            <p:cNvSpPr/>
            <p:nvPr/>
          </p:nvSpPr>
          <p:spPr>
            <a:xfrm>
              <a:off x="5850360" y="2714400"/>
              <a:ext cx="3293280" cy="1071720"/>
            </a:xfrm>
            <a:prstGeom prst="rect">
              <a:avLst/>
            </a:prstGeom>
            <a:solidFill>
              <a:srgbClr val="d6d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Rectangle 62"/>
            <p:cNvSpPr/>
            <p:nvPr/>
          </p:nvSpPr>
          <p:spPr>
            <a:xfrm>
              <a:off x="5518080" y="2739600"/>
              <a:ext cx="340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harges inconditionnelles</a:t>
              </a:r>
              <a:endParaRPr b="0" lang="en-US" sz="2000" spc="-1" strike="noStrike">
                <a:solidFill>
                  <a:srgbClr val="000000"/>
                </a:solidFill>
                <a:latin typeface="Calibri"/>
              </a:endParaRPr>
            </a:p>
          </p:txBody>
        </p:sp>
        <p:sp>
          <p:nvSpPr>
            <p:cNvPr id="391" name="Rectangle 61"/>
            <p:cNvSpPr/>
            <p:nvPr/>
          </p:nvSpPr>
          <p:spPr>
            <a:xfrm>
              <a:off x="6357240" y="3071520"/>
              <a:ext cx="242928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ptabilité + Audi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eil d’Administratio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recteu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2" name="Rectangle 58"/>
            <p:cNvSpPr/>
            <p:nvPr/>
          </p:nvSpPr>
          <p:spPr>
            <a:xfrm>
              <a:off x="1642680" y="2785680"/>
              <a:ext cx="3500640" cy="984960"/>
            </a:xfrm>
            <a:prstGeom prst="rect">
              <a:avLst/>
            </a:prstGeom>
            <a:solidFill>
              <a:srgbClr val="d6d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Rectangle 57"/>
            <p:cNvSpPr/>
            <p:nvPr/>
          </p:nvSpPr>
          <p:spPr>
            <a:xfrm>
              <a:off x="1655640" y="2785680"/>
              <a:ext cx="345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ibutions </a:t>
              </a:r>
              <a:r>
                <a:rPr b="0" lang="fr-FR" sz="2000" spc="-1" strike="noStrike">
                  <a:solidFill>
                    <a:srgbClr val="000000"/>
                  </a:solidFill>
                  <a:latin typeface="Arial"/>
                  <a:ea typeface="Times New Roman"/>
                </a:rPr>
                <a:t>inconditionnelles</a:t>
              </a:r>
              <a:endParaRPr b="0" lang="en-US" sz="2000" spc="-1" strike="noStrike">
                <a:solidFill>
                  <a:srgbClr val="000000"/>
                </a:solidFill>
                <a:latin typeface="Calibri"/>
              </a:endParaRPr>
            </a:p>
          </p:txBody>
        </p:sp>
        <p:sp>
          <p:nvSpPr>
            <p:cNvPr id="394" name="Rectangle 56"/>
            <p:cNvSpPr/>
            <p:nvPr/>
          </p:nvSpPr>
          <p:spPr>
            <a:xfrm>
              <a:off x="1785240" y="3214440"/>
              <a:ext cx="321480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tisations et autres contribution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s membres</a:t>
              </a:r>
              <a:endParaRPr b="0" lang="en-US" sz="1600" spc="-1" strike="noStrike">
                <a:solidFill>
                  <a:srgbClr val="000000"/>
                </a:solidFill>
                <a:latin typeface="Calibri"/>
              </a:endParaRPr>
            </a:p>
          </p:txBody>
        </p:sp>
        <p:sp>
          <p:nvSpPr>
            <p:cNvPr id="395" name="Rectangle 55"/>
            <p:cNvSpPr/>
            <p:nvPr/>
          </p:nvSpPr>
          <p:spPr>
            <a:xfrm>
              <a:off x="1642680" y="3929400"/>
              <a:ext cx="3500640" cy="1000080"/>
            </a:xfrm>
            <a:prstGeom prst="rect">
              <a:avLst/>
            </a:prstGeom>
            <a:solidFill>
              <a:srgbClr val="908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Rectangle 54"/>
            <p:cNvSpPr/>
            <p:nvPr/>
          </p:nvSpPr>
          <p:spPr>
            <a:xfrm>
              <a:off x="1571040" y="3929400"/>
              <a:ext cx="35006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isation de financement structurel</a:t>
              </a:r>
              <a:endParaRPr b="0" lang="en-US" sz="2000" spc="-1" strike="noStrike">
                <a:solidFill>
                  <a:srgbClr val="000000"/>
                </a:solidFill>
                <a:latin typeface="Calibri"/>
              </a:endParaRPr>
            </a:p>
          </p:txBody>
        </p:sp>
        <p:sp>
          <p:nvSpPr>
            <p:cNvPr id="397" name="Rectangle 53"/>
            <p:cNvSpPr/>
            <p:nvPr/>
          </p:nvSpPr>
          <p:spPr>
            <a:xfrm>
              <a:off x="2297160" y="4429080"/>
              <a:ext cx="2591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nancement local + Contri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mbres et Partenaires</a:t>
              </a:r>
              <a:endParaRPr b="0" lang="en-US" sz="1600" spc="-1" strike="noStrike">
                <a:solidFill>
                  <a:srgbClr val="000000"/>
                </a:solidFill>
                <a:latin typeface="Calibri"/>
              </a:endParaRPr>
            </a:p>
          </p:txBody>
        </p:sp>
        <p:sp>
          <p:nvSpPr>
            <p:cNvPr id="398" name="Rectangle 52"/>
            <p:cNvSpPr/>
            <p:nvPr/>
          </p:nvSpPr>
          <p:spPr>
            <a:xfrm>
              <a:off x="4039920" y="4229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Calibri"/>
              </a:endParaRPr>
            </a:p>
          </p:txBody>
        </p:sp>
        <p:sp>
          <p:nvSpPr>
            <p:cNvPr id="399" name="Rectangle 50"/>
            <p:cNvSpPr/>
            <p:nvPr/>
          </p:nvSpPr>
          <p:spPr>
            <a:xfrm>
              <a:off x="4582080" y="4229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a:t>
              </a:r>
              <a:endParaRPr b="0" lang="en-US" sz="700" spc="-1" strike="noStrike">
                <a:solidFill>
                  <a:srgbClr val="000000"/>
                </a:solidFill>
                <a:latin typeface="Calibri"/>
              </a:endParaRPr>
            </a:p>
          </p:txBody>
        </p:sp>
        <p:sp>
          <p:nvSpPr>
            <p:cNvPr id="400" name="Rectangle 49"/>
            <p:cNvSpPr/>
            <p:nvPr/>
          </p:nvSpPr>
          <p:spPr>
            <a:xfrm>
              <a:off x="5857560" y="3929400"/>
              <a:ext cx="3286440" cy="1000080"/>
            </a:xfrm>
            <a:prstGeom prst="rect">
              <a:avLst/>
            </a:prstGeom>
            <a:solidFill>
              <a:srgbClr val="908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Rectangle 48"/>
            <p:cNvSpPr/>
            <p:nvPr/>
          </p:nvSpPr>
          <p:spPr>
            <a:xfrm>
              <a:off x="6214680" y="4000680"/>
              <a:ext cx="2643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té structurelle</a:t>
              </a:r>
              <a:endParaRPr b="0" lang="en-US" sz="2000" spc="-1" strike="noStrike">
                <a:solidFill>
                  <a:srgbClr val="000000"/>
                </a:solidFill>
                <a:latin typeface="Calibri"/>
              </a:endParaRPr>
            </a:p>
          </p:txBody>
        </p:sp>
        <p:sp>
          <p:nvSpPr>
            <p:cNvPr id="402" name="Rectangle 47"/>
            <p:cNvSpPr/>
            <p:nvPr/>
          </p:nvSpPr>
          <p:spPr>
            <a:xfrm>
              <a:off x="7688160" y="38404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Calibri"/>
              </a:endParaRPr>
            </a:p>
          </p:txBody>
        </p:sp>
        <p:sp>
          <p:nvSpPr>
            <p:cNvPr id="403" name="Rectangle 46"/>
            <p:cNvSpPr/>
            <p:nvPr/>
          </p:nvSpPr>
          <p:spPr>
            <a:xfrm>
              <a:off x="6356880" y="4429080"/>
              <a:ext cx="160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éunion Annuelle</a:t>
              </a:r>
              <a:endParaRPr b="0" lang="en-US" sz="1600" spc="-1" strike="noStrike">
                <a:solidFill>
                  <a:srgbClr val="000000"/>
                </a:solidFill>
                <a:latin typeface="Calibri"/>
              </a:endParaRPr>
            </a:p>
          </p:txBody>
        </p:sp>
        <p:sp>
          <p:nvSpPr>
            <p:cNvPr id="404" name="Rectangle 25"/>
            <p:cNvSpPr/>
            <p:nvPr/>
          </p:nvSpPr>
          <p:spPr>
            <a:xfrm>
              <a:off x="5857560" y="5071680"/>
              <a:ext cx="3286440" cy="1071720"/>
            </a:xfrm>
            <a:prstGeom prst="rect">
              <a:avLst/>
            </a:pr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Rectangle 24"/>
            <p:cNvSpPr/>
            <p:nvPr/>
          </p:nvSpPr>
          <p:spPr>
            <a:xfrm>
              <a:off x="6010920" y="5142960"/>
              <a:ext cx="270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tés conditionnelles</a:t>
              </a:r>
              <a:endParaRPr b="0" lang="en-US" sz="2000" spc="-1" strike="noStrike">
                <a:solidFill>
                  <a:srgbClr val="000000"/>
                </a:solidFill>
                <a:latin typeface="Calibri"/>
              </a:endParaRPr>
            </a:p>
          </p:txBody>
        </p:sp>
        <p:sp>
          <p:nvSpPr>
            <p:cNvPr id="406" name="Rectangle 23"/>
            <p:cNvSpPr/>
            <p:nvPr/>
          </p:nvSpPr>
          <p:spPr>
            <a:xfrm>
              <a:off x="5969520" y="5572440"/>
              <a:ext cx="31705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tions, Formations, Réun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herche, Pilotes, Nouvelles initiatives</a:t>
              </a:r>
              <a:endParaRPr b="0" lang="en-US" sz="1400" spc="-1" strike="noStrike">
                <a:solidFill>
                  <a:srgbClr val="000000"/>
                </a:solidFill>
                <a:latin typeface="Calibri"/>
              </a:endParaRPr>
            </a:p>
          </p:txBody>
        </p:sp>
        <p:sp>
          <p:nvSpPr>
            <p:cNvPr id="407" name="Rectangle 22"/>
            <p:cNvSpPr/>
            <p:nvPr/>
          </p:nvSpPr>
          <p:spPr>
            <a:xfrm>
              <a:off x="7889400" y="51998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Calibri"/>
              </a:endParaRPr>
            </a:p>
          </p:txBody>
        </p:sp>
        <p:sp>
          <p:nvSpPr>
            <p:cNvPr id="408" name="Rectangle 20"/>
            <p:cNvSpPr/>
            <p:nvPr/>
          </p:nvSpPr>
          <p:spPr>
            <a:xfrm>
              <a:off x="6512760" y="536220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Calibri"/>
              </a:endParaRPr>
            </a:p>
          </p:txBody>
        </p:sp>
        <p:sp>
          <p:nvSpPr>
            <p:cNvPr id="409" name="Rectangle 17"/>
            <p:cNvSpPr/>
            <p:nvPr/>
          </p:nvSpPr>
          <p:spPr>
            <a:xfrm>
              <a:off x="1642680" y="5071680"/>
              <a:ext cx="3500640" cy="1071720"/>
            </a:xfrm>
            <a:prstGeom prst="rect">
              <a:avLst/>
            </a:pr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Rectangle 16"/>
            <p:cNvSpPr/>
            <p:nvPr/>
          </p:nvSpPr>
          <p:spPr>
            <a:xfrm>
              <a:off x="1642680" y="5071680"/>
              <a:ext cx="35006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ancement ciblé</a:t>
              </a:r>
              <a:endParaRPr b="0" lang="en-US" sz="2000" spc="-1" strike="noStrike">
                <a:solidFill>
                  <a:srgbClr val="000000"/>
                </a:solidFill>
                <a:latin typeface="Calibri"/>
              </a:endParaRPr>
            </a:p>
          </p:txBody>
        </p:sp>
        <p:sp>
          <p:nvSpPr>
            <p:cNvPr id="411" name="Rectangle 15"/>
            <p:cNvSpPr/>
            <p:nvPr/>
          </p:nvSpPr>
          <p:spPr>
            <a:xfrm>
              <a:off x="1659960" y="5285880"/>
              <a:ext cx="358992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financement de plusieurs partenair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12" name="Double flèche horizontale 266"/>
          <p:cNvSpPr/>
          <p:nvPr/>
        </p:nvSpPr>
        <p:spPr>
          <a:xfrm>
            <a:off x="5143680" y="3286080"/>
            <a:ext cx="714240" cy="198360"/>
          </a:xfrm>
          <a:prstGeom prst="leftRightArrow">
            <a:avLst>
              <a:gd name="adj1" fmla="val 50000"/>
              <a:gd name="adj2" fmla="val 5012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Double flèche horizontale 267"/>
          <p:cNvSpPr/>
          <p:nvPr/>
        </p:nvSpPr>
        <p:spPr>
          <a:xfrm>
            <a:off x="5143680" y="4357800"/>
            <a:ext cx="714240" cy="198360"/>
          </a:xfrm>
          <a:prstGeom prst="leftRightArrow">
            <a:avLst>
              <a:gd name="adj1" fmla="val 50000"/>
              <a:gd name="adj2" fmla="val 5012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Double flèche horizontale 268"/>
          <p:cNvSpPr/>
          <p:nvPr/>
        </p:nvSpPr>
        <p:spPr>
          <a:xfrm>
            <a:off x="5143680" y="5357880"/>
            <a:ext cx="714240" cy="214200"/>
          </a:xfrm>
          <a:prstGeom prst="leftRightArrow">
            <a:avLst>
              <a:gd name="adj1" fmla="val 50000"/>
              <a:gd name="adj2" fmla="val 5001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142920"/>
            <a:ext cx="9144000" cy="7000920"/>
          </a:xfrm>
          <a:prstGeom prst="rect">
            <a:avLst/>
          </a:prstGeom>
          <a:ln w="0">
            <a:noFill/>
          </a:ln>
        </p:spPr>
      </p:pic>
      <p:sp>
        <p:nvSpPr>
          <p:cNvPr id="52" name="PlaceHolder 1"/>
          <p:cNvSpPr>
            <a:spLocks noGrp="1"/>
          </p:cNvSpPr>
          <p:nvPr>
            <p:ph type="title"/>
          </p:nvPr>
        </p:nvSpPr>
        <p:spPr>
          <a:xfrm>
            <a:off x="714240" y="1857240"/>
            <a:ext cx="75297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0000"/>
                </a:solidFill>
                <a:latin typeface="Calibri"/>
              </a:rPr>
              <a:t> </a:t>
            </a:r>
            <a:br>
              <a:rPr sz="2200"/>
            </a:br>
            <a:r>
              <a:rPr b="1" lang="fr-FR" sz="2800" spc="-1" strike="noStrike">
                <a:solidFill>
                  <a:srgbClr val="000000"/>
                </a:solidFill>
                <a:latin typeface="Calibri"/>
              </a:rPr>
              <a:t>Promouvoir la finance inclusive en Afrique  et transformer AFMIN en un réseau régional viable </a:t>
            </a:r>
            <a:br>
              <a:rPr sz="2200"/>
            </a:br>
            <a:endParaRPr b="0" lang="en-US" sz="2800" spc="-1" strike="noStrike">
              <a:solidFill>
                <a:srgbClr val="000000"/>
              </a:solidFill>
              <a:latin typeface="Calibri"/>
            </a:endParaRPr>
          </a:p>
        </p:txBody>
      </p:sp>
      <p:sp>
        <p:nvSpPr>
          <p:cNvPr id="53" name="PlaceHolder 2"/>
          <p:cNvSpPr>
            <a:spLocks noGrp="1"/>
          </p:cNvSpPr>
          <p:nvPr>
            <p:ph type="subTitle"/>
          </p:nvPr>
        </p:nvSpPr>
        <p:spPr>
          <a:xfrm>
            <a:off x="1285920" y="4572000"/>
            <a:ext cx="7415280" cy="1571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Calibri"/>
            </a:endParaRPr>
          </a:p>
        </p:txBody>
      </p:sp>
      <p:sp>
        <p:nvSpPr>
          <p:cNvPr id="54" name="ZoneTexte 6"/>
          <p:cNvSpPr/>
          <p:nvPr/>
        </p:nvSpPr>
        <p:spPr>
          <a:xfrm>
            <a:off x="214200" y="3429000"/>
            <a:ext cx="842976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1" descr="D:\AFMIN\NewPicture\AFMIN3.jpg"/>
          <p:cNvPicPr/>
          <p:nvPr/>
        </p:nvPicPr>
        <p:blipFill>
          <a:blip r:embed="rId1"/>
          <a:stretch/>
        </p:blipFill>
        <p:spPr>
          <a:xfrm>
            <a:off x="0" y="0"/>
            <a:ext cx="9144000" cy="6858000"/>
          </a:xfrm>
          <a:prstGeom prst="rect">
            <a:avLst/>
          </a:prstGeom>
          <a:ln w="0">
            <a:noFill/>
          </a:ln>
        </p:spPr>
      </p:pic>
      <p:sp>
        <p:nvSpPr>
          <p:cNvPr id="416"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Facteurs de succès</a:t>
            </a:r>
            <a:endParaRPr b="0" lang="en-US" sz="4800" spc="-1" strike="noStrike">
              <a:solidFill>
                <a:srgbClr val="000000"/>
              </a:solidFill>
              <a:latin typeface="Calibri"/>
            </a:endParaRPr>
          </a:p>
        </p:txBody>
      </p:sp>
      <p:sp>
        <p:nvSpPr>
          <p:cNvPr id="417"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BONNE REPRESENTABILITE  du secteur (RN et IMFs leaders sont membres)</a:t>
            </a:r>
            <a:endParaRPr b="0" lang="en-US" sz="3200" spc="-1" strike="noStrike">
              <a:solidFill>
                <a:srgbClr val="000000"/>
              </a:solidFill>
              <a:latin typeface="Calibri"/>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GOUVERNANCE TRANSPARENTE</a:t>
            </a:r>
            <a:endParaRPr b="0" lang="en-US" sz="3200" spc="-1" strike="noStrike">
              <a:solidFill>
                <a:srgbClr val="000000"/>
              </a:solidFill>
              <a:latin typeface="Calibri"/>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BONNE RELATION AVEC LES PARTENAIRES </a:t>
            </a:r>
            <a:endParaRPr b="0" lang="en-US" sz="3200" spc="-1" strike="noStrike">
              <a:solidFill>
                <a:srgbClr val="000000"/>
              </a:solidFill>
              <a:latin typeface="Calibri"/>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1" descr="D:\AFMIN\NewPicture\AFMIN3.jpg"/>
          <p:cNvPicPr/>
          <p:nvPr/>
        </p:nvPicPr>
        <p:blipFill>
          <a:blip r:embed="rId1"/>
          <a:stretch/>
        </p:blipFill>
        <p:spPr>
          <a:xfrm>
            <a:off x="0" y="0"/>
            <a:ext cx="9144000" cy="6858000"/>
          </a:xfrm>
          <a:prstGeom prst="rect">
            <a:avLst/>
          </a:prstGeom>
          <a:ln w="0">
            <a:noFill/>
          </a:ln>
        </p:spPr>
      </p:pic>
      <p:sp>
        <p:nvSpPr>
          <p:cNvPr id="419"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Principaux partenaires</a:t>
            </a:r>
            <a:endParaRPr b="0" lang="en-US" sz="4800" spc="-1" strike="noStrike">
              <a:solidFill>
                <a:srgbClr val="000000"/>
              </a:solidFill>
              <a:latin typeface="Calibri"/>
            </a:endParaRPr>
          </a:p>
        </p:txBody>
      </p:sp>
      <p:sp>
        <p:nvSpPr>
          <p:cNvPr id="420"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atholic Relief Services</a:t>
            </a: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ondation Ford</a:t>
            </a: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ondation MasterCard</a:t>
            </a: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DA-Luxembourg</a:t>
            </a: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Banque Africaine de Développement</a:t>
            </a: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EEP Network</a:t>
            </a: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PTF </a:t>
            </a:r>
            <a:endParaRPr b="0" lang="en-US" sz="3200" spc="-1" strike="noStrike">
              <a:solidFill>
                <a:srgbClr val="000000"/>
              </a:solidFill>
              <a:latin typeface="Calibri"/>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 descr="D:\AFMIN\NewPicture\AFMIN3.jpg"/>
          <p:cNvPicPr/>
          <p:nvPr/>
        </p:nvPicPr>
        <p:blipFill>
          <a:blip r:embed="rId1"/>
          <a:stretch/>
        </p:blipFill>
        <p:spPr>
          <a:xfrm>
            <a:off x="0" y="0"/>
            <a:ext cx="9144000" cy="6858000"/>
          </a:xfrm>
          <a:prstGeom prst="rect">
            <a:avLst/>
          </a:prstGeom>
          <a:ln w="0">
            <a:noFill/>
          </a:ln>
        </p:spPr>
      </p:pic>
      <p:sp>
        <p:nvSpPr>
          <p:cNvPr id="422"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00"/>
                </a:solidFill>
                <a:latin typeface="Calibri"/>
              </a:rPr>
              <a:t>PERSPECTIVES  2013 - 2014</a:t>
            </a:r>
            <a:endParaRPr b="0" lang="en-US" sz="3400" spc="-1" strike="noStrike">
              <a:solidFill>
                <a:srgbClr val="000000"/>
              </a:solidFill>
              <a:latin typeface="Calibri"/>
            </a:endParaRPr>
          </a:p>
        </p:txBody>
      </p:sp>
      <p:sp>
        <p:nvSpPr>
          <p:cNvPr id="423"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éveloppement de synergie et de partenariat avec d’autres associations  ou organisations comme MAIN ,  AFRACA,  AMT,    en vue de développer des programmes communs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iversification  du réseau de Partenaires tant au niveau sous régional qu’ International ( ADA  , Pamiga  , SEEP Network  , Plateforme Européenne de la Microfinance   ,……) et  renforcer l’ axe  Nord / Sud  </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ccroitre le nombre de réseaux membres ( au minimum 2 nouveaux pays par an ) pour une large couverture du Continent </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ccroitre sa visibilité dans les Sous Régions Africaines  de l’ Ouest et de l’ Est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t y mener plus d’ activités pour  ses membres ;</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1" descr="D:\AFMIN\NewPicture\AFMIN3.jpg"/>
          <p:cNvPicPr/>
          <p:nvPr/>
        </p:nvPicPr>
        <p:blipFill>
          <a:blip r:embed="rId1"/>
          <a:stretch/>
        </p:blipFill>
        <p:spPr>
          <a:xfrm>
            <a:off x="0" y="0"/>
            <a:ext cx="9144000" cy="6858000"/>
          </a:xfrm>
          <a:prstGeom prst="rect">
            <a:avLst/>
          </a:prstGeom>
          <a:ln w="0">
            <a:noFill/>
          </a:ln>
        </p:spPr>
      </p:pic>
      <p:sp>
        <p:nvSpPr>
          <p:cNvPr id="425"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Contacts </a:t>
            </a:r>
            <a:endParaRPr b="0" lang="en-US" sz="3600" spc="-1" strike="noStrike">
              <a:solidFill>
                <a:srgbClr val="000000"/>
              </a:solidFill>
              <a:latin typeface="Calibri"/>
            </a:endParaRPr>
          </a:p>
        </p:txBody>
      </p:sp>
      <p:sp>
        <p:nvSpPr>
          <p:cNvPr id="426"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Mr. Ousmane THIONGANE   , Président  </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Mr Davy Serge AZAKPAME   ,  Directeur  General   </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Web site: www.afminetwork.org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el: (229) 21 30 74 41 Fax: (229) 21 30 74 96</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OTONOU  /  BENIN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1" descr="D:\AFMIN\NewPicture\AFMIN3.jpg"/>
          <p:cNvPicPr/>
          <p:nvPr/>
        </p:nvPicPr>
        <p:blipFill>
          <a:blip r:embed="rId1"/>
          <a:stretch/>
        </p:blipFill>
        <p:spPr>
          <a:xfrm>
            <a:off x="0" y="0"/>
            <a:ext cx="9144000" cy="6858000"/>
          </a:xfrm>
          <a:prstGeom prst="rect">
            <a:avLst/>
          </a:prstGeom>
          <a:ln w="0">
            <a:noFill/>
          </a:ln>
        </p:spPr>
      </p:pic>
      <p:sp>
        <p:nvSpPr>
          <p:cNvPr id="428" name="PlaceHolder 1"/>
          <p:cNvSpPr>
            <a:spLocks noGrp="1"/>
          </p:cNvSpPr>
          <p:nvPr>
            <p:ph type="title"/>
          </p:nvPr>
        </p:nvSpPr>
        <p:spPr>
          <a:xfrm>
            <a:off x="0" y="86760"/>
            <a:ext cx="914400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400" spc="-1" strike="noStrike">
              <a:solidFill>
                <a:srgbClr val="000000"/>
              </a:solidFill>
              <a:latin typeface="Calibri"/>
            </a:endParaRPr>
          </a:p>
        </p:txBody>
      </p:sp>
      <p:sp>
        <p:nvSpPr>
          <p:cNvPr id="429"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 </a:t>
            </a:r>
            <a:endParaRPr b="0" lang="en-US" sz="4000" spc="-1" strike="noStrike">
              <a:solidFill>
                <a:srgbClr val="000000"/>
              </a:solidFill>
              <a:latin typeface="Calibri"/>
            </a:endParaRPr>
          </a:p>
          <a:p>
            <a:pPr marL="343080" indent="-343080" algn="ctr">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  </a:t>
            </a:r>
            <a:r>
              <a:rPr b="1" lang="fr-FR" sz="4400" spc="-1" strike="noStrike">
                <a:solidFill>
                  <a:srgbClr val="000000"/>
                </a:solidFill>
                <a:latin typeface="Calibri"/>
              </a:rPr>
              <a:t>MERCI   POUR VOTRE AIMABLE     ATTENTION</a:t>
            </a:r>
            <a:endParaRPr b="0" lang="en-US" sz="4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31" name="" descr=""/>
          <p:cNvPicPr/>
          <p:nvPr/>
        </p:nvPicPr>
        <p:blipFill>
          <a:blip r:embed="rId1"/>
          <a:stretch/>
        </p:blipFill>
        <p:spPr>
          <a:xfrm>
            <a:off x="457200" y="1600200"/>
            <a:ext cx="8229600" cy="4525920"/>
          </a:xfrm>
          <a:prstGeom prst="rect">
            <a:avLst/>
          </a:prstGeom>
          <a:ln w="0">
            <a:noFill/>
          </a:ln>
        </p:spPr>
      </p:pic>
      <p:pic>
        <p:nvPicPr>
          <p:cNvPr id="432" name="Picture 2" descr="D:\AFMIN\NewPicture\AFMIN1.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D:\AFMIN\NewPicture\AFMIN3.jpg"/>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fr-FR" sz="4800" spc="-1" strike="noStrike">
                <a:solidFill>
                  <a:srgbClr val="000000"/>
                </a:solidFill>
                <a:latin typeface="Calibri"/>
              </a:rPr>
              <a:t>BREVE PRESENTATION </a:t>
            </a:r>
            <a:br>
              <a:rPr sz="4800"/>
            </a:br>
            <a:endParaRPr b="0" lang="en-US" sz="4800" spc="-1" strike="noStrike">
              <a:solidFill>
                <a:srgbClr val="000000"/>
              </a:solidFill>
              <a:latin typeface="Calibri"/>
            </a:endParaRPr>
          </a:p>
        </p:txBody>
      </p:sp>
      <p:sp>
        <p:nvSpPr>
          <p:cNvPr id="57"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4"/>
          <p:cNvSpPr/>
          <p:nvPr/>
        </p:nvSpPr>
        <p:spPr>
          <a:xfrm>
            <a:off x="684360" y="1268280"/>
            <a:ext cx="845964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r>
              <a:rPr b="0" lang="fr-FR" sz="2000" spc="-1" strike="noStrike">
                <a:solidFill>
                  <a:srgbClr val="000000"/>
                </a:solidFill>
                <a:latin typeface="Calibri"/>
              </a:rPr>
              <a:t>Le Réseau Africain Microfinance (AFMIN) est une association régionale de réseaux nationaux des institutions de microfinance en Afrique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FMIN est initiative menée par les praticiens africains de la microfinance pour créer et/ou renforcer les capacités des réseaux nationaux de microfinance dans le but d’établir des standards communs de performance, de développer une capacité institutionnelle et à mettre en œuvre un changement de politique.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FMIN a été lancé formellement en novembre 2000. Il a implanté son Siège Social à Abidjan, en République de Côte d’Ivoire, pays dans lequel il a été légalement constitué en tant qu’Organisation Non Gouvernementale Internationale. À cause de la situation politique en Côte d’Ivoire, AFMIN a délocalisé temporairement son secrétariat à Cotonou au Bénin en Octobre 2006.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D:\AFMIN\NewPicture\AFMIN3.jpg"/>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0" y="28548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HISTORIQUE </a:t>
            </a:r>
            <a:endParaRPr b="0" lang="en-US" sz="4800" spc="-1" strike="noStrike">
              <a:solidFill>
                <a:srgbClr val="000000"/>
              </a:solidFill>
              <a:latin typeface="Calibri"/>
            </a:endParaRPr>
          </a:p>
        </p:txBody>
      </p:sp>
      <p:sp>
        <p:nvSpPr>
          <p:cNvPr id="61" name="Rectangle 3"/>
          <p:cNvSpPr/>
          <p:nvPr/>
        </p:nvSpPr>
        <p:spPr>
          <a:xfrm>
            <a:off x="642960" y="1928880"/>
            <a:ext cx="771516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OHANNESBOURG, AFRIQUE DU SUD, Juillet 1997</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DDIS-ABEBA, ETHIOPIA, Mars 1998</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BIDJAN, COTE D’IVOIRE, Septembre 1998</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AIROBI, KENYA, Avril 1999</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AKAR, SENEGAL, Octobre 1999</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APE TOWN, AFRIQUE DU SUD, Juillet 2000</a:t>
            </a:r>
            <a:endParaRPr b="0" lang="en-US" sz="2000" spc="-1" strike="noStrike">
              <a:solidFill>
                <a:srgbClr val="000000"/>
              </a:solidFill>
              <a:latin typeface="Calibri"/>
            </a:endParaRPr>
          </a:p>
          <a:p>
            <a:pPr marL="343080" indent="-343080">
              <a:lnSpc>
                <a:spcPct val="95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alibri"/>
              </a:rPr>
              <a:t>COTONOU, BENIN, DECEMBRE 2000: Lancement officiel de AFMIN</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tablissement du Secrétariat Exécutif en 2001 à ABIDJAN en COTE D’IVOIRE</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élocalisation depuis 2006 à COTONOU au BENIN</a:t>
            </a:r>
            <a:endParaRPr b="0" lang="en-US" sz="2000" spc="-1" strike="noStrike">
              <a:solidFill>
                <a:srgbClr val="000000"/>
              </a:solidFill>
              <a:latin typeface="Calibri"/>
            </a:endParaRPr>
          </a:p>
          <a:p>
            <a:pPr marL="343080" indent="-34308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Titre 1"/>
          <p:cNvSpPr/>
          <p:nvPr/>
        </p:nvSpPr>
        <p:spPr>
          <a:xfrm>
            <a:off x="285840" y="1143000"/>
            <a:ext cx="914400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fr-FR" sz="2400" spc="-1" strike="noStrike">
                <a:solidFill>
                  <a:srgbClr val="000000"/>
                </a:solidFill>
                <a:latin typeface="Calibri"/>
              </a:rPr>
              <a:t>REUNIONS REGIONALE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D:\AFMIN\NewPicture\AFMIN3.jpg"/>
          <p:cNvPicPr/>
          <p:nvPr/>
        </p:nvPicPr>
        <p:blipFill>
          <a:blip r:embed="rId1"/>
          <a:stretch/>
        </p:blipFill>
        <p:spPr>
          <a:xfrm>
            <a:off x="0" y="-458640"/>
            <a:ext cx="9144000" cy="7073640"/>
          </a:xfrm>
          <a:prstGeom prst="rect">
            <a:avLst/>
          </a:prstGeom>
          <a:ln w="0">
            <a:noFill/>
          </a:ln>
        </p:spPr>
      </p:pic>
      <p:sp>
        <p:nvSpPr>
          <p:cNvPr id="64" name="PlaceHolder 1"/>
          <p:cNvSpPr>
            <a:spLocks noGrp="1"/>
          </p:cNvSpPr>
          <p:nvPr>
            <p:ph type="title"/>
          </p:nvPr>
        </p:nvSpPr>
        <p:spPr>
          <a:xfrm>
            <a:off x="0" y="-316080"/>
            <a:ext cx="9144000" cy="9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OBJECTIFS </a:t>
            </a:r>
            <a:endParaRPr b="0" lang="en-US" sz="4800" spc="-1" strike="noStrike">
              <a:solidFill>
                <a:srgbClr val="000000"/>
              </a:solidFill>
              <a:latin typeface="Calibri"/>
            </a:endParaRPr>
          </a:p>
        </p:txBody>
      </p:sp>
      <p:sp>
        <p:nvSpPr>
          <p:cNvPr id="65"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Rectangle 4"/>
          <p:cNvSpPr/>
          <p:nvPr/>
        </p:nvSpPr>
        <p:spPr>
          <a:xfrm>
            <a:off x="684360" y="-357120"/>
            <a:ext cx="8064360" cy="59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FMIN et ses membres se sont fixés des objectifs ambitieux de développement de 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crofinance, en vue d’influencer les connaissances, les ressources et résultats afin d’avoir un impact majeur sur les services financiers aux pauvres p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r>
              <a:rPr b="1" lang="fr-FR" sz="2000" spc="-1" strike="noStrike">
                <a:solidFill>
                  <a:srgbClr val="000000"/>
                </a:solidFill>
                <a:latin typeface="Calibri"/>
              </a:rPr>
              <a:t>La mise en place d’un consensus </a:t>
            </a:r>
            <a:r>
              <a:rPr b="0" lang="fr-FR" sz="2000" spc="-1" strike="noStrike">
                <a:solidFill>
                  <a:srgbClr val="000000"/>
                </a:solidFill>
                <a:latin typeface="Calibri"/>
              </a:rPr>
              <a:t>autour des indicateurs de performance afin de s’assurer que le secteur maintient un grand niveau de performance qui permettra aux IMFs d’atteindre la viabilité et d’intégrer les systèmes financiers de leurs pays, tout en continuant d’offrir des services financiers aux pauvres.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1" lang="fr-FR" sz="2000" spc="-1" strike="noStrike">
                <a:solidFill>
                  <a:srgbClr val="000000"/>
                </a:solidFill>
                <a:latin typeface="Calibri"/>
              </a:rPr>
              <a:t>Le partage et la dissémination des pratiques optimales </a:t>
            </a:r>
            <a:r>
              <a:rPr b="0" lang="fr-FR" sz="2000" spc="-1" strike="noStrike">
                <a:solidFill>
                  <a:srgbClr val="000000"/>
                </a:solidFill>
                <a:latin typeface="Calibri"/>
              </a:rPr>
              <a:t>et innovations pour renforcer la capacité institutionnelle des membres, y compris la coordination de services techniques d’agences externes ou donateurs et la promotion de l’apprentissage latérale entre les praticiens.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1" lang="fr-FR" sz="2000" spc="-1" strike="noStrike">
                <a:solidFill>
                  <a:srgbClr val="000000"/>
                </a:solidFill>
                <a:latin typeface="Calibri"/>
              </a:rPr>
              <a:t>La création d’une voix forte et unifiée </a:t>
            </a:r>
            <a:r>
              <a:rPr b="0" lang="fr-FR" sz="2000" spc="-1" strike="noStrike">
                <a:solidFill>
                  <a:srgbClr val="000000"/>
                </a:solidFill>
                <a:latin typeface="Calibri"/>
              </a:rPr>
              <a:t>pour les actions de changement de politique et de consensus qui permettent l’accès de la majorité des pauvres aux services financiers en Afriqu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D:\AFMIN\NewPicture\AFMIN3.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VISION ET MISSION</a:t>
            </a:r>
            <a:endParaRPr b="0" lang="en-US" sz="4800" spc="-1" strike="noStrike">
              <a:solidFill>
                <a:srgbClr val="000000"/>
              </a:solidFill>
              <a:latin typeface="Calibri"/>
            </a:endParaRPr>
          </a:p>
        </p:txBody>
      </p:sp>
      <p:sp>
        <p:nvSpPr>
          <p:cNvPr id="69"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ISION : « Contribuer à l’expansion de la finance inclusive à travers les fournisseurs de services financiers viables en Afrique»</a:t>
            </a: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ISSION : Etre un réseau régional innovant et viable pour promouvoir la finance inclusive en Afrique par l’amélioration des capacités des réseaux nationaux en Afrique.</a:t>
            </a: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D:\AFMIN\NewPicture\AFMIN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adre conceptuel de la stratégie </a:t>
            </a:r>
            <a:endParaRPr b="0" lang="en-US" sz="3000" spc="-1" strike="noStrike">
              <a:solidFill>
                <a:srgbClr val="000000"/>
              </a:solidFill>
              <a:latin typeface="Calibri"/>
            </a:endParaRPr>
          </a:p>
        </p:txBody>
      </p:sp>
      <p:sp>
        <p:nvSpPr>
          <p:cNvPr id="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73" name="Diagram 1"/>
          <p:cNvGrpSpPr/>
          <p:nvPr/>
        </p:nvGrpSpPr>
        <p:grpSpPr>
          <a:xfrm>
            <a:off x="1143000" y="1339920"/>
            <a:ext cx="7466040" cy="3828600"/>
            <a:chOff x="1143000" y="1339920"/>
            <a:chExt cx="7466040" cy="3828600"/>
          </a:xfrm>
        </p:grpSpPr>
        <p:sp>
          <p:nvSpPr>
            <p:cNvPr id="74" name="_s3077"/>
            <p:cNvSpPr/>
            <p:nvPr/>
          </p:nvSpPr>
          <p:spPr>
            <a:xfrm flipV="1">
              <a:off x="3924360" y="1339560"/>
              <a:ext cx="1866600" cy="954720"/>
            </a:xfrm>
            <a:prstGeom prst="pie">
              <a:avLst/>
            </a:prstGeom>
            <a:solidFill>
              <a:srgbClr val="ffffff"/>
            </a:solidFill>
            <a:ln w="4680">
              <a:solidFill>
                <a:srgbClr val="008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alibri"/>
                </a:rPr>
                <a:t>AFMIN</a:t>
              </a:r>
              <a:endParaRPr b="0" lang="en-US" sz="1500" spc="-1" strike="noStrike">
                <a:solidFill>
                  <a:srgbClr val="000000"/>
                </a:solidFill>
                <a:latin typeface="Calibri"/>
              </a:endParaRPr>
            </a:p>
          </p:txBody>
        </p:sp>
        <p:sp>
          <p:nvSpPr>
            <p:cNvPr id="75" name="_s3076"/>
            <p:cNvSpPr/>
            <p:nvPr/>
          </p:nvSpPr>
          <p:spPr>
            <a:xfrm flipV="1">
              <a:off x="2991240" y="2294280"/>
              <a:ext cx="3732840" cy="954720"/>
            </a:xfrm>
            <a:prstGeom prst="pie">
              <a:avLst/>
            </a:prstGeom>
            <a:solidFill>
              <a:srgbClr val="ffffff"/>
            </a:solidFill>
            <a:ln w="15840">
              <a:solidFill>
                <a:srgbClr val="008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Réseaux Nationaux</a:t>
              </a:r>
              <a:endParaRPr b="0" lang="en-US" sz="2000" spc="-1" strike="noStrike">
                <a:solidFill>
                  <a:srgbClr val="000000"/>
                </a:solidFill>
                <a:latin typeface="Calibri"/>
              </a:endParaRPr>
            </a:p>
          </p:txBody>
        </p:sp>
        <p:sp>
          <p:nvSpPr>
            <p:cNvPr id="76" name="_s3075"/>
            <p:cNvSpPr/>
            <p:nvPr/>
          </p:nvSpPr>
          <p:spPr>
            <a:xfrm flipV="1">
              <a:off x="2057760" y="3249360"/>
              <a:ext cx="5599800" cy="954720"/>
            </a:xfrm>
            <a:prstGeom prst="pie">
              <a:avLst/>
            </a:prstGeom>
            <a:solidFill>
              <a:srgbClr val="ffffff"/>
            </a:solidFill>
            <a:ln w="4680">
              <a:solidFill>
                <a:srgbClr val="008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Calibri"/>
                </a:rPr>
                <a:t>Institutions de Microfinance</a:t>
              </a:r>
              <a:endParaRPr b="0" lang="en-US" sz="2000" spc="-1" strike="noStrike">
                <a:solidFill>
                  <a:srgbClr val="000000"/>
                </a:solidFill>
                <a:latin typeface="Calibri"/>
              </a:endParaRPr>
            </a:p>
          </p:txBody>
        </p:sp>
        <p:sp>
          <p:nvSpPr>
            <p:cNvPr id="77" name="_s3074"/>
            <p:cNvSpPr/>
            <p:nvPr/>
          </p:nvSpPr>
          <p:spPr>
            <a:xfrm flipV="1">
              <a:off x="1143000" y="4213440"/>
              <a:ext cx="7466040" cy="954720"/>
            </a:xfrm>
            <a:prstGeom prst="pie">
              <a:avLst/>
            </a:prstGeom>
            <a:solidFill>
              <a:srgbClr val="ffffff"/>
            </a:solidFill>
            <a:ln w="4680">
              <a:solidFill>
                <a:srgbClr val="008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Calibri"/>
                </a:rPr>
                <a:t>Population Exclue du système financier formel </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D:\AFMIN\NewPicture\AFMIN3.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STRUCTURE </a:t>
            </a:r>
            <a:endParaRPr b="0" lang="en-US" sz="4800" spc="-1" strike="noStrike">
              <a:solidFill>
                <a:srgbClr val="000000"/>
              </a:solidFill>
              <a:latin typeface="Calibri"/>
            </a:endParaRPr>
          </a:p>
        </p:txBody>
      </p:sp>
      <p:sp>
        <p:nvSpPr>
          <p:cNvPr id="80"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ASSEMBLEE GENERALE </a:t>
            </a:r>
            <a:r>
              <a:rPr b="0" lang="fr-FR" sz="2800" spc="-1" strike="noStrike">
                <a:solidFill>
                  <a:srgbClr val="000000"/>
                </a:solidFill>
                <a:latin typeface="Calibri"/>
              </a:rPr>
              <a:t>(Directeurs Exécutifs et Présidents des Réseaux Membres)</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CONSEIL D’ADMINISTRATION</a:t>
            </a:r>
            <a:r>
              <a:rPr b="0" lang="fr-FR" sz="2800" spc="-1" strike="noStrike">
                <a:solidFill>
                  <a:srgbClr val="000000"/>
                </a:solidFill>
                <a:latin typeface="Calibri"/>
              </a:rPr>
              <a:t> (Président, Vice Président, Secrétaire Général, Trésorier et 3 membres)</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SECRETARIAT EXECUTIF </a:t>
            </a:r>
            <a:r>
              <a:rPr b="0" lang="fr-FR" sz="2800" spc="-1" strike="noStrike">
                <a:solidFill>
                  <a:srgbClr val="000000"/>
                </a:solidFill>
                <a:latin typeface="Calibri"/>
              </a:rPr>
              <a:t>(Directeur Général, Directeur de Programmes,  Chargés de programmes, Coordonnateurs Régionaux, Responsable Administratif et Financier, Assistante Administrative)</a:t>
            </a:r>
            <a:endParaRPr b="0" lang="en-US" sz="2800" spc="-1" strike="noStrike">
              <a:solidFill>
                <a:srgbClr val="000000"/>
              </a:solidFill>
              <a:latin typeface="Calibri"/>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D:\AFMIN\NewPicture\AFMIN3.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0" y="1425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Conseil d’ administration </a:t>
            </a:r>
            <a:endParaRPr b="0" lang="en-US" sz="4800" spc="-1" strike="noStrike">
              <a:solidFill>
                <a:srgbClr val="000000"/>
              </a:solidFill>
              <a:latin typeface="Calibri"/>
            </a:endParaRPr>
          </a:p>
        </p:txBody>
      </p:sp>
      <p:sp>
        <p:nvSpPr>
          <p:cNvPr id="83" name="Rectangle 3"/>
          <p:cNvSpPr/>
          <p:nvPr/>
        </p:nvSpPr>
        <p:spPr>
          <a:xfrm>
            <a:off x="428760" y="1071720"/>
            <a:ext cx="8715240" cy="514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Rectangle 4"/>
          <p:cNvSpPr/>
          <p:nvPr/>
        </p:nvSpPr>
        <p:spPr>
          <a:xfrm>
            <a:off x="539640" y="1413000"/>
            <a:ext cx="8136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Conseil d’Administration est composé d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r. Ousmane THIONGANE (Sénégal), Présiden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r. Wolday AMHA (Ethiopie), Vice-présiden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r. AKA GNOUMON (Cote d’Ivoire)</a:t>
            </a:r>
            <a:r>
              <a:rPr b="1" lang="pt-BR" sz="2400" spc="-1" strike="noStrike">
                <a:solidFill>
                  <a:srgbClr val="000000"/>
                </a:solidFill>
                <a:latin typeface="Calibri"/>
              </a:rPr>
              <a:t>, Trésori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me. Marie Louise NSABIYUMVA (Burundi), Memb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Mr. David Baguma (Ouganda), Memb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libaly Hamidou (Mali)  Memb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r. Magnus AMOA-BOSOMPEM (Ghana), Memb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mbres suppléants au Conseil d’Administration:  Messieurs Ignace Dovi ( Benin ) et Mr. Benjamin Nkungi (Keny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8:08:39Z</dcterms:created>
  <dc:creator>O THIONGANE</dc:creator>
  <dc:description/>
  <dc:language>en-US</dc:language>
  <cp:lastModifiedBy>Juana Ramirez e-MFP</cp:lastModifiedBy>
  <dcterms:modified xsi:type="dcterms:W3CDTF">2012-11-23T11:17:23Z</dcterms:modified>
  <cp:revision>72</cp:revision>
  <dc:subject/>
  <dc:title>Présentation du Réseau Africain de Microfinance (AFMIN)   OUSMANE THIONGANE, AFMIN Chairman</dc:title>
</cp:coreProperties>
</file>