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sp>
        <p:nvSpPr>
          <p:cNvPr id="4"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pic>
        <p:nvPicPr>
          <p:cNvPr id="5" name="Picture 7" descr="Header_entête.jpg"/>
          <p:cNvPicPr/>
          <p:nvPr/>
        </p:nvPicPr>
        <p:blipFill>
          <a:blip r:embed="rId2"/>
          <a:stretch/>
        </p:blipFill>
        <p:spPr>
          <a:xfrm>
            <a:off x="0" y="0"/>
            <a:ext cx="4427640" cy="148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7300"/>
                </a:solidFill>
                <a:latin typeface="Arial"/>
              </a:rPr>
              <a:t>Moderator</a:t>
            </a:r>
            <a:br>
              <a:rPr sz="1800"/>
            </a:br>
            <a:endParaRPr b="1" lang="en-US" sz="1800" spc="-1" strike="noStrike">
              <a:solidFill>
                <a:srgbClr val="935461"/>
              </a:solidFill>
              <a:latin typeface="Arial"/>
            </a:endParaRPr>
          </a:p>
        </p:txBody>
      </p:sp>
      <p:sp>
        <p:nvSpPr>
          <p:cNvPr id="43" name=""/>
          <p:cNvSpPr txBox="1"/>
          <p:nvPr/>
        </p:nvSpPr>
        <p:spPr>
          <a:xfrm>
            <a:off x="539640" y="2420640"/>
            <a:ext cx="8136000" cy="34592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747474"/>
                </a:solidFill>
                <a:latin typeface="Arial"/>
              </a:rPr>
              <a:t>Thierry López, Partner, Governance, Risk &amp; Controls, PwC</a:t>
            </a:r>
            <a:endParaRPr b="0" lang="en-US" sz="18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Thierry has almost 20 years of professional experience in finance, asset management, banking, Risk Management and GRC (Governance, Risk and Compliance). He is the founder and board member of ALRiM, the Luxembourg association for Risk Management Professionals, which together with ADA and ATTF has taken the initiative (since 2006) to assist MFIs in risk management in which Thierry is still deeply involved.</a:t>
            </a: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 </a:t>
            </a: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He is Basel II &amp; III/CRD Leader, and leads the Risk Management Services for Financial Services in PwC Luxembourg.</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7300"/>
                </a:solidFill>
                <a:latin typeface="Arial"/>
              </a:rPr>
              <a:t>Strategy for setting and monitoring financial covenants</a:t>
            </a:r>
            <a:br>
              <a:rPr sz="1800"/>
            </a:br>
            <a:endParaRPr b="1" lang="en-US" sz="1800" spc="-1" strike="noStrike">
              <a:solidFill>
                <a:srgbClr val="935461"/>
              </a:solidFill>
              <a:latin typeface="Arial"/>
            </a:endParaRPr>
          </a:p>
        </p:txBody>
      </p:sp>
      <p:sp>
        <p:nvSpPr>
          <p:cNvPr id="45" name=""/>
          <p:cNvSpPr txBox="1"/>
          <p:nvPr/>
        </p:nvSpPr>
        <p:spPr>
          <a:xfrm>
            <a:off x="539640" y="2420640"/>
            <a:ext cx="7661520" cy="34592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747474"/>
                </a:solidFill>
                <a:latin typeface="Arial"/>
              </a:rPr>
              <a:t>Raphaël Betti, Risk Manager, EIF</a:t>
            </a:r>
            <a:endParaRPr b="0" lang="en-US" sz="18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Since 2010 Raphaël Betti is working as Risk Manager at the European Investment Fund, focusing on the microfinance industry.</a:t>
            </a: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Before joining the European Investment Fund Raphaël worked for KPMG Brussels and was Manager at Ernst &amp; Young Luxembourg, where he was part of the private equity team, in charge of the external audit of numerous private equity companies and microfinance funds.</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7300"/>
                </a:solidFill>
                <a:latin typeface="Arial"/>
              </a:rPr>
              <a:t>Importance of operational risk management in a growing industry</a:t>
            </a:r>
            <a:br>
              <a:rPr sz="1800"/>
            </a:br>
            <a:br>
              <a:rPr sz="1800"/>
            </a:br>
            <a:endParaRPr b="1" lang="en-US" sz="1800" spc="-1" strike="noStrike">
              <a:solidFill>
                <a:srgbClr val="935461"/>
              </a:solidFill>
              <a:latin typeface="Arial"/>
            </a:endParaRPr>
          </a:p>
        </p:txBody>
      </p:sp>
      <p:sp>
        <p:nvSpPr>
          <p:cNvPr id="47" name=""/>
          <p:cNvSpPr txBox="1"/>
          <p:nvPr/>
        </p:nvSpPr>
        <p:spPr>
          <a:xfrm>
            <a:off x="539640" y="2420640"/>
            <a:ext cx="7661520" cy="3459240"/>
          </a:xfrm>
          <a:prstGeom prst="rect">
            <a:avLst/>
          </a:prstGeom>
          <a:noFill/>
          <a:ln w="0">
            <a:noFill/>
          </a:ln>
        </p:spPr>
        <p:txBody>
          <a:bodyPr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747474"/>
                </a:solidFill>
                <a:latin typeface="Arial"/>
              </a:rPr>
              <a:t>Michael Kortenbusch, Managing Director,  Business &amp; Finance Consulting</a:t>
            </a:r>
            <a:endParaRPr b="0" lang="en-US" sz="18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Michael is the principal founder of BFC, a Swiss management consulting company specialized in development finance.  Over the past 15 years he has advised numerous financial institutions on developing customer oriented and commercially viable micro, small and medium enterprise (MSME) banking solutions in more than 15 countries in Newly Independent States (NIS), Eastern Europe, Asia and Middle East and North Africa (MENA).</a:t>
            </a: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He also served as the General Manager at MEC Moldova (today ProCredit Bank) and Team Leader of the Georgia Small Enterprise Lending Programme, financed by EBRD he guided the successful development of micro and small enterprise (MSE) Lending in three leading commercial banks in Georgia between 2003 and 2007. </a:t>
            </a: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7300"/>
                </a:solidFill>
                <a:latin typeface="Arial"/>
              </a:rPr>
              <a:t>Introducing a Risk Management Framework in a MFI in Jordan</a:t>
            </a:r>
            <a:br>
              <a:rPr sz="1800"/>
            </a:br>
            <a:endParaRPr b="1" lang="en-US" sz="1800" spc="-1" strike="noStrike">
              <a:solidFill>
                <a:srgbClr val="935461"/>
              </a:solidFill>
              <a:latin typeface="Arial"/>
            </a:endParaRPr>
          </a:p>
        </p:txBody>
      </p:sp>
      <p:sp>
        <p:nvSpPr>
          <p:cNvPr id="49" name=""/>
          <p:cNvSpPr txBox="1"/>
          <p:nvPr/>
        </p:nvSpPr>
        <p:spPr>
          <a:xfrm>
            <a:off x="539640" y="2420640"/>
            <a:ext cx="7661520" cy="345924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747474"/>
                </a:solidFill>
                <a:latin typeface="Arial"/>
              </a:rPr>
              <a:t>Yves Mathieu, Microfinance Consultant</a:t>
            </a:r>
            <a:endParaRPr b="0" lang="en-US" sz="18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Yves started his financial career some 30 years ago as branch manager for a large Belgian bank. Till late nineties, he has evolved from commercial responsibilities to more financial and managerial ones. In 2002, he became Board and Management Committee Member of the banking subsidiary of the second largest Belgian insurance company. </a:t>
            </a: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Since mid-nineties, he has regularly taken part, as an independent consultant, in missions organized by consulting, training or cooperation organizations. In March 2005, he decided to act full time in this business for the Finance and Microfinance sector. He continues his activities in the whole financial sector, particularly in the areas of strategy, risk management and corporate governance.</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843280" y="1484280"/>
            <a:ext cx="630072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7300"/>
                </a:solidFill>
                <a:latin typeface="Arial"/>
              </a:rPr>
              <a:t>Risk mitigation in Microfinance: The need for microequity</a:t>
            </a:r>
            <a:endParaRPr b="1" lang="en-US" sz="2000" spc="-1" strike="noStrike">
              <a:solidFill>
                <a:srgbClr val="935461"/>
              </a:solidFill>
              <a:latin typeface="Arial"/>
            </a:endParaRPr>
          </a:p>
        </p:txBody>
      </p:sp>
      <p:sp>
        <p:nvSpPr>
          <p:cNvPr id="51" name=""/>
          <p:cNvSpPr txBox="1"/>
          <p:nvPr/>
        </p:nvSpPr>
        <p:spPr>
          <a:xfrm>
            <a:off x="539640" y="2420640"/>
            <a:ext cx="7661520" cy="345924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747474"/>
                </a:solidFill>
                <a:latin typeface="Arial"/>
              </a:rPr>
              <a:t>Dr. Arvind Ashta, Banque Populaire Chair in Microfinance, Burgundy School of Business (Groupe ESC Dijon-Bourgogne), France. </a:t>
            </a:r>
            <a:endParaRPr b="0" lang="en-US" sz="18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Dr. Ashta is a full time Professor at the Burgundy School of Business offers courses in Microfinance and researches institutional aspects of Microfinance and advanced technology in Microfinance. He has taught Microfinance as visiting faculty in Chicago (US), Pforzheim (Germany) and Brussels (Belgium).</a:t>
            </a: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92929"/>
                </a:solidFill>
                <a:latin typeface="Arial"/>
              </a:rPr>
              <a:t>He is also the Editor of a book on Advanced Technologies for Microfinance and has a number of publications in international journals and guest edits special editions of various journals devoted to microfinance. He is on the editorial review board of Cost Management, Strategic Change: Briefings in Entrepreneurial Finance and International Journal for Technology and Human Interaction.</a:t>
            </a:r>
            <a:endParaRPr b="0"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Juana Ramirez e-MFP</cp:lastModifiedBy>
  <dcterms:modified xsi:type="dcterms:W3CDTF">2012-11-23T12:24:44Z</dcterms:modified>
  <cp:revision>37</cp:revision>
  <dc:subject/>
  <dc:title>Slide 1</dc:title>
</cp:coreProperties>
</file>